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User" initials="U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<Relationship Id="rId19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2-02-16T09:40:43.256000000" idx="1">
    <p:pos x="10" y="10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5C8B-4DF7-4C3A-AEE8-2163C4989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58AC-CFD5-4B91-B420-DFB60138D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FF0C-82B7-46DF-85B5-30A627214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8660-5474-4A87-AECD-18A86C7D9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03B93-2959-49BD-85BF-7EE3EA8DE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AA5CB-A5E6-438E-BC4B-5E40C8175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D272E-4D3E-4876-9D75-B546360C0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D360D-AE5E-4B77-874F-5C53D6844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1AD26-99EA-4690-96CE-68B99E9BC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E861E-4F37-40B1-9480-BE41B6BC9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9F5D0-3B8E-4301-BE03-51718941D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8133-9BC9-4206-BF7C-F23EAA06C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67C2F-0423-4910-A643-D535E9422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B1F8B-3292-4D1A-9818-B37AB4CF0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D3B0A-6DBC-45E5-94EC-BCF31A562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A0289-ADA8-4368-9E4D-96A117421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81379-D7B0-4488-9A9E-0A5FFA070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BCB9A-0385-4672-8520-3115AA4D4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82B1D-A676-4378-8039-AABC459C8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75600-DDF2-4E87-9A92-76123D3CE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6AF85-43CC-4BE1-9FB7-C4B6235FF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9816D-9A26-4BA7-9C10-25C99E654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B376-D7BA-4400-BEEA-99D8A2A7F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125AD-8324-402C-AC95-412E61CA2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FE48F-EE92-4F5E-B29B-A231689FE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D31E2-00BD-455C-AF4F-52EFF7E8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6DC0A-CDE8-4C34-A9EB-55407EC87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5DF97-BC00-4C4B-BCFD-3A1C66D37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B90B7-DB66-4764-B26E-3EEA88F30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31DB0-9372-47C2-9DAE-BC9FDA0F0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7A866-CB56-4B21-B845-D5564896C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9E5F6-72BF-46E5-ABA5-DCB8EBAC4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446EC-81EB-4D45-9AF3-9535531E3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4F7B-807E-44A5-9DB9-8E92BEDAE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A4F55-E9DF-4342-A7E1-FCC5EDABB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2F295-B8B6-447C-B4A0-ED0ACDC90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B7B6D-45B3-48B6-9884-A3117A3AD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D658A-B51C-46E2-AC7A-C60B0E5BD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6E13A-FDE6-48E1-B0E2-F42DBD5DA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0824A-D1BF-4F80-92AC-30C48D0D4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B4D31-839B-41B3-ADA5-FC3CD0D84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F5397-2850-4338-9CE4-25EEC1F9A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506B9-4F67-47A4-9255-CE248B64C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797760-46EA-4C98-B38E-68450B473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B410-8BB5-473E-B490-E5297A609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AB4439-43B2-4F44-967F-6EDDC72AB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5F02CE-103F-46C5-A3CD-EECABCF69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F7F134-3F55-426E-ADA5-844D1C3E8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20474B-A9B8-4499-9E83-C74AA3568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3B52B8-1A9F-4340-84BC-573C43F85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1681AF-0AAB-411C-AC5B-01BC9937D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194310-D693-4332-BD75-79449A56B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DF4383-BF56-4E43-A8DE-66EBADF08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42D758-2347-42B9-9C79-61E802AF1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A1176D-F442-469B-B0F0-8FB93A515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EFD6-559B-4ECA-B82C-AB7F3D90E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2D2D13-069B-49AC-9878-0EC431190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8009-5063-4B0C-BFB6-38771C8B0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43E3-01E0-4660-95BB-1B936955B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46E5-E770-4DFB-99E3-29DA7417E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28600">
              <a:spcBef>
                <a:spcPts val="575"/>
              </a:spcBef>
              <a:buClr>
                <a:srgbClr val="e400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9A712-DE0D-4EE7-AB1B-91AD4F43B841}" type="datetime3">
              <a:rPr b="0" lang="en-US" sz="1400" spc="-1" strike="noStrike">
                <a:solidFill>
                  <a:srgbClr val="666666"/>
                </a:solidFill>
                <a:latin typeface="Times New Roman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666666"/>
                </a:solidFill>
                <a:latin typeface="Times New Roman"/>
              </a:rPr>
              <a:t>Taxas de cobertura-Chirr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7C849-3D07-4978-AF02-620BC0BC54AA}" type="slidenum">
              <a:rPr b="0" lang="pt-P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ffae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005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28600">
              <a:spcBef>
                <a:spcPts val="575"/>
              </a:spcBef>
              <a:buClr>
                <a:srgbClr val="e400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5AE7E-6151-4954-B6DE-230F9A1C86E6}" type="datetime3">
              <a:rPr b="0" lang="en-US" sz="1400" spc="-1" strike="noStrike">
                <a:solidFill>
                  <a:srgbClr val="666666"/>
                </a:solidFill>
                <a:latin typeface="Times New Roman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666666"/>
                </a:solidFill>
                <a:latin typeface="Times New Roman"/>
              </a:rPr>
              <a:t>Taxas de cobertura-Chirr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8464D-5E01-46D4-BC62-2A18E52CB7CF}" type="slidenum">
              <a:rPr b="0" lang="pt-P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5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ffae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005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28600">
              <a:spcBef>
                <a:spcPts val="575"/>
              </a:spcBef>
              <a:buClr>
                <a:srgbClr val="e400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59CCB-B200-4A41-BDB1-15928EA7D6F3}" type="datetime3">
              <a:rPr b="0" lang="en-US" sz="1400" spc="-1" strike="noStrike">
                <a:solidFill>
                  <a:srgbClr val="666666"/>
                </a:solidFill>
                <a:latin typeface="Times New Roman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666666"/>
                </a:solidFill>
                <a:latin typeface="Times New Roman"/>
              </a:rPr>
              <a:t>Taxas de cobertura-Chirr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B4D65-FCC9-4A5C-A474-0F4827F5A8E9}" type="slidenum">
              <a:rPr b="0" lang="pt-P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28600">
              <a:spcBef>
                <a:spcPts val="575"/>
              </a:spcBef>
              <a:buClr>
                <a:srgbClr val="e400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5572E-9155-45A1-8835-C7A3CF44C697}" type="datetime3">
              <a:rPr b="0" lang="en-US" sz="1400" spc="-1" strike="noStrike">
                <a:solidFill>
                  <a:srgbClr val="666666"/>
                </a:solidFill>
                <a:latin typeface="Times New Roman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666666"/>
                </a:solidFill>
                <a:latin typeface="Times New Roman"/>
              </a:rPr>
              <a:t>Taxas de cobertura-Chirr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C3398-53FB-4A4B-ABF9-7357B68E3BC5}" type="slidenum">
              <a:rPr b="0" lang="pt-P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ffae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005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28600">
              <a:spcBef>
                <a:spcPts val="575"/>
              </a:spcBef>
              <a:buClr>
                <a:srgbClr val="e400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171FA-3A8E-4306-8E45-A7D1E3AFCC34}" type="datetime3">
              <a:rPr b="0" lang="en-US" sz="1400" spc="-1" strike="noStrike">
                <a:solidFill>
                  <a:srgbClr val="666666"/>
                </a:solidFill>
                <a:latin typeface="Times New Roman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666666"/>
                </a:solidFill>
                <a:latin typeface="Times New Roman"/>
              </a:rPr>
              <a:t>Taxas de cobertura-Chirr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551D6-9BDE-4618-926E-D1DF072EF24D}" type="slidenum">
              <a:rPr b="0" lang="pt-P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comments" Target="../comments/commen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isau.gov.mz/pt/content/downloa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666666"/>
                </a:solidFill>
                <a:latin typeface="Times New Roman"/>
              </a:rPr>
              <a:t>INDICADORES DE UTILIZAÇÃO DE CUIDADOS DE SAÚDE - TAXAS DE COBERTUR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ffff"/>
                </a:solidFill>
                <a:latin typeface="Arial"/>
              </a:rPr>
              <a:t>TEMA</a:t>
            </a: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34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52E5B-B9A7-449A-BB4F-D6100698A3CB}" type="datetime3">
              <a:rPr b="0" lang="en-US" sz="800" spc="-1" strike="noStrike">
                <a:solidFill>
                  <a:srgbClr val="666666"/>
                </a:solidFill>
                <a:latin typeface="Times New Roman"/>
              </a:rPr>
              <a:t>July 29,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ooter Placeholder 5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666666"/>
                </a:solidFill>
                <a:latin typeface="Times New Roman"/>
              </a:rPr>
              <a:t>Taxas de cobertura-Chirr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70744-79C1-4198-9CB8-D54242A4FC8A}" type="slidenum">
              <a:rPr b="0" lang="pt-P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pt-PT" sz="1400" spc="-1" strike="noStrike">
                <a:solidFill>
                  <a:srgbClr val="ffffff"/>
                </a:solidFill>
                <a:latin typeface="Arial"/>
              </a:rPr>
              <a:t>/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78688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666666"/>
                </a:solidFill>
                <a:latin typeface="Arial"/>
              </a:rPr>
              <a:t>BIBLOGRAFIA</a:t>
            </a:r>
            <a:br>
              <a:rPr sz="3600"/>
            </a:b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78" name="Footer Placeholder 5"/>
          <p:cNvSpPr/>
          <p:nvPr/>
        </p:nvSpPr>
        <p:spPr>
          <a:xfrm>
            <a:off x="2484360" y="62373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666666"/>
                </a:solidFill>
                <a:latin typeface="Times New Roman"/>
              </a:rPr>
              <a:t>Taxas de cobertura-Chirr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AE44C-3E15-45BA-9B84-93FFE979CF6D}" type="slidenum">
              <a:rPr b="0" lang="pt-P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pt-PT" sz="1400" spc="-1" strike="noStrike">
                <a:solidFill>
                  <a:srgbClr val="ffffff"/>
                </a:solidFill>
                <a:latin typeface="Arial"/>
              </a:rPr>
              <a:t>/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214200" y="1213920"/>
            <a:ext cx="871560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Times New Roman"/>
              </a:rPr>
              <a:t>BARRETO, Avertino Teotónio, TABARD, Philipe. </a:t>
            </a:r>
            <a:r>
              <a:rPr b="0" i="1" lang="pt-PT" sz="2600" spc="-1" strike="noStrike">
                <a:solidFill>
                  <a:srgbClr val="000000"/>
                </a:solidFill>
                <a:latin typeface="Times New Roman"/>
              </a:rPr>
              <a:t>Manual de vigilância epidemiológica.</a:t>
            </a:r>
            <a:r>
              <a:rPr b="0" lang="pt-PT" sz="2600" spc="-1" strike="noStrike">
                <a:solidFill>
                  <a:srgbClr val="000000"/>
                </a:solidFill>
                <a:latin typeface="Times New Roman"/>
              </a:rPr>
              <a:t> 1ªedicao, Ministério de saúde, Maputo, 1996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r>
              <a:rPr b="0" lang="en-ZA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ZA" sz="2600" spc="-1" strike="noStrike" u="sng">
                <a:solidFill>
                  <a:srgbClr val="17bbfd"/>
                </a:solidFill>
                <a:uFillTx/>
                <a:latin typeface="Times New Roman"/>
                <a:hlinkClick r:id="rId1"/>
              </a:rPr>
              <a:t>WWW.misau.gov.mz/pt/content/downloa</a:t>
            </a:r>
            <a:r>
              <a:rPr b="0" lang="en-ZA" sz="2600" spc="-1" strike="noStrike">
                <a:solidFill>
                  <a:srgbClr val="000000"/>
                </a:solidFill>
                <a:latin typeface="Times New Roman"/>
              </a:rPr>
              <a:t>. Manual de procedimento Para o sistema d</a:t>
            </a:r>
            <a:r>
              <a:rPr b="0" lang="pt-PT" sz="2600" spc="-1" strike="noStrike">
                <a:solidFill>
                  <a:srgbClr val="000000"/>
                </a:solidFill>
                <a:latin typeface="Times New Roman"/>
              </a:rPr>
              <a:t>e informação de saúde. Captado em 17/02/2012.</a:t>
            </a:r>
            <a:r>
              <a:rPr b="0" lang="en-ZA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ZA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FF968-09AA-4893-98BA-C54881ED680D}" type="datetime3">
              <a:rPr b="0" lang="en-US" sz="800" spc="-1" strike="noStrike">
                <a:solidFill>
                  <a:srgbClr val="666666"/>
                </a:solidFill>
                <a:latin typeface="Times New Roman"/>
              </a:rPr>
              <a:t>July 29,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542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666666"/>
                </a:solidFill>
                <a:latin typeface="Arial"/>
              </a:rPr>
              <a:t>FIM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83" name="Footer Placeholder 5"/>
          <p:cNvSpPr/>
          <p:nvPr/>
        </p:nvSpPr>
        <p:spPr>
          <a:xfrm>
            <a:off x="2484360" y="616572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666666"/>
                </a:solidFill>
                <a:latin typeface="Times New Roman"/>
              </a:rPr>
              <a:t>Taxas de cobertura-Chirr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0957E-FA9F-4E00-BBBD-46BAA15EA9DE}" type="slidenum">
              <a:rPr b="0" lang="pt-P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Times New Roman"/>
              </a:rPr>
              <a:t>MUITO OBRIGA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C2867-132C-4ABE-8C4A-B7B1DC5993D2}" type="datetime3">
              <a:rPr b="0" lang="en-US" sz="800" spc="-1" strike="noStrike">
                <a:solidFill>
                  <a:srgbClr val="666666"/>
                </a:solidFill>
                <a:latin typeface="Times New Roman"/>
              </a:rPr>
              <a:t>July 29,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14200" y="142560"/>
            <a:ext cx="8786880" cy="15001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666666"/>
                </a:solidFill>
                <a:latin typeface="Arial"/>
              </a:rPr>
              <a:t>Cobertura do grupo etário 0-11 meses</a:t>
            </a:r>
            <a:br>
              <a:rPr sz="3600"/>
            </a:b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38" name="Footer Placeholder 5"/>
          <p:cNvSpPr/>
          <p:nvPr/>
        </p:nvSpPr>
        <p:spPr>
          <a:xfrm>
            <a:off x="2484360" y="616572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666666"/>
                </a:solidFill>
                <a:latin typeface="Times New Roman"/>
              </a:rPr>
              <a:t>Taxas de cobertura-Chirr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7A59E-29FF-4DFC-B9DC-6E5C6CF4D0FD}" type="slidenum">
              <a:rPr b="0" lang="pt-P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pt-PT" sz="1400" spc="-1" strike="noStrike">
                <a:solidFill>
                  <a:srgbClr val="ffffff"/>
                </a:solidFill>
                <a:latin typeface="Arial"/>
              </a:rPr>
              <a:t>/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142920" y="571680"/>
            <a:ext cx="8858160" cy="54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6320" indent="-256320" algn="just">
              <a:spcBef>
                <a:spcPts val="575"/>
              </a:spcBef>
              <a:buClr>
                <a:srgbClr val="ff388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O grupo etário 0-11 meses representa </a:t>
            </a:r>
            <a:r>
              <a:rPr b="1" lang="pt-PT" sz="2800" spc="-1" strike="noStrike">
                <a:solidFill>
                  <a:srgbClr val="000000"/>
                </a:solidFill>
                <a:latin typeface="Times New Roman"/>
              </a:rPr>
              <a:t>4%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 da população total, a fonte destes dados é o impresso SIS-AO3A e este indicador calcula-se da seguinte form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6320" indent="-25632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6320" indent="-25632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Times New Roman"/>
              </a:rPr>
              <a:t>C.C. 0-11 meses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 __  </a:t>
            </a:r>
            <a:r>
              <a:rPr b="0" lang="pt-PT" sz="2800" spc="-1" strike="noStrike" u="sng">
                <a:solidFill>
                  <a:srgbClr val="000000"/>
                </a:solidFill>
                <a:uFillTx/>
                <a:latin typeface="Times New Roman"/>
              </a:rPr>
              <a:t>Doses administradas (</a:t>
            </a:r>
            <a:r>
              <a:rPr b="1" lang="pt-PT" sz="2800" spc="-1" strike="noStrike" u="sng">
                <a:solidFill>
                  <a:srgbClr val="000000"/>
                </a:solidFill>
                <a:uFillTx/>
                <a:latin typeface="Times New Roman"/>
              </a:rPr>
              <a:t>1ª</a:t>
            </a:r>
            <a:r>
              <a:rPr b="0" lang="pt-PT" sz="2800" spc="-1" strike="noStrike" u="sng">
                <a:solidFill>
                  <a:srgbClr val="000000"/>
                </a:solidFill>
                <a:uFillTx/>
                <a:latin typeface="Times New Roman"/>
              </a:rPr>
              <a:t>s doses) </a:t>
            </a:r>
            <a:r>
              <a:rPr b="1" lang="pt-PT" sz="2800" spc="-1" strike="noStrike">
                <a:solidFill>
                  <a:srgbClr val="000000"/>
                </a:solidFill>
                <a:latin typeface="Times New Roman"/>
              </a:rPr>
              <a:t>X 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6320" indent="-25632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__           Grupo alvo previs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6320" indent="-25632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6320" indent="-256320" algn="just">
              <a:spcBef>
                <a:spcPts val="575"/>
              </a:spcBef>
              <a:buClr>
                <a:srgbClr val="ff388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Quanto maior for a cobertura na população-alvo, menor será o número de casos previstos da doença-alvo respectiv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6320" indent="-25632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7DF77-5CD3-48DE-A1AC-79E55E0AF12D}" type="datetime3">
              <a:rPr b="0" lang="en-US" sz="800" spc="-1" strike="noStrike">
                <a:solidFill>
                  <a:srgbClr val="666666"/>
                </a:solidFill>
                <a:latin typeface="Times New Roman"/>
              </a:rPr>
              <a:t>July 29,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14200" y="142560"/>
            <a:ext cx="8715600" cy="14288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666666"/>
                </a:solidFill>
                <a:latin typeface="Arial"/>
              </a:rPr>
              <a:t>CONT.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43" name="Footer Placeholder 5"/>
          <p:cNvSpPr/>
          <p:nvPr/>
        </p:nvSpPr>
        <p:spPr>
          <a:xfrm>
            <a:off x="2556000" y="61657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666666"/>
                </a:solidFill>
                <a:latin typeface="Times New Roman"/>
              </a:rPr>
              <a:t>Taxas de cobertura-Chirr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6B326-6F98-4313-8171-DE7722148A3F}" type="slidenum">
              <a:rPr b="0" lang="pt-P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pt-PT" sz="1400" spc="-1" strike="noStrike">
                <a:solidFill>
                  <a:srgbClr val="ffffff"/>
                </a:solidFill>
                <a:latin typeface="Arial"/>
              </a:rPr>
              <a:t>/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285840" y="691920"/>
            <a:ext cx="8858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56320" indent="-25632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56320" indent="-25632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56320" indent="-256320" algn="just">
              <a:spcBef>
                <a:spcPts val="575"/>
              </a:spcBef>
              <a:buClr>
                <a:srgbClr val="ff388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Times New Roman"/>
              </a:rPr>
              <a:t>Acima de um certo nível de cobertura, para além da protecção individual, a vacina consegue também bloquear a transmissão da doença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56320" indent="-25632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56320" indent="-256320" algn="just">
              <a:spcBef>
                <a:spcPts val="575"/>
              </a:spcBef>
              <a:buClr>
                <a:srgbClr val="ff388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Times New Roman"/>
              </a:rPr>
              <a:t>Não é necessário pois alcançar </a:t>
            </a:r>
            <a:r>
              <a:rPr b="1" lang="pt-PT" sz="2600" spc="-1" strike="noStrike">
                <a:solidFill>
                  <a:srgbClr val="000000"/>
                </a:solidFill>
                <a:latin typeface="Times New Roman"/>
              </a:rPr>
              <a:t>100%</a:t>
            </a:r>
            <a:r>
              <a:rPr b="0" lang="pt-PT" sz="2600" spc="-1" strike="noStrike">
                <a:solidFill>
                  <a:srgbClr val="000000"/>
                </a:solidFill>
                <a:latin typeface="Times New Roman"/>
              </a:rPr>
              <a:t> de cobertura para que isso aconteça: por exemplo, para sarampo, a transmissão cessa entre </a:t>
            </a:r>
            <a:r>
              <a:rPr b="1" lang="pt-PT" sz="2600" spc="-1" strike="noStrike">
                <a:solidFill>
                  <a:srgbClr val="000000"/>
                </a:solidFill>
                <a:latin typeface="Times New Roman"/>
              </a:rPr>
              <a:t>80-85%</a:t>
            </a:r>
            <a:r>
              <a:rPr b="0" lang="pt-PT" sz="2600" spc="-1" strike="noStrike">
                <a:solidFill>
                  <a:srgbClr val="000000"/>
                </a:solidFill>
                <a:latin typeface="Times New Roman"/>
              </a:rPr>
              <a:t> de cobertura em zonas rurais (baixa densidade populacional) e </a:t>
            </a:r>
            <a:r>
              <a:rPr b="1" lang="pt-PT" sz="2600" spc="-1" strike="noStrike">
                <a:solidFill>
                  <a:srgbClr val="000000"/>
                </a:solidFill>
                <a:latin typeface="Times New Roman"/>
              </a:rPr>
              <a:t>90-95%</a:t>
            </a:r>
            <a:r>
              <a:rPr b="0" lang="pt-PT" sz="2600" spc="-1" strike="noStrike">
                <a:solidFill>
                  <a:srgbClr val="000000"/>
                </a:solidFill>
                <a:latin typeface="Times New Roman"/>
              </a:rPr>
              <a:t> em zonas urbanas (alta densidade populacional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56320" indent="-25632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14DA6-6814-49C4-AEDD-0245B1A4979F}" type="datetime3">
              <a:rPr b="0" lang="en-US" sz="800" spc="-1" strike="noStrike">
                <a:solidFill>
                  <a:srgbClr val="666666"/>
                </a:solidFill>
                <a:latin typeface="Times New Roman"/>
              </a:rPr>
              <a:t>July 29,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14200" y="142920"/>
            <a:ext cx="8715600" cy="10000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666666"/>
                </a:solidFill>
                <a:latin typeface="Arial"/>
              </a:rPr>
              <a:t>COBERTURA REAL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48" name="Footer Placeholder 5"/>
          <p:cNvSpPr/>
          <p:nvPr/>
        </p:nvSpPr>
        <p:spPr>
          <a:xfrm>
            <a:off x="2411280" y="62373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666666"/>
                </a:solidFill>
                <a:latin typeface="Times New Roman"/>
              </a:rPr>
              <a:t>Taxas de cobertura-Chirr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F2D33-784C-4DA5-A557-1087EED1BB57}" type="slidenum">
              <a:rPr b="0" lang="pt-P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pt-PT" sz="1400" spc="-1" strike="noStrike">
                <a:solidFill>
                  <a:srgbClr val="ffffff"/>
                </a:solidFill>
                <a:latin typeface="Arial"/>
              </a:rPr>
              <a:t>/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42920" y="642960"/>
            <a:ext cx="8858160" cy="56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Times New Roman"/>
              </a:rPr>
              <a:t>Ao longo de monitorização do andamento do PAV, é importante diferenciar uma cobertura “cumulativa” duma “real”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Times New Roman"/>
              </a:rPr>
              <a:t>Na cobertura “real” ao longo do ano, o denominador (grupo alvo) deve sempre reflectir o período do ano a que o cálculo se refere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Times New Roman"/>
              </a:rPr>
              <a:t>É normal que as coberturas sejam mais altas nas áreas urbanas que áreas rurais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8A159-0DAB-49FE-A9F1-24D83DC17F6F}" type="datetime3">
              <a:rPr b="0" lang="en-US" sz="800" spc="-1" strike="noStrike">
                <a:solidFill>
                  <a:srgbClr val="666666"/>
                </a:solidFill>
                <a:latin typeface="Times New Roman"/>
              </a:rPr>
              <a:t>July 29,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858160" cy="15717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666666"/>
                </a:solidFill>
                <a:latin typeface="Arial"/>
              </a:rPr>
              <a:t>CONT.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53" name="Footer Placeholder 5"/>
          <p:cNvSpPr/>
          <p:nvPr/>
        </p:nvSpPr>
        <p:spPr>
          <a:xfrm>
            <a:off x="2484360" y="616572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666666"/>
                </a:solidFill>
                <a:latin typeface="Times New Roman"/>
              </a:rPr>
              <a:t>Taxas de cobertura-Chirr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6DE91-4904-41CF-8515-1E3E5BD974AE}" type="slidenum">
              <a:rPr b="0" lang="pt-P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pt-PT" sz="1400" spc="-1" strike="noStrike">
                <a:solidFill>
                  <a:srgbClr val="ffffff"/>
                </a:solidFill>
                <a:latin typeface="Arial"/>
              </a:rPr>
              <a:t>/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214200" y="857160"/>
            <a:ext cx="8715600" cy="53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Times New Roman"/>
              </a:rPr>
              <a:t>Altas coberturas deveriam também ser alcançadas à volta (raio de 5-10 km) de postos fixos de vacinação;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Times New Roman"/>
              </a:rPr>
              <a:t>As coberturas são importantes se a qualidade da vacina estiver assegurad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9EBDF-25DF-4FA0-98F4-4FE4829A6C3C}" type="datetime3">
              <a:rPr b="0" lang="en-US" sz="800" spc="-1" strike="noStrike">
                <a:solidFill>
                  <a:srgbClr val="666666"/>
                </a:solidFill>
                <a:latin typeface="Times New Roman"/>
              </a:rPr>
              <a:t>July 29,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71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666666"/>
                </a:solidFill>
                <a:latin typeface="Arial"/>
              </a:rPr>
              <a:t>CONT.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58" name="Footer Placeholder 5"/>
          <p:cNvSpPr/>
          <p:nvPr/>
        </p:nvSpPr>
        <p:spPr>
          <a:xfrm>
            <a:off x="2484360" y="62373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666666"/>
                </a:solidFill>
                <a:latin typeface="Times New Roman"/>
              </a:rPr>
              <a:t>Taxas de cobertura-Chirr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5B2A0-BA02-4D28-A698-34D1BE40813B}" type="slidenum">
              <a:rPr b="0" lang="pt-P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pt-PT" sz="1400" spc="-1" strike="noStrike">
                <a:solidFill>
                  <a:srgbClr val="ffffff"/>
                </a:solidFill>
                <a:latin typeface="Arial"/>
              </a:rPr>
              <a:t>/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42920" y="714240"/>
            <a:ext cx="8858160" cy="552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buClr>
                <a:srgbClr val="ff388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Times New Roman"/>
              </a:rPr>
              <a:t>A cobertura num Distrito não pode ser uniforme, devido a influência de vários factores (densidade populacional, presença ou não de postos fixos, distância da sede, se a área é servida por brigada móvel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buClr>
                <a:srgbClr val="ff388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Times New Roman"/>
              </a:rPr>
              <a:t>O nível provincial atribui as metas distritais no seu todo, mas cabe ao responsável do PAV – em conjunto com o resto da equipe de saúde – redistribuir as metas (coberturas a alcançar) pelas diferentes subáreas do distrito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6A5E6-5788-4F29-B105-8EDBBF26CFE8}" type="datetime3">
              <a:rPr b="0" lang="en-US" sz="800" spc="-1" strike="noStrike">
                <a:solidFill>
                  <a:srgbClr val="666666"/>
                </a:solidFill>
                <a:latin typeface="Times New Roman"/>
              </a:rPr>
              <a:t>July 29,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786880" cy="500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666666"/>
                </a:solidFill>
                <a:latin typeface="Arial"/>
              </a:rPr>
              <a:t>CONT.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63" name="Footer Placeholder 5"/>
          <p:cNvSpPr/>
          <p:nvPr/>
        </p:nvSpPr>
        <p:spPr>
          <a:xfrm>
            <a:off x="2411280" y="62373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666666"/>
                </a:solidFill>
                <a:latin typeface="Times New Roman"/>
              </a:rPr>
              <a:t>Taxas de cobertura-Chirr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904C1-189B-4B71-9835-130DA1E3AEF1}" type="slidenum">
              <a:rPr b="0" lang="pt-P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pt-PT" sz="1400" spc="-1" strike="noStrike">
                <a:solidFill>
                  <a:srgbClr val="ffffff"/>
                </a:solidFill>
                <a:latin typeface="Arial"/>
              </a:rPr>
              <a:t>/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214200" y="642960"/>
            <a:ext cx="8715600" cy="56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Times New Roman"/>
              </a:rPr>
              <a:t>As coberturas às quais nos referimos são habitualmente administrativas, isto é, resultam dos registos de actividades. Como tal, estão sujeitas a alguns problemas tais como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buClr>
                <a:srgbClr val="ff388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Times New Roman"/>
              </a:rPr>
              <a:t>Dependem de dados demográficos fidedignos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buClr>
                <a:srgbClr val="ff388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buClr>
                <a:srgbClr val="ff388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Times New Roman"/>
              </a:rPr>
              <a:t>Dependem da qualidade de registo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buClr>
                <a:srgbClr val="ff388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buClr>
                <a:srgbClr val="ff388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Times New Roman"/>
              </a:rPr>
              <a:t>Infelizmente podem ser falsificado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EF4F4-1350-4616-8E6F-F698CF143055}" type="datetime3">
              <a:rPr b="0" lang="en-US" sz="800" spc="-1" strike="noStrike">
                <a:solidFill>
                  <a:srgbClr val="666666"/>
                </a:solidFill>
                <a:latin typeface="Times New Roman"/>
              </a:rPr>
              <a:t>July 29,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14288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666666"/>
                </a:solidFill>
                <a:latin typeface="Arial"/>
              </a:rPr>
              <a:t>Cobertura de consultas pré-natais</a:t>
            </a:r>
            <a:br>
              <a:rPr sz="4000"/>
            </a:b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68" name="Footer Placeholder 5"/>
          <p:cNvSpPr/>
          <p:nvPr/>
        </p:nvSpPr>
        <p:spPr>
          <a:xfrm>
            <a:off x="2484360" y="62373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666666"/>
                </a:solidFill>
                <a:latin typeface="Times New Roman"/>
              </a:rPr>
              <a:t>Taxas de cobertura-Chirr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2BD75-FFFF-4D16-A89D-52AC428509C4}" type="slidenum">
              <a:rPr b="0" lang="pt-P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pt-PT" sz="1400" spc="-1" strike="noStrike">
                <a:solidFill>
                  <a:srgbClr val="ffffff"/>
                </a:solidFill>
                <a:latin typeface="Arial"/>
              </a:rPr>
              <a:t>/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57120" y="764640"/>
            <a:ext cx="87868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buClr>
                <a:srgbClr val="ff388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Indica o número de grávidas captadas pelo controle pré-natal. As grávidas esperadas são </a:t>
            </a:r>
            <a:r>
              <a:rPr b="1" lang="pt-PT" sz="2400" spc="-1" strike="noStrike">
                <a:solidFill>
                  <a:srgbClr val="000000"/>
                </a:solidFill>
                <a:latin typeface="Times New Roman"/>
              </a:rPr>
              <a:t>5%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 da população tot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A fonte deste indicador é o impresso SIS-BO8 e calcula-se da seguinte form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Times New Roman"/>
              </a:rPr>
              <a:t>C. C.Pré-natais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 ---   </a:t>
            </a:r>
            <a:r>
              <a:rPr b="0" lang="pt-PT" sz="2400" spc="-1" strike="noStrike" u="sng">
                <a:solidFill>
                  <a:srgbClr val="000000"/>
                </a:solidFill>
                <a:uFillTx/>
                <a:latin typeface="Times New Roman"/>
              </a:rPr>
              <a:t>Nº de primeiras consultas pré-natais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  X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---              Nº de grávidas esper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A cobertura de consultas pré-natais tem de ser a mais alta possív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3225E-932C-4FDD-BB4C-280093F38FB6}" type="datetime3">
              <a:rPr b="0" lang="en-US" sz="800" spc="-1" strike="noStrike">
                <a:solidFill>
                  <a:srgbClr val="666666"/>
                </a:solidFill>
                <a:latin typeface="Times New Roman"/>
              </a:rPr>
              <a:t>July 29,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2920" y="274680"/>
            <a:ext cx="8858160" cy="15825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666666"/>
                </a:solidFill>
                <a:latin typeface="Arial"/>
              </a:rPr>
              <a:t>Frequência de atendimento na consulta pré-natal.</a:t>
            </a:r>
            <a:br>
              <a:rPr sz="3600"/>
            </a:b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73" name="Footer Placeholder 5"/>
          <p:cNvSpPr/>
          <p:nvPr/>
        </p:nvSpPr>
        <p:spPr>
          <a:xfrm>
            <a:off x="2340000" y="616572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666666"/>
                </a:solidFill>
                <a:latin typeface="Times New Roman"/>
              </a:rPr>
              <a:t>Taxas de cobertura-Chirr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B4338-0094-4142-899A-EF9102DD85B7}" type="slidenum">
              <a:rPr b="0" lang="pt-P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pt-PT" sz="1400" spc="-1" strike="noStrike">
                <a:solidFill>
                  <a:srgbClr val="ffffff"/>
                </a:solidFill>
                <a:latin typeface="Arial"/>
              </a:rPr>
              <a:t>/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42920" y="1213920"/>
            <a:ext cx="885816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575"/>
              </a:spcBef>
              <a:buClr>
                <a:srgbClr val="ff388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Times New Roman"/>
              </a:rPr>
              <a:t>É uma razão</a:t>
            </a:r>
            <a:r>
              <a:rPr b="0" lang="pt-PT" sz="2600" spc="-1" strike="noStrike">
                <a:solidFill>
                  <a:srgbClr val="000000"/>
                </a:solidFill>
                <a:latin typeface="Times New Roman"/>
              </a:rPr>
              <a:t>. Mede quantas vezes em média uma grávida é vista ao longo do controle pré-natal, antes de chegar ao parto. A fonte deste indicador é o impresso SIS-BO8, e a fórmula é a seguint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Times New Roman"/>
              </a:rPr>
              <a:t>FCPN</a:t>
            </a:r>
            <a:r>
              <a:rPr b="0" lang="pt-PT" sz="2600" spc="-1" strike="noStrike">
                <a:solidFill>
                  <a:srgbClr val="000000"/>
                </a:solidFill>
                <a:latin typeface="Times New Roman"/>
              </a:rPr>
              <a:t>     ----  </a:t>
            </a:r>
            <a:r>
              <a:rPr b="0" lang="pt-PT" sz="2600" spc="-1" strike="noStrike" u="sng">
                <a:solidFill>
                  <a:srgbClr val="000000"/>
                </a:solidFill>
                <a:uFillTx/>
                <a:latin typeface="Times New Roman"/>
              </a:rPr>
              <a:t>Nº total de consultas pré-nat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pt-PT" sz="2600" spc="-1" strike="noStrike">
                <a:solidFill>
                  <a:srgbClr val="000000"/>
                </a:solidFill>
                <a:latin typeface="Times New Roman"/>
              </a:rPr>
              <a:t>----   Nº de primeiras consult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buClr>
                <a:srgbClr val="ff388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Times New Roman"/>
              </a:rPr>
              <a:t>É um indicador de qualidade da consulta pré-natal, ou melhor, da sua eficácia potencial. Para ser eficaz um controle pré-natal tem que ocorrer no mínimo </a:t>
            </a:r>
            <a:r>
              <a:rPr b="1" lang="pt-PT" sz="2600" spc="-1" strike="noStrike">
                <a:solidFill>
                  <a:srgbClr val="000000"/>
                </a:solidFill>
                <a:latin typeface="Times New Roman"/>
              </a:rPr>
              <a:t>três vezes/gravidez</a:t>
            </a:r>
            <a:r>
              <a:rPr b="0" lang="pt-PT" sz="26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A0E44-4B19-4B0A-A88D-E366D404B54A}" type="datetime3">
              <a:rPr b="0" lang="en-US" sz="800" spc="-1" strike="noStrike">
                <a:solidFill>
                  <a:srgbClr val="666666"/>
                </a:solidFill>
                <a:latin typeface="Times New Roman"/>
              </a:rPr>
              <a:t>July 29,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0T08:59:41Z</dcterms:created>
  <dc:creator>User</dc:creator>
  <dc:description/>
  <dc:language>en-US</dc:language>
  <cp:lastModifiedBy>User</cp:lastModifiedBy>
  <dcterms:modified xsi:type="dcterms:W3CDTF">2012-02-28T05:33:29Z</dcterms:modified>
  <cp:revision>31</cp:revision>
  <dc:subject/>
  <dc:title>TEMA</dc:title>
</cp:coreProperties>
</file>