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2088F-E070-4CC4-A60F-4A6DD2F64160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D2C91-6081-4BB0-86B6-1AAB46710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75D7B-D594-4C42-B24A-AC859B3E8F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Nota: Nesta apresentação, o termo “recém-nascido” refere-se a um bebé entre o parto e um mês de id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183AD-2AC6-4CC5-AF7C-060192F79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C6801-A8B9-44D6-A9E9-00D0E52D5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EE33D-32C0-4243-9953-7E120D27C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3FF79-8F0E-46B4-9686-83E9BE309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1FBAC-D7BD-4389-93F1-6A08C5B84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9A83B-D5CF-401A-97A6-350915F374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08666-A3BE-4346-A5C4-1ADAD2C02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E82F6-EC6B-4376-BC4E-8FC0841CA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recém-nascidos estão especialmente susceptíveis à hipotermia por terem uma grande superfície corporal o que ajuda a perda de calor; eles carecem de isolamento; e carecem de massa corporal para produzir e poupar calor. Eles também dependem dos cuidadores para os manter quentes e secos. Os cuidados para o recém-nascido incluem mantê-los aquecidos ao secá-los imediatamente após o parto e adiar o banho até a temperatura ter estabiliz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2196A-E434-4644-904F-2E9D8180C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5CEF4-EA0C-44A9-BA99-1CDA9CAA7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DE460-DC4F-4169-842C-3C7747D52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279440" y="3472920"/>
            <a:ext cx="7042320" cy="330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C8FB5-351E-4A55-825D-8571D5087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50D1A-AD59-4503-B48C-184408F5D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6E172-6115-4944-B8BD-4E9BA379D8CB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 lembrar que todos os recém-nascidos devem ser considerados em risco de necessitar de reanimação (ou seja, o assistente deverá estar preparado em todos os partos). Determinadas condições podem aumentar as probabilidades de se necessitar de reanimação. Por exemplo, se houver evidências de sofrimento fetal durante o trabalho de parto ou parto, mecónio espesso, parto com posição fetal invertida ou um parto premat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462D0-4A83-491A-A5B4-C33680177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Isenberg  também comparou a eficácia do uso da iodopovidona relativamente ao nitrato de prata e eritromicina, e descobriu que está é mais eficaz do que qualquer um d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FCCE3-3BB0-43C6-85F2-E7F1B10EDB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 iodopovidona pode ser uma boa alternativa por ser eficaz e económ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6C648-FDF9-4B46-AE12-222216F3B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DB055-610C-4A4B-AAF0-46FE5ABF2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BDECF-7998-4D37-BBDA-ED1D282D1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AA8A2-7994-47AF-A259-5046876C38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E209A-45B0-464B-A661-CE7D10043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8F2E6-7A02-4E00-BAC5-DE08B7B8A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79440" y="3472920"/>
            <a:ext cx="7042320" cy="32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cuidados neonatais são importantes porque as principais causas de óbitos neonatais são a asfixia e infecções. É crucial a presença de um assistente capacitado no parto para avaliar correctamente ao recém-nascido, realizar intervenções essenciais e não adiar a ressuscitação quando indicada. Se necessário, o assistente deverá poder cuidar ou transportar um recém-nascido do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Os programas para diarreia e imunização são responsáveis pela descida da TMI, mas a TMN permanece elev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42378-ECA8-4978-8397-13A700BF4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3F5A4-00CA-47D5-8E68-9EE083F0E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D4E0F-DD48-4B6B-9F33-936F70E33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26AA5-033A-45F9-A2DF-D2E3930B4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2AB10-758B-4FE8-ACC5-6037CAD5F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F5D24-B1E2-4830-81E1-28CE2E1E9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41D49-AE47-4D4F-B63A-22502A9FFD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3DC5F-BB71-4251-B575-79BC579F6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41723-A25B-4CB6-92BD-E36566EC3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2444-F228-464E-B4C3-A076FB81F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1400" y="378972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5719-CACA-4179-B178-02DAEA99D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50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A84B-D212-408F-91AE-06DD1B75F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62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0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14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62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0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8B0A-55DB-4DE8-BD27-716BF6CE0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9000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0BF4-B986-4199-A1E1-0F7493B68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250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1400" y="378972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250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62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000" y="160020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714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62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000" y="3789720"/>
            <a:ext cx="25470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02AC-1F00-4B1F-A5CC-A10F0E009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64D6-8DBD-4335-9F37-DC212CA7E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2382-E3D9-4630-B170-EAF9AF0D9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9000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AF03-0C56-47DD-9C87-4D05B1E73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85A6-137F-4785-AAE9-C4F8E7C29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5000" y="378972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90C7-954B-4D05-A631-225CFBE71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5000" y="1600200"/>
            <a:ext cx="386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1400" y="3789720"/>
            <a:ext cx="791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4206-420C-4A34-BB7E-1244F29CA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9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1268280" indent="-225360">
              <a:spcBef>
                <a:spcPts val="1400"/>
              </a:spcBef>
              <a:buClr>
                <a:srgbClr val="cc66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3" marL="1606680" indent="-22392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4" marL="2522520" indent="-342720">
              <a:spcBef>
                <a:spcPts val="1400"/>
              </a:spcBef>
              <a:buClr>
                <a:srgbClr val="80008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5" marL="2522520" indent="-342720">
              <a:spcBef>
                <a:spcPts val="1400"/>
              </a:spcBef>
              <a:buClr>
                <a:srgbClr val="cc660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6" marL="2522520" indent="-342720">
              <a:spcBef>
                <a:spcPts val="1400"/>
              </a:spcBef>
              <a:buClr>
                <a:srgbClr val="cc660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3808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" name="Picture 7" descr="mid_access_hex"/>
          <p:cNvPicPr/>
          <p:nvPr/>
        </p:nvPicPr>
        <p:blipFill>
          <a:blip r:embed="rId2"/>
          <a:stretch/>
        </p:blipFill>
        <p:spPr>
          <a:xfrm>
            <a:off x="2405160" y="5997600"/>
            <a:ext cx="1600200" cy="588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Horizontal_RGB_600"/>
          <p:cNvPicPr/>
          <p:nvPr/>
        </p:nvPicPr>
        <p:blipFill>
          <a:blip r:embed="rId3"/>
          <a:stretch/>
        </p:blipFill>
        <p:spPr>
          <a:xfrm>
            <a:off x="347760" y="6062760"/>
            <a:ext cx="1788840" cy="5331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771960" y="6181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45CF-A9A6-4C3F-A6D8-79015D63B62A}" type="slidenum"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1600200"/>
            <a:ext cx="9144000" cy="3962520"/>
          </a:xfrm>
          <a:prstGeom prst="rect">
            <a:avLst/>
          </a:prstGeom>
          <a:solidFill>
            <a:srgbClr val="ff9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066680" y="6019920"/>
            <a:ext cx="7239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ffffff"/>
                </a:solidFill>
                <a:latin typeface="Helvetica LT Std"/>
              </a:rPr>
              <a:t>Jhpiego</a:t>
            </a:r>
            <a:r>
              <a:rPr b="0" lang="pt-PT" sz="1100" spc="-1" strike="noStrike">
                <a:solidFill>
                  <a:srgbClr val="ffffff"/>
                </a:solidFill>
                <a:latin typeface="Helvetica LT Std"/>
              </a:rPr>
              <a:t> em parceria com a Save the Children, Constella Futures, A Academia para Desenvolvimento Educacional, O Instituto Superior Americano de Enfermeiras-Parteiras e IMA World Health</a:t>
            </a:r>
            <a:endParaRPr b="1" lang="en-US" sz="11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7" name="Picture 12" descr="mid_access_hex"/>
          <p:cNvPicPr/>
          <p:nvPr/>
        </p:nvPicPr>
        <p:blipFill>
          <a:blip r:embed="rId2"/>
          <a:stretch/>
        </p:blipFill>
        <p:spPr>
          <a:xfrm>
            <a:off x="5791320" y="438120"/>
            <a:ext cx="259056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Horizontal_RGB_600"/>
          <p:cNvPicPr/>
          <p:nvPr/>
        </p:nvPicPr>
        <p:blipFill>
          <a:blip r:embed="rId3"/>
          <a:stretch/>
        </p:blipFill>
        <p:spPr>
          <a:xfrm>
            <a:off x="762120" y="533520"/>
            <a:ext cx="2895480" cy="861840"/>
          </a:xfrm>
          <a:prstGeom prst="rect">
            <a:avLst/>
          </a:prstGeom>
          <a:ln w="0">
            <a:noFill/>
          </a:ln>
        </p:spPr>
      </p:pic>
      <p:sp>
        <p:nvSpPr>
          <p:cNvPr id="49" name="Line 8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1268280" indent="-225360">
              <a:spcBef>
                <a:spcPts val="1400"/>
              </a:spcBef>
              <a:buClr>
                <a:srgbClr val="cc66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3" marL="1606680" indent="-223920"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4" marL="2522520" indent="-342720">
              <a:spcBef>
                <a:spcPts val="1400"/>
              </a:spcBef>
              <a:buClr>
                <a:srgbClr val="80008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5" marL="2522520" indent="-342720">
              <a:spcBef>
                <a:spcPts val="1400"/>
              </a:spcBef>
              <a:buClr>
                <a:srgbClr val="cc660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6" marL="2522520" indent="-342720">
              <a:spcBef>
                <a:spcPts val="1400"/>
              </a:spcBef>
              <a:buClr>
                <a:srgbClr val="cc6600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2130120"/>
            <a:ext cx="5486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Melhores Práticas em Cuidados Neonatais Imediato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90720" y="3809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660066"/>
                </a:solidFill>
                <a:latin typeface="Helvetica LT Std"/>
              </a:rPr>
              <a:t>Melhores Práticas em Cuidados Maternos e Neonatais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7" name="Picture 4" descr="m11.jpg"/>
          <p:cNvPicPr/>
          <p:nvPr/>
        </p:nvPicPr>
        <p:blipFill>
          <a:blip r:embed="rId1"/>
          <a:stretch/>
        </p:blipFill>
        <p:spPr>
          <a:xfrm>
            <a:off x="7238880" y="1752480"/>
            <a:ext cx="17398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BF16-F618-4704-A0F4-FFBC29CFE799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ergunta ?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9106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Qual é o cuidado essencial para um recém-nascido imediatamente após o parto?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7" name="Picture 4" descr="j0078711"/>
          <p:cNvPicPr/>
          <p:nvPr/>
        </p:nvPicPr>
        <p:blipFill>
          <a:blip r:embed="rId1"/>
          <a:stretch/>
        </p:blipFill>
        <p:spPr>
          <a:xfrm>
            <a:off x="6172200" y="3200400"/>
            <a:ext cx="9936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70ED-838C-432D-956C-F190B325F1C1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ntervenções Essenciais nos Cuidados Neonatai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Parto limpo e cuidados para o cordão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96040" indent="-3405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Evitar infecções neonatai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Protecção térmica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96040" indent="-3405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Prevenir e manejar a hipo/hipertermia neonata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Amamentação precoce e exclusiva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96040" indent="-3405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Iniciada 1 hora após o part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Início da respiração e ressuscitação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96040" indent="-3405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Identificação precoce e manejo da asfixi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4424-3AC1-41B5-B51B-3F27AA38B6B4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ntervenções Essenciais nos Cuidados Neonatai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uidados oftálmicos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revenir e fazer o manejo  da oftalmia do neonat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Imunização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No nascimento: Vacina ‘’Bacille Calmette-Guerin (BCG)’’, vacina de póliovírus (OPV) oral e vacina contra o vírus da hepatite B (HBV) (OM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Identificação e gestão do recém-nascido doente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uidados para o recém-nascido prematuro e/ou com baixo peso à nascenç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25DD-A7CD-4F4B-8A00-BAFD2F22CA51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Limpeza para Prevenção de Infecçõe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Os princípios de limpeza são essenciais nos partos domiciliares e nas unidades sanitária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0120" indent="-33012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Princípios de limpeza no parto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Mãos limpa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Períneo limp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Não introduzir nada não limpo na vagin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Superfície de parto limp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Limpeza na pinçagem e corte do cordã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Limpeza para cuidado do cordã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687F-B5F0-444E-8135-920CC2872B1F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Limpeza para Prevenção de Infecçõe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Medidas de prevenção/controlo de infecções nas unidades de saúde e depois da alt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Os cuidadores e todas as outras pessoas devem lavar as mãos antes de tocar ou cuidar do bebé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Evitar contacto com crianças e adultos doente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74D5-4703-40AC-8510-7501066DAE78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ergunta ?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79106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Quais são os princípios e práticas chave nos cuidados com o cordão umbilical?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53" name="Picture 4" descr="j0078711"/>
          <p:cNvPicPr/>
          <p:nvPr/>
        </p:nvPicPr>
        <p:blipFill>
          <a:blip r:embed="rId1"/>
          <a:stretch/>
        </p:blipFill>
        <p:spPr>
          <a:xfrm>
            <a:off x="3886200" y="1219320"/>
            <a:ext cx="9936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2F1B-0D77-4AF9-86E6-66D78215DE72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Cuidados com o Cord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Não aplicar nenhuma compressa ou substância de qualquer naturez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Se o cordão sangrar, voltar a atá-l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Normalmente cai  4–7 dias após o part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té o cordão cair, colocá-lo fora da fralda para evitar contaminação com urina/fez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Lavar só com sabão e água limpa (se estiver sujo)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6441-B1B0-492F-8103-428A3FC96EBB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Arial"/>
              </a:rPr>
              <a:t>Protecção Térmic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1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Fisiologia do Recém-nascido: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Temperatura normal : 36,5–37,5°C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Hipotermia: &lt; 36,5°C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eríodo de estabilização: 1ªs 6–12 horas após o parto: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91960" indent="-211680" algn="just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Grande área de superfície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2" marL="1191960" indent="-211680" algn="just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Fraco isolamento térmic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2" marL="1191960" indent="-211680" algn="just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Massa corporal reduzida para produzir e conservar calor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2" marL="1191960" indent="-211680" algn="just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Incapacidade de alterar a postura ou ajustar o vestuário para responder ao stress térmic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 </a:t>
            </a: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umento da hipotermia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Recém-nascido deixado molhado enquanto se espera a expulsão da placenta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Lavagem precoce do recém-nascido (nas primeiras 24 horas)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3C94-F6A7-4849-985C-40DAD61DE5B2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revenção da Hipotermi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Fazer o parto num quarto aquecid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Secar bem o recém-nascido e embrulhá-lo num pano seco e aquecid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Entregar à mãe o mais cedo possível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50320" indent="-323280" algn="just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Contacto pele-com-pele durante as primeiras horas após o part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0320" indent="-323280" algn="just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romove o vínculo afectiv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50320" indent="-323280" algn="just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ossibilita a amamentação precoce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Verificar o aquecimento ao sentir os pés do recém-nascido de 15 em 15 minuto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3280" indent="-323280" algn="just">
              <a:lnSpc>
                <a:spcPct val="9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Dar banho depois da temperatura estar estável (depois de 24 horas)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D186-28ED-46F5-8EE7-EF547172107D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Amamentação Precoce e Exclusiv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ontacto precoce entre a mãe e o bebé: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ossibilita a amamentaçã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s políticas de quarto único nas unidades sanitárias previnem a infecção nosocomial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Melhores Práticas;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Sem alimentações pré-lácteas ou outro suplement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dministrar a primeira amamentação na primeira hora após o part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osicionamento correcto para possibilitar uma boa pega do recém-nascid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mamentação conforme solicitad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poio psicossocial para a mãe que amamenta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7928280" y="563868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660066"/>
                </a:solidFill>
                <a:latin typeface="Arial"/>
              </a:rPr>
              <a:t>OMS 1999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3ED9-1B25-4A0E-A713-67201B553604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Objectivos da Sess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Definir os elementos essenciais dos primeiros cuidados ao recém-nascido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Discutir a melhor prática para a promoção da saúde neonatal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Usar dados e informação relevante para desenvolver recomendações apropriadas para os cuidados neonatais essenciai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9479-FF28-465F-9D6F-1CB1BFAE637C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Amamentação Precoce e Exclusiva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Início da amamentação: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O colostro é o primeiro leite secretado e é importante para o bebé para nutrição e protecção contra doença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 maioria dos bebés está pronta para mamar em15-55 minutos após o parto;  o sucesso na primeira mamada muitas vezes indica o êxito na amamentação posterior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uto-pega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Colocar o bebé de bruços por cima do abdómen da mãe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poiar o bebé à medida que se move em direcção ao sei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Dar tempo ao bebé para abocanhar o mamilo antes de colocá-lo dentro da boca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91560" y="551196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Helvetica LT Std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Helvetica LT Std"/>
              </a:rPr>
              <a:t>: SNL 2004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BE5D-8CEC-4A95-8728-5048DD4A4ED4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Amamentação Precoce e Exclusiva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0" algn="just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Sinais de que o bebé esteja a receber leite suficiente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 bebé urina pelo menos 6 vezes em 24 hora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onsegue-se ouvir o bebé a engolir a mamad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 seio da mãe fica mais macio depois de uma mamad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 bebé engorda com o tempo (depois da primeira semana)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0560" indent="-3405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 bebé aparenta estar satisfeito após a mamad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315200" y="5791320"/>
            <a:ext cx="15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Helvetica LT Std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Helvetica LT Std"/>
              </a:rPr>
              <a:t>: SNL 2004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EDF0-E2B0-48F5-A716-DA21E60EBDC3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nício da Respiração e Reanimaç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Respiração espontânea (&gt; 30 inspirações/min.) na maioria dos bebés: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Estímulo suave, quando necessári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37320" indent="-33732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Pode ser necessária a reanimação do recém-nascido: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Sofrimento fetal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resença de mecónio espess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artos vaginais com posição fetal invertida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rematuro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marL="337320" indent="-33732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Desconhecida a eficácia da sucção oro-nasal: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Vantagens biologicamente plausíveis  – vias respiratórias desimpedidas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otenciais desvantagens reais – arritmia cardíaca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  <a:p>
            <a:pPr lvl="1" marL="886680" indent="-33732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Prefere-se a sucção com pêra (mas cada bebé deverá ter a sua pêra para prevenir a transmissão de infecções)</a:t>
            </a:r>
            <a:endParaRPr b="0" lang="en-US" sz="1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328800" y="6019920"/>
            <a:ext cx="16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Arial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Arial"/>
              </a:rPr>
              <a:t>: Hamilton 1999</a:t>
            </a:r>
            <a:r>
              <a:rPr b="0" lang="pt-PT" sz="1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CA6F-FCBD-4188-B8F0-C74F3E251A41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odopovidona para Conjuntivite: </a:t>
            </a:r>
            <a:br>
              <a:rPr sz="3200"/>
            </a:b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Objectivo e Estrutura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Objectivo: </a:t>
            </a:r>
            <a:r>
              <a:rPr b="0" lang="pt-PT" sz="2800" spc="-1" strike="noStrike">
                <a:solidFill>
                  <a:srgbClr val="660066"/>
                </a:solidFill>
                <a:latin typeface="Helvetica LT Std"/>
              </a:rPr>
              <a:t>Determinar a incidência e tipo de conjuntivite depois da  iodopovidona  no Quéni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0120" indent="0" algn="just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0120" indent="-33012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Estrutura: Rotação semanal do regime: eritromicina, nitrato de prata, iodopovidon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Mais infecções com nitrato de prata do que com iodopovidona, OR 1,76, p &lt; 0,001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68680" indent="-330120" algn="just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Mais infecções com eritromicina do que com iodopovidona OR 1,38, p=0,001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712800" y="5664240"/>
            <a:ext cx="27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Arial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Arial"/>
              </a:rPr>
              <a:t>: Isenberg, Apt and Wood 1995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75CB-A751-4220-B369-0D6DC4A244D2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odopovidona para Conjuntivite: Conclus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910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0" algn="just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Iodopovidona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É uma boa profilaxi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Tem um espectro anti-bacteriano maior 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Causa maior redução nas unidades formadoras de colónias e no número de espécies bacteriana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É activa contra víru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4160" indent="-344160" algn="just">
              <a:lnSpc>
                <a:spcPct val="9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É económic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059520" y="571500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Helvetica LT Std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Helvetica LT Std"/>
              </a:rPr>
              <a:t>: Isenberg, Apt and Wood 1995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F03B-9CA4-4718-80C8-809F5EFBF1F3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Imunizaç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106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Vacinações BCG em toda a população de alto risco para infecção por tuberculose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Dose única de OPV (Polio) à nascença ou na 2ª semana após o parto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4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Vacinação HBV o mais cedo possível onde sejam comuns infecções perinatais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06CD-B6DA-40A8-819B-B4CFC607C58E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Aconselhament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Mesmo que a mãe tenha alta poucas horas após o parto, ela deverá receber aconselhamento sobre: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509760" indent="-3952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Amamentação exclusiv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509760" indent="-3952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Higiene – cuidados oftálmicos e para o cordão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509760" indent="-3952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Protecção térmic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509760" indent="-395280" algn="just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Helvetica LT Std"/>
              </a:rPr>
              <a:t>Sinais de perigo e o que fazer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2145-D46D-45B8-A809-70761D7515FF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Encenaçã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Realizar e discutir a encenação conforme descrito na apostila.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1C93-7B3E-43B5-91D4-7AA1322D77ED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ergunta ?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91064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Quais são os sinais de perigo no recém-nascido?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99" name="Picture 4" descr="j0078711"/>
          <p:cNvPicPr/>
          <p:nvPr/>
        </p:nvPicPr>
        <p:blipFill>
          <a:blip r:embed="rId1"/>
          <a:stretch/>
        </p:blipFill>
        <p:spPr>
          <a:xfrm>
            <a:off x="4267080" y="1600200"/>
            <a:ext cx="9939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95F4-5387-47DD-9FE5-055BB4C85BD6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lano de Prontidão para Complicaçõe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1832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31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Sinais de Perigo para o Recém-nascido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Dificuldade respiratória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Convulsões, espasmos, perda de consciência, ou encurvamento da coluna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Cianose (azulado)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Quente ao toque (febre)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Frio ao toque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Sangramento 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Icterícia (côr amarela)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7972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Palidez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Diarreia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Vómitos persistentes ou distensão abdomina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Não comer ou mamar mal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Pus ou vermelhidão no umbigo, olhos ou pele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Membros ou articulações inchadas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Fraqueza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231840" indent="-231840" algn="just">
              <a:lnSpc>
                <a:spcPct val="100000"/>
              </a:lnSpc>
              <a:spcBef>
                <a:spcPts val="10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Letargia 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81A6-CF8B-4636-B49D-EA164CA27AFB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Óbitos Neonatai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0" algn="just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660066"/>
                </a:solidFill>
                <a:latin typeface="Helvetica LT Std"/>
              </a:rPr>
              <a:t>Todos os anos:</a:t>
            </a:r>
            <a:endParaRPr b="1" lang="en-US" sz="26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8,1 milhões de mortes de bebés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4 milhões de mortes neonatai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859320" indent="-32688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40% do total da mortalidade de crianças com menos de 5 ano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Oito mortes neonatais por minut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4 milhões de nados morto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6880" indent="-32688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 mortalidade de crianças com menos de um e de cinco anos diminuiu significativamente – mas a TMN pouco diminuiu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268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724280" y="1828800"/>
            <a:ext cx="3962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8BB6-B604-409B-9D64-5AF9B886241E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Resumo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Parto limpo e cuidados com o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    </a:t>
            </a: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ordã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Protecção térmic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Amamentação precoce e exclusiva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Cuidados oftálmico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Imunizaçã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457200" y="1295280"/>
            <a:ext cx="5272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</a:rPr>
              <a:t>Os componentes essenciais dos cuidados neonatais normais incluem: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8" name="Picture 6" descr="M11_3.jpg"/>
          <p:cNvPicPr/>
          <p:nvPr/>
        </p:nvPicPr>
        <p:blipFill>
          <a:blip r:embed="rId1"/>
          <a:stretch/>
        </p:blipFill>
        <p:spPr>
          <a:xfrm>
            <a:off x="6248520" y="1828800"/>
            <a:ext cx="25686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C24C-6AB4-4948-909C-FC788B4F7DBE}" type="slidenum">
              <a:rPr b="1" lang="en-US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Referência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9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Bell TA et al. 1993. Randomized trial of silver nitrate, erythromycin and no eye prophylaxis for the prevention of conjunctivitis among newborns not at risk for gonococcal ophthalmitis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Pediatrics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92: 755–760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Chen J. 1992. Prophylaxis of ophthalmia neonatorum: comparison of silver nitrate, tetracycline, erythromycin, and no prophylaxis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Pediatr Infect Dis J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11: 1026–1030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Child Health Research Project and Maternal and Neonatal Health Program. 1999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Reducing Perinatal and Neonatal Mortality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. Report of a meeting in Baltimore, MD, 10–12 May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Ganges F. 2006. Normal Newborn Care, a presentation in Accra, Ghana,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Basic Maternal and Newborn Care Technical Update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. (April)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7F4D-AD30-4469-8CA7-C238BFC7DA8A}" type="slidenum">
              <a:rPr b="1" lang="en-US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Referência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10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Hamilton P. 1999. Care of the newborn in the delivery room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Br Med J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318: 1403–1406. 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Isenberg SJ, Apt L and Wood M. 1995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A 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controlled trial of povidone-iodine as prophylaxis against ophthalmitis neonatorum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.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N Engl J Med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 332: 562–566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Kinzie B and Gomez P.  2004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Basic Maternal and Newborn Care: A Guide for Skilled Providers.  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Jhpiego: Baltimore, MD. 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Saving Newborn Lives (SNL).  2004. 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Care of the Newborn: Reference Manual.  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Save the Children: Washington, D.C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World Health Organization (WHO). 1999. </a:t>
            </a:r>
            <a:r>
              <a:rPr b="0" i="1" lang="en-US" sz="1800" spc="-1" strike="noStrike">
                <a:solidFill>
                  <a:srgbClr val="660066"/>
                </a:solidFill>
                <a:latin typeface="Helvetica LT Std"/>
              </a:rPr>
              <a:t>Care in Normal Birth: A Practical Guide</a:t>
            </a:r>
            <a:r>
              <a:rPr b="0" lang="en-US" sz="1800" spc="-1" strike="noStrike">
                <a:solidFill>
                  <a:srgbClr val="660066"/>
                </a:solidFill>
                <a:latin typeface="Helvetica LT Std"/>
              </a:rPr>
              <a:t>. WHO: Geneva.</a:t>
            </a:r>
            <a:endParaRPr b="1" lang="en-US" sz="1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B450-49B1-4197-BE98-2F2EF8A52F7B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Pergunta ??</a:t>
            </a: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	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9106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Quais são as principais causas da mortalidade neonatal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210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2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E63D-32CC-49A0-9A95-D855F218635B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Causas de Óbitos Neonatai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77720" y="1447920"/>
          <a:ext cx="75409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1447920"/>
                    <a:ext cx="75409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5"/>
          <p:cNvSpPr/>
          <p:nvPr/>
        </p:nvSpPr>
        <p:spPr>
          <a:xfrm>
            <a:off x="6248520" y="2133720"/>
            <a:ext cx="304560" cy="2819160"/>
          </a:xfrm>
          <a:custGeom>
            <a:avLst/>
            <a:gdLst>
              <a:gd name="textAreaLeft" fmla="*/ 0 w 304560"/>
              <a:gd name="textAreaRight" fmla="*/ 109800 w 30456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612120" y="3276720"/>
            <a:ext cx="896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0066"/>
                </a:solidFill>
                <a:latin typeface="Helvetica LT Std"/>
              </a:rPr>
              <a:t>Infecção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660066"/>
                </a:solidFill>
                <a:latin typeface="Helvetica LT Std"/>
              </a:rPr>
              <a:t>36%</a:t>
            </a:r>
            <a:endParaRPr b="1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1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E4FB-714A-4524-8B9C-AAA891C6CB0D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838080" y="1990800"/>
          <a:ext cx="788688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90800"/>
                    <a:ext cx="788688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3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Helvetica LT Std"/>
                <a:ea typeface="Arial"/>
              </a:rPr>
              <a:t>Risco por Semana de Vida durante os Primeiros 5 Anos: O Primeiro Período Pós-natal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28600" y="563868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660066"/>
                </a:solidFill>
                <a:latin typeface="Helvetica LT Std"/>
                <a:ea typeface="Arial"/>
              </a:rPr>
              <a:t>Fonte</a:t>
            </a:r>
            <a:r>
              <a:rPr b="0" lang="pt-PT" sz="1200" spc="-1" strike="noStrike">
                <a:solidFill>
                  <a:srgbClr val="660066"/>
                </a:solidFill>
                <a:latin typeface="Helvetica LT Std"/>
                <a:ea typeface="Arial"/>
              </a:rPr>
              <a:t>: Lawn Addis presentation based on global ENMR, NMR 2000 estimates, IMR and U5M in State of the World’s Children.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1295280" y="1370160"/>
            <a:ext cx="2286000" cy="838080"/>
          </a:xfrm>
          <a:prstGeom prst="downArrow">
            <a:avLst>
              <a:gd name="adj1" fmla="val 78120"/>
              <a:gd name="adj2" fmla="val 26620"/>
            </a:avLst>
          </a:prstGeom>
          <a:solidFill>
            <a:srgbClr val="cc33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10147"/>
                </a:solidFill>
                <a:latin typeface="Helvetica LT Std"/>
                <a:ea typeface="Arial"/>
              </a:rPr>
              <a:t>A semana de vida 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10147"/>
                </a:solidFill>
                <a:latin typeface="Helvetica LT Std"/>
                <a:ea typeface="Arial"/>
              </a:rPr>
              <a:t>com maior risco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505320" y="137016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660066"/>
                </a:solidFill>
                <a:latin typeface="Helvetica LT Std"/>
                <a:ea typeface="Arial"/>
              </a:rPr>
              <a:t>Risco de morte por cada semana de vida durante os primeiros 5 anos de vida, com base nas médias globais da taxa de mortalidad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BD20-F944-4386-9F9C-294529F4459E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Óbitos Neonatais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660066"/>
                </a:solidFill>
                <a:latin typeface="Helvetica LT Std"/>
              </a:rPr>
              <a:t>O processo do parto foi a causa antecedente de 2/3 das mortes por infecção:</a:t>
            </a:r>
            <a:endParaRPr b="1" lang="en-US" sz="22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660066"/>
                </a:solidFill>
                <a:latin typeface="Helvetica LT Std"/>
              </a:rPr>
              <a:t>Falta de higiene no parto e durante o período neonatal</a:t>
            </a:r>
            <a:endParaRPr b="0" lang="en-US" sz="22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660066"/>
                </a:solidFill>
                <a:latin typeface="Helvetica LT Std"/>
              </a:rPr>
              <a:t>Partos domiciliares sem assistentes de parto capacitados</a:t>
            </a:r>
            <a:endParaRPr b="0" lang="en-US" sz="22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660066"/>
                </a:solidFill>
                <a:latin typeface="Helvetica LT Std"/>
              </a:rPr>
              <a:t>Asfixia durante o parto nos países em desenvolvimento:</a:t>
            </a:r>
            <a:endParaRPr b="1" lang="en-US" sz="22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660066"/>
                </a:solidFill>
                <a:latin typeface="Helvetica LT Std"/>
              </a:rPr>
              <a:t>3% dos recém-nascidos sofrem de asfixia de parto ligeira a moderada</a:t>
            </a:r>
            <a:endParaRPr b="0" lang="en-US" sz="22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660066"/>
                </a:solidFill>
                <a:latin typeface="Helvetica LT Std"/>
              </a:rPr>
              <a:t>Frequentemente, a reanimação imediata não é iniciada ou o procedimento é inadequado ou incorrecto</a:t>
            </a:r>
            <a:endParaRPr b="0" lang="en-US" sz="2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5" name="Picture 5" descr="M11_1.jpg"/>
          <p:cNvPicPr/>
          <p:nvPr/>
        </p:nvPicPr>
        <p:blipFill>
          <a:blip r:embed="rId1"/>
          <a:stretch/>
        </p:blipFill>
        <p:spPr>
          <a:xfrm>
            <a:off x="6629400" y="4495680"/>
            <a:ext cx="1852560" cy="19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B05B-EE12-44C0-99A8-850E727828E9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Óbitos Neonatai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Baixo Peso à Nascença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Um factor extremamente importante na mortalidade neonata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Hipotermia e Óbitos Neonatais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Contribuição significativa para os óbitos de bebés com baixo peso à nascença e recém-nascidos prematuro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ráticas sociais, culturais e sanitárias que atrasam os cuidados ao recém-nascido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7760" indent="-347760" algn="just">
              <a:lnSpc>
                <a:spcPct val="100000"/>
              </a:lnSpc>
              <a:spcBef>
                <a:spcPts val="11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660066"/>
                </a:solidFill>
                <a:latin typeface="Helvetica LT Std"/>
              </a:rPr>
              <a:t>Países com uma elevada prevalência de ITS e práticas profiláticas inconsistentes: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A Oftalmia do neonato é uma causa comum da cegueira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772320" y="618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B7B3-89D9-4A13-B1C3-CEBE94C0D6B9}" type="slidenum">
              <a:rPr b="1" lang="pt-PT" sz="18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90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660066"/>
                </a:solidFill>
                <a:latin typeface="Helvetica LT Std"/>
              </a:rPr>
              <a:t>Óbitos Neonatais (cont.)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2971440"/>
            <a:ext cx="44193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pt-PT" sz="2000" spc="-1" strike="noStrike">
                <a:solidFill>
                  <a:srgbClr val="660066"/>
                </a:solidFill>
                <a:latin typeface="Arial"/>
              </a:rPr>
              <a:t>As estratégias para melhoria da saúde neonatal </a:t>
            </a: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devem ter como alvo:</a:t>
            </a:r>
            <a:endParaRPr b="1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arteiras, famílias e comunidade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914400" indent="-347760" algn="just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660066"/>
                </a:solidFill>
                <a:latin typeface="Helvetica LT Std"/>
              </a:rPr>
              <a:t>Profissionais dos cuidados de saúde dentro do sistema de saúde forma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28600" y="1447920"/>
            <a:ext cx="876312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660066"/>
                </a:solidFill>
                <a:latin typeface="Helvetica LT Std"/>
              </a:rPr>
              <a:t>Local do Parto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Até 2 de 3 partos na maioria dos países em desenvolvimento ocorrem em casa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0066"/>
                </a:solidFill>
                <a:latin typeface="Helvetica LT Std"/>
              </a:rPr>
              <a:t>Somente metade dos partos são assistidos por pessoal capacitado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3" name="Picture 7" descr="M11_2.jpg"/>
          <p:cNvPicPr/>
          <p:nvPr/>
        </p:nvPicPr>
        <p:blipFill>
          <a:blip r:embed="rId1"/>
          <a:stretch/>
        </p:blipFill>
        <p:spPr>
          <a:xfrm>
            <a:off x="1066680" y="3048120"/>
            <a:ext cx="2721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8T15:10:10Z</dcterms:created>
  <dc:creator>Sonia Elabd</dc:creator>
  <dc:description/>
  <dc:language>en-US</dc:language>
  <cp:lastModifiedBy>Natercia Fernandes</cp:lastModifiedBy>
  <dcterms:modified xsi:type="dcterms:W3CDTF">2009-08-03T19:29:35Z</dcterms:modified>
  <cp:revision>119</cp:revision>
  <dc:subject/>
  <dc:title>Normal Newborn C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../../nncpg.htm</vt:lpwstr>
  </property>
  <property fmtid="{D5CDD505-2E9C-101B-9397-08002B2CF9AE}" pid="9" name="LinkColor">
    <vt:r8>16711782</vt:r8>
  </property>
  <property fmtid="{D5CDD505-2E9C-101B-9397-08002B2CF9AE}" pid="10" name="MailAddress">
    <vt:lpwstr>repro@jhpiego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\PSS\Reproline\PPTs\MNH_PPTs\nnc\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