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0.png" ContentType="image/png"/>
  <Override PartName="/ppt/media/image6.jpeg" ContentType="image/jpeg"/>
  <Override PartName="/ppt/media/image9.jpeg" ContentType="image/jpeg"/>
  <Override PartName="/ppt/media/image17.png" ContentType="image/png"/>
  <Override PartName="/ppt/media/image16.jpeg" ContentType="image/jpeg"/>
  <Override PartName="/ppt/media/image14.png" ContentType="image/png"/>
  <Override PartName="/ppt/media/image5.gif" ContentType="image/gif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png" ContentType="image/png"/>
  <Override PartName="/ppt/media/image15.wmf" ContentType="image/x-wmf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B08AF-45AB-493B-A8DA-1A49F08B4CDC}" type="slidenum">
              <a:rPr b="0" lang="pt-P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Z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Date Placeholder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7A2B7-448C-4784-93C5-22F0F843E30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lide Number Placeholder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0D8C2-696D-4A90-BDFB-024C6349F5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Z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Date Placeholder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D02A8-7F7D-4DAC-893C-A47653EF50E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F0055-882F-4642-A9F1-C218D39342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D6308-C652-49DF-AAEF-47DF8F46C2F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61215-06FF-416C-92F1-B639565A8E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A mortalidade materna é uma tragédia global, mas afecta ao mundo em vias de desenvolvimento. Quase todas as mortes por complicações associadas à gravidez  ocorrem no mundo em vias de desenvolviment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F6236-D749-4B53-A51A-0A465C813BB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00620-0BFA-4C49-B1BA-B8B1F4C392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Para cada mulher que morre durante a gravidez, 30 mulheres sofrem de complicaçõ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As iniciativas deveriam incluir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Planeamento famili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Gestão das complicações do abort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Gestão das complicações da gravidez e part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Z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Date Placeholder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908D6-8634-4EC0-A21E-417C4AC1D8E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lide Number Placeholder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5AC5C-30F1-4DA3-9EF8-1F91FBD12A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C643E-72E3-4F7A-8408-B8060D1B8E8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808FC-2DD2-418F-A7C5-EDB90D466A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Z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Date Placeholder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2B337-1318-40BA-93B4-A4CE7936019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lide Number Placeholder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E9826-012A-4747-9561-904B4A44DC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F214-3224-4B34-A5E3-E48B9EBE3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B5C7-D85E-45F8-860A-BFEC5D814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592C5-F5A1-41CE-88F9-049244781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0F66A-D2B5-43E1-8EFD-3DF6A8447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90C3-77B1-4D9C-BF92-2E3E9E4BE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1E217-046D-4B40-9FD0-60616AD57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A0B7-ACD7-4E07-884F-0DD453D40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08FC6-0277-4709-80A4-9A2BCFFC1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02430-2F78-45C3-856E-26CED6AF9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106AA-B897-4576-99D1-F79E79EC6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D8F3C-533B-4A0F-B608-AC5422032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77B06-679B-469B-BF93-A3200ADC1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00D88-A7F7-4965-975C-50E52BB7205C}" type="slidenum">
              <a:rPr b="0" lang="pt-PT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gif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women"/>
          <p:cNvPicPr/>
          <p:nvPr/>
        </p:nvPicPr>
        <p:blipFill>
          <a:blip r:embed="rId1"/>
          <a:stretch/>
        </p:blipFill>
        <p:spPr>
          <a:xfrm>
            <a:off x="0" y="1222200"/>
            <a:ext cx="4911840" cy="48736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5" descr="logomz"/>
          <p:cNvPicPr/>
          <p:nvPr/>
        </p:nvPicPr>
        <p:blipFill>
          <a:blip r:embed="rId2"/>
          <a:stretch/>
        </p:blipFill>
        <p:spPr>
          <a:xfrm>
            <a:off x="4356000" y="0"/>
            <a:ext cx="1067040" cy="990720"/>
          </a:xfrm>
          <a:prstGeom prst="rect">
            <a:avLst/>
          </a:prstGeom>
          <a:ln w="0">
            <a:noFill/>
          </a:ln>
        </p:spPr>
      </p:pic>
      <p:pic>
        <p:nvPicPr>
          <p:cNvPr id="50" name="Title 5" descr=""/>
          <p:cNvPicPr/>
          <p:nvPr/>
        </p:nvPicPr>
        <p:blipFill>
          <a:blip r:embed="rId3"/>
          <a:stretch/>
        </p:blipFill>
        <p:spPr>
          <a:xfrm>
            <a:off x="682560" y="835200"/>
            <a:ext cx="7785000" cy="596880"/>
          </a:xfrm>
          <a:prstGeom prst="rect">
            <a:avLst/>
          </a:prstGeom>
          <a:ln w="0">
            <a:noFill/>
          </a:ln>
        </p:spPr>
      </p:pic>
      <p:pic>
        <p:nvPicPr>
          <p:cNvPr id="51" name="Title 5" descr=""/>
          <p:cNvPicPr/>
          <p:nvPr/>
        </p:nvPicPr>
        <p:blipFill>
          <a:blip r:embed="rId4"/>
          <a:stretch/>
        </p:blipFill>
        <p:spPr>
          <a:xfrm>
            <a:off x="969840" y="1407960"/>
            <a:ext cx="7783560" cy="603360"/>
          </a:xfrm>
          <a:prstGeom prst="rect">
            <a:avLst/>
          </a:prstGeom>
          <a:ln w="0">
            <a:noFill/>
          </a:ln>
        </p:spPr>
      </p:pic>
      <p:sp>
        <p:nvSpPr>
          <p:cNvPr id="52" name="Title 5"/>
          <p:cNvSpPr/>
          <p:nvPr/>
        </p:nvSpPr>
        <p:spPr>
          <a:xfrm>
            <a:off x="5003640" y="2286000"/>
            <a:ext cx="3759480" cy="19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000000"/>
                </a:solidFill>
                <a:latin typeface="Calibri"/>
              </a:rPr>
              <a:t>Atenção Humanizada à Saúde Materna e Neonatal</a:t>
            </a:r>
            <a:br>
              <a:rPr sz="2400"/>
            </a:b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bandeira_mocambique_1"/>
          <p:cNvPicPr/>
          <p:nvPr/>
        </p:nvPicPr>
        <p:blipFill>
          <a:blip r:embed="rId5"/>
          <a:stretch/>
        </p:blipFill>
        <p:spPr>
          <a:xfrm>
            <a:off x="136440" y="39600"/>
            <a:ext cx="1198800" cy="108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000000"/>
                </a:solidFill>
                <a:latin typeface="Arial"/>
              </a:rPr>
              <a:t>Situação de Saúde Mater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itle 1"/>
          <p:cNvSpPr/>
          <p:nvPr/>
        </p:nvSpPr>
        <p:spPr>
          <a:xfrm>
            <a:off x="685800" y="1828800"/>
            <a:ext cx="8229600" cy="243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TMM- 408/100.000 N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IDS</a:t>
            </a: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, 20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83EE9-3FA6-4833-88C9-A5ECAAD84B0E}" type="slidenum">
              <a:rPr b="0" lang="pt-PT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acio da Mortalidade Materna Institu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" descr=""/>
          <p:cNvPicPr/>
          <p:nvPr/>
        </p:nvPicPr>
        <p:blipFill>
          <a:blip r:embed="rId1"/>
          <a:stretch/>
        </p:blipFill>
        <p:spPr>
          <a:xfrm>
            <a:off x="838080" y="1447920"/>
            <a:ext cx="7772400" cy="495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24661-9150-41D6-8F98-09E29128DBB4}" type="slidenum">
              <a:rPr b="0" lang="pt-PT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Calibri"/>
              </a:rPr>
              <a:t>Tendências e Metas de Indicadores Seleccionados da Saúde Reprodutiva/Materna</a:t>
            </a:r>
            <a:r>
              <a:rPr b="0" lang="pt-PT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t-PT" sz="2400" spc="-1" strike="noStrike">
                <a:solidFill>
                  <a:srgbClr val="000000"/>
                </a:solidFill>
                <a:latin typeface="Calibri"/>
              </a:rPr>
              <a:t>em Moçamb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Chart 8" descr=""/>
          <p:cNvPicPr/>
          <p:nvPr/>
        </p:nvPicPr>
        <p:blipFill>
          <a:blip r:embed="rId1"/>
          <a:stretch/>
        </p:blipFill>
        <p:spPr>
          <a:xfrm>
            <a:off x="378000" y="1384200"/>
            <a:ext cx="8388000" cy="524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5C93B-6FAF-42EF-A367-2E36BE9B8FE2}" type="slidenum">
              <a:rPr b="0" lang="pt-PT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9000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Comic Sans MS"/>
              </a:rPr>
              <a:t>Quais são as principais causas da mortalidade materna</a:t>
            </a:r>
            <a:r>
              <a:rPr b="1" lang="pt-PT" sz="3200" spc="-1" strike="noStrike">
                <a:solidFill>
                  <a:srgbClr val="000000"/>
                </a:solidFill>
                <a:latin typeface="Helvetica LT Std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Ethiopian woman and baby"/>
          <p:cNvPicPr/>
          <p:nvPr/>
        </p:nvPicPr>
        <p:blipFill>
          <a:blip r:embed="rId1"/>
          <a:stretch/>
        </p:blipFill>
        <p:spPr>
          <a:xfrm>
            <a:off x="1981080" y="1752480"/>
            <a:ext cx="5600880" cy="374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CB7AC-5F53-40FA-8294-37A387D931E0}" type="slidenum">
              <a:rPr b="0" lang="pt-PT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usa das Mortes Matern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"/>
          <p:cNvPicPr/>
          <p:nvPr/>
        </p:nvPicPr>
        <p:blipFill>
          <a:blip r:embed="rId1"/>
          <a:stretch/>
        </p:blipFill>
        <p:spPr>
          <a:xfrm>
            <a:off x="990720" y="1295280"/>
            <a:ext cx="7162560" cy="495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000000"/>
                </a:solidFill>
                <a:latin typeface="Arial"/>
              </a:rPr>
              <a:t>Situação de Saúde Infant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itle 1"/>
          <p:cNvSpPr/>
          <p:nvPr/>
        </p:nvSpPr>
        <p:spPr>
          <a:xfrm>
            <a:off x="685800" y="1828800"/>
            <a:ext cx="8229600" cy="243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TMI- 124/1000 N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IDS</a:t>
            </a: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, 20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18D6B-54B5-437C-9025-82A2B459CD3C}" type="slidenum">
              <a:rPr b="0" lang="pt-PT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Calibri"/>
              </a:rPr>
              <a:t>Tendências e Metas de Indicadores da Saúde do Recém-Nascido</a:t>
            </a:r>
            <a:r>
              <a:rPr b="1" lang="pt-PT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t-PT" sz="2400" spc="-1" strike="noStrike">
                <a:solidFill>
                  <a:srgbClr val="000000"/>
                </a:solidFill>
                <a:latin typeface="Calibri"/>
              </a:rPr>
              <a:t>e da Criança Menor de 5 Anos</a:t>
            </a:r>
            <a:r>
              <a:rPr b="0" lang="pt-PT" sz="4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Chart 5" descr=""/>
          <p:cNvPicPr/>
          <p:nvPr/>
        </p:nvPicPr>
        <p:blipFill>
          <a:blip r:embed="rId1"/>
          <a:stretch/>
        </p:blipFill>
        <p:spPr>
          <a:xfrm>
            <a:off x="378000" y="1450800"/>
            <a:ext cx="8388000" cy="495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FD5D6-7A63-42FC-80B6-6DCB1EF46B68}" type="slidenum">
              <a:rPr b="0" lang="pt-PT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000" spc="-1" strike="noStrike">
                <a:solidFill>
                  <a:srgbClr val="000000"/>
                </a:solidFill>
                <a:latin typeface="Calibri"/>
              </a:rPr>
              <a:t>Intrahospitalar: Pais 2001-2007, TNM e Proporção de NM com Foco+ por Províncias em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"/>
          <p:cNvPicPr/>
          <p:nvPr/>
        </p:nvPicPr>
        <p:blipFill>
          <a:blip r:embed="rId1"/>
          <a:stretch/>
        </p:blipFill>
        <p:spPr>
          <a:xfrm>
            <a:off x="228600" y="1371600"/>
            <a:ext cx="8458200" cy="510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E47BB-9C2E-49DA-8753-B6F8893FCEE8}" type="slidenum">
              <a:rPr b="0" lang="pt-PT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76520" y="4568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Comic Sans MS"/>
              </a:rPr>
              <a:t>Quais são as principais causas da mortalidade neonata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African mother lying with infant"/>
          <p:cNvPicPr/>
          <p:nvPr/>
        </p:nvPicPr>
        <p:blipFill>
          <a:blip r:embed="rId1"/>
          <a:stretch/>
        </p:blipFill>
        <p:spPr>
          <a:xfrm>
            <a:off x="2209680" y="2362320"/>
            <a:ext cx="4829400" cy="31240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14320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7D9E0-DEFE-46AA-AFE0-715D09A137AD}" type="slidenum">
              <a:rPr b="0" lang="pt-PT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3200" spc="-1" strike="noStrike">
                <a:solidFill>
                  <a:srgbClr val="000000"/>
                </a:solidFill>
                <a:latin typeface="Calibri"/>
              </a:rPr>
              <a:t>Principais Causas de Morte Neonatal, 2007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"/>
          <p:cNvPicPr/>
          <p:nvPr/>
        </p:nvPicPr>
        <p:blipFill>
          <a:blip r:embed="rId1"/>
          <a:stretch/>
        </p:blipFill>
        <p:spPr>
          <a:xfrm>
            <a:off x="1295280" y="1371600"/>
            <a:ext cx="6629400" cy="495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women"/>
          <p:cNvPicPr/>
          <p:nvPr/>
        </p:nvPicPr>
        <p:blipFill>
          <a:blip r:embed="rId1"/>
          <a:stretch/>
        </p:blipFill>
        <p:spPr>
          <a:xfrm>
            <a:off x="0" y="1146240"/>
            <a:ext cx="4911840" cy="48736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logomz"/>
          <p:cNvPicPr/>
          <p:nvPr/>
        </p:nvPicPr>
        <p:blipFill>
          <a:blip r:embed="rId2"/>
          <a:stretch/>
        </p:blipFill>
        <p:spPr>
          <a:xfrm>
            <a:off x="4356000" y="0"/>
            <a:ext cx="1067040" cy="990720"/>
          </a:xfrm>
          <a:prstGeom prst="rect">
            <a:avLst/>
          </a:prstGeom>
          <a:ln w="0">
            <a:noFill/>
          </a:ln>
        </p:spPr>
      </p:pic>
      <p:pic>
        <p:nvPicPr>
          <p:cNvPr id="56" name="Title 5" descr=""/>
          <p:cNvPicPr/>
          <p:nvPr/>
        </p:nvPicPr>
        <p:blipFill>
          <a:blip r:embed="rId3"/>
          <a:stretch/>
        </p:blipFill>
        <p:spPr>
          <a:xfrm>
            <a:off x="682560" y="835200"/>
            <a:ext cx="7785000" cy="596880"/>
          </a:xfrm>
          <a:prstGeom prst="rect">
            <a:avLst/>
          </a:prstGeom>
          <a:ln w="0">
            <a:noFill/>
          </a:ln>
        </p:spPr>
      </p:pic>
      <p:pic>
        <p:nvPicPr>
          <p:cNvPr id="57" name="Title 5" descr=""/>
          <p:cNvPicPr/>
          <p:nvPr/>
        </p:nvPicPr>
        <p:blipFill>
          <a:blip r:embed="rId4"/>
          <a:stretch/>
        </p:blipFill>
        <p:spPr>
          <a:xfrm>
            <a:off x="969840" y="1407960"/>
            <a:ext cx="7783560" cy="603360"/>
          </a:xfrm>
          <a:prstGeom prst="rect">
            <a:avLst/>
          </a:prstGeom>
          <a:ln w="0">
            <a:noFill/>
          </a:ln>
        </p:spPr>
      </p:pic>
      <p:sp>
        <p:nvSpPr>
          <p:cNvPr id="58" name="TextBox 7"/>
          <p:cNvSpPr/>
          <p:nvPr/>
        </p:nvSpPr>
        <p:spPr>
          <a:xfrm>
            <a:off x="4038480" y="3130560"/>
            <a:ext cx="4932360" cy="1191240"/>
          </a:xfrm>
          <a:prstGeom prst="rect">
            <a:avLst/>
          </a:prstGeom>
          <a:solidFill>
            <a:srgbClr val="dbeef4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Situação da Saúde Materna e Infantil em Moçambique e Iniciativa Maternidade Modelo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bandeira_mocambique_1"/>
          <p:cNvPicPr/>
          <p:nvPr/>
        </p:nvPicPr>
        <p:blipFill>
          <a:blip r:embed="rId5"/>
          <a:stretch/>
        </p:blipFill>
        <p:spPr>
          <a:xfrm>
            <a:off x="136440" y="39600"/>
            <a:ext cx="1198800" cy="108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93C9D-527E-4BCC-B52E-484B8E4061E5}" type="slidenum">
              <a:rPr b="0" lang="pt-PT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Iniciativas na área de SMI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5257800"/>
            <a:ext cx="8229600" cy="1295280"/>
          </a:xfrm>
          <a:prstGeom prst="rect">
            <a:avLst/>
          </a:prstGeom>
          <a:solidFill>
            <a:srgbClr val="fcd5b5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Humanização dos Cuidados de  Saúde : Iniciativa Maternidade Modelo, lançada em Julho 2009 no VI Conselho Hospitala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5"/>
          <p:cNvSpPr/>
          <p:nvPr/>
        </p:nvSpPr>
        <p:spPr>
          <a:xfrm>
            <a:off x="380880" y="1371600"/>
            <a:ext cx="8382240" cy="947160"/>
          </a:xfrm>
          <a:prstGeom prst="rect">
            <a:avLst/>
          </a:prstGeom>
          <a:solidFill>
            <a:srgbClr val="dbee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iciativa Presidencial para a Saúde da mãe e da crianç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6"/>
          <p:cNvSpPr/>
          <p:nvPr/>
        </p:nvSpPr>
        <p:spPr>
          <a:xfrm>
            <a:off x="380880" y="2209680"/>
            <a:ext cx="8382240" cy="1328400"/>
          </a:xfrm>
          <a:prstGeom prst="rect">
            <a:avLst/>
          </a:prstGeom>
          <a:solidFill>
            <a:srgbClr val="c3d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Estratégia de apoio técnico às províncias pelos  “padrinhos e madrinhas”: médicos Pediatras e Obstetra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457200" y="3429000"/>
            <a:ext cx="8305920" cy="1295280"/>
          </a:xfrm>
          <a:prstGeom prst="rect">
            <a:avLst/>
          </a:prstGeom>
          <a:solidFill>
            <a:srgbClr val="ccc1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lanos e Estratégias:  Roteiro para aceleração da redução da Mortalidade MN, Plano Integrado para o alcançe dos ODM 4 e 5, Estratégia de PT e Casas de Espera e Parceria Nacional para a SM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Comic Sans MS"/>
              </a:rPr>
              <a:t>Conteúdo da Apresentaçã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523880" y="1600200"/>
            <a:ext cx="746784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omic Sans MS"/>
              </a:rPr>
              <a:t>Situação de Saúde Materna e Neonatal a nível Glob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pt-PT" sz="2800" spc="-1" strike="noStrike">
                <a:solidFill>
                  <a:srgbClr val="000000"/>
                </a:solidFill>
                <a:latin typeface="Comic Sans MS"/>
              </a:rPr>
              <a:t>Situação de Saúde Materna e Neonatal em Moçamb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omic Sans MS"/>
              </a:rPr>
              <a:t>Principais documentos estratégicos aprovados e em Implementação na área de SM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omic Sans MS"/>
              </a:rPr>
              <a:t>Humanização dos Cuidados de saúde: Iniciativa Maternidade Mode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7DD6F-235C-409D-BD42-697E4166B5B8}" type="slidenum">
              <a:rPr b="0" lang="pt-PT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7617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Helvetica LT Std"/>
              </a:rPr>
              <a:t>Mortalidade Materna: Uma Tragédia Glob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-360" y="1828800"/>
            <a:ext cx="34290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omic Sans MS"/>
              </a:rPr>
              <a:t>Anualmente, morrem 529.000 mulheres por complicações associadas à gravide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Comic Sans MS"/>
              </a:rPr>
              <a:t>99% no mundo em vias de desenvolvi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Comic Sans MS"/>
              </a:rPr>
              <a:t>~ 1% nos países desenvolvidos</a:t>
            </a:r>
            <a:r>
              <a:rPr b="1" lang="pt-PT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030" descr="globe"/>
          <p:cNvPicPr/>
          <p:nvPr/>
        </p:nvPicPr>
        <p:blipFill>
          <a:blip r:embed="rId1"/>
          <a:stretch/>
        </p:blipFill>
        <p:spPr>
          <a:xfrm>
            <a:off x="3886200" y="1828800"/>
            <a:ext cx="5257800" cy="457200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7"/>
          <p:cNvSpPr/>
          <p:nvPr/>
        </p:nvSpPr>
        <p:spPr>
          <a:xfrm>
            <a:off x="0" y="36360"/>
            <a:ext cx="8915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Comic Sans MS"/>
              </a:rPr>
              <a:t>Situação de Saúde Materna e Neonatal a nível Global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D2CD0-2B7E-455C-9E57-623B40955CB4}" type="slidenum">
              <a:rPr b="0" lang="pt-PT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-7668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Comic Sans MS"/>
              </a:rPr>
              <a:t>Saúde Materna: Extensão do Proble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47560" y="1523520"/>
            <a:ext cx="83055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400" spc="-1" strike="noStrike">
                <a:solidFill>
                  <a:srgbClr val="000000"/>
                </a:solidFill>
                <a:latin typeface="Comic Sans MS"/>
              </a:rPr>
              <a:t>75 milhões de gravidezes indesejadas/não planificada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400" spc="-1" strike="noStrike">
                <a:solidFill>
                  <a:srgbClr val="000000"/>
                </a:solidFill>
                <a:latin typeface="Comic Sans MS"/>
              </a:rPr>
              <a:t>50 milhões de abortos provocados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000" spc="-1" strike="noStrike">
                <a:solidFill>
                  <a:srgbClr val="000000"/>
                </a:solidFill>
                <a:latin typeface="Comic Sans MS"/>
              </a:rPr>
              <a:t>20 milhões de abortos sem seguranç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400" spc="-1" strike="noStrike">
                <a:solidFill>
                  <a:srgbClr val="000000"/>
                </a:solidFill>
                <a:latin typeface="Comic Sans MS"/>
              </a:rPr>
              <a:t>Aproximadamente 600.000 óbitos maternos </a:t>
            </a:r>
            <a:br>
              <a:rPr sz="3400"/>
            </a:br>
            <a:r>
              <a:rPr b="0" lang="pt-PT" sz="3400" spc="-1" strike="noStrike">
                <a:solidFill>
                  <a:srgbClr val="000000"/>
                </a:solidFill>
                <a:latin typeface="Comic Sans MS"/>
              </a:rPr>
              <a:t>(1 por minuto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14320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A2F8E-ABEF-4584-BB78-1984D5F920EA}" type="slidenum">
              <a:rPr b="0" lang="pt-PT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517680" y="61326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100" spc="-1" strike="noStrike">
                <a:solidFill>
                  <a:srgbClr val="000000"/>
                </a:solidFill>
                <a:latin typeface="Comic Sans MS"/>
              </a:rPr>
              <a:t>Causas da Mortalidade Materna no Mund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7" descr="morte mat.jpg"/>
          <p:cNvPicPr/>
          <p:nvPr/>
        </p:nvPicPr>
        <p:blipFill>
          <a:blip r:embed="rId1"/>
          <a:stretch/>
        </p:blipFill>
        <p:spPr>
          <a:xfrm>
            <a:off x="1781280" y="1523880"/>
            <a:ext cx="5810040" cy="481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B0D3D-3CEA-4214-9533-7D49E3EA368E}" type="slidenum">
              <a:rPr b="0" lang="pt-PT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Comic Sans MS"/>
              </a:rPr>
              <a:t>Saúde Neonatal: Extensão do Proble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08240" y="1677600"/>
            <a:ext cx="7912080" cy="418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Comic Sans MS"/>
              </a:rPr>
              <a:t>Todos os an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Comic Sans MS"/>
              </a:rPr>
              <a:t>4 milhões de óbitos neonatais (primeiro mês de vida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Comic Sans MS"/>
              </a:rPr>
              <a:t>Dentre os que morrem no primeiro mês, 2/3 morrem na 1ª sema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Comic Sans MS"/>
              </a:rPr>
              <a:t>Dentre os que morrem na primeira semana, 2/3 morrem nas primeiras 24 hor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Comic Sans MS"/>
              </a:rPr>
              <a:t>Oito óbitos neonatais a cada minu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14320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4B2F2-B69B-4C6E-8EC1-987B9651E039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96360"/>
            <a:ext cx="8229600" cy="89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100" spc="-1" strike="noStrike">
                <a:solidFill>
                  <a:srgbClr val="000000"/>
                </a:solidFill>
                <a:latin typeface="Comic Sans MS"/>
              </a:rPr>
              <a:t>Causas de Óbitos Neonatais no Mund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6"/>
          <p:cNvSpPr/>
          <p:nvPr/>
        </p:nvSpPr>
        <p:spPr>
          <a:xfrm>
            <a:off x="5486400" y="1828800"/>
            <a:ext cx="1066680" cy="4038480"/>
          </a:xfrm>
          <a:custGeom>
            <a:avLst/>
            <a:gdLst>
              <a:gd name="textAreaLeft" fmla="*/ 0 w 1066680"/>
              <a:gd name="textAreaRight" fmla="*/ 385200 w 1066680"/>
              <a:gd name="textAreaTop" fmla="*/ 257040 h 4038480"/>
              <a:gd name="textAreaBottom" fmla="*/ 3781440 h 4038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199"/>
                  <a:pt x="10800" y="4398"/>
                </a:cubicBezTo>
                <a:lnTo>
                  <a:pt x="10800" y="6402"/>
                </a:lnTo>
                <a:cubicBezTo>
                  <a:pt x="10800" y="8601"/>
                  <a:pt x="16200" y="10800"/>
                  <a:pt x="21600" y="10800"/>
                </a:cubicBezTo>
                <a:cubicBezTo>
                  <a:pt x="16200" y="10800"/>
                  <a:pt x="10800" y="12999"/>
                  <a:pt x="10800" y="15198"/>
                </a:cubicBezTo>
                <a:lnTo>
                  <a:pt x="10800" y="17202"/>
                </a:lnTo>
                <a:cubicBezTo>
                  <a:pt x="10800" y="19401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7"/>
          <p:cNvSpPr/>
          <p:nvPr/>
        </p:nvSpPr>
        <p:spPr>
          <a:xfrm>
            <a:off x="6530400" y="3352680"/>
            <a:ext cx="160236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fec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6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7" descr="morte neo.jpg"/>
          <p:cNvPicPr/>
          <p:nvPr/>
        </p:nvPicPr>
        <p:blipFill>
          <a:blip r:embed="rId1"/>
          <a:stretch/>
        </p:blipFill>
        <p:spPr>
          <a:xfrm>
            <a:off x="468360" y="1523880"/>
            <a:ext cx="5216400" cy="464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533520" y="2971440"/>
            <a:ext cx="8229600" cy="12193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Arial"/>
              </a:rPr>
              <a:t>Situação de Saúde Materna e Neonatal em Moçamb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6T07:40:59Z</dcterms:created>
  <dc:creator>user</dc:creator>
  <dc:description/>
  <dc:language>en-US</dc:language>
  <cp:lastModifiedBy>Mendoza</cp:lastModifiedBy>
  <dcterms:modified xsi:type="dcterms:W3CDTF">2012-02-22T06:49:23Z</dcterms:modified>
  <cp:revision>84</cp:revision>
  <dc:subject/>
  <dc:title>Curso de Formação/Actualização de Formadores em COEB e CERN  Maputo,  10 a 21 de Agosto, 2009</dc:title>
</cp:coreProperties>
</file>