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568D3-581D-4097-A597-F62D565833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2CA85-037D-4FAC-A943-F70E57D383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D04CD-6382-43D4-BE15-FE62FDEA0C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F6824-A9D5-45F4-B991-82EEE77478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8B3C4-124C-4ACE-B2B9-7C7BFC8911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42B2F-3E3B-4895-B5AF-28EAC8A8F9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24BB4-5F98-422A-912F-191BE1A8F5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BF4BF-9E56-4CB6-ABE8-1A034D6833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FA6D2-53D1-4211-AC8F-DEABEEF503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0C5B9-ACBF-4813-9943-75AFA32219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F8771-1226-4042-BF30-B106F874A1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06C9C-6A94-42BC-9BA2-E943D2841C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133360" y="6400440"/>
            <a:ext cx="5105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400440"/>
            <a:ext cx="16765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7CC7-E25D-4768-AD44-ADD7A1486E4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762120" y="20574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628920" cy="622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3"/>
          </p:nvPr>
        </p:nvSpPr>
        <p:spPr>
          <a:xfrm>
            <a:off x="2437920" y="6400440"/>
            <a:ext cx="4800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9"/>
          <p:cNvSpPr/>
          <p:nvPr/>
        </p:nvSpPr>
        <p:spPr>
          <a:xfrm>
            <a:off x="243828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2133360"/>
            <a:ext cx="731520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ENFERMAGEM OBSTÉTRIC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520" y="4419360"/>
            <a:ext cx="61722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 Black"/>
              </a:rPr>
              <a:t>Módulo 10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incípios Orientadores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er integral, ou seja tomar em consideração as necessidades intelectuais, emocionais, sociais e culturais das mulheres, seus filhos e família, e não somente uma atenção no âmbito biológic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star centrada na família e ser dirigido para as necessidades não só da mulher e seu filho, mas do cas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nsiderar a tomada de decisão ou escolha informada da mulher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867A-E2F3-41A9-AF24-EAB367430CD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incípios Orientadores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er apropriada, tendo em conta as diferentes estruturas culturais, de forma a permitir que se atinja os seus objectivos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speitar a privacidade, a dignidade e a confidencialidade das mulhere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Estes princípios asseguram fortemente a protecção, promoção e o apoio necessário para se atingia uma atenção efectiva da mulher.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5F63-7CA8-4BB9-9A78-88C9A283C5D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Planeamento Famili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354960" indent="-354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2060"/>
                </a:solidFill>
                <a:latin typeface="Arial"/>
              </a:rPr>
              <a:t>Conceit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4960" indent="-354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Planeamento Familiar é uma forma racional e saudável de espaçar os nascimentos, abrangendo áreas como infertilidade e a sexualidad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4960" indent="-354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4960" indent="-354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É  um conjunto de acções que permitem às mulheres e aos homens escolher quando querem ter um filho, o número de filhos que querem ter e o espaçamento entre o nascimento dos seus filhos, contribuindo significativamente para a saúde da  mulher, das crianças e da família no geral.   (</a:t>
            </a:r>
            <a:r>
              <a:rPr b="1" lang="pt-PT" sz="2000" spc="-1" strike="noStrike">
                <a:solidFill>
                  <a:srgbClr val="002060"/>
                </a:solidFill>
                <a:latin typeface="Arial"/>
              </a:rPr>
              <a:t>comissão para a igualdade e para os direitos da Mulher, 2001:25</a:t>
            </a:r>
            <a:r>
              <a:rPr b="1" lang="pt-PT" sz="2400" spc="-1" strike="noStrike">
                <a:solidFill>
                  <a:srgbClr val="002060"/>
                </a:solidFill>
                <a:latin typeface="Arial"/>
              </a:rPr>
              <a:t>)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4960" indent="-354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4960" indent="-354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4960" indent="-354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4960" indent="-354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4960" indent="-35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4960" indent="-35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4960" indent="-35496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4960" indent="-35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13B6-12F9-47C6-917A-DEF4F0CD04B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3A32-66C6-49D0-BC41-B1F8F771513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2060"/>
                </a:solidFill>
                <a:latin typeface="Arial"/>
              </a:rPr>
              <a:t>Contracep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pt-PT" sz="2400" spc="-1" strike="noStrike">
                <a:solidFill>
                  <a:srgbClr val="002060"/>
                </a:solidFill>
                <a:latin typeface="Arial"/>
              </a:rPr>
              <a:t>Conceit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É prevenção intencional da gravidez através de utilização de métodos anticonceptivos, ou seja, prevenção da concepção por bloqueio temporário ou permanente da fertilidad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2060"/>
                </a:solidFill>
                <a:latin typeface="Arial"/>
              </a:rPr>
              <a:t>Métodos Anticonceptiv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pt-PT" sz="2400" spc="-1" strike="noStrike">
                <a:solidFill>
                  <a:srgbClr val="002060"/>
                </a:solidFill>
                <a:latin typeface="Arial"/>
              </a:rPr>
              <a:t>Conceit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São métodos usados por indivíduos ou casais sexualmente activos para evita a gravidez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laneamento Familiar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Planeamento Familiar (Cont.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2060"/>
                </a:solidFill>
                <a:latin typeface="Arial"/>
              </a:rPr>
              <a:t>Tipos de Métodos Anticonceptivos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Método de Barreira: Preservativos Masculinos e Feminin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Métodos Hormonai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Pílula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Depropover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Implante Sub – dérmic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DIU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2A55-DDB9-415D-A86A-BC8D9F38A5F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46748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Tipos de Métodos (cont.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BA08-1049-41E7-8AD8-E611A1404C7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3. Métodos Tradicionai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mamentaç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étodo Baseado na Percepção da Fertilidad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ito Interrompid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bstinência Sexu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4. Métodos Irreversívei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Vasectom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aqueação das Trompas de Falópio (Tubária ).</a:t>
            </a:r>
            <a:br>
              <a:rPr sz="2400"/>
            </a:b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Conceito de Obstetríc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úde 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1A05-DA9C-42F6-B8E5-183B6D2BA3C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ceito de Obstetrícia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bstetrícia, é a ciência que se ocupa pela saúde da  mulher durante a gravidez, parto e puérpera, fornecendo à mulher grávida e a sua família o apoio psico-social, assim como educação e orientações em relação à gravidez, parto, e cuidados ao Recém –Nascido (RN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mportância de Obstetrícia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mportância de Obstetrícia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iagnosticar, manejar a evolução e tratar complicações durante a gravidez, que mais contribuem para a morbilidade materna neonatal e infanti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D027-A860-4D0C-B8B6-6F4DBD1273B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inais e Sintomas de Gravide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Os sinais e sintoma de gravidez dividem se em três categorias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1- Sinais de presunção - os que sugerem a gestaçã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2- Sinais de probabilidade – que indicam uma provável gravidez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3- Sinais de certeza – que confirmam um diagnóstico de gravidez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6A8E-C9BE-4378-A88A-76A4C675A4F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inais e Sintomas de Gravidez (cont.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1-Sinais de presunção ( que sugerem gravidez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menorreia (ausência de menstruação)- é o primeiro sinal que alerta a mulher para uma provável gravidez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Náuseas com ou sem vómitos. Aparece no início da gravidez e ocorre frequentemente nas manhã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lteração das mamas – observa se desde o início da gravidez. 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4ADE-C2B6-4495-AD26-40980A8258F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ompetência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44680" indent="-5446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44680" indent="-5446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44680" indent="-5446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plica os conhecimentos sobre a fisiologia da gestação, parto e puerpério na elaboração, ,implementação, monitorização e avaliação do plano de cuidados de enfermagem às gestantes e recém – nascid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44680" indent="-54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44680" indent="-5446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rienta as gestantes e familiares sobre a importância do controlo pré – natal na redução da Morbilidade e Mortalidade Materna, Neonatal e Infanti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44680" indent="-54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44680" indent="-5446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rienta os utentes sobre os aspectos da sexualidade e planeamento familia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44680" indent="-5446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44680" indent="-54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44680" indent="-5446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44680" indent="-54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a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EBD1-057C-4F75-A097-AC2A16271EF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inais e Sintomas de Gravidez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umento da frequência urinária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- ocorre devido à pressão exercida pelo útero aumentado sobre a bexig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Vibração ou tremor abdominal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– são os movimentos  fetais delicados e em ondas que a  mãe sente entre a 18ª e a 20ª semana de gestaçã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2-Sinais de probabilidade: (que indicam fortemente a gravidez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umento uterino –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umento devido ao crescimento do feto, do útero e placent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B93A-D2BC-4159-A944-DD69BA96305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inais e Sintomas de Gravidez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Os testes de gravidez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- quando realizados são positivos em 90% a 98% dos cas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3- Sinais de Certeza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( modificações que evidenciam a gravidez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Os batimentos cardíaco fetal  (BCF) -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ode ser ouvido nitidamente na 18ª a 20 ª semana de gravidez, através do fetoscópi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Presença de movimentos fetais activos –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percebidos durante o exame de palpaçã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6E78-9984-4E32-951B-7B46DE6C876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ausas de Manifestações Físicas durante a Gravide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s alterações  fisiológicas durante  a gravidez e que causam distúrbios e desconfortos  na mulher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s principais alterações músculo esqueléticas, durante a gravidez sã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relaxamento das articulações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lteração na postura, causadas pelo crescimento do útero e acção das hormon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5581-71E3-484B-8F0E-30C1E5A215E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ausas de Manifestações durante a Gravide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aus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relaxamento das articulações pélvicas é devido a hormona relaxina. Esta hormona aumenta a preparação para o parto vaginal e causa um andar balançante (marcha claudicante)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crescimento do útero distende os ligamentos redondos que apoiam o útero, causando uma dor aguda e rápida quando a mulher se move rapidamente (ex: levantar se de uma cadeira).   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C898-14CD-485A-9BF2-B4EE7A05DE6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ausas das Manifestações Físicas durante a Gravidez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m aumento do peso do útero, pode ocorrer dor nos ligamentos especialmente em movimentos rápidos da mulher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s músculos retos podem separar – se (diástase) , devido a distensão dos músculos abdomina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aumento do peso e o edema podem provocar a compressão do nervo mediano, principalmente no pulso – causando a fraqueza ou a sensibilidade dos músculos do pulso e do polegar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83B1-7FA9-4C32-A150-4C206563856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ausas das Manifestações Físicas durante a Gravidez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sistema cardiovascular sofre modificações para o fornece o oxigénio e nutrientes ao feto a ao útero em crescimen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sangue deve chegar aos vasos sanguíneos uterinos com pressão suficiente para garantir a circulação placentária e troca adequada de oxigénio entre a mãe e o fe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89BC-0133-4939-A933-04A2E97047A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de Enfermagem na suspeita de gravide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uvir as queixas da mulher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ermitir que ela expresse as suas preocupações, ajudá-la a tomar decisões informad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ornecer toda a informação necessária,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larificar as suas dúvid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estar atenção de qualidade e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Quando necessário garantir a articulação com outros serviços de saúde para continuidade da assistência.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7924-F05C-4B51-A7F4-5042714B602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de enfermagem à mulher Grávida 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Assim que a mulher grávida entra na sala de consulta é importante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umprimenta – la e perguntar o seu nom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presentar se de uma forma cordi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ncorajar e permitir a presença de acompanhante durante a consulta, de acordo com o desejo da mulher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F64F-8668-406E-9AD6-AF486429854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de Enfermagem à mulher 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grávi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Garantir a privacidade e confidencialidade ( não permitir que pessoas , para além das trabalhadores imprescindíveis, entrem durante a consulta, sem permissão da mulher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erguntar se ela tem alguma queix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uvi –la com atenção e responder às suas perguntas e preocupaçõe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ornecer informações sobre o que irá ser feito usando uma linguagem que a mulher entend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8F2C-9FB7-454A-8414-2897A50762D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de Enfermagem à mulher 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grávida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ontrolo Pré-Nata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Identificação da Mulher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Nome, filiaçã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ata de nascimento,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stado civi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ofissão/ocupaçã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Local de trabalh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sidência,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1E3C-4C91-4617-A328-FFADA268136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68580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 Black"/>
              </a:rPr>
              <a:t>Competências (cont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plica os procedimentos de farmacologia na administração e controlo dos medicamentos de foro obstétrico prescritos e de emergênc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   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gista oportunamente e de forma clara os procedimentos de enfermagem para assegurar a eficácia de prestação de cuidados obstétricos humanizados e de qualidad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037B-055F-49FD-8068-FECC2365CA2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trolo Pré – Natal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Telefone de contact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essoa e contacto de referênc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istância da residência até a unidade sanitár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Local de referênc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História Clínica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ntecedentes familiares: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iabetes Mellitu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0433-DC58-4F06-9ECC-FB9F5D2469B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trolo Pré – Natal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âncer mama e /ou colo uterin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Tuberculose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arceiro sexual portador de infecção pelo HIV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Antecedentes Pessoais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Hipertensão Arteri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iabetes mellitu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nem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istúrbios nutricionai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54FD-38D8-4F66-A37E-C0DF3575AFB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trolo Pre-Natal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lergia a medicamentos (penicilina, cotrimoxazol, sulfadoxina e perimitamina, outros) tipos de reacçõe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História Obstétric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Gesta e par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borto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Gravidez ectópic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ara ( o número de partos anteriores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6633-4A00-4325-A352-84AE408E347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trolo Pré – Natal ( 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esarian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Nados Vivos e Nados Morto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ilhos vivos actuai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ata do último par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História dos partos anteriores (parto por ventosa? hemorragias em mais de 2 partos? remoção manual de placenta e mais de 2 partos? cesariana no último parto? Nado morto na última gravidez? Primigesta com idade inferior a 16 anos ou idade superior a 35 anos? e outros)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,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802B-CDE1-4D2F-95BD-3954D4A6468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trolo Pré – Natal ( 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066680" y="1143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História da Gravidez Actual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ata da última menstruação (DUM)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álculo da idade Gestacion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ata Provável do Parto (DPP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Exame Físico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xame Geral: Determinação do pes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ltura e deformidade da bac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stado nutricion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edição de Pressão Arteri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loração das mucos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1CC4-4D5C-496B-BB5D-0D98D152668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trolo Pré – Natal ( 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Exame Específic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xame das mamas: tipo de mamil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esença de nódulos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ecreções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amilos e coloração da pele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alpação Obstétrica e identificação da situação e apresentaçã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edição de altura uterin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uscultação dos Batimentos cardíacos fetai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esquisa de edemas(face tronco e membros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0E93-5D02-477E-A4C2-9888A55A237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trolo Pré – Natal ( 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480" y="1143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Inspecção dos Genitais externos e períneo: 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esença de úlceras genitais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esença de condilom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Exames complementares de diagnóstico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Grupo sanguíneo e  Factor  Rh a todas as primigestas e multíparas que desconhecem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Hemoglobin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Teste rápido de Sífili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Teste rápido de HIV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Urina II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B1F6-6957-4908-89EA-D3E00210A47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trolo Pré- Nat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Vacinaçã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Verificar o estado vacinal em relação a vacina Anti - Tetânica. Solicitar o cartão de vacinação da Mulher em idade fértil (MIF) confirmar  e proceder de acordo com o estado vacinal da mulher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Educação, informação e Orientação sobre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esenvolvimento da gravidez, incluindo modificações corporais e emocionais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8F8B-F4FE-4F5B-AA0A-0952A8C4FC0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trolo Pré- Nat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mportância de Consulta Pré – natal e do cumprimento do calendário das consulta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inais e Sintomas de perigo durante a gravidez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ducação nutricional e orientações sobre a alimentação durante a gravidez e puerpé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ri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Importância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Do sexo segur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a prevenção do HIV e da transmissão vertical (cumprimento das consultas,</a:t>
            </a:r>
            <a:r>
              <a:rPr b="0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48C6-C37C-4409-932D-D54FFBCD93B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trolo Pré – Natal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rientações e tratament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a participação do parceiro/pai nas consultas pré-natai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o parto institucion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a consulta pós parto para  a mulher e recém nascid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o espaçamento das gravidezes e Planeamento Familiar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a preparação para, e do aleitamento materno inclusivo ou exclusiv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2D7A-914E-4E26-A891-D87F16F3E33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e Enfermagem Geral e da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6F21-B21E-458A-96C5-0A98B5D8E0A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844200" y="1523520"/>
            <a:ext cx="8147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81760" indent="-5817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81760" indent="-5817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aúde sexual e reprodutiva é o Direito da Família”, além do direito à saúde, as pessoas e as famílias têm também o direito a serviços integrados e de boa qualidade, que assegurem privacidade, ampla informação, livre escolha, confidencialidade e respeit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81760" indent="-5817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igualdade entre mulheres e homens no diz respeito à relação sexual e reprodutiva,incluindo-se o respeito à integridade mútua, e o consentimento e divisão de responsabilidades pelos comportamentos sexuais e suas consequênci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81760" indent="-581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81760" indent="-581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81760" indent="-58176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66"/>
              </a:solidFill>
              <a:latin typeface="Arial"/>
            </a:endParaRPr>
          </a:p>
          <a:p>
            <a:pPr marL="581760" indent="-58176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Espaço Reservado para Número de Slid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AE2D-B58F-4FA0-B9C1-61A9864C70F5}" type="slidenum">
              <a:rPr b="1" lang="pt-B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itle 1"/>
          <p:cNvSpPr/>
          <p:nvPr/>
        </p:nvSpPr>
        <p:spPr>
          <a:xfrm>
            <a:off x="2057400" y="228600"/>
            <a:ext cx="647712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pt-PT" sz="2400" spc="-1" strike="noStrike">
                <a:solidFill>
                  <a:srgbClr val="ffffff"/>
                </a:solidFill>
                <a:latin typeface="Arial Black"/>
              </a:rPr>
              <a:t>Conceito de Saúde Sexual e Reprodu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trolo Pré – Natal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a prevenção da Malária: cumprimento das CPN para o TIP malária e utilização das Redes Mosquiteira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laboração do ´Plano para o parto, incluindo um plano antecipado de transporte no caso de ocorrência de complicações durante a gravidez, e na eminência do par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uidados a ter com o recém – nascido e importância do cumprimento do calendário de vacinaçõe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94E3-4963-4AEB-8A7C-FCF3526FF2B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Uso de Medicamentos durante a Gravide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É importante que a gestante saiba que não deve tomar nenhum medicamento, durante a gestação, sem prescrição pelo médic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s drogas são prejudiciais durante toda a gestação e a maior incidência de anormalidades provocadas no feto ocorre no primeiro trimestre da gestação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BFB9-A8E1-421C-A7C7-97796A22D6E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Uso de Medicamentos durante a Gravide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gestante deve também ser informada sobre os efeitos do abuso de drogas  na crianç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uitos medicamentos têm efeitos teratogênicos comprovados, capazes de interromper o  crescimento fetal e provocarem malformaçõe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lgumas das substâncias usados comumente são cocaína, a cafeína, o álcool e o tabac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FCC6-ACEF-490A-A16B-42C3F0DE572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1371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mplicações de uso de Drogas  durante a Gravidez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feitos adversos de  uso da Cocaína durante o primeiro trimestre de gravidez para o feto: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equeno para idade gestacion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cém nascido pré term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oblemas comportamenta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alformações congénit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ofrimento Fet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576B-69B1-4DAB-A6F8-4F96E42955F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1219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mplicações de uso de Drogas  durante a Gravidez (cont.)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Natimor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feitos adversos de uso de Cocaína durante o primeiro trimestre de gravidez para a mã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Hipertensão arteri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escolamento prematuro da placent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Taquicard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nsuficiência cardíac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A58E-7588-401A-8EB2-561CFDE819C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mplicações de uso de Drogas  durante a Gravide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alpitações cardíac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rritação estomacal 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iarre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bor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feitos adversos de  uso da Cocaína durante o primeiro trimestre de gravidez para o feto: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nomalias congénitas com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enda do palato e anormalias cardíac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Natimort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17A3-E5C9-406F-B61D-4699312FB9E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467480" cy="1295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mplicações de uso de Drogas  durante a Gravidez (cont.)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nvulsõe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nsuficiência respiratór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or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feitos adversos de uso de Cafeína durante o primeiro trimestre de gravidez para a mã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rritabilidad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nsón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umento de frequência Cardíac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alpitações cardíacas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F9E1-B618-4122-86B2-F54037B7695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mplicações de uso de Drogas  durante a Gravidez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feitos adversos de uso de Álcool durante o primeiro trimestre de gravidez para o fe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equenos para a idade gestacion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Nariz curto e lábios superiores curtos e pouco desenvolvid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parência semelhante a de portadores síndrom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criança tem, maior probabilidade de ter problemas de psicossociais, comportamentais e neurológicos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EE95-33FC-4632-83A2-223737F98ED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mplicações de uso de Drogas  durante a Gravidez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feitos adversos de uso de Tabaco durante o primeiro trimestre de gravidez para o fe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Hipóxia fetal devido a insuficiência de oxigénio nos tecidos do feto – com o risco de asfixia e de crescimento retardado do feto – baixo peso à nascenç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arto pré term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isco de dificuldades respiratóri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C13A-0BF5-44A1-8A5F-1475D58C970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mportância de Controlo Pré-Natal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 importância de Controlo pré natal é de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ermitir o fornecimento de um pacote de intervenções focalizadas de prevenção e promoção de saúde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iagnosticar, manejar e tratar adequadamente os problemas e complicações que mais contribuem para a morbimortalidade materna e fetal neste período, através de prestação de cuidados de saúde integrados , contínuos e humanizados.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4491-C34F-4ADC-8535-B3B54393E1E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FB26-2FBD-4389-9915-5E2B8D94203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6553080" cy="1219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Conceito de Saúde Sexual e Reprodutiva (cont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saúde reprodutiva implica que a “pessoa possa ter uma vida sexual segura e satisfatória, tendo a capacidade de reproduzir e a liberdade de decidir sobre quando e quantas vezes deve fazê – lo”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Factores Culturais que influenciam na Saúde Mater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emora na chegada pela mulher na US, a espera da decisão da sogra/e ou outro membro influente na família do marid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renças e tabus alimentares que afectam na alimentação da mulher grávida ( Ex: não consumo de ovos, papaia pela mulher grávida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actores religiosos (não transfusão de sangue em algumas religiõe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alta de poder de decisão da mulher sobre a sua saúd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Baixo nível de escolaridade da mulher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87A6-9846-4761-A0F6-0D45B96A894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Factores Culturais que influenciam na Saúde Materna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alta de poder de decisão da mulher sobre a sua saúd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Baixo nível de escolaridade da mulher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09B6-856E-4BF8-A06C-F71AA69E93F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omoção de Saúde da Mulher Grávi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omoção de Saúde da mulher grávida, é o processo de capacitação da mulher e da  comunidade para actuar na melhoria da sua qualidade de saúde, incluindo uma maior participação no controle deste process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ara prevenção, rastreio e manejo de situações ou doenças que mais contribuem para a morbimortalidade materna  e fet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B8CD-3878-4495-ACEE-975D2073163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omoção de Saúde da Mulher Grávida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O decorrer da gravidez depende de vários factores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saúde da gestação da mulher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eu estado de saúde actu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eu estado emocion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ua história anterior de saúd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 promoção de saúde na mulher grávida tem como finalidade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Garantir uma gravidez com o mínimo de desconforto físico e emocionais.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6EC8-31D2-47C7-95F3-52656CC579E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omoção de Saúde da Mulher Grávida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stabelecer bons hábitos de saúde para beneficiar a mãe e o fe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Garantir que o nascimento ocorra nas melhores circunstânci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Nascimento de uma criança normal e saudáve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eparar a mulher uma maternidade segura e humanizad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stabelecer relacionamento positivo entre a criança, a mãe e os que lhe são próximos.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A0AC-2B16-4FA1-AFAF-D63DEA385FB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1219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ao Parto Humanizado 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onceito de Par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arto é a expulsão do produto de concepção e seus anexos?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A maneira como o enfermeiro se comunica com a futura mãe definirá como a gestante percebe o tratamento  que receb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enfermeiro deve estabelecer um relacionamento positivo com a mulher, proporcionando – lhe privacidade, explicando cada procedimento antes de ser realizado e atendo –a  com cortes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24BA-B010-40C2-B5C9-3FA1FC3493F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ao Par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Papel do Enfermeiro Geral na Assistência ao Parto Normal Humanizad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gestante deve ter preferências, sempre que possível. Ex: se houver opção de escolha para o local do parto, ela pode optar entre a tradicional posição outra na qual ela se senta confortáve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Procedimentos de Admissão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dentificar a parturie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bter as informações necessárias para o registo do trabalho de par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CE79-4BC5-436B-9D38-F4021088A3E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ao Par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Papel do Enfermeiro Geral na Assistência ao Parto Normal Humanizad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Verificação dos sinais vitais: temperatura, pulso, respiração e pressão arteri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Verificação da frequência cardíaca fet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dentificar e guardar as roupas e os objectos da senhor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valiar o progresso do trabalho de par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eparar a mãe para o trabalho de parto e par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E3BB-EA79-4B53-AC60-408AE9720FE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a mulher durante o Trabalho de Par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Fases do Parto Normal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O parto tem 3 fases nomeadamente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1- Fase Late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2- Fase Activ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3- Fase de transiçã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1- Fase Latente-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É a fase em que  as contracções são fracas, a dilatação cervical é lenta (0 a 3cm) muitas vezes a parturiente informações sobre a experiência do trabalho de parto.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E82E-9B68-4044-87CB-208A5D819A1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a mulher durante o trabalho de part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Fase Latente (Cont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 enfermeiro pode revisar as sensações que a parturiente sentirá e as medidas através das quais obterá alívi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ocurar manter se calma, usando as técnicas respiratóri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Fase Activ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Nesta fase as contracções tornam se mais frequentes e intensas. A cérvix dilata de 4 para 8cm.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 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24FD-D2CA-49BB-9A03-EFCCA8B9B67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 Black"/>
              </a:rPr>
              <a:t>Saúde Sexual e Reprodutiva (componente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laneamento Familiar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nsulta  Pré – nat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tendimento ao Parto incluindo os Cuidados Obstétricos Essenciai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erviços de referência e os cuidados Pós – Par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612D-FDF5-4335-90B7-F1ECFD2E357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a mulher durante o trabalho de part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enfermeiro de lembrar a parturiente sobre as técnicas de respiração e estimula - la a descansar entre as contracçõe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No final desta fase é importante que o enfermeiro fale lenta, clara e exclusivamente com a parturiente, dando lhe total atenção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3: Fase de Transiçã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Nesta fase as contracções permanecem frequentes e intensas. A cervix está dilatando (8 a 10 cm )até atingir a dilatação completa.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48F7-5505-4C52-B6E3-FB8764E5DE4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a mulher durante o trabalho de part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Fase de transição (cont.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Nesta fase é importante que o enfermeiro mantenha a gestante  e seu acompanhante informado sobre a evolução do trabalho de parto, elogiando os esforços que ela está fazend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Período Expulsiv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período expulsivo do trabalho de parto começa quando a cérvix está completamente dilatada (10cm) e termina com o nascimento da criança.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CB62-2D02-41F7-BD09-30E71BF84AB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ao Parto Normal Humanizad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ssistência ao durante o Período Expulsiv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No período expulsivo a parturiente deve estar sempre acompanhada pelo enfermeir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parturiente pode continuar no mesmo leito em esteve durante a dilatação e o parto ocorrer em condições de privacidade e sempre que possível na presença de um acompanhante da escolha da mulher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ntre as contracções a mulher poderá sentar se ou ficar deitada de lado esquerdo para descansar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ADA9-8F9B-4288-A1FF-FED52D11BC3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ao Parto Normal Humanizad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alizar assépsia com savlon ou outro anti séptico nas coxas , região perineal, vulva e abdómen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foco deve ser auscultado durante o intervalo das contracçõe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Verificar se a dilatação está efectivamente completa e se a apresentação está descida e em caso afirmativo verificar se as contracções são efectivas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8F68-20B2-42D9-8EDE-7991BA742E4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ao Parto Normal Humanizad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m os esforços maternos inicia se a expulsão da cabeça. A expulsão deverá ser gradu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expulsão deverá ser gradual. O enfermeiro deverá apoiar a cabeça com a mão e, se possível, proteger o períneo com a outra mão para evitar laceração do períne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ssim que a cabeça sair, com auxílio de uma pêra  deverão ser aspiradas as secreções da boca e nariz.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D3ED-F7D9-447A-85F5-9631547F79E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ao Parto Normal Humanizad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s circulares do cordão umbilical, à volta do pescoço da criança, deverão ser identificadas e libertadas suavemente até que os ombros afloram a vulva. Se não for possível, pinça se o cordão com pinças hemostáticas e corta s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ara libertar o ombro anterior, pega se na cabeça com as mãos e faz se uma tracção suave em direcção ao sacro materno. Para se libertar o ombro posterior faz se uma tracção suave em direcção à sínfise púbic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BAE8-995D-4DF9-A3E2-8ACA9663FAF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ao Parto Normal Humanizad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continuação do trabalho de parto faz se normalmente coma os esforços da mã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epois da criança nascer, esta deve ser colocada ao mesmo nível do plano materno e o cordão deve ser  cortado 20 a 40 centímetros após o nascimen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069B-C4F2-4694-8AC7-C771FADCDB0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ao Parto Normal Humanizad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ssistência de Enfermagem durante o terceiro Período (Dequitadur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Logo após os cuidados ao recém nascido, deve se proceder a expulsão da placenta, mediante a realização do manejo activo do terceiro período do trabalho de par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pós a expulsão deve se examinar a placenta cuidadosamente para assegurar que não falta algumas partes da placent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DA71-B5CF-4A77-9D7F-6E0C5B0E3D1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ao Parto Normal Humanizad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ssistência ao Parto Normal Humanizado (cont.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parturiente e o recém nascido deverão permanecer sob vigilância constante durante a primeira hora após o parto, devendo ser observados a cada 15 minutos para detectar precocemente qualquer complicação que possa surgir neste períod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1130-39B0-4772-9E38-55ADD9D67E2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ao Parto Normal Humanizad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ssistência de Enfermagem durante o terceiro Período (Dequitadura) – (Cont.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Manejo Activo do terceiro período do par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 manejo activo do terceiro período ajuda a  prevenir a hemorragia pós parto e inclui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dministração de oxitocina logo após a expulsão fet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Tracção controlada do cordão com contra tracção uterin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assagem uterin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70DF-4A5B-4E82-ABC8-3F7DFA9E6E5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46748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Saúde Sexual e Reprodutiva (componentes Cont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Outras componente da saúde sexual e reprodutiva sã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sistência ao Aborto e complicações pós – abort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evenção e Tratamento das It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evenção e Controle do HIV/SID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tenção Integral dos Adolescentes e Joven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tenção aos Casos de Violência e Abuso Sexu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evenção e Controlo dos Cancros de colo do útero mama e da próstat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tenção na fase de menopausa e andropausa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9999ff"/>
                </a:solidFill>
                <a:latin typeface="Verdan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ao Parto Normal Humanizad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dministração de oxitocina logo após a expulsão fetal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entro de 1º minuto após o parto palpe o abdómen para certificar que não há outro bebé e administre imediatamente 10UI de oxitocina, por via IM, para facilitar o descolamento e a expulsão da placent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FD72-046B-4D7C-BBDD-97CC3C69CCB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inais de perigo durante o trabalho de Par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Identificação dos sinais de Perigo durante o trabalho de Part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Definição de Trabalho de parto arrastad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nsidera se trabalho de parto </a:t>
            </a:r>
            <a:r>
              <a:rPr b="0" lang="pt-PT" sz="2800" spc="-1" strike="noStrike" u="sng">
                <a:solidFill>
                  <a:srgbClr val="000066"/>
                </a:solidFill>
                <a:uFillTx/>
                <a:latin typeface="Arial"/>
              </a:rPr>
              <a:t>quando a fase activa está prolongada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devido a causas funcionais (ex: dinâmica uterina ) ou mecânica (ex: pélvis estreita )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onduta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avaliar a bac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valiar a apresentação e posição fetal e excluir uma desproporção feto pélvic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EDE2-6385-4B12-BD75-97BED837551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Exame Obstétrico e Ginecológico no Quarto Períod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Quarto período ( recuperação imediat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Útero: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valiar a altura do fundo uterino, a localização e a consistência. Massagear o útero e remover os coágulos. Útero macio e esponjoso deve ser comunicado ao médico ou outro técnico qualificad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Lóquios: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eliminação vaginal mais de um  penso higiénico em 15 minutos deve ser comunicada.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56F0-1C38-4272-9433-E4B80118F4D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Exame Obstétrico e Ginecológico no Quarto Períod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Bexiga: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valiar a distensão a cada 30 minutos. Bexiga distendida aumenta o risco de hemorragia.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Períneo: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valiar a integridade do períneo. Um hematoma causará edema, secreção  da episiotomia ou do local da laceração devendo ser comunicad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esconforto do períneo: Aplicar imediatamente gelo no períneo, para reduzir o edema causado pelo traumatismo do parto ou pela episiotom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1ABB-9602-4DFD-85A1-DE7DD751BC0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inais de perigo durante o trabalho de Par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Trabalho de parto prolongad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onduta (cont.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azer hidratação  intravenosa  e referir a mulher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Trabalho de Parto Obstruído (distócia mecânica)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Trabalho de Parto arrastado é aquele em que apesar de haver contracções uterinas fortes o parto não pode progredir devido a factores mecânicos(causas maternas ou fetais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36BF-383C-4EB3-BA30-F73B86BFF5A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ao Parto Normal Humanizad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ssistência da Mulher no período imediat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Estado de Hidratação: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ar líquidos por via oral, se forem tolerados. Providenciar alimentação, se a mulher tiver fom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Sinais vitais: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Avaliar a pressão arterial, o pulso e a respiração a cada 15 minutos, durante no mínimo numa hor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bservar os sinais de possível choque devido à perda excessiva de sangu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omportamento: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Avaliar a fadiga e proporcionar ambiente propício ao descans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FF71-C80B-490F-A86F-663B78F1E05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46748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Orientações Básicas sobre a Saúde Sexual e Reprodutiv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 acordo com a OMS as orientações básicas sobre saúde sexual e reprodutiva  determinam que a atenção deve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r prestado o pacote previsto de cuidados fundamentais, utilizando um conjunto mínimo de intervenções que sejam realmente necessário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r baseada no uso de tecnologia apropriada, definida como um conjunto de acções que inclui métodos, procedimentos, tecnologias, equipamento e outras ferramentas, todas aplicadas para resolver um problema específic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a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C04F-37D8-4A01-9265-8C7EBB0EAD3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incípios Orientadores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er baseada em evidências, ou seja ser sustentada pelas melhores evidências científicas disponíveis, por estudos aleatórios apropriados sempre que possíve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er regionalizada e baseada num sistema eficiente de referência de Rede Primária de Saúde para a Rede Secundária e Terciár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er multidisciplinar, com participação de profissionais de saúde como ESMI, obstétricas, pediatras, técnicos de medicina preventiva, enfermeiros e assistentes sociais.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541A-6AC5-41D1-9815-A0502D9D109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Mendoza</cp:lastModifiedBy>
  <dcterms:modified xsi:type="dcterms:W3CDTF">2012-02-22T06:31:14Z</dcterms:modified>
  <cp:revision>1253</cp:revision>
  <dc:subject/>
  <dc:title>ANATOMIA E FISIOLOGIA HUMANA</dc:title>
</cp:coreProperties>
</file>