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58E4-CC3D-4C5D-A05E-C1AE291B3B81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0C9B-CDDD-4A0E-80C2-A809520500CF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D8A8-8ABE-4AD6-854B-53425946FF69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E70B-1414-4815-A816-19590F98FF56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5006-7D49-4896-84BC-DC4136A2651B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0E89-AB1D-4E32-B278-BDEDC8918800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2CCE-2727-41DC-92E3-DDBD11FF9831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5882-886A-41F4-B29A-03121CA15FCF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0292-0A4E-4631-90F4-BA6277AD4BF4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F704-58C0-4D94-A162-1A6EAA556CB5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76EB-E54A-4E19-9947-885CFDA5B994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6977-A91C-49C1-B5BF-30455AD8BBAE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80CD-5982-4F24-92A3-938E27B2E0F3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DA28-8C22-4BCA-B38C-FED6C494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4AB1-E49F-42CD-8D38-F2676493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AD5C-44FE-484C-AB5B-74BA9361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77D6-0F02-4D3A-965C-6089A8D2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9E3B-6E40-48E2-AF3A-375ED413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6EF1-6C42-40CD-B804-B2666A69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2474-C236-49D0-9B5B-6084D1D9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DD5B-7E6F-4388-A180-6E72A758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7C48-BFAF-4898-B6A4-95A6C00D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CFAB-F594-4662-A01B-0657105D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9A8A-E223-4C0E-B56C-DF2F3085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C161-864D-45FB-BEE5-FE56C496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6C98-AB84-4F5D-A12C-8F7E95607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752120"/>
            <a:ext cx="8077320" cy="3048120"/>
          </a:xfrm>
          <a:prstGeom prst="rect">
            <a:avLst/>
          </a:prstGeom>
          <a:noFill/>
          <a:ln w="66600">
            <a:solidFill>
              <a:srgbClr val="00ff00"/>
            </a:solidFill>
            <a:miter/>
          </a:ln>
          <a:effectLst>
            <a:outerShdw dist="153009" dir="2493982" blurRad="0" rotWithShape="0">
              <a:srgbClr val="3333cc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cc00cc"/>
                </a:solidFill>
                <a:latin typeface="Arial Black"/>
              </a:rPr>
              <a:t>Qualidade dos Dados</a:t>
            </a:r>
            <a:br>
              <a:rPr sz="5400"/>
            </a:br>
            <a:br>
              <a:rPr sz="2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95160" y="457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SIS</a:t>
            </a:r>
            <a:br>
              <a:rPr sz="2400"/>
            </a:br>
            <a:r>
              <a:rPr b="1" lang="pt-PT" sz="3200" spc="-1" strike="noStrike">
                <a:solidFill>
                  <a:srgbClr val="ff0000"/>
                </a:solidFill>
                <a:latin typeface="Times New Roman"/>
              </a:rPr>
              <a:t>Sistema de Informação para a Saú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85CC-93CD-4F95-AAAF-2EA0E540D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Arial"/>
              </a:rPr>
              <a:t>9. O que se deve fazer quando se detectam erros</a:t>
            </a: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Identifique a causa do e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Corrija o erro (se possível</a:t>
            </a:r>
            <a:r>
              <a:rPr b="1" lang="pt-P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Previna que o erro volte a ocorrer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D399-24B2-438D-83B2-8A474E47A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10. Procedimentos Práticos de Controle de Qual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Verifique a completeza dos dados nos formulá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eleça valores mínimos e máxim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amine os dados impressos para detectar erros usando medidas de controle gerais e específ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uma sessão de feedback sobre erro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C82D-B53B-4428-A020-FEF58671F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828800" y="2057400"/>
            <a:ext cx="5267160" cy="21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brigado</a:t>
            </a:r>
            <a:endParaRPr b="0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8D00-2840-497D-968C-2D430C2F9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Arial"/>
              </a:rPr>
              <a:t>1. Objectivos Didác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Valorizar a importância da Quid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Compreender porque ocorrem os err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Adquirir habilidades necessárias par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	</a:t>
            </a: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	</a:t>
            </a: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Detectar er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	</a:t>
            </a: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	</a:t>
            </a: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Corrigir er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	</a:t>
            </a: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Prevenir futuros er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Logística do Controle de Qual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20EB-A5C4-446D-AE4A-9F93A2C12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2. Porque Razão dos Dados Estão Cheios de Erros</a:t>
            </a: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ados COLHIDOS inadequadam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ados PROCESSADOS inadequadam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rros nos dados não detectados e corrigidos</a:t>
            </a:r>
            <a:r>
              <a:rPr b="1" lang="pt-PT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3C9E-0A27-495F-BF96-1A7893E49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3. Porque os Dados Devem ser Corre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Uso de Dados Fidedignos é Perig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Produção de dados é C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ados incorrectos são dados inút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Produzir dados incorrectos é desperdício de tempo e dinhei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Melhor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NÃO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 ter dados do que ter dados incorr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F8AA-DC6D-4A45-A7D7-701365DD2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4. Em que medida os dados devem ser correctos?</a:t>
            </a: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42640" y="297144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s Dados devem ser o mais correctos possíveis de acordo com o propósito para que são process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A4AD-1892-491E-9538-37ECB6249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5. Princípios que enfatizam a qual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Formação/Capacitaçã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Instrumentos de recolha/processamento amigáv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Feedback sobre Erros dos D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Feedback sobre Informação Analis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Uso da Informaçã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FE9C-FF3D-4505-88B6-C774C357E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Arial"/>
              </a:rPr>
              <a:t>6. Como se Podem Detectar os Erros?</a:t>
            </a: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Medidas gerais de Controle de Qual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Medidas específicas de Controle de Qual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48EF-C96E-4509-91E9-F791C489C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Arial"/>
              </a:rPr>
              <a:t>7. Medidas Gerais de Controle de Qual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Completez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Locais apropri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Instrumentos amigáve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Aritmét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A675-1C27-4B26-A836-7E5AE89F0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Arial"/>
              </a:rPr>
              <a:t>8. Medidas Específicas de Controle de Qual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Consistência de Tendência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Tendência Tempor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Mini/Max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Realism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Comparaçõ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Partes vs To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Dígitos Preferencia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DA9D-BA4E-43BB-A552-32CFB1D1B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4T20:14:06Z</dcterms:created>
  <dc:creator>António Sitói</dc:creator>
  <dc:description/>
  <dc:language>en-US</dc:language>
  <cp:lastModifiedBy>cfsm-m</cp:lastModifiedBy>
  <dcterms:modified xsi:type="dcterms:W3CDTF">2015-07-23T08:40:03Z</dcterms:modified>
  <cp:revision>31</cp:revision>
  <dc:subject/>
  <dc:title>Qualidade</dc:title>
</cp:coreProperties>
</file>