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D64-509E-4A61-BF93-C89610890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8C1-957D-4600-9D33-698DEBCE45F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F933-A06C-4483-ABB6-FC02854D8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62D2-3429-4211-AAC0-2C88E676C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597B-64DC-4BBD-9FDA-A6C29D751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2E39-D4E0-47B6-AFCD-45330BB22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82D1-9ACA-44C9-93CE-1466F672B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6A90-0038-4092-9D1F-CB4262063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1422-61E3-49E6-B836-E765E0A2F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79A9-24C8-41A4-9BBE-EF128122B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1780-FCAA-4150-8AEE-125B40E4E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289D-24AA-44CC-B782-D9D2F7B55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9B0B-1D47-4A4E-BA51-59E8C0B52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6879-5B76-4376-ACF4-AB3B9188B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57F-5452-42DD-A752-6A3510481CC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aude.mg.gov.b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omponente Enfermagem Pediatrica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80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10 – Praticas de Enfermagem II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nfermagem Obstétrica e Enfermagem Pediá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514600" y="640080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0666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rtanto, pode se dizer que o crescimento sofre influência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(genéticos, metabólicos e malformações, muitas vezes correlacionados, ou seja, podem ser geneticamente determina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dentre os quais destacam-se a alimentação, a saúde, a higiene, a habitação e os cuidados gerais com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 relação ao crescimento linear (estatura), pode-se dizer que a altura final do indivíduo é o resultado da interacção entre sua carga genética e os factores do meio ambiente que permitirão a maior ou menor expressão do seu potencial genét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s crianças menores de cinco anos, a influência dos factores ambientais é muito mais importante do que a dos factores genéticos para expressão de seu potencial de crescimento. Os factores genéticos presentam a sua influência marcada na criança maior, no adolescente e no jov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factor genético no crescimento pode ser demonstrada através de vários exempl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linear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mbrar que para crescimento linear é usado o termo comprimento para crianças menores de 2 anos de idade (criança deitada) e altura a partir dos 2 anos de idade (criança/adulto em pé). O termo estatura é usado no texto para representar genericamente ambos, altura e compri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143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a velocidade do crescimento das diferentes partes do corp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luência do meio ambi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ocorre desde a vida intra-uterina, quando o crescimento é limitado a partir de um certo momento pelo espaço da cavidade intra-uterina, até a idade adul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0666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 que influenciam 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imentaç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criança até cinco anos requer cuidados específicos com a sua alimentação. Crescer consome energia: 32% das necessidades calóricas de um recém-nascido são destinadas ao cresciment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eta da criança deve ter qualidade, quantidade, frequência e consistência adequadas para cada idade. Para crianças até 6 meses de idade, o leite materno exclusivo é o melhor al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É também muito importante para o crescimento adequado da criança. É essencial que as crianças sejam imunizadas, segundo o calendário de vacinação preconizado pelo Ministério da Saúde, para que se evite a ocorrência das doenças imunopreveníve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to à outros processos infecciosos, é necessário que sejam diagnosticados e debelados precocemente para que não evoluam para um quadro adverso, com o  aumento das necessidades nutricionais, associado à diminuição do apetite e, nos casos das diarreias e doenças parasitárias, ao menor aproveitamento biológico dos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0663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gien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A higiene adequada da criança, dos alimentos, do ambiente e de todos aqueles que lidam com ela são factores essenciais para seu bom crescimento. Isso implica na disponibilidade de água potável, de meios adequados para os esgotos sanitários, e destino de lixo e em conhecimentos, atitudes e práticas correctas sobre o manuseio, armazenamento, preparo e conservação dos alimentos, de higiene corporal e d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Cresc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7720" y="10666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âmetros do cresc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para 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para a estatu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Índice de Massa Corporal (IMC) para 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braqui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ranian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7797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1. Assegura um tratamento humanizado de qualidades na prestação de Cuidados de Enfermagem às Crianças de 0 a 14 ano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2. Aplica os conhecimentos sobre o desenvolvimento físico e psicossocial das crianças de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0 a 14 anos para elaborar, implementar, monitorizar e avaliar o Plano de Cuidado de Enfermagem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3. Realiza orientações às mães sobre a promoção e recuperação da saúde e reabilitação das crianças de 0 a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rincipais actividades a realizar na consu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cresc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ção do desenvolvimento psicomot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alização de exame físico comple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ção do cumprimento do calendário vac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ção sobre a alimentação adequada da crianç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sanitária individ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astreio de factores de risco para Atenção Especial (Consulta Crianças em Ris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mendações sobre o Planeamento Famili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9907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aumento da capacidade do indivíduo na realização de funções cada vez mais complexas. A criança desenvolve controle neuromuscular, destreza e traços de carácter, funções que só podem ser medidas por meio de provas funcion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gross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abilidades motoras fin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da linguagem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cogni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volvimento social e afectiv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conceito amplo que se refere a uma transformação complexa, contínua, dinâmica e progressiva, que inclui, além do crescimento, a  maturação, a aprendizagem e os aspectos psíquicos e soci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dições básicas do desenvolvimento na infânc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alavra infante vem do latim infans, que significa incapaz de f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define o período que vai do nascimento até aproximadamente dos 2 aos 3 anos de idade, quando a fala já se transformou em instrumento de comunicação. Nessa fase, muitos eventos ocorrem pela primeira vez: (o primeiro sorriso, a primeira palavra, os primeiros passos, o primeiro alcançar de um objecto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riança é um ser dinâmico, complexo, em constante transformação, que apresenta uma sequência previsível e regular de crescimento físico e de desenvolvimento neuropsicomoto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e desenvolvimento sofre a influência contínua de factores intrínsecos e extrínsecos que provocam variações de um indivíduo para outro e que tornam único o curso do desenvolvimento de cad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in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m as características físicas da criança, a cor dos seus olhos e outros atributos geneticamente determin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extrínsec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çam a actuar desde a concepção, estando directamente relacionados com o ambiente da vida intra-uterina, proporcionado pela mãe por meio das suas condições de saúde e nutri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ém disso, mãe e feto sofrem os efeitos do ambiente que os circunda. O bem-estar emocional da mãe também influencia de forma significativa o bem-estar do feto, embora esse tipo de influência não funcione,  necessariamente, como causa directa de problemas de desenvolvimento ult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Causas de transtorno do desenvolvimento com impacto em menores de 2 me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355760"/>
          <a:ext cx="8305560" cy="4236840"/>
        </p:xfrm>
        <a:graphic>
          <a:graphicData uri="http://schemas.openxmlformats.org/drawingml/2006/table">
            <a:tbl>
              <a:tblPr/>
              <a:tblGrid>
                <a:gridCol w="3733560"/>
                <a:gridCol w="4572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MBIENTAI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IOLÓGICAS</a:t>
                      </a:r>
                      <a:r>
                        <a:rPr b="1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40840"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rianças que não mamam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ãe adolescente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ravidez não desejad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aixa escolaridade mater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so de drogas pelos genitore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pressão pós part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orte materna</a:t>
                      </a: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eso ao nascer menor que 2.500 g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ematuros e pequenos para a idade gestacional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emorragia intracranian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omalias congénitas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nóxia ao nascer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Hipoglicemia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nvulsão</a:t>
                      </a:r>
                      <a:endParaRPr b="1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5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rdez e cegueira</a:t>
                      </a:r>
                      <a:r>
                        <a:rPr b="0" lang="pt-PT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	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acterísticas biológic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ser humano apresenta algumas características que o diferenciam dos outros animais. Algumas delas fazem paralelos com alguns aspectos que podemos observar na maioria das escalas ou roteiros para avaliação do desenvolvimento, por exempl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valiação do Desenvolvimento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avaliação do desenvolvimento Psico - Motor (DPM) habitualmente consideram-se 4 áreas fundament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ostura erecta e marcha (motricidade global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manipulação delicada (visão e motricidade fin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udição e a lingu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57160" indent="-457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relações sociais e as actividades complexas do dia a d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 Psicosso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90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 psicossoc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o processo de humanização que inter-relaciona aspectos biológicos, psíquicos, cognitivos, ambientais, socioeconómicos e culturais, mediante o qual a criança vai adquirindo maior capacidade para mover-se, coordenar, sentir, pensar e interagir com os outros e o meio que a rodeia; em  síntese, é o que lhe permitirá incorporar-se, de forma activa e transformadora, à sociedade em que vi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4. Aplica os princípios técnicos científicos na realização de intervenções em situações de emergência ou urgência para socorrer e assegurar a recuperação das crianças.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5. Aplica os conhecimentos de farmacologia na administração e controlo dos medicamentos de foro pediátrico prescri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8288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uraçã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organização progressiva das estruturas morfológicas, já que, como o crescimento, seu potencial está geneticamente determinado. A maturação  neurológica engloba os processos de crescimento, diferenciação celular, mielinização e o aperfeiçoamento dos sistemas que conduzem a coordenações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a maturação, o desenvolvimento neurológico não acontece de maneira arbitrária, mas de acordo com um plano contido no potencial genético, através de etapas previsíveis e pré-determinadas, no sentido céfalocaudal e do centro para a periferia. Ver Figura 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senvolvimento Motor da Crianç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íodos ou etapas do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 ponto de vista didáctico, observa-se que o desenvolvimento vai transcorrendo por etapas ou fases, que correspondem a determinados períodos do crescimento e da vida, em geral. Cada um desses períodos tem suas próprias características e ritmos . Ainda que não se deva perder de vista que cada criança tem seu próprio padrão de desenvolviment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pré-natal (da concepção ao nasciment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odo neonatal (0 a 28 dias de vid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imeira infância: lactente (29 dias a 2 ano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ância (segunda infância ou pré-escolar: 2 a 6 an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Vaci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 Moçambique, tal como nos outros países em desenvolvimento, as doenças infecciosas ocupam o primeiro lugar entre as causas de morte. São também graves as consequências dessas doenças nos sobreviventes, principalmente a paralisia da poliomielite, e as sequelas da tuberculose e do sarampo. No  entanto, a maioria dessas doenças é evitável através da vacin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Vacinas e doenças abrangidas pelo PA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1143000"/>
          <a:ext cx="8229600" cy="3840120"/>
        </p:xfrm>
        <a:graphic>
          <a:graphicData uri="http://schemas.openxmlformats.org/drawingml/2006/table">
            <a:tbl>
              <a:tblPr/>
              <a:tblGrid>
                <a:gridCol w="3124440"/>
                <a:gridCol w="5105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oença alv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uberculos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póli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oliomielite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atite B e Hi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fteria, Tétano, Tosse Convulsa, Hepatite B, Meningite e Infecções respiratórias causadas por Haemophilus 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aramp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 anti-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étano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066680"/>
          <a:ext cx="8229600" cy="512136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cina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dade ideal para a vacinaçã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CG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0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1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2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ólio 3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À nascença, ou o mais cedo possível após o nasciment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1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2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TP-HepB 3e Hib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saramp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 meses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nti-tétano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 anos (alunos matriculados pela primeira vez na primeir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 anos (alunos na segunda classe)</a:t>
                      </a:r>
                      <a:endParaRPr b="1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vacina Anti-sarampo não deve ser aplicada antes dos 8 meses e meio de 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vacinas de aplicação múltipla, Pólio, DTP + HepB + Hib, devem ser dadas num intervalo mínimo de 4 semanas (1 mês) entre as doses. Estas vacinas também podem ser iniciadas em crianças com 6 semanas de idade que, por qualquer motivo, apareçam na unidade sanitária antes da idade ideal de vacinação - 2 mes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lendário Nacional de Vacinação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a lembrar, s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21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criança que apareça pela primeira vez na unidade sanitária com 1 ano de vida, deverá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 administrada com a vacina Anti-sarampo, DTP +HepB, Pólio e Hib, e marcar as doses complementares com um intervalo de 4 semanas (1 mê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se tem ou não cicatriz de BCG, se tiver: não deve ser feita a vacina, se não tiver: fazer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OUX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se for positivo, não vacinar, se for negativo, vac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Vacinação com BCG numa criança com idade superior a 1 an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Content Placeholder 4" descr=""/>
          <p:cNvPicPr/>
          <p:nvPr/>
        </p:nvPicPr>
        <p:blipFill>
          <a:blip r:embed="rId1"/>
          <a:stretch/>
        </p:blipFill>
        <p:spPr>
          <a:xfrm>
            <a:off x="457200" y="1109520"/>
            <a:ext cx="8381880" cy="50594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0" name="Group 5" descr=""/>
          <p:cNvPicPr/>
          <p:nvPr/>
        </p:nvPicPr>
        <p:blipFill>
          <a:blip r:embed="rId2"/>
          <a:stretch/>
        </p:blipFill>
        <p:spPr>
          <a:xfrm>
            <a:off x="554040" y="3090960"/>
            <a:ext cx="2865600" cy="511200"/>
          </a:xfrm>
          <a:prstGeom prst="rect">
            <a:avLst/>
          </a:prstGeom>
          <a:ln w="0">
            <a:noFill/>
          </a:ln>
        </p:spPr>
      </p:pic>
      <p:pic>
        <p:nvPicPr>
          <p:cNvPr id="221" name="Group 8" descr=""/>
          <p:cNvPicPr/>
          <p:nvPr/>
        </p:nvPicPr>
        <p:blipFill>
          <a:blip r:embed="rId3"/>
          <a:stretch/>
        </p:blipFill>
        <p:spPr>
          <a:xfrm>
            <a:off x="4591080" y="3090960"/>
            <a:ext cx="2863800" cy="511200"/>
          </a:xfrm>
          <a:prstGeom prst="rect">
            <a:avLst/>
          </a:prstGeom>
          <a:ln w="0">
            <a:noFill/>
          </a:ln>
        </p:spPr>
      </p:pic>
      <p:pic>
        <p:nvPicPr>
          <p:cNvPr id="222" name="Group 11" descr=""/>
          <p:cNvPicPr/>
          <p:nvPr/>
        </p:nvPicPr>
        <p:blipFill>
          <a:blip r:embed="rId4"/>
          <a:stretch/>
        </p:blipFill>
        <p:spPr>
          <a:xfrm>
            <a:off x="2840040" y="424800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4" descr=""/>
          <p:cNvPicPr/>
          <p:nvPr/>
        </p:nvPicPr>
        <p:blipFill>
          <a:blip r:embed="rId5"/>
          <a:stretch/>
        </p:blipFill>
        <p:spPr>
          <a:xfrm>
            <a:off x="5877000" y="4230720"/>
            <a:ext cx="2865240" cy="512640"/>
          </a:xfrm>
          <a:prstGeom prst="rect">
            <a:avLst/>
          </a:prstGeom>
          <a:ln w="0">
            <a:noFill/>
          </a:ln>
        </p:spPr>
      </p:pic>
      <p:pic>
        <p:nvPicPr>
          <p:cNvPr id="224" name="Group 17" descr=""/>
          <p:cNvPicPr/>
          <p:nvPr/>
        </p:nvPicPr>
        <p:blipFill>
          <a:blip r:embed="rId6"/>
          <a:stretch/>
        </p:blipFill>
        <p:spPr>
          <a:xfrm>
            <a:off x="5888160" y="5278320"/>
            <a:ext cx="2865240" cy="5130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20" descr=""/>
          <p:cNvPicPr/>
          <p:nvPr/>
        </p:nvPicPr>
        <p:blipFill>
          <a:blip r:embed="rId7"/>
          <a:stretch/>
        </p:blipFill>
        <p:spPr>
          <a:xfrm>
            <a:off x="2840040" y="5278320"/>
            <a:ext cx="2865600" cy="513000"/>
          </a:xfrm>
          <a:prstGeom prst="rect">
            <a:avLst/>
          </a:prstGeom>
          <a:ln w="0">
            <a:noFill/>
          </a:ln>
        </p:spPr>
      </p:pic>
      <p:pic>
        <p:nvPicPr>
          <p:cNvPr id="226" name="Group 23" descr=""/>
          <p:cNvPicPr/>
          <p:nvPr/>
        </p:nvPicPr>
        <p:blipFill>
          <a:blip r:embed="rId8"/>
          <a:stretch/>
        </p:blipFill>
        <p:spPr>
          <a:xfrm>
            <a:off x="4572000" y="2023920"/>
            <a:ext cx="2828880" cy="506520"/>
          </a:xfrm>
          <a:prstGeom prst="rect">
            <a:avLst/>
          </a:prstGeom>
          <a:ln w="0">
            <a:noFill/>
          </a:ln>
        </p:spPr>
      </p:pic>
      <p:pic>
        <p:nvPicPr>
          <p:cNvPr id="227" name="Group 26" descr=""/>
          <p:cNvPicPr/>
          <p:nvPr/>
        </p:nvPicPr>
        <p:blipFill>
          <a:blip r:embed="rId9"/>
          <a:stretch/>
        </p:blipFill>
        <p:spPr>
          <a:xfrm>
            <a:off x="554040" y="2023920"/>
            <a:ext cx="2828880" cy="50652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30"/>
          <p:cNvCxnSpPr/>
          <p:nvPr/>
        </p:nvCxnSpPr>
        <p:spPr>
          <a:xfrm>
            <a:off x="4624200" y="1600200"/>
            <a:ext cx="130860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9" name="Straight Arrow Connector 32"/>
          <p:cNvCxnSpPr/>
          <p:nvPr/>
        </p:nvCxnSpPr>
        <p:spPr>
          <a:xfrm flipH="1">
            <a:off x="2133360" y="1600200"/>
            <a:ext cx="25912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Straight Arrow Connector 36"/>
          <p:cNvCxnSpPr/>
          <p:nvPr/>
        </p:nvCxnSpPr>
        <p:spPr>
          <a:xfrm>
            <a:off x="6019560" y="2452320"/>
            <a:ext cx="1080" cy="672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Straight Arrow Connector 38"/>
          <p:cNvCxnSpPr/>
          <p:nvPr/>
        </p:nvCxnSpPr>
        <p:spPr>
          <a:xfrm>
            <a:off x="1980720" y="243828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Straight Arrow Connector 39"/>
          <p:cNvCxnSpPr/>
          <p:nvPr/>
        </p:nvCxnSpPr>
        <p:spPr>
          <a:xfrm>
            <a:off x="6019560" y="3519000"/>
            <a:ext cx="1291320" cy="74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41"/>
          <p:cNvCxnSpPr/>
          <p:nvPr/>
        </p:nvCxnSpPr>
        <p:spPr>
          <a:xfrm flipH="1">
            <a:off x="4271400" y="3519360"/>
            <a:ext cx="1748520" cy="780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Straight Arrow Connector 43"/>
          <p:cNvCxnSpPr/>
          <p:nvPr/>
        </p:nvCxnSpPr>
        <p:spPr>
          <a:xfrm>
            <a:off x="73148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44"/>
          <p:cNvCxnSpPr/>
          <p:nvPr/>
        </p:nvCxnSpPr>
        <p:spPr>
          <a:xfrm>
            <a:off x="4343040" y="4662360"/>
            <a:ext cx="1080" cy="672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ra-indicações para a vacin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BCG a uma criança que, comprovadamente, tenha SIDA ( OMS III, IV) ou tuberculose neona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que tenha tido convulsões ou tenha estado em CHOQUE nos três dias após a dose mais recente da vac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dar DTP+HepB e Hib a uma criança com convulsões recorrentes ou outra doença neurológica activa do sistema nervoso centr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6. Regista oportunamente e de forma clara as informações e procedimentos de enfermagem pediátrica no diário de enfermagem, livro de ocorrência, folha de registo dos sinais vitais e cardex, para assegurar a continuidade e eficácia da prestação de cuidados humanizados e de qualidade à criança dos 0- 14 an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Down Arrow 4"/>
          <p:cNvSpPr/>
          <p:nvPr/>
        </p:nvSpPr>
        <p:spPr>
          <a:xfrm>
            <a:off x="3962520" y="22096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terial e EPI necessár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cedimentos e regis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rmas de Atendimento à Criança Sadia e à Criança em Ris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(MISAU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oteiro para acelerar a redução da Mortalidade materna e neonatal em Moçambiq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MISAU 14 de Maio 2008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jecto de Profissionalização dos Trabalhadores da Área de Enfermagem (SAÚDE DA MULHER, DA CRIANÇA E DO ADOLESCENTE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66"/>
                </a:solidFill>
                <a:latin typeface="Arial"/>
              </a:rPr>
              <a:t>Brasília – DF 2003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e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ude.mg.gov.b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RESCIMENTO E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DA CRIANÇ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fâ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ta fase compreende três estágios, a sabe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 primeira infância (até os 2 anos de idade), a segunda infância ou fase pré-escolar (dos 2 aos 6 anos) e a terceira infância ou fase escolar (dos 6 anos até o início da puberdade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Primeira Infância Fase do lactent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o período no qual a principal alimentação da criança é o leite, principalmente materno. Ela passa por modificações importantes durante seu desenvolvimento físico, e vai adquirindo habilidades, por exemplo: a partir de 3 meses já ri, observa o ambiente que a cerca; senta-se aos 6 meses; engatinha aos 9 meses e até um ano já estará andando sozinh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dolesc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dolescência caracteriza-se por alterações biológicas, psicológicas, sociais e culturais, e pode ter duração variada, dependendo do indivíduo. As modificações que ocorrem com o adolescente se dão em todos os órgãos e estruturas do corpo, devido à acção dos harmón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ta-se da fase chamada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uberdade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que termina quando pára o crescimento dos ossos e conclui-se o amadurecimento das gónadas, quando o indivíduo já pode gerar filh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titui as alterações biológicas que implicam em aumento corporal da criança, manifestadas pelo aumento do tamanho das células (Hipertrofia), e pelo aumento do número de células (Hiperplasia). É um quantitativo. Referencia-se por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s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tur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cefál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ímetro torácic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ão das fontanel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ntiçã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na proporção corporal e tecidos corporai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resc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crescimento e o desenvolvimento fazem parte do mesmo processo; são interdependentes, mas não são sinónimos.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esciment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expressa por aumento da massa corporal, e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envolvimen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pela aquisição de habilidades progressivamente mais complex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NYAKA</cp:lastModifiedBy>
  <dcterms:modified xsi:type="dcterms:W3CDTF">2012-01-11T06:49:42Z</dcterms:modified>
  <cp:revision>410</cp:revision>
  <dc:subject/>
  <dc:title>JHPIEGO PowerPoint Presentation template</dc:title>
</cp:coreProperties>
</file>