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E1F4-C0B0-44C2-82B3-D45881A88687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46FC-1B43-459C-B044-E57190103E6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D600-6D16-4A0E-9DFC-CA37A74B1F6A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2EDCC-D190-4632-BEAB-8352AB665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B5302-4D5A-4869-9807-0FFF5A17B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40F63-0FA4-409E-A23A-541CA0689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C646D-1280-4753-98C1-1D74F0B4B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1660F-2434-482D-A4E2-8EFFFE9C0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538AD-CDB0-4FC8-828F-30BC383CA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EE26E-EB1E-4550-BCAA-683926EE2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136E7-6116-4761-B390-8172308E1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9941D-5050-4245-AD4F-2DBDDB7E4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7DFC2-D780-44B3-AC62-449B3FAC6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9F69C-F51B-43BC-BD9C-F8AE11C49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DD07D-366E-4157-8DA8-C6BFF61DF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32BE-AC84-43E4-8F99-D6810A47D16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28920" cy="622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bcache.googleusercontent.com/wiki/Patologia" TargetMode="External"/><Relationship Id="rId2" Type="http://schemas.openxmlformats.org/officeDocument/2006/relationships/hyperlink" Target="http://webcache.googleusercontent.com/wiki/Sistema_digestivo" TargetMode="External"/><Relationship Id="rId3" Type="http://schemas.openxmlformats.org/officeDocument/2006/relationships/hyperlink" Target="http://webcache.googleusercontent.com/wiki/Intestino" TargetMode="External"/><Relationship Id="rId4" Type="http://schemas.openxmlformats.org/officeDocument/2006/relationships/hyperlink" Target="http://webcache.googleusercontent.com/wiki/Intestino_grosso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9"/>
          <p:cNvSpPr/>
          <p:nvPr/>
        </p:nvSpPr>
        <p:spPr>
          <a:xfrm>
            <a:off x="243828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2133720"/>
            <a:ext cx="7315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CUIDADOS DE ENFERMAGEM NAS ALTERAÇÕES DA SAÚDE DAS CRIANÇ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76520" y="4724280"/>
            <a:ext cx="58672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ub-modulo 6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stúrbios  gastrointestin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intomas;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variam de acordo com a causa a dor causada por uma doença física geralmente não desaparece podendo ocorrer em ciclos, sendo frequentemente desencadeada por determinadas atividades ou alimen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 dor tende a ocorrer em um local específico do abdômen, habitualmente  em torno do umbigo, e pode irradiar para as cost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pendendo da causa física  a criança pode apresentar ainda os  seguintes sintomas; perda de peso, febre recorrente ou persistente, icterícia, alterações do aspecto e da cor das evacuações, constipação ou diarreia, sangue nas fezes, vómito alimentar ou com sangue, distensão abdominal, dor ou edema articula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s sintomas da dor abdominal recorrente causados pelo funcionamento anormal de algum órgão variam de acordo com a causa subjac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stúrbios  gastrointestin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stúrbios Gastrointestinais mais comu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iarreia;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finição (OMS): ocorrência de três ou mais evacuações líquidas ou semi-líquidas em quantidade moderada  no intervalo de 24 hor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s causas da diarreia são múltiplas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fusão rápida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edicamentos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ipoalbunemia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nutrição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gastroenterocolite, etc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aso as evacuações líquidas persistam, caracterizando uma diarreia, o médico deverá solicitar exame de fez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bstipação;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É a dificuldade de evacuação, com fezes ressequidas ou muito duras, sensação de evacuação incompleta, sensação de obstrução ano-rectal, sendo tolerado, que o paciente evacue de três em três dias aproximadam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obstipação pode ser relacionada a uma dieta pobre em fibras, à desidratação, à diminuição da prensa abdomin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stúrbios Gastrointestinais mais comu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istensão abdominal, refluxo esofágico, regurgitação, vómitos,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fluxo esofágic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passagem de conteúdo gástrico para o esófag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gurgitação: passagem, sem ocorrência de esforço, de conteúdo estomacal do esófago para bo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ómito: passagem de conteúdo gástrico para a boca, associada a peristaltismo retrógrado e contracções da musculatura abdomin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stúrbios Gastrointestinais mais comu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Distúrbios Gastrointestinais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1426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Diarre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valiar e monitorar as características da diarre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urante um episódio de diarreia aguda, deve-se encorajar o repouso no leito e a ingesta de líquidos e alimentos pobres em resídu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O enfermeiro reporta imediatamente a evidencia de disritmias ou uma alteração no nível de consciência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rata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stipação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educação do paciente e a promoção da saú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belecer metas especificas, incluem, restauração do padrão de eliminação, garantia da ingestão de líquidos e alimentos ricos em fibras, ensinar métodos para evitar a constip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isa controlar a dor e reduzir os sintomas, repor líquidos e nutrientes perdid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indivíduo deve evitar o consumo de frutas e vegetais crus para reduzir a lesão física do revestimento inflamado do intestino grosso. Uma dieta sem lacticínios pode reduzir os sintoma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suplementação de ferro pode controlar a anemia causada pela perda contínua de sangue nas fezes. Os medicamentos anticolinérgicos ou pequenas doses de loperamida ou de difenoxilato são administrados nos casos de diarreia relativamente lev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 caso de uma diarreia intensa, é necessária a administração de doses mais altas de difenoxilato, Nos casos graves, o médico controla rigorosamente o paciente que está fazendo uso desses medicamentos antidiarréic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rata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Desnutrição proteica caló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trodução: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O estado nutricional refere a proteínas e calorias,  pode ser considerado como uma gradação contínua de situações que se iniciam por estados considerados normais, se prolongam por estados leves e moderados de desnutrição até síndromes avançadas das quais as mais importantes são o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Kwashiorkor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e o marasmo nutricional</a:t>
            </a:r>
            <a:r>
              <a:rPr b="0" lang="pt-BR" sz="2400" spc="-1" strike="noStrike" baseline="30000">
                <a:solidFill>
                  <a:srgbClr val="000066"/>
                </a:solidFill>
                <a:latin typeface="Arial"/>
              </a:rPr>
              <a:t>.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 denominação "desnutrição proteico-calórica" comporta quadros clínicos bastante diversos que, no entanto, possuem uma mesma etiologia básica: a carência de proteínas e caloria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ceito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É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 ingestão de  quantidades insuficientes de alimentos ricos em proteínas e/ou energéticos que não chegam a satisfazer as necessidades do organism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Desnutrição proteica caló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istúrbios Cardio-respiratóri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istúrbios- Cardio-respiratório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, é comprometimento das funções cardíaca e respiratóri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4600" indent="-4525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ardio-respiratória aguda e grav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isfunção do sistema cardíaco-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spiratório, resulta da falência de ambos os sistemas, se não for rapidamente corrigi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usas  tóxica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; numerosos agentes tóxicos podem causar distúrbios Cardio-respiratória. Esta complicação ocorre nas intoxicações de crianças com doença Cardio-respiratória prévia. </a:t>
            </a:r>
            <a:br>
              <a:rPr sz="2400"/>
            </a:br>
            <a:br>
              <a:rPr sz="2400"/>
            </a:b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ódigos Diagnóst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es códigos pertencem ao sistema internacional da classificação das doenças, e usada  para a classificação das doenças a  nível hospital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rá oportuno salientar que teremos  obrigatoriamente enquadrar as avaliações do estado nutricional  dos  doent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desnutrição classifica-se  nos seguintes códig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snutrição energética (marasm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) É desnutrição crónica provocada por falta ou perda prolongada  de energia e de nutrientes. Inicia-se com uma diminuição de peso acompanhada de perda de tecido adipos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ecundaria ou desnutrição proteica ( Kwashiorkor);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desnutrição aguda que surge  quando há diminuição proteico ou quando ocorre o aumento das necessidades  no organismo devido as infecçõ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ista ou desnutrição energética-proteica (marasmo e Kwashiorkor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) reúne  as características dos dois quadros anteriores, onde ocorre a diminuição da massa magra da gordura e das proteínas viscerai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ódigos Diagnóst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actores predisponen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predisponentes desnutrição proteica caló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ieta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; Vegetarianos rígidos, crianças alimentados somente ao seio; criança alimentada com leite de vaca, anorexia, ma absorção ou ingestão de alimento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edicamento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; sulfamidas, fenotoina, Fenobarbital, antibióticos, antiácido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ecanismos específicos;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ficiência de outras enzimas digestivas, síndrome de cabelos encarapinhad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stúrbios Cardio-respiratóri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usas não tóxic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nafilax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rritmias cardíac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Tamponamento cardía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istúrbios eletrolític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Hipoterm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Hipovolem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Infarto do miocárdi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Embolia pulmon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Sépsis</a:t>
            </a:r>
            <a:br>
              <a:rPr sz="2400"/>
            </a:br>
            <a:br>
              <a:rPr sz="1600"/>
            </a:b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valiação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specção e auscultação pulmonar criterios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dentificar sons anormais e colora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valiar o nível da consciência e capacidade de tolerar o  aumento do trabalho respirató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valiar  sinais de hipoxemia e hipercapn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terminar o estado hemodinamico e comparar com valores prévi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valiar a gasometria  e comparar com os valores prévi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tificar  ao med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elhorar  a troca gasos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trolar o balanço hídr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mover a expansão torácica, realizar gasometria arterial e comparar com os valores prévi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a via aérea previa com vasodilatadores, hidratação e aspirar e entubar  em S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ducação para manutenção da saúd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(Cont.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xigenoterapia, para corrigir a hipóx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isioterapia respiratória e hidrata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Broncodilatadores  corticosteróid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uréticos para congestão pulmon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ntilação não invasiva com pressão positiva ou ventilação mecânica-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stúrbios  gastrointestin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ceito;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gastrointestinais, são as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patologia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que ocorrem nos órgãos do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sistema digestiv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, tais como: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intestin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,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gross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, delgado; estômago, esófago, pâncreas, cólon e fíg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sas doenças, podem ser acompanhadas de fortes dores, resultantes da inflamação ou até mesmo deterioração de alguns dos órgãos do sistema digestiv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diagnóstico só pode ser emitido através de cuidadosa análise dos antecedentes do paciente, visto que através de uma simples consulta, não se pode diagnosticar com  precisão a enferm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stúrbios  gastrointestin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</a:rPr>
              <a:t>Caus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lgumas causas físicas de distúrbios Intestinais  sã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epatite (inflamação do fígad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ecistite (inflamação da vesícula biliar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ancreatite (inflamação do pâncrea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Úlcera pépt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festação por parasitas (p.ex., giardíase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uberculose do intestin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 maioria dos distúrbios gastro-intestinais em crianças causa dores e  a intolerância à lactose, causa diarreia e desnutr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 dor pode iniciar subitamente ser intensa, ou menos intensa e intermit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Os distúrbios gastro-intestinais nos quais a dor geralmente é intermitente incluem a  dor abdominal recorrente, a úlcera péptic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istúrbios  gastrointestin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ENFERMAGEM</cp:lastModifiedBy>
  <cp:lastPrinted>2012-02-15T09:53:10Z</cp:lastPrinted>
  <dcterms:modified xsi:type="dcterms:W3CDTF">2016-08-24T11:46:52Z</dcterms:modified>
  <cp:revision>741</cp:revision>
  <dc:subject/>
  <dc:title>ANATOMIA E FISIOLOGIA HUMANA</dc:title>
</cp:coreProperties>
</file>