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629E-6962-41E9-A582-C6F31B435BFE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Marcador de Posição do Número do Diapositivo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D5DD-77BC-480E-94C9-1CC51BD2747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8F90-B234-4105-B145-E7CFC0BC3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302E-F007-426B-99CA-C08074304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04FB-C7BF-427E-AF95-6C3A07754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1815-681B-4A50-A59A-8674B339B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6864-88E0-4B3F-A408-366C65753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2B3A-62BE-4166-ACEC-617DDFFB5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9404-46AD-4855-BED0-D43AB7B2A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1072-DFDB-44B4-91EB-6DA2E9C31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0018-8AEE-4FDE-8F58-8EDA76375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2566-A297-42CE-9FCE-612DD5FDB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3F9B-E744-4FE7-A571-E469C6CB5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3BFE-B29B-4AC0-AB03-0D5895B9D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DB17-494E-429C-9373-EAE2BE18F38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uidados de Enfermagem nas Urgências e Emergências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Pediátr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76520" y="4724280"/>
            <a:ext cx="5867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ub-modulo 9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rganizar o sistema de coleta de dados, que possibilite a visibilidade dos casos de abuso sexual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laborar para o diagnóstico do abuso sexual para a formulação de estratégias de prevenção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dentificar  os sinais de violência do abuso sex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05D3-019F-43C9-892E-7E46FB8315A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gis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Identificação;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Identifica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Data de nascimento, sexo, estado civil, raça, ocupação, escolaridade,  bairro, município e activ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Dados da Ocorrência: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ata e hora da violência, local de residência, abusador sexual conhecido, múltiplos parentes, tipos de relação, intimidação (tipo de arma, força física, ameaça, vítima utilizou álcool ou outra substância psicoactiva (sim/não/tip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Atendimento após a violência sexual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Houve prescrição de anticoncepção de emergência, profilaxia, colecta de exames para pesquisa de espermatozóides, fosfatase ácida prostática, antígeno prostátic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47EB-60C2-4687-A956-25B3A6205A1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1E86-CBFB-48F8-9B23-84D9A7B851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USO  SEXUAL DE MEN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990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rresponde a qualquer  acto sexual abusivo praticado contra uma criança ou adolesc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forma de abuso infant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usador  Sexual é pessoa adulta, ou um adolescente para um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BUSO  SEXUAL DE MENO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usador  não tem um perfil identificado, pode ser membro da família, parceiro, amigo ou desconhecido mas, na maioria dos casos, o abusador de menores conhece a vítim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de ser instruído ou não, religioso ou não mas, quase sempre, exerce algum poder sobre a vítim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istem duas formas de abuso sexual praticado pelos adultos ou adolescentes a menores, nos dois casos o adulto ou adolescente, abusam o menor para conseguir algum tipo de prazer ou satisfação interior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6E8A-AC65-4F24-9F46-75C2C0DBA56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ormas de Abuso Sexu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buso sexual por contact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usador  forca o menor a realizar relações sexuais, usando  forca ou fazendo ameaças verb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buso sexual sem contact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ão práticas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xuais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que não envolvem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ntato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físico: O assédio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xual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caracteriza-se por propostas de relações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xuais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, (Ex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ibicionismo, despir a roupa em frente do men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00C3-B975-4A86-B4DF-9BFD8B98FB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extragenitai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genitais, trauma do períneo, hímen, vulva, cérvix ou ânu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cerações agudas dos lábios vagin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enda do hímen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cerações ou cicatriz na comissura labial posteri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latação anal ou cicatriz de fissuras an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FE30-C31D-4182-9494-579DB8486FB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sequências de abuso sex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02FB-9A21-40DB-847C-FE4A31FE60A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m 8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8188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filaxia nas vitimas 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e abuso sex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nicilina Benzatinica: 50 000 UI/kg IM, dose ún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zitromicina: 20mg/kg, dose única o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eftriaxona: 80 mg/kg, dose única I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tronidazol: 15mg/kg/de 8/8h, 7 dias o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3880" indent="-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iciar logo que possível, nas primeiras 6 horas após a exposição ao HIV ou, o mais tardar, em até 72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C958-F8BC-41C9-AC0A-25E0DCA7AB3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rientação das mães sobre prevenção de emergência ped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5235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mães devem ser orientadas para algumas intervenções no caso de situações de emergências, tais com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e sinais de infec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écnicas de higiene e explicar a sua importânc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venção de violência sex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4637-757D-4E81-BA35-17A2AA7F5CA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/ EPI necessa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unidade de atendimento a menores abusados sexualmente, deverá dispor de equipamentos e materiais permanentes, em perfeitas condições de uso, que satisfaçam as necessidades do atendimento, material e equipamento necessários, constituído po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sa e cadeiras para consul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sa ginecológica estofada e banque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Jogo de espéculo vaginal tipo Colli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Jogo de pinça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cido acético a 2%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aselin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oalha de pape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6C33-72CC-4B84-AEFE-401480E41CC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User</cp:lastModifiedBy>
  <dcterms:modified xsi:type="dcterms:W3CDTF">2022-02-24T08:54:24Z</dcterms:modified>
  <cp:revision>706</cp:revision>
  <dc:subject/>
  <dc:title>ANATOMIA E FISIOLOGIA HUMANA</dc:title>
</cp:coreProperties>
</file>