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940D-42BB-4DD5-91A7-93E3B9BDC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7897-BA24-4370-BA25-7290580FA933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E4A5C-BE10-4888-8D36-A6A09490A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C2EB-09B9-46BB-BDE4-CAD73EB46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72009-5046-4723-A205-F9D940515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54FC-A7C8-4DB8-9578-F1B200396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9188-D97E-4089-A098-68D42C25C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089A-9488-4991-AACD-FCE3A226D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4C385-E5BF-491A-B33E-8DC408220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3C8B4-D469-49F0-B06E-3221EB82B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911AD-33D7-459E-9465-95840B376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A3DC9-42E8-4D40-9855-24F5B14E2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910F2-2560-4F40-AA73-8BFD2589E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DC54-C3B4-424F-B8FD-9BBAC58CD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4ED2-8482-40C9-9685-364F3479CB2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omponente Enfermagem Pediatrica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45720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10 – Praticas de Enfermagem II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nfermagem Obstétrica e Enfermagem Pediá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514600" y="640080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ipos de Punções Venosa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local de escolha para a punção venosa visa atender as necessidades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crianças sob oxitenda, evita-se punções cefálicas uma vez que a humidade impede a boa fixação do adesivo. Em bebés que estão amamentados, evita-se punções em membro superiores, para facilitar o aleitamen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preciso observar hábitos como o de chupar o dedo, dormir de bruços, esfregar os pezinhos, para a escolha do local adequado da pun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preferências da mãe só devem ser atendidas se estiverem de acordo com as condições da criança, lembrando que o melhor local para punção venosa em bebés é a rede venosa cefálica, local que nem sempre agrada a mã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unção em jugular deve ser reservada para situações de urgência e feita por um profissional experiente, pelos graves riscos que a mesma oferec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ia Intramuscular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a massa muscular da criança para a escolha do comprimento da agulha (30x8, 30x7, 12x6).Pode ocorrer de uma agulha curta não introduzida por inteir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quantidade máxima de líquido injectado não deve ser maior que 3 ml, somente em crianças acima de 10 anos com boa massa muscular, pode-se chegar ao limite de 5 m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de fundamental importância a maneira de segurar a criança. A movimentação dela poderá quebrar a agulha durante a injec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mbros inferiores, quadril e tórax devem estar mobilizados. Nem sempre o acompanhante é capaz de colaborar, sendo nesse caso, dispens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que a criança veja a sering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região do deltóide não é usada para medicação, tendo seu uso restrito algumas vacin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recém-nascidos usa-se a região da face lateral externa da coxa (músculo vasto lateral) por não se saber exactamente a localização do nervo ciático na região glúte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a nádega usa-se o quadrante superior exter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lnSpc>
                <a:spcPct val="15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pós injecções dolorosas, deve-se recomendar ao acompanhante a aplicação de compressas quentes no loca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terial e EPI necessári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(ver Guião de Aprendizagem N° 11 Administração de Medicamento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cedimentos e regis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(ver Guião de aprendizagem n° 03 Registo de Enfermagem aspectos de registos gerais e na administração de medicaç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1. Assegura um tratamento humanizado de qualidades na prestação de Cuidados de Enfermagem às Crianças de 0 a 14 ano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2. Aplica os conhecimentos sobre o desenvolvimento físico e psicossocial das crianças de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0 a 14 anos para elaborar, implementar, monitorizar e avaliar o Plano de Cuidado de Enfermagem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3. Realiza orientações às mães sobre a promoção e recuperação da saúde e reabilitação das crianças de 0 a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4. Aplica os princípios técnicos científicos na realização de intervenções em situações de emergência ou urgência para socorrer e assegurar a recuperação das criança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5. Aplica os conhecimentos de farmacologia na administração e controlo dos medicamentos de foro pediátrico prescrit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6. Regista oportunamente e de forma clara as informações e procedimentos de enfermagem pediátrica no diário de enfermagem, livro de ocorrência, folha de registo dos sinais vitais e cardex, para assegurar a continuidade e eficácia da prestação de cuidados humanizados e de qualidade à criança dos 0-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Down Arrow 4"/>
          <p:cNvSpPr/>
          <p:nvPr/>
        </p:nvSpPr>
        <p:spPr>
          <a:xfrm>
            <a:off x="3962520" y="22096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ADMINISTRACAO DE MEDICAMENTOS EM PEDIATR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gras básicas de Medicação na Pediat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2189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ia oral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o excesso de líquidos, para que não haja perda de parte da dose, ou até da dose total, pois a criança costuma cuspi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crianças menores, ou muito rebeldes, colocar a medicação líquida em uma seringa, para facilitar a introdução directamente dentro da bo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3358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ntar obter apoio do acompanhante, na tarefa de fazer com que a criança entenda a importância daquele reméd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3160" y="9907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mente usar copinho em crianças maiores, de fácil entendimen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se a criança deglutiu a dose total e fazer a reposição, se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se a criança não aspira a medic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vómitos logo após a ingestão de medicamen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o uso de colheres a fim de não machucar 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ia Endovenos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soros de manutenção, usar sempre equipo de microgotas para que se tenha um controle real do gotejamen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sar sempre escala de gotejamento, lembrando que o risco de híper hidratação em pediatria é maio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sempre a pinça do equipo de soro longe do alcance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r o acompanhante para que não altere o gotejamento do sor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mbrar que o excesso de mobilização da criança torna o gotejamento irregular e descontrol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luir as medicações em buret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unca realizar medicação directamente na veia, somente em situações de emergência na presença do méd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o equipo da bureta, lembrando que, sendo as dosagens pediátricas muito pequenas, facilmente pose-se perder grande parte delas dentro do equip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NYAKA</cp:lastModifiedBy>
  <dcterms:modified xsi:type="dcterms:W3CDTF">2012-02-13T08:25:17Z</dcterms:modified>
  <cp:revision>428</cp:revision>
  <dc:subject/>
  <dc:title>JHPIEGO PowerPoint Presentation template</dc:title>
</cp:coreProperties>
</file>