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7815-EA16-48E1-BBF2-F9900806C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FA93-93B2-4A4F-8E3D-74084B5A47FB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14D1-5A71-4851-B7BE-532FD04A6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640F-D24C-486D-89C1-75316EAC6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42AB-BF7E-4027-AD57-F4A2E4D05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772B-57A7-4E6D-9780-D6C998577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04EB-C733-4C4E-9CD9-0E5A8D4CB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C168-16B7-46D9-8AA6-D3114EE46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7C1D-DA37-496F-BD35-EC41B2C29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B8C6-CEE2-4CC3-9D02-CF0BD7D12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84FF-C002-48D2-AA3D-66685659C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39F2-D0BA-40D3-9B87-12AAAB84E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3C80-389C-42F3-B2AA-AF80CC674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6611-3EF5-4ED8-A286-20C4DC4D3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D36-B36C-48C6-B34B-D785C8F4CA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sperança de vida ao nascer é estimada em 46.7 anos, com uma taxa de natalidade e mortalidade de 35.2 e 21.3 por 1.000 habitantes respectivamente, uma taxa de mortalidade infantil de 124 por 1.000 NV e neonatal de 48 por 1.000 NV.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rianças com menos de 5 anos de idade, constituem 17,1% e os adolescentes e jovens (10-24 anos) 32.2% da população total do paí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total das pessoas em idade reprodutiva [15-49 anos] constitui 49% da população, das quais cerca de 5 milhões são mulheres representando 24.9% da população total do Paí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ituação Mundial da Infância 2011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coa essa percepção fundamental, e desenvolve-se a partir dela. Hoje, 1,2 bilhão de adolescentes encontram-se na desafiadora encruzilhada entre a infância e o mundo adulto. Nove em cada dez desses jovens vivem no mundo em desenvolvimento e enfrentam desafios particularmente graves, que vão desde adquirir educação até simplesmente sobreviver – desafios que são ainda mais exacerbados para meninas e mulheres jove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esforço global para salvar a vida das crianças, ouvimos muito pouco sobre a adolescência. Tendo em vista a magnitude das ameaças a crianças menores de 5 anos, faz sentido concentrar nelas os investimentos – e essa atenção tem produzido sucessos extraordinários. Nos últimos 20 anos, o número de crianças menores de 5 anos que morrem a cada dia devido a doenças evitáveis caiu em um terço – de 34 mil, em 1990, pra 22 mil, em 2009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tuação  de Saúde Infantil no Mun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e relatório apresenta, em detalhes comoventes, o conjunto de perigos que os adolescentes enfrentam: as injustiças que matam 400 mil deles a cada ano; gravidez e parto precoces, uma causa primária de morte de meninas adolescentes; as pressões que mantêm 70 milhões de adolescentes fora da escola; exploração, conflitos violentos e as piores formas de abuso nas mãos de adul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66"/>
                </a:solidFill>
                <a:latin typeface="Arial"/>
              </a:rPr>
              <a:t>Unicef Relatório situação mundial da infância 2011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a Mortalidade Materna intra-hospita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a Mortalidade Neona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 de percentagem de partos institucion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berturas de Planeamento Famili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bertura de pré-na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MISAU PES 2006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consulta pós-pa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minuição dos casos de Baixo peso à nascença /partos prematur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PTV – mães que receberam ARV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PTV – RN que receberam ARV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RN que fizeram profilaxia e testaram-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MISAU PES 2006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fermagem Pediátric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um campo de estudo e de prática da enfermagem dirigida à assistência à criança até a adolescência. Ou, ainda, é um campo da enfermagem que se dedica ao cuidado do ser humano em crescimento e desenvolvimento, desde o nascimento até a adolescênc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diatr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campo da Medicina que se dedica à assistência ao ser humano em crescimento e desenvolvimento, desde a fecundação até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eonatolog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ramo da Pediatria que atende o recém-nascido, desde a data do nascimento até completar 28 di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uericultur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Também denominada de Pediatria Preventiva, é o ramo da Pediatria que cuida da manutenção da saúde da criança e do acompanhamento de seu crescimento e desenvolvi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ebiatr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ramo da Pediatria que atende as necessidades de saúde do adolescent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ifícil precisar quando começou a considerar-se a Enfermagem Pediátrica como Especialidade, pois isso foi surgindo gradualmente conforme se sentiu a necessidade de adaptar a assistência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Pediatra nos países em via de desenvolvimento enfrenta problemas bem diferentes dos seus colegas que trabalham nos países ou nações industrializadas (desenvolvid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9144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Pediatra é Considerada essencial para um trabalho perfeito em Pediatria que a Enfermeira tente desenvolver um determinado número de atributos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relação a crianç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Gostar de crianç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er alegr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er imagin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er a capacidade para conseguir a confiança da crianç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relação a famíl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simpatia, compreensão e receptiv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capacidade de observação das relações Mãe - Filh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transmitir conhecimen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aceitar a família como elemento essencial ao harmonioso desenvolvimento da cria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ber aceitar e compreender as suas limitações e err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incípios Básicos de Enfermagem Pediátr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9907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m relação a equipa de trabalho e à profis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hecimentos perfeitos das técnicas de Enfermagem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gosto pelo pormen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gosto pelo estudo e actualização perma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capaz de orientar a sua conduta na ética profissional, relações humanas e Direitos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capaz de colaborar com os membros da equipa de trabalho em Pediat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irectrizes  e Programa para a Atençã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2120" y="9907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colh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ssistência à criança se baseia na promoção da saúde, prevenção, diagnóstico precoce e recuperação dos agravos à saúde. O acompanhamento programado do crescimento e desenvolvimento, complementado por actividades de controlo das doenças prevalentes, como diarreia e afecções respiratórias agudas, e pelas acções básicas, como o estímulo ao aleitamento materno, orientação alimentar e imunizações, contribui para a promoção de uma boa qualidade de vi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irectrizes  e Programa para a Atençã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das as actividades devem estar centradas no acompanhamento do crescimento e desenvolvimento, que é o eixo da assistência à criança. O Cartão da Criança é o principal instrumento utilizado nacionalmente para esse acompanhamento e deve ser interpretado como um “cartão de identidade” da criança até cinco anos. Nele são registados alguns dos eventos importantes para a sua saúde: (condições de nascimento, os valores do peso, as habilidades desenvolvidas nas diversas idades e as vacinas já realizadas e programad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onsultas da criança sadia concentram-se mais nos dois primeiros anos de vida, que é o período de maior risco para a criança. No primeiro ano de vida, as consultas, devem coincidir com as vacinações, sendo a primeira consulta feita durante a primeira semana de vida. No segundo ano, as consultas devem ser trimestrais, do terceiro ao quinto ano semestrais. Do quinto ao décimo quarto ano as consultas devem ser anu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incipais actividades a realizar na consult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1. Avaliação do cresc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2. Avaliação do desenvolvimento psicomot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3. Realização de exame físico comple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4. Promoção do cumprimento do calendário vac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5. Orientação sobre a alimentação adequada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6. Educação sanitária individ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7. Rastreio de factores de risco para Atenção Especial (Consulta Crianças em Ris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99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8. Recomendações sobre o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UMO DAS PRINCIPAIS ACTIVIDA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m cada consulta lembrar-se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inais e sintomas de perig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conselhar a mãe sobre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rastreio da tuberculo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 estado serológico ( HIV) ; em caso de sero-estado desconhecido, oferecer aconselhamento e testagem para HIV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rganização e Funcionamento dos Serviços de Atendimento à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entros Fixos (Unidades Sanitári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ferem-se aos Centros e Postos de Saúde com atendimento permanente. As tarefas descritas na tabela acima constituem uma meta que deve ser alcanç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rigadas Móve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s zonas rurais atendidas por equipas móveis, o calendário deverá ser mais flexível e reduzido, segundo o programa de deslocações, que deve ser bem planificado e coordenado com os líderes comunitários. Estes devem garantir a mobilização, a divulgação dos locais de concentração e as datas previstas, permitindo a racionalização do tempo da população e do pessoal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www.unicef.or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INTRODUÇÃO À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PEDIÁT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decurso da História de Medicina muitos Médicos famosos mostraram interesse pelas doenças das crianças, mas somente no século XIX, primeiro na Europa e depois nos Estados Unidos se começou a dar interesse a esse fac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é então a doença da criança tinha para o médico a mesma importância que a doença do adul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meados do Século XIX, o Dr. Abraham Jacob de origem alemã criou nos Estados Unidos a primeira clínica para crianç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undação do primeiro serviço de Pediatria ocorreu e 1888 no Hospital da Universidade de Harvard e em 1889 o Children’s Hospital de Boston, inaugurou a primeira Escola de Enfermagem num hospital puramente infant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ifícil precisar quando começou a considerar-se a Enfermagem Pediátrica como Especialidade, pois isso foi surgindo gradualmente conforme se sentiu a necessidade de adaptar a assistência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Breve His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264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ediatra nos países em via de desenvolvimento enfrenta problemas bem diferentes dos seus colegas que trabalham nos países ou nações industrializadas (desenvolvid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ituação  de Saúde Infantil em Moçamb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çambique está entre os 10 países mais pobres do mundo. Com cerca de 20 milhões de habitantes segundo dados do censo de 2007, tem uma taxa de crescimento de 2.4%. Perto de 69.5% da população reside na zona rural e a densidade populacional média é de 20 habitantes/km² variando entre as províncias. As províncias mais populosas são a da Zambézia e Nampula, com 20.34% e 19.47% do total da popu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66"/>
                </a:solidFill>
                <a:latin typeface="Arial"/>
              </a:rPr>
              <a:t>Fonte: (MISAU – 2008)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User</cp:lastModifiedBy>
  <dcterms:modified xsi:type="dcterms:W3CDTF">2022-02-07T06:00:38Z</dcterms:modified>
  <cp:revision>416</cp:revision>
  <dc:subject/>
  <dc:title>JHPIEGO PowerPoint Presentation template</dc:title>
</cp:coreProperties>
</file>