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9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773-4A06-406F-ACC7-82A8B2EB37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C22-F54F-4A26-B9F1-6A4572BAF0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DEC5-E110-446F-AC28-6F7D16D718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35A8-DBC0-4050-AB07-14C247B238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A16A-3B0D-43FD-82E3-587BFF7AF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26B9-E571-4495-91C1-2DEB23238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BED5-E58D-45CA-94F8-FB0989617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774A-E0DF-4661-BC5F-B0A3986E3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3A4D-3CE6-46AE-84F4-5F95E867D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113C-B3AC-4EFE-ABCC-8356EEB18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7ED8-9ABB-4FC6-BDAE-A33A8B146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75E0-E9D5-4357-8BE6-9179B9DF7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0F27-F215-496F-9438-4FB6CF079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D493-82FF-4E3E-99CE-86CB344CC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59BB-0D95-4280-A81B-25D72560F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0C8B-CE76-4C74-A59E-35982AE01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236E-EE8F-4825-895E-0049E48CE65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b23-cmdt-conceicao-silva.rcts.pt/janela_solucao1.htm" TargetMode="Externa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fpa.br/dicas/wor-defi.htm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e necessidades do idoso: Entrevista/anamne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797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11280" y="1600200"/>
            <a:ext cx="826128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a medida em que os dados do utente são colhidos, inicia-se a interpretação pelo enfermeiro, mesmo que o quadro ainda não esteja comple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or isso é que a identificação de necessidades e o diagnóstico são etapas do Processo de Enfermagem que se sobrepõ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ítulo 1"/>
          <p:cNvSpPr/>
          <p:nvPr/>
        </p:nvSpPr>
        <p:spPr>
          <a:xfrm>
            <a:off x="1066680" y="228600"/>
            <a:ext cx="777240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e necessidades do ido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74D6-BEC0-49C7-9D5A-E9600FC500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539640" y="1413000"/>
            <a:ext cx="82566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ntrevista é um processo intencional que permite ao enfermeiro e ao utente a troca de informaçõ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enfermeiro deve enfocar  sobre a identificação das reacções do utente que podem ser tratadas por meio de intervenções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ntrevista deve t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trodu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eio ou entrevista propriamente di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echa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844720" y="2781360"/>
            <a:ext cx="56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6012000" y="251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ítulo 1"/>
          <p:cNvSpPr/>
          <p:nvPr/>
        </p:nvSpPr>
        <p:spPr>
          <a:xfrm>
            <a:off x="1066680" y="228600"/>
            <a:ext cx="77724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11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941-F044-4164-8FA8-05816F85E3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Rodapé 1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539640" y="1484280"/>
            <a:ext cx="83822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rros comuns e que devem ser evitados na entrevis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ratar o idoso por nome que ele não gosta de ser trat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adjetivos afetiv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fala infantil – “vozinho”, “vozinha”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terminologia técnica com pessoas leig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técnicas de comunicação sem prestar atenção à reação do utente. Por exemplo: tocar o idoso que não gosta de ser toc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ítulo 1"/>
          <p:cNvSpPr/>
          <p:nvPr/>
        </p:nvSpPr>
        <p:spPr>
          <a:xfrm>
            <a:off x="1066680" y="304920"/>
            <a:ext cx="7772400" cy="60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4216-3BF0-4840-9C49-432D438F618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visão formal da história clínica em queixa e duração, história da doença actual e a seguir o interrogatório sobre os aparelhos nem sempre é a forma mais prática de abordar 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vezes, é mais produtivo começar pelo último para se obter as informações de forma mais ordenada e complet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é raro que a queixa principal do idoso não esteja relacionada ao problema actual e mereça abordagem priorit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omitir a história medicamentosa pregressa, útil para concluir sobre afecções anteriores e actuais, inclusive responsável por muitas queixas ac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DE3-FD90-4672-98FC-FA326A3DFBD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539640" y="11970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ntrodução da entrevis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rganize-se antes, pois sabendo o que vai fazer se sentirá mais confiante e capaz de concentrar-se na pesso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epare os materiais a serem usados na entrevis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presente-se ao idos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ergunte de que maneira o idoso prefere ser trat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xplique a finalidade da entrevis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Garanta privacidade a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ECE-7255-495A-A013-AE7A713C7B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1066680" y="228600"/>
            <a:ext cx="777240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341360"/>
            <a:ext cx="8526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trodução da entrevis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ão confie em sua memória. Tenha um plano escrito à mão que oriente sobre as perguntas a serem feitas (roteiro, formulário); Essa atitude também ajuda a evitar entrevistas longas e cansativ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entrevistas aos idosos, em geral, são similares às entrevistas realizadas com adultos, porém acrescenta-se a estas a investigação mais alargada de suas funções motoras e cognitiv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35FE-70DE-4E11-8FB8-9BC2E5DF40A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341000"/>
            <a:ext cx="8447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urante a entrevista propriamente di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ê total atenção ao idoso; Quando necessário (por limitações do mesmo) é que o acompanhante será envolv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ão demonstre pres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Sentem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verse sobre áreas específicas, começando pela queixa principal, abordando a seguir os aspectos necess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vite o impulso de interromper a entrevista de forma brus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1CC-5196-4DF9-8BF3-F40E91CECC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1066680" y="304920"/>
            <a:ext cx="7772400" cy="53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880" y="1828440"/>
            <a:ext cx="836784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echamento da entrevis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ertifique-se de que os dados estão comple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erifique ou faça a checagem de possíveis dúv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mpre pergunte se o idoso tem algo mais a acrescen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gradeça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speça-se e deixe-o em condição confort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B40-84AF-44EF-975E-A3F64BF4F9F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ítulo 1"/>
          <p:cNvSpPr/>
          <p:nvPr/>
        </p:nvSpPr>
        <p:spPr>
          <a:xfrm>
            <a:off x="1066680" y="304920"/>
            <a:ext cx="7772400" cy="60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537372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bservando esse ambiente de entrevista ao idoso, o que vocês identificam como inadequa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6802-7D9C-4B20-83B5-684B009D33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2" descr="http://t1.gstatic.com/images?q=tbn:ANd9GcTwRusqscAcT3A4Rew70U5HdtY__vf0HqNnTF9OtYAa7CN-Ar9J"/>
          <p:cNvPicPr/>
          <p:nvPr/>
        </p:nvPicPr>
        <p:blipFill>
          <a:blip r:embed="rId1"/>
          <a:stretch/>
        </p:blipFill>
        <p:spPr>
          <a:xfrm>
            <a:off x="2124000" y="1052640"/>
            <a:ext cx="5616720" cy="4206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http://www.eb23-cmdt-conceicao-silva.rcts.pt/J028887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732640"/>
            <a:ext cx="466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651800" cy="463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492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-se perguntar sobre os antecedentes patológicos do idoso, com ênfase nas doenças crônicas activas. Dada sua prevalência, devem ser investigad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cções cardiovasculares, em especial doença hiperten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betes e suas complic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cções osteoarticul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éfices relacionados as grande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bercul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V/S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A81-E2DE-4378-AAB2-FE73A6DC35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ção de necessidades do idos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Entrevista/anamnes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C518-2810-41D7-90AA-178E176C3DA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63360" y="-1179360"/>
            <a:ext cx="1876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3360" y="-1179360"/>
            <a:ext cx="1876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63360" y="-1165320"/>
            <a:ext cx="1876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8" descr="http://t0.gstatic.com/images?q=tbn:ANd9GcRPQjTcH6gwjC1ZG8wqNigv2srGhXaTu2c6oxfBLzQhmSlJLqyOCQ"/>
          <p:cNvPicPr/>
          <p:nvPr/>
        </p:nvPicPr>
        <p:blipFill>
          <a:blip r:embed="rId1"/>
          <a:stretch/>
        </p:blipFill>
        <p:spPr>
          <a:xfrm>
            <a:off x="2484360" y="3141720"/>
            <a:ext cx="4761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ça perguntas dirigidas para as grandes síndromes geriátricas (7Is)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C4D-F9BE-41E7-8F36-7620212CE4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560" y="112536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nvestigação a respeito da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capacidades cognitivas e motora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é feita, em geral, por meio de perguntas dirigidas as Actividades de Vida Diária (AVD), que inclu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nh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esti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r a casa de ban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biliz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ência fecal 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rin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limentar-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36DE-9542-46D3-AD23-E5F94F14470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CaixaDeTexto 5"/>
          <p:cNvSpPr/>
          <p:nvPr/>
        </p:nvSpPr>
        <p:spPr>
          <a:xfrm>
            <a:off x="4859280" y="2637000"/>
            <a:ext cx="4033800" cy="1923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 abordagem que ajuda o enfermeiro na investigação cognitiva do idoso é perguntar sobre as Actividades Instrumentais da Vida Diária (AIV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9" name="Conector angulado 7"/>
          <p:cNvCxnSpPr/>
          <p:nvPr/>
        </p:nvCxnSpPr>
        <p:spPr>
          <a:xfrm>
            <a:off x="6732720" y="4797000"/>
            <a:ext cx="1296000" cy="648360"/>
          </a:xfrm>
          <a:prstGeom prst="bentConnector3">
            <a:avLst>
              <a:gd name="adj1" fmla="val 49986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dades Instrumentais da Vida Diária (AIVD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4130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ão actividades relacionadas à participação do idoso em seu entorno social e indicam sua independente na comunidade. São el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tilizar o telefo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ar transpor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zer comp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ar seus reméd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r das próp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ina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A90-A887-4CF2-ABC8-58AD648E952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" descr="http://t2.gstatic.com/images?q=tbn:ANd9GcQFBk18QMuWYSCu5gNrquLZdFWNCqbzbJGq33bO0wrsyL1lsbKT"/>
          <p:cNvPicPr/>
          <p:nvPr/>
        </p:nvPicPr>
        <p:blipFill>
          <a:blip r:embed="rId1"/>
          <a:stretch/>
        </p:blipFill>
        <p:spPr>
          <a:xfrm>
            <a:off x="4788000" y="321300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dades Instrumentais da Vida Diária (AIVD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341360"/>
            <a:ext cx="424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 AIVD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eparar as refei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r da ca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avar e pass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zer repar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més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748D-E27B-4FB2-A613-813F765749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Imagem 5" descr="http://t2.gstatic.com/images?q=tbn:ANd9GcTpG4tKQZ2Jf57FrwLxLINXz9OjgJZADabHLPApdzBoJHJwqOq5"/>
          <p:cNvPicPr/>
          <p:nvPr/>
        </p:nvPicPr>
        <p:blipFill>
          <a:blip r:embed="rId1"/>
          <a:stretch/>
        </p:blipFill>
        <p:spPr>
          <a:xfrm>
            <a:off x="4427640" y="1628640"/>
            <a:ext cx="4537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052280"/>
            <a:ext cx="8505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esempenho físico e social do idoso depende da integridade das funções cognitivas. A perda de memória recente e a habilidade de cálculo são indicadores sensíveis de redução dessas fun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da perda de memória recente é a mais adequada, dado que a escolaridade pode influenciar na avaliação da habilidade de cálcu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gere-se uma primeira avaliação com o teste rápido - solicitar à pessoa idosa que repita o nome dos objetos: Mesa, Maçã e Dinheiro. Após 3 minutos, pedir que repita. Se for incapaz há necessidade de uma maior investig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800-A616-4D7D-84E6-C8EBDE9D9CF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00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nvestigação quanto a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stabilidade postural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 abranger além das condições físicas do idoso (equilíbrio, força motora), o ambiente residencial, que pode aumentar o risco de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qui a visita domiciliária torna-se imprescind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cadas, ausência de diferenciação de degraus e de corrimãos, iluminação inadequada, tapetes soltos, obstáculos (fios eléctricos, pisos mal conservados) no local de circulação, são alguns dos riscos comuns obser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 visita domiciliária, o enfermeiro poderá identificar todos esses riscos e ajudar a família a modificar o ambiente para que se torne seguro a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A250-B88E-4E99-A069-6A3C849A16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n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mobilidade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podem ocorrer por disfunções motoras,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sensopercepção, equilíbrio ou défice cognitiv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nâmica do aparelho locomotor sofre redução na amplitude dos movimentos, tendendo a modificar a marcha, passos mais curtos e mais lentos com tendência a arrastar os pé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mplitude de movimentos dos braços também diminui, tendendo a ficar mais próxima do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base de sustentação se amplia e o centro de gravidade corporal tende a se adiantar, em bus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maior equilíbr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2B0-C919-478F-A335-F57218B65E4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vestigar presença de </a:t>
            </a: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incontinência urinária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is cerca de 30% dos idosos não institucionalizados costumam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á-la e nem sempre a referem na avaliação clínica ou por vergonha ou por acharem ser isso normal no processo de envelheci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reqüência e a importância do evento estão associadas às repercussões emocionais e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das causas são reversíveis - delírio, restrição de mobilidade, retenção urinária, infecção e efeito medicamentoso - e devem ser investig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4D94-7491-4F5A-96CE-AA713DBEDF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4920" y="981000"/>
            <a:ext cx="852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capacidade comunicativ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estar associada a fatores pessoais do idoso e a fatores familiares e ambientais (hospitalar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ais fatores devem ser investigados, pois a comunicação é fundamental ao bem estar do idos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pessoais: Dificuldade auditiva e visual, desconforto bucal ou constrangimentos relacionados a falta de dentes ou próteses má adaptadas, humor reprim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familiares: conflitos, desatenção, o idoso é tomado como obstáculo à dinâmic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ais: barulho de equipamento hospitalar, falta de tempo ou desinteresse da equipe de saúde, uso de linguagem difícil pela equip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08E6-07CB-44EE-81FD-DD2A18A499F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640" y="980640"/>
            <a:ext cx="8382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Iatrogenias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poderão ser evitadas com a capacitação profissional para lidar com o idoso. Contudo, uma pergunta ao idoso poderá amenizar as iatrogenias medicamentos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ergunte sobre os medicamentos em uso pelo idoso, tanto os prescritos quanto os adquiridos por si próp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olicite que, quando for à próxima consulta, o idoso traga os medicamentos que utiliz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 essa medida é possível detectar automedicação, uso de posologia incorreta e uso de mais de um medicamento para o mesmo objetivo, às vezes prescrito por profissionais difer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29E-2F6D-4DC7-B67C-35DBF38DCAE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280" y="1412640"/>
            <a:ext cx="7201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dentificar aspectos a serem levantados durante a entrevista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mpreender a entrevista como parte da identificação de necessidades (primeir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escrever peculiaridades da entrevista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A9C0-B23B-42B9-B580-0715B212E1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852640"/>
            <a:ext cx="1873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suficiência familiar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rá ser detectada por meio de perguntas sobre a dinâmica familiar: com quem mora, como é a relação entre os membros da família, identificação da figura do cuidad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condições gerais do idoso também traz um pouco do que são os cuidados familiares: condições de higiene do idoso (cabelo, unhas, roupas); estado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nguagem não-verbal do idoso é importante nesse sentido, pois quando a dinâmica familiar não está bem, o idoso tende a chorar com facilidade, mas também pode esconder a realidade temendo maus tra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FF63-9F38-4C16-8410-4DA7384CBA3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relação à alimentação do idoso, é importante que o enfermeiro pergunte a respeito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da autonomia para preparar os alimentos e para aliment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rda parcial ou total da visão que dificulte a seleção, preparo e consumo d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rd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a autonomia financeira para comprar 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apetite, da sensação de sede e da percepção da temperatura d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BBE0-FEA7-46B7-A04D-3F89C63910E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ou redução da capacidade olfativa, interferindo no seu apeti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m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tivo que o faça restringir determinados tipos de alimentos, como dietas para perda de peso, diabetes,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ertensão, hipercolesterolem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de peso recen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 de mastigação por lesão oral, uso de prótese dentária ou problemas diges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604-13B6-415D-B017-4769D4A4DA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ido a redução fisiológica da acuidade visual do idoso e o uso de lentes corretivas para enxergar adequadamente, pergunte sobre dificuldade pa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alização de atividade da vida diári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(identifique risco para queimaduras e outros acident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ir de casa e realizar alguma actividade de lazer, visitar parentes, ir ao merc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r, assistir televisão, dirigir ou executar qualquer tarefa que lhe traga motiv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BFA1-844D-4493-9012-5B736156CAF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mostram que 74% dos homens e 56% das mulheres casadas mantêm vida sexual ativa após os 60 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dentificação de disfunção nessa área pode ser indicativa de problemas psicológicos, fisiológicos ou amb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das alterações sexuais que ocorrem com o avançar da idade podem ser resolvidas com orient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problemas podem afetar o desempenho sexual: fadiga, artrites, diabetes, hipertensão e medo de infarto, efeitos colaterais de fármacos e uso de álcoo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5606-6312-4D6E-9944-0566C6BFB2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bora a freqüência e a intensidade da atividade sexual possam mudar ao longo da vida, redução na capacidade de desfrutar prazer nas relações sexuais não devem ser considerados como parte normal do envelhecimen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m fazer parte da avaliação sistemática das pessoas idosas sexualmente ativas a investigação de DST/S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ulheres após a menopausa, principalmente, após os 60 anos, normalmente apresentam  desconforto nas relações sexuais com penetração vaginal, devido ao hipoestrogenismo e hipotrofia dos tecidos geni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3606-DBF8-4320-A99F-906129F1153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000" y="2421000"/>
            <a:ext cx="8381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funcional busca verificar, de forma sistematizada, em que nível as doenças ou agravos impedem o desempenho, de forma autônoma e independente, das AVD das pessoas idosas, permitindo o desenvolvimento de um planejamento assistencial mais adequ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CDB6-5698-493A-B7DE-1961CE5EEA6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84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grupo de pessoas idosas, os "mais idosos, muito idosos ou idosos em velhice avançada" (idade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80 anos), também vêm aumentando proporcionalmente e de forma muito mais acelerada, constituindo o segmento populacional que mais cresce nos últimos tempos - 12,8% da população idosa e 1,1% da população to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nesse contexto que a “avaliação funcional” torna-se essencial ao estabelecimento de diagnósticos adequados, que servirão de base para decisões sobre tratamentos e cuid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2D1-C1CD-47B5-AE05-647EC20630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funcional determinará o comprometimento funcional do idoso e sua necessidade de auxil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tentativa sistematizada de avaliar de forma objetiva os níveis no qual uma pessoa está funcionando numa variedade de áreas utilizando diferentes habili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maneira de medir se uma pessoa é ou não capaz de desempenhar as actividades de autocuidado. Caso não seja capaz, verificar se essa necessidade de ajuda é parcial, em maior ou menor grau, ou to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ualmente, utiliza-se a avaliação no desempenho das atividades de vida d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0860-B5BA-41AB-A7C8-9043AD0B402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dades complementares no L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000" y="2204640"/>
            <a:ext cx="838188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das Actividades de Vida Diária (AVD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das Actividades Instrumentais da Vida Diária (AIVD);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fun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486D-C623-4AFA-96EA-DCBBFBAE172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 identificação de necessidades do idoso constitui a primeira etapa do processo de enfermagem, em que são geradas as informações para a determinação dos diagnósticos de enfermagem (segund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B4A-6D45-4842-9180-098D338F3F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t1.gstatic.com/images?q=tbn:ANd9GcSOeLIVk1vkjuHyy2MSvgKVNAurLc4rYpjpmUi7333akGcCXRKY"/>
          <p:cNvPicPr/>
          <p:nvPr/>
        </p:nvPicPr>
        <p:blipFill>
          <a:blip r:embed="rId1"/>
          <a:stretch/>
        </p:blipFill>
        <p:spPr>
          <a:xfrm>
            <a:off x="5867280" y="3213000"/>
            <a:ext cx="2089440" cy="311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alagoas24horas.com.br/legba/admin/temp/thumbs/%7Bd468x350%7D/%7Bh0%7D/b/f/%7Bbf0e01b9-5bab-4fb4-9726-2a728f84185c%7D_idosos%20acamados.jpg"/>
          <p:cNvPicPr/>
          <p:nvPr/>
        </p:nvPicPr>
        <p:blipFill>
          <a:blip r:embed="rId2"/>
          <a:stretch/>
        </p:blipFill>
        <p:spPr>
          <a:xfrm>
            <a:off x="1260360" y="3213000"/>
            <a:ext cx="41688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628280"/>
            <a:ext cx="864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identificação de necessidades, o enfermeiro utiliza-se da entrevista/anamnese e do exame físico (este último será tratado na próxima aul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de comunicação adequado é muito importante no decorrer da entrevista e do exame físico. Portanto, revejam o conteúdo sobre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unicação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 o idoso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ado em aula anteri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rganograma que apresentamos a seguir ilustra todas as etapas do processo de enfermagem, porém nesta aula iremos focar na primei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CBA-D7EE-46D6-9358-F63EF98A51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1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D78-6CD7-473B-8934-BC405087D4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7BB7-5B12-474E-98EE-D45D505703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o Explicativo 1 (Ênfase) 6"/>
          <p:cNvSpPr/>
          <p:nvPr/>
        </p:nvSpPr>
        <p:spPr>
          <a:xfrm>
            <a:off x="3124080" y="1413000"/>
            <a:ext cx="4800600" cy="155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4" y="5450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dentificação por meio de entrevista/anamn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13" descr="pc-m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068640"/>
            <a:ext cx="36864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culiaridades da entrevista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mais tempo e paciência por parte do enfermeiro devido as limitações que o idoso poderá apresentar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oacusia (dificuldade auditiv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vis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éfice de memó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fusão ment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ão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lta de um bom informante (familiar ou acompanhante que conheça as necessidades do idos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5C9B-1093-49CE-B893-38E3398CC6A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2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ido as limitações que o idoso poderá apresentar e que acabamos de discutir, suas necessidades relatadas ficam quase sempre a desejar, uma vez que suas reais necessidades são bem m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igura ao lado ilustra bem essa peculiaridade do levantamento de dados com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E6D-177C-4C00-89E0-4F79B08C8C9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892680" cy="4032360"/>
          </a:xfrm>
          <a:prstGeom prst="rect">
            <a:avLst/>
          </a:prstGeom>
          <a:ln w="0">
            <a:noFill/>
          </a:ln>
        </p:spPr>
      </p:pic>
      <p:sp>
        <p:nvSpPr>
          <p:cNvPr id="144" name="CaixaDeTexto 6"/>
          <p:cNvSpPr/>
          <p:nvPr/>
        </p:nvSpPr>
        <p:spPr>
          <a:xfrm>
            <a:off x="5364000" y="1557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Necessidades relat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CaixaDeTexto 7"/>
          <p:cNvSpPr/>
          <p:nvPr/>
        </p:nvSpPr>
        <p:spPr>
          <a:xfrm>
            <a:off x="6516720" y="465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Não relat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12:10Z</dcterms:created>
  <dc:creator>Escolastica</dc:creator>
  <dc:description/>
  <dc:language>en-US</dc:language>
  <cp:lastModifiedBy>Mendoza</cp:lastModifiedBy>
  <dcterms:modified xsi:type="dcterms:W3CDTF">2012-01-31T14:24:01Z</dcterms:modified>
  <cp:revision>152</cp:revision>
  <dc:subject/>
  <dc:title>Identificação das necessidades humana básicas do utente idoso.</dc:title>
</cp:coreProperties>
</file>