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9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4.jpeg" ContentType="image/jpeg"/>
  <Override PartName="/ppt/media/image1.wmf" ContentType="image/x-wmf"/>
  <Override PartName="/ppt/media/image28.jpeg" ContentType="image/jpeg"/>
  <Override PartName="/ppt/media/image15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F3D9-2EF6-403E-A03E-627F42BEF98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AA81-6ACE-4E91-B9CF-06F35C53FE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CE727-B856-4215-81CA-C3B207BC5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051D4-6D98-4A2B-B918-D4DBAE845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178A4-6F82-4506-BB99-46BD7E476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D106C-8326-465B-B2D8-A3986615A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8BA22-028B-4D30-AB7C-865E1C21E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E616-E137-44E7-8177-A8EB1C4F5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103C7-6891-4BB2-A939-DA6A019FB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F1C72-F11C-411A-A804-10CAB3286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D16B-2E6D-4F52-A1B2-124032CFB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0FC96-F904-4C6E-A03A-81AC38BD6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F441-66BD-4706-A831-9B4828B2F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64FB2-A075-4815-9ABC-98066C5D2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F812-0BB0-476C-9D84-748C34E7FC80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84464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1988640"/>
            <a:ext cx="655344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uidados especiais a ter com idosos doentes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(Aula 1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4436640"/>
            <a:ext cx="75438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523880"/>
            <a:ext cx="83822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iminuir os fatores ambientais que levam ao ressecamento da pele, como a exposição ao frio, pois leva ao ressecamento e descamação. A pele deve ser hidratada com crem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vitar massagens nas proeminências ósseas. Acreditava-se que a massagem em regiões com hiperemia auxiliavam a melhorar o fluxo sanguíneo. As evidências atuais sugerem que massagem pode causar mais danos 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A1B1-2ABF-40C8-B9BE-C84EC0EC915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15998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onitorar as condições predisponentes controláveis, com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abagism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snutrição ou obes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o de esteróid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ensão na feri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ível glicêmico em utentes diabétic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ível tensional em utentes hiperten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9DD9-96E4-415C-9698-EEAB8EBE5D5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ando indivíduos aparentemente bem nutridos desenvolvem uma ingestão inadequada de proteínas ou calorias, os profissionais devem tentar descobrir os fatores que estão comprometendo a ingestão e então oferecer uma ajuda na alimentação. Às vezes outros suplementos nutricionais podem ser necessários. 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e a ingestão dietética continuar inadequada, intervenções nutricionais como alimentação parenteral ou enteral devem ser considera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ara indivíduos comprometidos nutricionalmente um plano de suplementação nutricional deve ser implement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F0E4-54B7-4D54-8A3B-B220C841D39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6840" y="1295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so de colchões para o alívio da press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2514600" y="62485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3468-EC2B-4E49-BF72-21403C2A73E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lchões indicados par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6320" y="-731880"/>
            <a:ext cx="1581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76320" y="-731880"/>
            <a:ext cx="1581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76320" y="-731880"/>
            <a:ext cx="1581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2" descr="http://www.fisiomed.com.br/images/product/938_g.jpg"/>
          <p:cNvPicPr/>
          <p:nvPr/>
        </p:nvPicPr>
        <p:blipFill>
          <a:blip r:embed="rId1"/>
          <a:stretch/>
        </p:blipFill>
        <p:spPr>
          <a:xfrm>
            <a:off x="5791320" y="17524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http://www.souzalins.com.br/images/colchao%20D%20agua.jpg"/>
          <p:cNvPicPr/>
          <p:nvPr/>
        </p:nvPicPr>
        <p:blipFill>
          <a:blip r:embed="rId2"/>
          <a:stretch/>
        </p:blipFill>
        <p:spPr>
          <a:xfrm>
            <a:off x="5257800" y="38862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6"/>
          <p:cNvSpPr/>
          <p:nvPr/>
        </p:nvSpPr>
        <p:spPr>
          <a:xfrm>
            <a:off x="76320" y="-738360"/>
            <a:ext cx="205740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18"/>
          <p:cNvSpPr/>
          <p:nvPr/>
        </p:nvSpPr>
        <p:spPr>
          <a:xfrm>
            <a:off x="0" y="-771480"/>
            <a:ext cx="20574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20" descr="http://www.lenilson.com.br/wp-content/uploads/2010/10/casca.jpg"/>
          <p:cNvPicPr/>
          <p:nvPr/>
        </p:nvPicPr>
        <p:blipFill>
          <a:blip r:embed="rId3"/>
          <a:stretch/>
        </p:blipFill>
        <p:spPr>
          <a:xfrm>
            <a:off x="380880" y="2057400"/>
            <a:ext cx="4470480" cy="3352680"/>
          </a:xfrm>
          <a:prstGeom prst="rect">
            <a:avLst/>
          </a:prstGeom>
          <a:ln w="0">
            <a:noFill/>
          </a:ln>
        </p:spPr>
      </p:pic>
      <p:sp>
        <p:nvSpPr>
          <p:cNvPr id="160" name="CaixaDeTexto 16"/>
          <p:cNvSpPr/>
          <p:nvPr/>
        </p:nvSpPr>
        <p:spPr>
          <a:xfrm>
            <a:off x="685800" y="5410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chão caixa de o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CaixaDeTexto 18"/>
          <p:cNvSpPr/>
          <p:nvPr/>
        </p:nvSpPr>
        <p:spPr>
          <a:xfrm>
            <a:off x="533412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lchão d’águ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CaixaDeTexto 19"/>
          <p:cNvSpPr/>
          <p:nvPr/>
        </p:nvSpPr>
        <p:spPr>
          <a:xfrm>
            <a:off x="556272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lchão inflá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11430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so de almofadas anti-úlceras por press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E840-7423-4D6B-B5D1-643CF73973A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2" descr="http://2.bp.blogspot.com/_HopVoRhiIBk/SoXx-AUq5cI/AAAAAAAAAL0/Z2_SGPUKFPs/s320/zz+almofadas+AE.jpg"/>
          <p:cNvPicPr/>
          <p:nvPr/>
        </p:nvPicPr>
        <p:blipFill>
          <a:blip r:embed="rId1"/>
          <a:stretch/>
        </p:blipFill>
        <p:spPr>
          <a:xfrm>
            <a:off x="1447920" y="1630440"/>
            <a:ext cx="6095880" cy="4686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rtefatos para prevenção de úlcera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6840" y="11426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Uso de protector para o calcanhar e cotovelos. Podem ser improvisados com luva de procedimento cheia de água ou uma almofada feita com algodão e compres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6147-5D81-40A0-8D83-F65A7385CBD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2" descr="http://4.bp.blogspot.com/_HopVoRhiIBk/SoX0km0aGEI/AAAAAAAAAMM/7qws1Il7pKk/s320/zz+calcanheiras.bmp"/>
          <p:cNvPicPr/>
          <p:nvPr/>
        </p:nvPicPr>
        <p:blipFill>
          <a:blip r:embed="rId1"/>
          <a:stretch/>
        </p:blipFill>
        <p:spPr>
          <a:xfrm>
            <a:off x="762120" y="2895480"/>
            <a:ext cx="3446280" cy="3429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2" descr="http://www.fisiostore.com.br/images/product/SALV-09402_298.jpg"/>
          <p:cNvPicPr/>
          <p:nvPr/>
        </p:nvPicPr>
        <p:blipFill>
          <a:blip r:embed="rId2"/>
          <a:stretch/>
        </p:blipFill>
        <p:spPr>
          <a:xfrm>
            <a:off x="4896000" y="28195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6761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Todo serviço que admite utente com risco para formação de úlcera por pressão deve ter um programa de educação do utente, acompanhante e familiar  voltado para prevenção deste agrav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É bem mais fácil prevenir do que tratar a úlcera por press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Quando há o envolvimento de todos a prevenção é mais eficaz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8390-6AAD-482F-BAAD-0D683DB0876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331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bservar diariamente a pele do utente para detectar possíveis áreas comprometidas (áreas de coloração esbranquiçada, manchas roxas ou bolhas) e comunicar ao enferm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dentificadas no início, o problema é resolvido eliminando-se a pressão exercida na pele provocada pelo peso do corpo ao nível da saliência óssea;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Hidratar a pele com creme hidratante: região glútea, face posterior das coxas, pés e artelhos.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vitar massagens nas áreas comprometidas ou com sinais iniciais de úlcera, pois vai causar mais danos que benefício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FA5C-8C26-429A-B822-CEB582A53AF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1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protetores nas áreas de maior risco (proeminências óssea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joelhos devem ser mantidos afastados de contato direto um com o outr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calcanhares também devem ser protegidos com almofadas. Essas almofadas são necessárias não somente na fase preventiva como também no tratamento das escaras já existentes;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 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colchão anti-úlcera que apóiam o corpo de forma suave e uniforme, sem causar pressão excessiva nas áreas mais vulneráveis.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5F5D-8BCD-4510-96EB-36927C86764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ando deitado, o utente deve mudar de posição a, pelo menos, cada duas horas, sendo conveniente registar o horário para evitar esqueci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utores preconizam mudanças de decúbitos de 4 em 4 horas desde que o utente seja mantido em colchão anti-úlcera e haja observação cuidadosa da pele para identificar alterações precoc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Recomenda-se evitar o lado que esteja com áreas comprometidas, ou seja, se o utente tiver uma mancha roxa na região coxofemoral direita, não deve permanecer em decúbito lateral direito; </a:t>
            </a:r>
            <a:r>
              <a:rPr b="1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2A64-511A-4ABC-8200-4BAFCD898EA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Cuidados especiais a ter com idosos doent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341000"/>
            <a:ext cx="8308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uidados de enfermagem a ter nas seguintes patologi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Úlceras por press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olostom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oença de Alzheimer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oença de Parkinson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AVC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âncer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iabetes mellitu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1E2C-8745-4241-AD32-43C774795EE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6840" y="1752480"/>
            <a:ext cx="838188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ando sentado em cadeira de rodas ou poltrona o utente deve usar almofadas para aliviar a press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anter o utente fora do leito sempre que possíve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anter a cama sempre limpa com os lençóis bem esticados, sem dobr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vitar cruzar os membros do utente para não obstruir o fluxo sanguíneo desses segmento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 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xercitar o utente, fazendo movimentos passivos nas articulações das mãos, braços, pés e pern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66BB-5BCE-4AF6-A9A6-660A9700BBF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ão arrastar o utente na cama ou cadei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utente deve ingerir em torno de dois litros de líquidos por d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alimentação deve ser diversificada (colorida), cinco a seis vêzes ao d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e possível proporcionar banho de sol nas primeiras horas da manhã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mbater o cigarro, caso o utente fum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Lavar as mãos com água e sabão ou fricção com álcool glicerinado antes e depois de realizar qualquer cuidado com o utent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663D-172F-4B43-A311-CDDFD21328D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33160" y="190476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m geral, o enfermeiro irá precisar de luvas de procedimento e másca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os casos em que o utente represente risco de contato com secreções, cabe ao enfermeiro o bom senso e adotar outros EPI como  óculos, avental de plástico e barre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ferecer EPI ao acompanhante ou familiar que participe do cuid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051E-0C05-41A9-8E03-C75C8C4BF59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PI necessários aos cuidados de  úlcera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gistos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odas as medidas de prevenção de úlceras por pressão realizadas devem ser registadas no processo do utent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ducação ou orientação do utente, acompanhante ou famili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nspeção de pele com enfoque nas proeminências ósseas e descrição da condição encontr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udança de decúbi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Higiene e hidratação da pel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plicação de almofadas de alív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ngestão hídrica diár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Redução do tabagismo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FC0C-D3D3-4154-AF94-2C7B9F72C59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itura em ca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635280" y="2637000"/>
            <a:ext cx="4176720" cy="10792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ão dos procedimentos básicos de enfermagem páginas 70 a 72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D361-9046-49C6-8E8C-9D8CDBD6347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5" descr="j0296847"/>
          <p:cNvPicPr/>
          <p:nvPr/>
        </p:nvPicPr>
        <p:blipFill>
          <a:blip r:embed="rId1"/>
          <a:stretch/>
        </p:blipFill>
        <p:spPr>
          <a:xfrm>
            <a:off x="900000" y="1989000"/>
            <a:ext cx="2584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DOSO COM COLOSTOMIA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AFDA-16DA-44C5-9E0E-7602D8EE5C7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8000" y="1267920"/>
            <a:ext cx="838188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stoma é uma abertura cirúrgica no abdômen, por onde o conteúdo dos intestinos é expelido e coletado numa bolsa exter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lostomia expõe uma parte do intestino no abdômen que se comunica com o estoma que, por sua vez, dá passagem para a bolsa coletor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42C2-B32F-4661-ABD0-3F06E583A1B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http://www.gastronet.com.br/images/nutricolon.jpg"/>
          <p:cNvPicPr/>
          <p:nvPr/>
        </p:nvPicPr>
        <p:blipFill>
          <a:blip r:embed="rId1"/>
          <a:stretch/>
        </p:blipFill>
        <p:spPr>
          <a:xfrm>
            <a:off x="2556000" y="3645000"/>
            <a:ext cx="4359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uração da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000" y="1557360"/>
            <a:ext cx="83818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lostomia pode ser permanente ou temporária e a consistência das fezes varia de acordo com a porção do intestino que foi exterioriz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as colostomias são identificadas pela porção do cólon que é trazida para fora do estom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6BFF-8D36-4C43-8136-356DC559E59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cendente: o estoma é feito na alça ascendente, no lado direito do abdômen. As fezes têm consistência semi-líqui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nsversa: o estoma é feito no intestino transverso, no lado esquerdo ou direito do abdômen. As fezes têm consistência pastos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cendente: o estoma é feito na alça descendente, no lado esquerdo do abdômen. As fezes têm consistência semi-sóli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igmóide: uma colostomia sigmóide envolve o cólon sigmóide. As fezes são firmes e sólidas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0E79-8E93-4022-BEF4-810093459C9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Realidade do utente colostomiza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a vez que o estoma não pode ser controlado voluntariamente, o paciente precisa de uma bolsa de coleta de fez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pois da cirurgia, um dos maiores problemas para os ostomizados é a adaptação à vida normal, pois o paciente terá que conviver com algumas situações nov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odor, os ruídos, as freqüentes idas a casa de banho e o tratamento da pele à volta do esto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integração social e profissio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frentamento de possíveis constrangimentos durante a atividade sexual.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93B0-7236-4022-BA47-20C3103EEBA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71280" y="2060640"/>
            <a:ext cx="7993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car cuidados de enfermagem a pessoas idosas com ú</a:t>
            </a: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lceras por pressão, colostomia, Doença de Alzheimer, Doença de Parkinson, AVC, câncer e diabetes mellitu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C0DB-8782-45B6-B540-D6DA7814D07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24000" y="2997360"/>
            <a:ext cx="120312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a a boa adaptaçã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62828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uma boa adaptação física, mental, emocional, psicológica, social e profissional, é imprescindível que o utente esteja bem informado e conte com o apoio dos seus familiares e amigos e de profissionais de saúde especializ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es utentes devem participar de grupos e associações de pessoas vivendo com a colostomia, pois receberão apoio mútuo;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BA06-C6AD-4F19-B5DC-39B91906A9E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mplicações precoces da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angramento: pode ocorrer nas primeiras horas após a confecção do estoma; originário de pequenas veias cutâneas do mesentério ou parede abdomi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dema: causado pela infiltração de líquido nos tecidos e mobilização da alça intesti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squemia: deficiência da circulação sanguínea do esto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tração: é a penetração, total ou parcial, da alça intestinal na cavidade abdomi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colamento muco cutâneo: é a ruptura da linha de sutura entre o estoma e a parede abdomi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CE86-5CA4-4E3B-94F2-79A1211CB05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mplicações tardias da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94920" y="1341360"/>
            <a:ext cx="83818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rmatite: é a irritação da pele causada pelo contato com o fluído intesti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enose: diminuição do orifício externo do esto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érnia: é a saída de vísceras abdominais pelo trajeto do estoma, formando um abaulamento em torno do estom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lapso: é a saída parcial ou total da alça intestinal pelo estom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E08C-FD45-421B-813D-3B89208D07A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CaixaDeTexto 5"/>
          <p:cNvSpPr/>
          <p:nvPr/>
        </p:nvSpPr>
        <p:spPr>
          <a:xfrm>
            <a:off x="684360" y="5084640"/>
            <a:ext cx="813564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qualquer sinal de complicação com a colostomia (precoce ou tardia) o enfermeiro deve registar no processo do utente e comunicar ao méd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ão ao utente com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16280"/>
            <a:ext cx="850752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carregar peso excessiv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praticar esportes que exijam muito esforç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o uso de cintos, fivelas ou de outros artigos que possam apertar ou comprimir o estom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alimentos que produzam gases ou odores fort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sumir legumes, frutas e beber muito líqui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stigar bem os ali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056A-04D1-4C75-AFF4-A1CDA785CB8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 utente com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avar a pele ao redor do estoma delicadamente com sabonete líquido neutro, retirando bem o excesso. Pode ser feito no chuv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utilizar esponjas, pois poderá causar traumas e sangramentos, já que o estoma é insensível ao toqu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car com material macio (algodão, toalha), delicadam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pelos devem ser aparados com tesoura. Não usar lâmina, pois pode contribuir para infec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021B-F8E8-445C-8747-4F734AEB5CA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 utente com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000" y="1125360"/>
            <a:ext cx="8381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bservar o estoma regularmente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stoma apresenta-se vermelho vivo, pois é bem vascularizado. Por isso é normal pequeno sangramento durante a higien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ele à sua volta deve estar húmida e lisa (pela presença do muco intestinal), insensível ao toque, sem ferida e coceir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538D-274A-472B-B432-C0EE6F89468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2" descr="http://t0.gstatic.com/images?q=tbn:ANd9GcQp2oQR6Ps_Zd0kQB44hsnj44jOnnuW_5KDaa7DWo73GqRYAVSY_g"/>
          <p:cNvPicPr/>
          <p:nvPr/>
        </p:nvPicPr>
        <p:blipFill>
          <a:blip r:embed="rId1"/>
          <a:stretch/>
        </p:blipFill>
        <p:spPr>
          <a:xfrm>
            <a:off x="3780000" y="4008600"/>
            <a:ext cx="2447640" cy="2417760"/>
          </a:xfrm>
          <a:prstGeom prst="rect">
            <a:avLst/>
          </a:prstGeom>
          <a:ln w="0">
            <a:noFill/>
          </a:ln>
        </p:spPr>
      </p:pic>
      <p:sp>
        <p:nvSpPr>
          <p:cNvPr id="262" name="CaixaDeTexto 6"/>
          <p:cNvSpPr/>
          <p:nvPr/>
        </p:nvSpPr>
        <p:spPr>
          <a:xfrm>
            <a:off x="6372360" y="450864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oma em excelente condi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Bolsas de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142640"/>
            <a:ext cx="838188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ciente recebe informações sobre as bolsas para colostom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4E84-B184-487B-9FA8-2C98144EC5B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4" descr="http://t1.gstatic.com/images?q=tbn:ANd9GcR2WtQsn6rQkzxjfqVLXbQWEw136-NHLoZqfZlik0SPshmKEXDK0w"/>
          <p:cNvPicPr/>
          <p:nvPr/>
        </p:nvPicPr>
        <p:blipFill>
          <a:blip r:embed="rId1"/>
          <a:stretch/>
        </p:blipFill>
        <p:spPr>
          <a:xfrm>
            <a:off x="1149480" y="2133720"/>
            <a:ext cx="6184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com a bolsa coletor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ixar bem o dispositivo ao estoma, impedindo que a fezes entrem em contato com a pele periestoma;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tanto, deixar no mínimo 2 cm de resina sintética entre o estoma e a flange para garantir uma vedação segu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svaziamento da bolsa deve ser realizado sempre que o conteúdo atingir em terço de sua capac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troca deverá ser efetuada quando ocorrer infiltração do conteúdo. Evitar trocas desnecessárias (geralmente o sistema de duas peças tem duração de até sete dias, e o sistema uma peça de três dias);</a:t>
            </a:r>
            <a:br>
              <a:rPr sz="2400"/>
            </a:br>
            <a:br>
              <a:rPr sz="2400"/>
            </a:b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759C-2D8A-44F8-95C2-279FA43FE29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com a bolsa coletor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8000" y="134136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gendar a troca para o horário em que o intestino estiver menos ativo, geralmente no início da manhã (antes do café da manhã), duas a quatro horas após as refeições e antes de dormi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tirar a placa com gaze ou compressa humedecida com água morna ou embaixo do chuveir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gurar a pele para evitas trauma na retirada na base ades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avar as mãos antes e após o proced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805C-A7EF-4FBD-97BB-2025642B511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lostomia e o utente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23640" y="981000"/>
            <a:ext cx="8381880" cy="32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guns idosos poderão apresentar boas condições gerais para cuidar da colostomia. Aqueles com limitações visuais, táteis, cognitivas precisam de cuidador e este deve ser treinado pelo enferm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nfermeiro convoca um familiar ou cuidador para observar uma troca de bolsa coletora e oferece todas as informações que possam auxiliar no cuidado diário da colostom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12CC-4A2B-4A5A-9E2C-CBFC3C9C93D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http://t3.gstatic.com/images?q=tbn:ANd9GcTGImwHQdG0CIOfTcsYmdLC0IRnkGcxGf97ZK-g9ALKwzigxTj8"/>
          <p:cNvPicPr/>
          <p:nvPr/>
        </p:nvPicPr>
        <p:blipFill>
          <a:blip r:embed="rId1"/>
          <a:stretch/>
        </p:blipFill>
        <p:spPr>
          <a:xfrm>
            <a:off x="2484360" y="4076640"/>
            <a:ext cx="3043440" cy="2279880"/>
          </a:xfrm>
          <a:prstGeom prst="rect">
            <a:avLst/>
          </a:prstGeom>
          <a:ln w="0">
            <a:noFill/>
          </a:ln>
        </p:spPr>
      </p:pic>
      <p:sp>
        <p:nvSpPr>
          <p:cNvPr id="281" name="CaixaDeTexto 6"/>
          <p:cNvSpPr/>
          <p:nvPr/>
        </p:nvSpPr>
        <p:spPr>
          <a:xfrm>
            <a:off x="5580000" y="472428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miliar realizando os cuidados na utente com colostom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3640" y="1915920"/>
            <a:ext cx="853740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pele deve ser limpa no momento que sujar para minimizar a exposição à humidade devido a incontinência urinária, fecal, perspiração ou drenagem de feri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ando essas fontes de humidade não podem ser controladas, usar fraldas descartáveis ou forros feitos de materiais que absorvam a humidade e que mantenham seca a superfície em contato com a pel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89B0-D9F1-4B51-842A-4DACAA65F0C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DOENÇA DE ALZHEIMER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06DE-E2B1-42C8-A034-650F22439C2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Cuidados de Enfermagem ao idoso com Doença de Alzheime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objetivos do cuidado de enfermagem ao idoso com Doença de Alzheimer (DA) s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venir complicações advindas do comprometimento funcional e cognitivo d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iviar o sofrimento do utente e de sua família por meio de uma interação colaborativa, com reciprocidade, ausência de hierarquia, investigação sobre o conhecimento que a família tem sobre o manejo da doença e a identificação dos recursos internos e externos de que dispõe o cuidador/familiar, traçando um perfil de sua vulnerabilidade ao adoeci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18D3-FB1B-414F-92F2-CFC8C9003A9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Cuidados de Enfermagem ao idoso com Doença de Alzheime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mover o aprendizado de familiares sobre aspectos básicos da doença para que lidem adequadamente com 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ribuir para prevenção do agravamento da intensidade da doe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parar cuidadores para lidar com utentes portadores da 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7AA5-6324-4874-AB82-23427F9AE71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inicial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geral, o utente e familiar relatam desorientação temporal e espacial, perda de memória e das funções executivas, dificuldade de tomar decisões e planificar suas AVD. É importante orientar a família/idoso quanto à necessidade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estímulos para resgatar informações esquecidas, procurando estabelecer rotinas e atividades repetitivas, preservando a capacidade do utente e mantendo a independência pelo maior tempo possíve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C4B5-8DCE-41DE-A484-AE2191A6C5C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inicial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39640" y="1628640"/>
            <a:ext cx="8382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valiar as atividades do utente que precisam ser restringidas ou modificadas, considerando o grau de risco que elas podem oferecer à manutenção da integridade física e psíquica do ut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artir desta avaliação, é possível planificar atividades diárias de acordo com as habilidades do indivíduo e de sua capacidade em eleger estratégias compensatóri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6241-47E3-4960-B081-F3FD1108585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inicial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isponibilizar relógios e calendários pelo ambiente doméstico e utilizar cadernetas de anotações são estratégias que estimulam a orientação temporal do utente e seu comprometimento da memória para fatos rec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329D-6C88-4E94-B5DE-F46B0DBF63D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6" name="Picture 8" descr="http://t1.gstatic.com/images?q=tbn:ANd9GcSOQM5OhPiLgCRK0Hr4PKiFPCeYQD1AXyMGrBaXdRiVn-J-eksv"/>
          <p:cNvPicPr/>
          <p:nvPr/>
        </p:nvPicPr>
        <p:blipFill>
          <a:blip r:embed="rId1"/>
          <a:stretch/>
        </p:blipFill>
        <p:spPr>
          <a:xfrm>
            <a:off x="324000" y="3357720"/>
            <a:ext cx="3311280" cy="2735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http://t0.gstatic.com/images?q=tbn:ANd9GcRBBYsLPcKs09y96L246tyery71Xh3tezjDcUteB9p_X3W4mPh0"/>
          <p:cNvPicPr/>
          <p:nvPr/>
        </p:nvPicPr>
        <p:blipFill>
          <a:blip r:embed="rId2"/>
          <a:stretch/>
        </p:blipFill>
        <p:spPr>
          <a:xfrm>
            <a:off x="3419640" y="3645000"/>
            <a:ext cx="2143080" cy="2133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2" descr="http://t0.gstatic.com/images?q=tbn:ANd9GcT1ARwywOn1fygQ8WA1wMhv1Bftn3deD8wHYqHNzHFC8IH240tF"/>
          <p:cNvPicPr/>
          <p:nvPr/>
        </p:nvPicPr>
        <p:blipFill>
          <a:blip r:embed="rId3"/>
          <a:stretch/>
        </p:blipFill>
        <p:spPr>
          <a:xfrm>
            <a:off x="5724360" y="3284640"/>
            <a:ext cx="31356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moderada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racterizada pela crescente perda de memória, confusão, atenção reduzida e início de déficits motores, aumentando-se o risco para que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sim, é necessário que o enfermeiro direcione suas ações à organização de um ambiente seguro, orientando à família para retirar mobílias dos espaços de maior trânsito do utente, manter móveis e objetos sempre no mesmo lugar, evitar tapetes, escadas, proporcionar luminosidade constante aos ambientes e corredores da cas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DDE4-D897-40F0-B674-5E565B21847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moderada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arras de apoio podem ser necessárias em alguns lugares como casa de banho, quartos e arredores das esca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sa fase, geralmente acentuam-se as alterações de humor e comportamento, nas quais o utente pode expressar idéias fixas que não são reais, podendo ver e ouvir coisas inexistentes e apresentar indiscrições sexu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importante que a família tenha conhecimento de que evitar conflitos com o utente diante de comportamentos estranhos ameniza sua intens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CBB5-7BA6-4C1C-A761-5E959D80259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moderada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2060280"/>
            <a:ext cx="83818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habilidade de julgamento do indivíduo está comprometida e, portanto, ainda que o cuidador/familiar tente convencê-lo a cerca da veracidade de uma dada situação, este não será capaz de apreendê-la, o que torna a discussão inútil e  estressante para amb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F988-D383-46BF-B118-168D759C1B3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didas de ambiente segu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FD1B-5315-44B5-8365-9C492BA3595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10" descr="http://t0.gstatic.com/images?q=tbn:ANd9GcTKHor3ZD08uVsKuesiEQ26ClH8z0Jl_Eq3lTA9IWbNoYMTcYhw"/>
          <p:cNvPicPr/>
          <p:nvPr/>
        </p:nvPicPr>
        <p:blipFill>
          <a:blip r:embed="rId1"/>
          <a:stretch/>
        </p:blipFill>
        <p:spPr>
          <a:xfrm>
            <a:off x="6012000" y="1341360"/>
            <a:ext cx="2927160" cy="1739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http://t1.gstatic.com/images?q=tbn:ANd9GcTGIfrRFd7j8r2WWwDwErjhKyORLJjLpERQxIgh-_EpfXK0LB6haQ"/>
          <p:cNvPicPr/>
          <p:nvPr/>
        </p:nvPicPr>
        <p:blipFill>
          <a:blip r:embed="rId2"/>
          <a:stretch/>
        </p:blipFill>
        <p:spPr>
          <a:xfrm>
            <a:off x="4140360" y="1628640"/>
            <a:ext cx="1839600" cy="4104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http://t0.gstatic.com/images?q=tbn:ANd9GcQuZ6Bp1LFjv70RXw5sB2migrcaJx35kMyR1OgddycXLS_JY5R9"/>
          <p:cNvPicPr/>
          <p:nvPr/>
        </p:nvPicPr>
        <p:blipFill>
          <a:blip r:embed="rId3"/>
          <a:stretch/>
        </p:blipFill>
        <p:spPr>
          <a:xfrm>
            <a:off x="539640" y="2205000"/>
            <a:ext cx="3390840" cy="2160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http://t1.gstatic.com/images?q=tbn:ANd9GcSf3VOIvQGRk98GN01glLFPVr6v6E4mEz3K0MvUgi8qsSpfBGhLSg"/>
          <p:cNvPicPr/>
          <p:nvPr/>
        </p:nvPicPr>
        <p:blipFill>
          <a:blip r:embed="rId4"/>
          <a:stretch/>
        </p:blipFill>
        <p:spPr>
          <a:xfrm>
            <a:off x="6218280" y="4581360"/>
            <a:ext cx="2749680" cy="1122480"/>
          </a:xfrm>
          <a:prstGeom prst="rect">
            <a:avLst/>
          </a:prstGeom>
          <a:ln w="0">
            <a:noFill/>
          </a:ln>
        </p:spPr>
      </p:pic>
      <p:sp>
        <p:nvSpPr>
          <p:cNvPr id="328" name="CaixaDeTexto 9"/>
          <p:cNvSpPr/>
          <p:nvPr/>
        </p:nvSpPr>
        <p:spPr>
          <a:xfrm>
            <a:off x="6227640" y="3213000"/>
            <a:ext cx="27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mover tapetes soltos, fios e outros objetos espalhados na casa do ido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000" y="1916280"/>
            <a:ext cx="838188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gentes tópicos que agem como barreira para humidade como cremes, películas protetoras ou óleos também podem ser us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freqüência de limpeza da pele deve ser individualizada de acordo com a necessidade do ut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vitar friccionar a pele ou aplicar movimento brusco que venha a causar qualquer tipo de traum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A2A8-BAC8-49B7-9E7D-127CF70B557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didas de ambiente segu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8000" y="1125360"/>
            <a:ext cx="838188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acessibilidade é um direito do ido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C448-EC22-463A-93BA-652587A55A0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2" descr="http://t1.gstatic.com/images?q=tbn:ANd9GcQ4Z7m8gYpUiI3e2kiR18GDe-fqJ0DmDC4Yv-0elf7Jm0ieNfc8"/>
          <p:cNvPicPr/>
          <p:nvPr/>
        </p:nvPicPr>
        <p:blipFill>
          <a:blip r:embed="rId1"/>
          <a:stretch/>
        </p:blipFill>
        <p:spPr>
          <a:xfrm>
            <a:off x="684360" y="1844640"/>
            <a:ext cx="2592360" cy="2674800"/>
          </a:xfrm>
          <a:prstGeom prst="rect">
            <a:avLst/>
          </a:prstGeom>
          <a:ln w="0">
            <a:noFill/>
          </a:ln>
        </p:spPr>
      </p:pic>
      <p:sp>
        <p:nvSpPr>
          <p:cNvPr id="334" name="CaixaDeTexto 6"/>
          <p:cNvSpPr/>
          <p:nvPr/>
        </p:nvSpPr>
        <p:spPr>
          <a:xfrm>
            <a:off x="395280" y="458136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lives com barras laterais de apo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4" descr="http://t1.gstatic.com/images?q=tbn:ANd9GcRztsY1EDr0mYUOND_jjZ92KRYlygROOs2Xh6DXerDGa5gjV5ow"/>
          <p:cNvPicPr/>
          <p:nvPr/>
        </p:nvPicPr>
        <p:blipFill>
          <a:blip r:embed="rId2"/>
          <a:stretch/>
        </p:blipFill>
        <p:spPr>
          <a:xfrm>
            <a:off x="3708360" y="1773360"/>
            <a:ext cx="2016000" cy="2800080"/>
          </a:xfrm>
          <a:prstGeom prst="rect">
            <a:avLst/>
          </a:prstGeom>
          <a:ln w="0">
            <a:noFill/>
          </a:ln>
        </p:spPr>
      </p:pic>
      <p:sp>
        <p:nvSpPr>
          <p:cNvPr id="336" name="CaixaDeTexto 8"/>
          <p:cNvSpPr/>
          <p:nvPr/>
        </p:nvSpPr>
        <p:spPr>
          <a:xfrm>
            <a:off x="3419640" y="422100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oios nas casas de banho e pisos antiderrapa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Picture 8" descr="http://t0.gstatic.com/images?q=tbn:ANd9GcTMqBJrVM-nk-qkRbnbmWka0YtL5BpYP2lNoxHgWe-OqhuLzRia"/>
          <p:cNvPicPr/>
          <p:nvPr/>
        </p:nvPicPr>
        <p:blipFill>
          <a:blip r:embed="rId3"/>
          <a:stretch/>
        </p:blipFill>
        <p:spPr>
          <a:xfrm>
            <a:off x="6372360" y="1773360"/>
            <a:ext cx="2447640" cy="2570040"/>
          </a:xfrm>
          <a:prstGeom prst="rect">
            <a:avLst/>
          </a:prstGeom>
          <a:ln w="0">
            <a:noFill/>
          </a:ln>
        </p:spPr>
      </p:pic>
      <p:sp>
        <p:nvSpPr>
          <p:cNvPr id="338" name="CaixaDeTexto 12"/>
          <p:cNvSpPr/>
          <p:nvPr/>
        </p:nvSpPr>
        <p:spPr>
          <a:xfrm>
            <a:off x="6372360" y="45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oios nas sani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moderada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23640" y="1341000"/>
            <a:ext cx="85150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família precisa ser orientada quanto à possibilidade de intervenções farmacológicas e não-farmacológicas no controle das alterações de comportam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ficuldade em lidar com as oscilações de humor do utente contribui fortemente para o desenvolvimento da sobrecarga emocional do cuidador/familiar. Desta forma, é imprescindível que o enfermeiro esteja atento à identificação de sinais de sofrimento e exaustão física e psíquica no familiar responsável pelo cuidado.</a:t>
            </a:r>
            <a:br>
              <a:rPr sz="2000"/>
            </a:b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B4F4-291D-4866-A416-2AB7989FB39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moderada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24000" y="1197000"/>
            <a:ext cx="8640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rvenções farmacológicas: compete ao enfermeiro administrar medicamentos; orientar o familiar/cuidador sobre o uso correto dos mesm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rvenções não-farmacológicas: compete ao enfermeir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alizar ou encaminhar o utente para actividade de estimulação sensorial (técnicas de relaxamento, massagem, música, dança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imular encontro do utente com pessoas significativas; companhia de animais de estim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cação de fatores que alteram o comportamento d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1B6A-CD51-445A-AD09-4967453FE9A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grave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000" y="1267920"/>
            <a:ext cx="8381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utente torna-se incapaz de reconhecer a si e a sua família e sua dependência é glob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resenta dificuldade em se expressar, entender o que acontece a sua volta, alimentar-se, caminhar até evoluir para imobilidade física completa e perda do controle esfincterian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necessária avaliação constante da condição física do utente, com atenção especial para sinais de desidratação e desnutrição, que comprometem sua competência imunológica e manutenção da integridade da pele, tornando-o vulnerável a infecções e lesões cutâneas potencializadas pela imobilidade fís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8D25-C9FE-47D2-9E9E-4007718E600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grave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uidador/familiar deve ser orientado quanto aos cuidados com a alimentação do utente, prevenção de complicações respiratórias, urinárias, e desenvolvimento de úlceras por press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gumas adaptações no espaço físico podem ser necessárias para facilitar o cuidado sem prejudicar a rotina habitual do familiar. Estas orientações e mudanças no meio devem ser oferecidas ao familiar responsável pelo cuidado e construídas com ele, considerando a disponibilidade real de seus recursos externos (físicos, humanos e financeiros) e internos (disposição física e emocional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BD26-1AF9-468D-B7E7-69441813837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grave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ante do aumento da intensidade das demandas físicas para manter o cuidado do utente, o familiar pode se encontrar em uma situação de esgotamento, na qual seus recursos internos de enfrentamento estão comprometi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te momento, é imprescindível avaliação freqüente da condição física e emocional do cuidador/familiar, do estresse e da capacidade de adaptação à situação, com o objetivo de elaborar estratégias de suporte e apoio a sua condição física e emo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9E76-03E0-4FC2-AD52-E72D36AAB70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6840" y="1295280"/>
            <a:ext cx="8381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anos causados pela fricção também podem ser reduzidos pelo uso de lubrificantes (como cremes e óleos), películas protetoras (como curativos transparentes e selantes para a pele ) e curativos protetores (como hidrocolóides extra-fino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9F02-3CC3-44DF-8B39-FE81661179A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2" descr="http://t2.gstatic.com/images?q=tbn:ANd9GcRY49AjP2cvklzwgYvglqWjtUVss-wppfAEU1AhasHJs9FLeiv01Q"/>
          <p:cNvPicPr/>
          <p:nvPr/>
        </p:nvPicPr>
        <p:blipFill>
          <a:blip r:embed="rId1"/>
          <a:stretch/>
        </p:blipFill>
        <p:spPr>
          <a:xfrm>
            <a:off x="457200" y="328608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15" name="CaixaDeTexto 7"/>
          <p:cNvSpPr/>
          <p:nvPr/>
        </p:nvSpPr>
        <p:spPr>
          <a:xfrm>
            <a:off x="457200" y="5410080"/>
            <a:ext cx="243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remes e óleos a base de Ácido Graxo Essencial (AG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http://t0.gstatic.com/images?q=tbn:ANd9GcRhVZqJKN8X396VusR3SML0_RwSr8-1hUFys4wXTRM5ayGyjeiP"/>
          <p:cNvPicPr/>
          <p:nvPr/>
        </p:nvPicPr>
        <p:blipFill>
          <a:blip r:embed="rId2"/>
          <a:stretch/>
        </p:blipFill>
        <p:spPr>
          <a:xfrm>
            <a:off x="3200400" y="34290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9"/>
          <p:cNvSpPr/>
          <p:nvPr/>
        </p:nvSpPr>
        <p:spPr>
          <a:xfrm>
            <a:off x="3276720" y="56386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lme transpar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CaixaDeTexto 10"/>
          <p:cNvSpPr/>
          <p:nvPr/>
        </p:nvSpPr>
        <p:spPr>
          <a:xfrm>
            <a:off x="6477120" y="5257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Hidrocoló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6" descr="http://www.lojadocurativo.com.br/produtos/foto1/pequena/797.jpg"/>
          <p:cNvPicPr/>
          <p:nvPr/>
        </p:nvPicPr>
        <p:blipFill>
          <a:blip r:embed="rId3"/>
          <a:stretch/>
        </p:blipFill>
        <p:spPr>
          <a:xfrm>
            <a:off x="6324480" y="3276720"/>
            <a:ext cx="19306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1426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tente em uso de filme transparente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6497-5AD6-4545-A286-499CFECEDCC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" descr="http://www.proac.uff.br/esai2/sites/default/files/enfermagem_5.jpg"/>
          <p:cNvPicPr/>
          <p:nvPr/>
        </p:nvPicPr>
        <p:blipFill>
          <a:blip r:embed="rId1"/>
          <a:stretch/>
        </p:blipFill>
        <p:spPr>
          <a:xfrm>
            <a:off x="380880" y="2057400"/>
            <a:ext cx="3886200" cy="34448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Picture 4" descr="http://www.proac.uff.br/esai2/sites/default/files/enfermagem_6.jpg"/>
          <p:cNvPicPr/>
          <p:nvPr/>
        </p:nvPicPr>
        <p:blipFill>
          <a:blip r:embed="rId2"/>
          <a:stretch/>
        </p:blipFill>
        <p:spPr>
          <a:xfrm>
            <a:off x="4495680" y="2971800"/>
            <a:ext cx="4484880" cy="2895480"/>
          </a:xfrm>
          <a:prstGeom prst="rect">
            <a:avLst/>
          </a:prstGeom>
          <a:ln w="0">
            <a:noFill/>
          </a:ln>
        </p:spPr>
      </p:pic>
      <p:sp>
        <p:nvSpPr>
          <p:cNvPr id="126" name="Espaço Reservado para Conteúdo 2"/>
          <p:cNvSpPr/>
          <p:nvPr/>
        </p:nvSpPr>
        <p:spPr>
          <a:xfrm>
            <a:off x="4876920" y="2209680"/>
            <a:ext cx="373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  <a:ea typeface="Arial"/>
              </a:rPr>
              <a:t>Utente em uso de hidrocoló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5D2F-1B8E-456E-8E90-D5BB86AE593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dutos utilizados em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295280"/>
          <a:ext cx="8763120" cy="5353200"/>
        </p:xfrm>
        <a:graphic>
          <a:graphicData uri="http://schemas.openxmlformats.org/drawingml/2006/table">
            <a:tbl>
              <a:tblPr/>
              <a:tblGrid>
                <a:gridCol w="1407960"/>
                <a:gridCol w="2478240"/>
                <a:gridCol w="2666880"/>
                <a:gridCol w="2210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o de us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tem o leito da ferida húmido e acelera o processo de granulaçã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ões abertas não infectadas e profilaxia de úlceras por pres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licar utilizando uma compressa embebida. Trocar a cada 12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me transpa-r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tém o leito da ferida húmido e apresenta permeabilidade seletiv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bertura de incisões cirúrgicas; prevenção de úlceras por pressão e fixação de catéter vascul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erir sobre a área. Troca em média a cada sete dias ou quando suj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droco-ló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reira protetora, isolamento térmico, meio húmido, promove desbridamento autolítico, granulação e epiteliz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ridas limpas, prevenção de úlcera por pressão,</a:t>
                      </a:r>
                      <a:br>
                        <a:rPr sz="1800"/>
                      </a:b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imadura de segundo grau, suturas cirúrgicas e feridas cavitár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erir sobre a área. Troca com a saturação do produto em média no 5º ou 6º 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28600" y="121932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Lesões da pele devido a fricção e força de cisalhamento (arrastão) devem ser minimizadas através do posicionamento adequado para transferência e mudança de decúbito d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c3c77"/>
                </a:solidFill>
                <a:latin typeface="Verdana"/>
              </a:rPr>
              <a:t>Recomenda-se que os utentes não sejam "arrastados" durante a movimentação, mas que sejam "erguidos" utilizando-se o lençol móvel 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C780-0AAC-4902-8A3A-8C4071DA6E2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2" descr="http://3.bp.blogspot.com/_ovvF2ZTWNI8/S6ZQk1U3khI/AAAAAAAAAN0/pFGwh9uZXsQ/s320/tracado+para+mudar+de+decubito.jpg"/>
          <p:cNvPicPr/>
          <p:nvPr/>
        </p:nvPicPr>
        <p:blipFill>
          <a:blip r:embed="rId1"/>
          <a:stretch/>
        </p:blipFill>
        <p:spPr>
          <a:xfrm>
            <a:off x="4842000" y="1828800"/>
            <a:ext cx="4157640" cy="3733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23:00:54Z</dcterms:created>
  <dc:creator>Escolastica</dc:creator>
  <dc:description/>
  <dc:language>en-US</dc:language>
  <cp:lastModifiedBy>Mendoza</cp:lastModifiedBy>
  <dcterms:modified xsi:type="dcterms:W3CDTF">2012-01-31T14:39:08Z</dcterms:modified>
  <cp:revision>104</cp:revision>
  <dc:subject/>
  <dc:title>Cuidados especiais a ter com idosos doentes</dc:title>
</cp:coreProperties>
</file>