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6.png" ContentType="image/png"/>
  <Override PartName="/ppt/media/image3.gif" ContentType="image/gi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gif" ContentType="image/gif"/>
  <Override PartName="/ppt/media/image18.jpeg" ContentType="image/jpeg"/>
  <Override PartName="/ppt/media/image7.png" ContentType="image/png"/>
  <Override PartName="/ppt/media/image17.jpeg" ContentType="image/jpeg"/>
  <Override PartName="/ppt/media/image1.wmf" ContentType="image/x-wmf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4A52E-05B7-42AB-A416-6667952BCBE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0EC48-5B52-4F8E-9BAB-03238F5C6CB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B5D80-3DC8-47B8-9BF5-1AC880849A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53854-780D-4590-B07E-6AA81DE84E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60B9A-7887-43B1-9186-EF277BF898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C323A-856C-42C2-836E-EA740268C0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20A4D-7D1D-442F-B432-9A1FC43978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3EEB0-978B-4DC5-B2D9-6C31548D7E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5C7F3-E4B2-4F51-8B0D-ECC858A498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A26FF-2E0B-4A30-AB8B-E32C5D2981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F853D-023D-4688-9CBF-59C5C128AC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6D247-4110-46F7-9B2F-6317232D34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9D132-4C90-4794-A9D0-6DFB85D04C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B414C-CDE5-4968-B102-76F01B232A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6EA36-40C4-4B19-B30D-2D6D79B94DF9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3"/>
          <p:cNvSpPr/>
          <p:nvPr/>
        </p:nvSpPr>
        <p:spPr>
          <a:xfrm>
            <a:off x="826920" y="198900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7"/>
          <p:cNvSpPr/>
          <p:nvPr/>
        </p:nvSpPr>
        <p:spPr>
          <a:xfrm>
            <a:off x="2971800" y="1676520"/>
            <a:ext cx="5029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Times New Roman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03280" y="2133720"/>
            <a:ext cx="65534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Levantamento de necessidades do idoso: peculiaridades do exame físico (Aula 2)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99640" y="4652640"/>
            <a:ext cx="754380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Verdana"/>
              </a:rPr>
              <a:t>Módulo 11: Prática de Enfermagem IV -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Verdana"/>
              </a:rPr>
              <a:t>Enfermagem em Saúde Mental e Enfermagem Geriátrica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2" name="Espaço Reservado para Rodapé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Resposta sexual masculin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esejo sexual: Ocorre diminuição de testosterona, de dopamina (neurotransmissor importante na resposta sexual) e um aumento de prolactina que bloqueia o desejo sexual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xcitação: As áreas erógenas ficam concentradas nos genitais externos, a ereção é menos rígida e o tempo para ter uma ereção é mais longo; após o orgasmo para repeti-la é quase impossível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rgasmo: Há diminuição do volume e do jato do esperma. Pode perder a sensação da vinda do orgasmo, ou seja, pode “gozar” sem sentir e não consegue segurar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006DF-9161-495B-B282-35196D187253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Resposta sexual feminin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68000" y="1197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s mudanças sexuais são mais lentas e progressivas pela diminuição na produção de hormônios femininos. Efetivamente, a resposta sexual sofre alterações, mas não desaparece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esejo: mitos levam a mulher a pensar que não precisa mais ter sexo e afasta-se do parceiro. Pela diminuição da testosterona diminui a libid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xcitação: as áreas erógenas também se concentram na região genital. A lubrificação da vagina diminui e a mucosa interna afina e resseca; ocorre enfraquecimento da musculatura perineal devido a um processo gradual de atrofia. </a:t>
            </a:r>
            <a:br>
              <a:rPr sz="2400"/>
            </a:b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EB487-8321-40DA-9577-5A4D28A038E0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Resposta sexual feminin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95280" y="1483920"/>
            <a:ext cx="439272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Verdana"/>
              </a:rPr>
              <a:t>Continuação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as mamas há diminuição do tecido glandular que é substituído por tecido gorduroso que mais tarde desaparece e estas ficam flácida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rgasmo: o número de contrações orgásticas são menores, mudando a sua sensaçã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6AC9B-C5E7-4363-85BE-BE687D22EFBC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rg_hi" descr="http://t1.gstatic.com/images?q=tbn:ANd9GcSyvUJO_UtcpJry5lMTRcxylxAVV1Y6-bWioIgLLJblepiUPGlG"/>
          <p:cNvPicPr/>
          <p:nvPr/>
        </p:nvPicPr>
        <p:blipFill>
          <a:blip r:embed="rId1"/>
          <a:stretch/>
        </p:blipFill>
        <p:spPr>
          <a:xfrm>
            <a:off x="4932360" y="1125360"/>
            <a:ext cx="406728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1039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ntudo, não há limite de idade para o namor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863B4-AB5B-4D81-A940-AAA829AEC5F6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" name="Picture 2" descr="http://t3.gstatic.com/images?q=tbn:ANd9GcSZQMzrBlGFtKE1qf2U0R5OSZJqnQcYA6l6Jbph-mo_1IBTgSwj"/>
          <p:cNvPicPr/>
          <p:nvPr/>
        </p:nvPicPr>
        <p:blipFill>
          <a:blip r:embed="rId1"/>
          <a:stretch/>
        </p:blipFill>
        <p:spPr>
          <a:xfrm>
            <a:off x="1763640" y="4076640"/>
            <a:ext cx="2737080" cy="23526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http://t2.gstatic.com/images?q=tbn:ANd9GcT2-2aLpg8bWeObdTQLwMWVhm4fdvrXdYNKdbus4h7p0kC765HWKQ"/>
          <p:cNvPicPr/>
          <p:nvPr/>
        </p:nvPicPr>
        <p:blipFill>
          <a:blip r:embed="rId2"/>
          <a:stretch/>
        </p:blipFill>
        <p:spPr>
          <a:xfrm>
            <a:off x="5292720" y="1413000"/>
            <a:ext cx="3146400" cy="2520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http://2.bp.blogspot.com/_w-23NxdlAU8/TKE4GnT23XI/AAAAAAAAAAY/KKwylvTfsIw/s1600/namorados_idosos.jpg"/>
          <p:cNvPicPr/>
          <p:nvPr/>
        </p:nvPicPr>
        <p:blipFill>
          <a:blip r:embed="rId3"/>
          <a:stretch/>
        </p:blipFill>
        <p:spPr>
          <a:xfrm>
            <a:off x="4716360" y="4076640"/>
            <a:ext cx="4211640" cy="21621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8"/>
          <p:cNvSpPr/>
          <p:nvPr/>
        </p:nvSpPr>
        <p:spPr>
          <a:xfrm>
            <a:off x="63360" y="-1147680"/>
            <a:ext cx="1933560" cy="23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AutoShape 10"/>
          <p:cNvSpPr/>
          <p:nvPr/>
        </p:nvSpPr>
        <p:spPr>
          <a:xfrm>
            <a:off x="63360" y="-1147680"/>
            <a:ext cx="1933560" cy="23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Picture 2" descr="http://t2.gstatic.com/images?q=tbn:ANd9GcQTCtHmc1OORGK4da5vdiT3GmsjoJGE7eEqPeZhhr_MhxMQ6xHX"/>
          <p:cNvPicPr/>
          <p:nvPr/>
        </p:nvPicPr>
        <p:blipFill>
          <a:blip r:embed="rId4"/>
          <a:stretch/>
        </p:blipFill>
        <p:spPr>
          <a:xfrm>
            <a:off x="971640" y="1413000"/>
            <a:ext cx="413388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e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envelhecimento cutâneo é evidenciado pela diminuição das secreções endócrinas e estreitamento das arteríolas cutâneas, afetando as reações enzimáticas do tecido conjuntivo e estruturas epiteliais, interferindo com a nutrição tissular e com o metabolismo do colágeno (elástico dos vasos, do tecido adiposo e dos músculos)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m a perda da elasticidade, os músculos enfraquecem e ficam frouxos, o coxim subcutâneo dissolve-se e a pele perde o apoio formando as rugas. O tempo e a intensidade das rugas variam de pessoa para pessoa.</a:t>
            </a:r>
            <a:br>
              <a:rPr sz="2400"/>
            </a:b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7A145-394E-43BC-827A-33C183886426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e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68000" y="1557360"/>
            <a:ext cx="4319640" cy="43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Manchas senis: com a idade, há uma progressiva redução do número de melanócitos da pele com conseqüente formação de manchas hipocrômica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ão mais visíveis nas pessoas de pele clar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16BBF-5868-4987-9961-0E3ABBD6C3EA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8" name="Picture 2" descr="http://t2.gstatic.com/images?q=tbn:ANd9GcTUvao4sk2gHKRPQNCHBuwAeBx9FczwBAhs6ih6oldrMJJdFW25"/>
          <p:cNvPicPr/>
          <p:nvPr/>
        </p:nvPicPr>
        <p:blipFill>
          <a:blip r:embed="rId1"/>
          <a:stretch/>
        </p:blipFill>
        <p:spPr>
          <a:xfrm>
            <a:off x="5003640" y="2178000"/>
            <a:ext cx="396108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e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6840" y="1413000"/>
            <a:ext cx="476244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ardas (pequenas manchas castanhas) que surgem no rosto e no corpo de certos idosos, sobretudo nos de pele clara, devido ao aumento da deposição de melanin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urgem também melanoses (pigmentos pretos),  pelo depósito abundante de melanin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8F57D-3E5C-4959-AAC4-57D69E2575D4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3" name="Picture 2" descr="http://dream.santegidio.org/UserFiles/image/news/2008/200811/20081201_Storia_Joana_4%20(Small).jpg"/>
          <p:cNvPicPr/>
          <p:nvPr/>
        </p:nvPicPr>
        <p:blipFill>
          <a:blip r:embed="rId1"/>
          <a:stretch/>
        </p:blipFill>
        <p:spPr>
          <a:xfrm>
            <a:off x="5651640" y="1484280"/>
            <a:ext cx="3241440" cy="43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46784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êlos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23640" y="112536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s alterações mais frequentes são o embranquecimento e a qued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embranquecimento inicia-se em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dade que depende da raça e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hereditariedade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s cabelos ficam brancos porque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698400" indent="-268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s melanócitos, localizados junto ao bulbo capilar, na raiz dos fios, perde a capacidade de produzir melanina. Esse pigmento é o responsável pela coloração natural do cabel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cabelo branco, por si só, não é expressão de pré-senescência, podendo estar presente em indivíduos de pouca idad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3352A-3E35-40B1-B6DF-E1B914E3CBC5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8" name="Picture 2" descr="http://t0.gstatic.com/images?q=tbn:ANd9GcTmsbVgQNfRhAIJDAvQwgv10ume3CVnUDD6dgntw7UzyKUKa4-l"/>
          <p:cNvPicPr/>
          <p:nvPr/>
        </p:nvPicPr>
        <p:blipFill>
          <a:blip r:embed="rId1"/>
          <a:stretch/>
        </p:blipFill>
        <p:spPr>
          <a:xfrm>
            <a:off x="6443640" y="907920"/>
            <a:ext cx="252108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êl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queda de cabelo se processa de maneira difusa e há uma mudança gradual na espessura. Primeiro diminuem os pêlos corporais, seguidos dos pêlos do púbis e das axila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cima dos 60 anos, grande parte das mulheres não tem pêlos axilares e apresentam declínio acentuado dos pubian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s pêlos das pernas também diminuem, em número e volume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aradoxalmente, aparecem pêlos terminais faciais, com aumento da espessura e comprimento devido a fatores hormonai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BA3EC-1B54-4624-9177-EBA012ECF728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istema imunológic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6840" y="1484280"/>
            <a:ext cx="83818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s alterações decorrentes do processo fisiológico do envelhecimento terão repercussão nos mecanismos homeostáticos do idoso e em sua resposta orgânica, diminuindo sua capacidade de reserva, de defesa e de adaptação, o que o torna mais vulnerável a quaisquer estímulos (traumático, infeccioso ou psicológico)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essa forma, as doenças podem ser desencadeadas mais facilmente e serem mais duradouras e severa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60C1B-9C4E-490F-AA0B-4D17468F881D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15640" y="228600"/>
            <a:ext cx="77230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Levantamento de necessidades d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8360" y="1341000"/>
            <a:ext cx="83088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Peculiaridades do exame físico e dos sinais vitais no idos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607F1-A61B-4E56-83C2-2FA9E4E60086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2" descr="http://www.yesacademia.com.br/imagem/jpg19.jpg"/>
          <p:cNvPicPr/>
          <p:nvPr/>
        </p:nvPicPr>
        <p:blipFill>
          <a:blip r:embed="rId1"/>
          <a:stretch/>
        </p:blipFill>
        <p:spPr>
          <a:xfrm>
            <a:off x="2987640" y="2060640"/>
            <a:ext cx="35290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inais Vitais em idos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23640" y="1413000"/>
            <a:ext cx="85978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Temperatura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Há uma deterioração dos mecanismos de regulação da temperatura dos idosos devido a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Menor quantidade do tecido subcutâneo,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Baixa atividade da glândula sudorípara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iminuição do metabolism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or isso, os idosos sentem mais frio, apresentam temperaturas mais baixas que os adultos e estão mais expostos a hipotermia (redução de 1 a 2º.C na temperatura corporal)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9E642-FA82-419B-B167-A7B1D95916FF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emperatur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68000" y="1628640"/>
            <a:ext cx="8381880" cy="445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Febre é um sinal importante de doença em idos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temperatura de 37,0 °C é comumente aceita como média da medição retal, enquanto 36,8 °C ± 0,7 °C é o considerado normal para medições na boca ou axila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dosos podem ter diminuição da capacidade de gerar calor corporal durante uma infecção, então mesmo febre baixa pode ser um sinal de condição grave de saúde nessa faixa etári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95123-D55D-446E-A873-FF19B3CB8366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emperatur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6840" y="1143000"/>
            <a:ext cx="8381880" cy="10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Valores normais para a temperatura (são os mesmos para adulto):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46028-C518-4298-94DC-28A48E53426A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Retângulo 5"/>
          <p:cNvSpPr/>
          <p:nvPr/>
        </p:nvSpPr>
        <p:spPr>
          <a:xfrm>
            <a:off x="1187280" y="2276640"/>
            <a:ext cx="7129800" cy="1191240"/>
          </a:xfrm>
          <a:prstGeom prst="rect">
            <a:avLst/>
          </a:prstGeom>
          <a:gradFill rotWithShape="0">
            <a:gsLst>
              <a:gs pos="0">
                <a:srgbClr val="ceceff"/>
              </a:gs>
              <a:gs pos="100000">
                <a:srgbClr val="efefff"/>
              </a:gs>
            </a:gsLst>
            <a:lin ang="16200000"/>
          </a:gradFill>
          <a:ln w="9360">
            <a:solidFill>
              <a:srgbClr val="c4c4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Temperatura axilar: 35,8ºC - 37,0ºC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Temperatura oral: 36,3ºC - 37,4ºC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Temperatura retal: 37ºC - 38º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CaixaDeTexto 9"/>
          <p:cNvSpPr/>
          <p:nvPr/>
        </p:nvSpPr>
        <p:spPr>
          <a:xfrm>
            <a:off x="4284720" y="4437000"/>
            <a:ext cx="394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O uso do termômetro digital irá facilitar a leitura pelo idos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1" name="Picture 4" descr="http://www.onofre.com.br/onofre/upload/produtos/ia/318388.jpg"/>
          <p:cNvPicPr/>
          <p:nvPr/>
        </p:nvPicPr>
        <p:blipFill>
          <a:blip r:embed="rId1"/>
          <a:stretch/>
        </p:blipFill>
        <p:spPr>
          <a:xfrm>
            <a:off x="1476360" y="350028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Respiraçã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68000" y="1143000"/>
            <a:ext cx="84963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A frequência respiratória oscila conforme a idade. Frequência e padrão respiratório no idoso tem particular significado semiológico quando superior a 26 movimentos respiratórios por minuto (mpm)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Freqüência respiratória normal, pela idade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Recém-nascidos: 44 mpm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Bebês: 20 a 40 mpm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ré-escolar: 20 a 30 mpm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rianças mais velhas: 16 a 25 mpm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dultos: 14 a 18 mpm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dosos: 19 a 26 mpm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12247-0E10-4825-A51B-093D050A29B6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2" descr="http://4.bp.blogspot.com/-JCpCj0D-8YE/Tdev25_SacI/AAAAAAAAAOk/4wWQTFirRI8/s1600/gif+animado+pulm%25C3%25B5es.gif"/>
          <p:cNvPicPr/>
          <p:nvPr/>
        </p:nvPicPr>
        <p:blipFill>
          <a:blip r:embed="rId1"/>
          <a:stretch/>
        </p:blipFill>
        <p:spPr>
          <a:xfrm>
            <a:off x="7524720" y="3068640"/>
            <a:ext cx="949320" cy="31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Respiraçã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68000" y="1413000"/>
            <a:ext cx="83818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musculatura da respiração enfraquece com o progredir da idade, assim como os músculos esqueléticos em geral, o que, somado ao enrijecimento da parede torácica, resulta na redução das pressões máximas inspiratórias e expiratórias com um grau de dificuldade maior para executar a dinâmica respiratóri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único músculo que parece não ser afetado pelo envelhecimento é o diafragma que, no idoso, apresenta a mesma massa muscular que indivíduos mais joven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40768-2C6D-48D6-8E6C-29C1684D1A6E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ensão Arterial (TA)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24000" y="981000"/>
            <a:ext cx="8640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lterações cardiovasculares são certas no idoso, em que a aorta e grandes artérias apresentam paredes muito elásticas que se distendem com a sístole e e continua na diástole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ssa elasticidade dos vasos mantém a pressão sistólica em níveis normais, e a perda dessa capacidade contribui para a elevação dos níveis pressóricos na idade mais avançad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7AF13-A0EF-46EE-9D68-A095CF81A604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Picture 2" descr="http://t0.gstatic.com/images?q=tbn:ANd9GcToiIS1VwqxFaCt5zS5-e5TJHLEVQQyJERqeLItDBvqwRTLf3On"/>
          <p:cNvPicPr/>
          <p:nvPr/>
        </p:nvPicPr>
        <p:blipFill>
          <a:blip r:embed="rId1"/>
          <a:stretch/>
        </p:blipFill>
        <p:spPr>
          <a:xfrm>
            <a:off x="3132000" y="4149720"/>
            <a:ext cx="3484800" cy="23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8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95280" y="1052640"/>
            <a:ext cx="8454960" cy="48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o idoso são necessárias várias mensurações da TA, em posição sentada e ortotástica; 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Recomenda-se mensurar a TA em ambos os braços. Se variação entre as medidas considerar o valor mais alto, visto que o valor mais baixo resulta de eventos ateroscleróticos que mascaram a TA real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hiato auscultatório (desaparecimento dos sons na deflação do manguito) pode subestimar a Tensão Arterial Sistólica-TAS ou superestimar a Tensão Arterial Diastólica-TAD. Evita-se esse erro insuflando o manguito até níveis de TAS nos quais há o desaparecimento do pulso à palpaçã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D3C28-6A6B-4475-B5C3-696354CEF07E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pseudo-hipertensão decorre do endurecimento das paredes das artérias periféricas, que promove falsa estimativa da TA à esfigmomanometri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sse diagnóstico é sugerido para idosos com níveis pressóricos elevados e ausência de lesão em órgãos-alvo e que apresentam artérias dos braços calcificadas, que podem ser identificadas à palpação e/ou ao exame radiológic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sinal de Osler consiste na detecção de artérias palpáveis quando o esfigmomanômetro encontra-se insuflado em nível superior ao da PA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06272-BC30-49DA-8DC9-8314B78D9114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94920" y="1413000"/>
            <a:ext cx="8381880" cy="40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Valores médios de tensão arterial considerados ideais de acordo com a idade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04 anos – 85/60 mmHg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06 anos – 95/62 mmHg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10 anos – 100/65 mmHg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12 anos – 108/67 mmHg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16 anos – 118/75 mmHg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dultos – 120/80 mmHg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dosos – 140 a 160/90 a 100 mmHg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CBDB7-2AD8-494F-BFFA-2A5653131E31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8" name="Picture 2" descr="http://t0.gstatic.com/images?q=tbn:ANd9GcQVnuG0LyQhgrMOG75yM-Foq1eRP_wyjHt7PSbotwoIQ6Xt3wGH"/>
          <p:cNvPicPr/>
          <p:nvPr/>
        </p:nvPicPr>
        <p:blipFill>
          <a:blip r:embed="rId1"/>
          <a:stretch/>
        </p:blipFill>
        <p:spPr>
          <a:xfrm>
            <a:off x="5580000" y="2133720"/>
            <a:ext cx="341784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ulso arteri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8000" y="1267920"/>
            <a:ext cx="83818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ulso arterial: em idosos, o pulso </a:t>
            </a:r>
            <a:r>
              <a:rPr b="0" i="1" lang="pt-BR" sz="2400" spc="-1" strike="noStrike">
                <a:solidFill>
                  <a:srgbClr val="000066"/>
                </a:solidFill>
                <a:latin typeface="Verdana"/>
              </a:rPr>
              <a:t>parvus et tardus, 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ncontrado nos casos de estenose aórtica, é mascarado pelo endurecimento das paredes arteriais e pela presença de fibrilação atrial. Ao contrário, os sinais periféricos da insuficiência aórtica são de fácil reconheciment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freqüência cardíaca geralmente encontra-se dentro dos limites da normalidade, com tendência a freqüências mais baixas que as dos adult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idoso apresenta redução da resposta de elevação da freqüência cardíaca ao esforço ou outro estímul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142B5-2DE7-4920-9F0A-F1DD053D8272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bjectivos de aprendizage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403280" y="1412640"/>
            <a:ext cx="7561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o final desta sessão os estudantes deverão ser capazes de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Identificar as principais peculiaridades do exame físico em idosos nos diferentes órgãos e/ou sistemas corporai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Reconhecer peculiaridades dos sinais vitais em idos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0000"/>
              </a:buClr>
              <a:buSzPct val="8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3607D-3F85-4090-8266-931890C63AAF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Picture 15" descr="http://www.estudiantes.info/images/estudiantes/maripo.gif"/>
          <p:cNvPicPr/>
          <p:nvPr/>
        </p:nvPicPr>
        <p:blipFill>
          <a:blip r:embed="rId1"/>
          <a:stretch/>
        </p:blipFill>
        <p:spPr>
          <a:xfrm>
            <a:off x="395280" y="2276640"/>
            <a:ext cx="1347840" cy="13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inais vitais n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6840" y="1341000"/>
            <a:ext cx="83818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Vale a pena assinalar mais uma vez o quanto é frequente receber um idoso em uso de vários medicamentos e que estes podem alterar os sinais vitais, como, por exemplos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s antitérmicos (queda da temperatura)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s beta-bloqueadores (redução da freqüência cardíaca)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s anti-hipertensivos alfa-bloqueadores (hipotensão postural)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5E574-589E-43D3-953A-2250948540A6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1039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Peculiaridades do exame físico no idoso - </a:t>
            </a: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2ª. Aul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7FEF6-8495-4F43-8C9A-E01871747F3E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Picture 2" descr="http://t2.gstatic.com/images?q=tbn:ANd9GcTKX2dyFDclLOdzIitphdBsiOk1zNsWMvze60poRipq-Co-YT2Ohg"/>
          <p:cNvPicPr/>
          <p:nvPr/>
        </p:nvPicPr>
        <p:blipFill>
          <a:blip r:embed="rId1"/>
          <a:stretch/>
        </p:blipFill>
        <p:spPr>
          <a:xfrm>
            <a:off x="395280" y="1989000"/>
            <a:ext cx="4697280" cy="3527640"/>
          </a:xfrm>
          <a:prstGeom prst="rect">
            <a:avLst/>
          </a:prstGeom>
          <a:ln w="0">
            <a:noFill/>
          </a:ln>
        </p:spPr>
      </p:pic>
      <p:sp>
        <p:nvSpPr>
          <p:cNvPr id="107" name="CaixaDeTexto 5"/>
          <p:cNvSpPr/>
          <p:nvPr/>
        </p:nvSpPr>
        <p:spPr>
          <a:xfrm>
            <a:off x="5219640" y="2349360"/>
            <a:ext cx="3745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 enfermeiro e a equipe de saúde como um todo deve ter como foco o próprio idoso. Quando o mesmo apresentar limitações cognitivas e funcionais, o familiar ou acompanhante deve ser envolvid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xame neurológic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Motricidade: o idoso tende a apresentar declínio da motricidade, com perda da força e da velocidade dos movimentos, de maneira simétric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s alterações motoras assimétricas são quase sempre patológica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aratonia (</a:t>
            </a:r>
            <a:r>
              <a:rPr b="0" i="1" lang="pt-BR" sz="2400" spc="-1" strike="noStrike">
                <a:solidFill>
                  <a:srgbClr val="000066"/>
                </a:solidFill>
                <a:latin typeface="Verdana"/>
              </a:rPr>
              <a:t>Gegenhalten): 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é achado frequente nos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dosos com demência e sugere disfunção bilateral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os lobos frontais. Verifica-se aumento da resistência de maneira progressiva e irregular a qualquer movimento. A hipertonia, nesse caso, é proporcional à força empregada e aumenta quando se pede ao paciente que relax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70428-95BF-47AF-929C-8CE87F5B2887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xame neurológic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ensibilidade: os testes de sensibilidade no idoso são prejudicados particularmente pela limitação de cooperação e da função cognitiva do pacient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Reflexos tendíneos: são pesquisados com o uso de um martelo neurológico, de baixo custo e fácil acess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E055B-2356-493B-AFDB-CEF3D1435FCE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Picture 2" descr="http://www.hu.ufsc.br/~grumad/exame_neurologico_arquivos/image010.jpg"/>
          <p:cNvPicPr/>
          <p:nvPr/>
        </p:nvPicPr>
        <p:blipFill>
          <a:blip r:embed="rId1"/>
          <a:stretch/>
        </p:blipFill>
        <p:spPr>
          <a:xfrm>
            <a:off x="2700360" y="3357720"/>
            <a:ext cx="402732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Reflexo Aquileu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50920" y="836280"/>
            <a:ext cx="85262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O</a:t>
            </a:r>
            <a:r>
              <a:rPr b="0" lang="pt-PT" sz="2400" spc="-1" strike="noStrike">
                <a:solidFill>
                  <a:srgbClr val="3c3c77"/>
                </a:solidFill>
                <a:latin typeface="Verdana"/>
              </a:rPr>
              <a:t>corre quando o tendão de Aquiles ou tendão calcâneo é percutido enquanto o pé está em flexão dorsal. Um resultado positivo ocorre quando o pé se move em direção à sua superfície plantar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DE612-D7E9-4A99-89F3-DA86C4F8D9C0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1258920" y="2421000"/>
            <a:ext cx="3487680" cy="2698560"/>
          </a:xfrm>
          <a:prstGeom prst="rect">
            <a:avLst/>
          </a:prstGeom>
          <a:ln w="0">
            <a:noFill/>
          </a:ln>
        </p:spPr>
      </p:pic>
      <p:sp>
        <p:nvSpPr>
          <p:cNvPr id="122" name="Espaço Reservado para Conteúdo 2"/>
          <p:cNvSpPr/>
          <p:nvPr/>
        </p:nvSpPr>
        <p:spPr>
          <a:xfrm>
            <a:off x="4788000" y="3429000"/>
            <a:ext cx="3682800" cy="7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Pesquisa do reflexo de Aqui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Retângulo 7"/>
          <p:cNvSpPr/>
          <p:nvPr/>
        </p:nvSpPr>
        <p:spPr>
          <a:xfrm>
            <a:off x="250920" y="5157720"/>
            <a:ext cx="8642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3c3c77"/>
                </a:solidFill>
                <a:latin typeface="Verdana"/>
              </a:rPr>
              <a:t>O reflexo checa se as raízes nervosas S1 e S2 estão intactas; pode ser indicativo de patologia do nervo isquiático; é retardado no hipotireoidismo; está ausente em hérnias de disco L5-S1; sua redução também pode representar neuropatia periféric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24" name="Conector angulado 9"/>
          <p:cNvCxnSpPr/>
          <p:nvPr/>
        </p:nvCxnSpPr>
        <p:spPr>
          <a:xfrm flipV="1" rot="10800000">
            <a:off x="4931640" y="4075560"/>
            <a:ext cx="864360" cy="64836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Reflexo patela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7C460-FE66-4821-B20C-BDD4CF72E54F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1332000" y="1197000"/>
            <a:ext cx="2728800" cy="21002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"/>
          <p:cNvPicPr/>
          <p:nvPr/>
        </p:nvPicPr>
        <p:blipFill>
          <a:blip r:embed="rId2"/>
          <a:stretch/>
        </p:blipFill>
        <p:spPr>
          <a:xfrm>
            <a:off x="1332000" y="3645000"/>
            <a:ext cx="2798640" cy="2124000"/>
          </a:xfrm>
          <a:prstGeom prst="rect">
            <a:avLst/>
          </a:prstGeom>
          <a:ln w="0">
            <a:noFill/>
          </a:ln>
        </p:spPr>
      </p:pic>
      <p:sp>
        <p:nvSpPr>
          <p:cNvPr id="130" name="Espaço Reservado para Conteúdo 2"/>
          <p:cNvSpPr/>
          <p:nvPr/>
        </p:nvSpPr>
        <p:spPr>
          <a:xfrm rot="16200000">
            <a:off x="-1058400" y="3154320"/>
            <a:ext cx="368280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esquisa do reflexo patel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40360" y="981000"/>
            <a:ext cx="475272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marL="195480" indent="-195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ode ser obscurecido na osteoartrose dos joelhos.</a:t>
            </a:r>
            <a:r>
              <a:rPr b="1" lang="pt-PT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Quando há lesão grave no encéfalo ou na medula, o reflexo é negativ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195480" indent="-195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32" name="Picture 6" descr="http://upload.wikimedia.org/wikipedia/commons/thumb/f/fe/Patelar.JPG/220px-Patelar.JPG"/>
          <p:cNvPicPr/>
          <p:nvPr/>
        </p:nvPicPr>
        <p:blipFill>
          <a:blip r:embed="rId3"/>
          <a:stretch/>
        </p:blipFill>
        <p:spPr>
          <a:xfrm>
            <a:off x="4643280" y="2924280"/>
            <a:ext cx="3384720" cy="2570040"/>
          </a:xfrm>
          <a:prstGeom prst="rect">
            <a:avLst/>
          </a:prstGeom>
          <a:ln w="0">
            <a:noFill/>
          </a:ln>
        </p:spPr>
      </p:pic>
      <p:sp>
        <p:nvSpPr>
          <p:cNvPr id="133" name="CaixaDeTexto 12"/>
          <p:cNvSpPr/>
          <p:nvPr/>
        </p:nvSpPr>
        <p:spPr>
          <a:xfrm>
            <a:off x="4284720" y="5516640"/>
            <a:ext cx="468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É positivo quando a patela é percutida e o utente eleva a perna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Reflexos abdominai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68000" y="1699920"/>
            <a:ext cx="8381880" cy="35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Frequentemente se apresentam hipoativos em decorrência de alterações tróficas da musculatura abdominal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o reto e ânus são observadas alterações com espessamento e alterações do colágeno e redução de força muscular, que diminuem a capacidade de retenção fecal volumosa. A isso se acrescem alterações de elasticidade retal e da sensibilidade à sua distensão (FERRIOLI, </a:t>
            </a:r>
            <a:r>
              <a:rPr b="0" i="1" lang="pt-BR" sz="2400" spc="-1" strike="noStrike">
                <a:solidFill>
                  <a:srgbClr val="000066"/>
                </a:solidFill>
                <a:latin typeface="Verdana"/>
              </a:rPr>
              <a:t>et al.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, 2006)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491F2-48DC-4646-B8C1-4F847B229966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2:36:23Z</dcterms:created>
  <dc:creator>Escolastica</dc:creator>
  <dc:description/>
  <dc:language>en-US</dc:language>
  <cp:lastModifiedBy>Mendoza</cp:lastModifiedBy>
  <dcterms:modified xsi:type="dcterms:W3CDTF">2012-01-31T14:28:11Z</dcterms:modified>
  <cp:revision>8</cp:revision>
  <dc:subject/>
  <dc:title>Levantamento de necessidades do idoso: peculiaridades do exame físico (Aula 2)</dc:title>
</cp:coreProperties>
</file>