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7BC-4C6C-4241-969F-D1B6F553B2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47F-24A6-4622-89E0-2DD772E3AC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7C25-C323-4A5D-8650-C07C07F1A2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B944-DAC1-44B0-9FDD-B64E0FC5BC7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9D5-CF88-4B4C-89D1-D312EB853F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245-8CD4-45B5-9B84-0B4BB08074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67F-FD3B-4053-9602-5A00313A0C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61A-7CE4-479C-8B38-FEDC074A0E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0580-D988-4127-A32A-5937A30C9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58FA-E100-4F3E-B20A-E7F249446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14BA-E60C-487E-BAED-69C1D1ADE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6225-CFD7-4124-88D6-1ED1352D8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7C2F-E8B6-4D32-B74D-5E955DD08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A778-6F93-49FF-AEF1-6625F398E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BACA-925E-4EBE-94F5-E15F4E12C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7F12-BA7B-4184-A0C8-9F7C69C2A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8BA2-3F98-4865-8389-5648331A4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AEDF-0921-483B-A1BB-60666771C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6893-5161-416A-8D38-DCA01E5FF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8C4D-B2E7-4984-A87E-B78A1B1C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771-5D85-45D6-8632-EFA44D63A0F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844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iagnóstico de Enfermagem (DE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611280" y="1413000"/>
            <a:ext cx="8064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9: ENFRENTAMENTO/ TOLERÂNCIA AO ESTRE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ar com os eventos/processos de v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6466-0F8E-44D9-8087-3A4BC300A5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9640" y="3357720"/>
            <a:ext cx="8064720" cy="21132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0: PRINCÍPIOS DE V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s nos quais são baseados a conduta, o pensamento e o comportamento quanto a atos, costumes ou instituições, encarados como verdadeiros ou como dotados de valor intrínse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468360" y="1125360"/>
            <a:ext cx="84484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1: SEGURANÇA/PROTE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r livre de perigo, lesão física ou dano do sistema imunológico; preservação contra perdas; e proteção da segurança e da segur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8360" y="3141720"/>
            <a:ext cx="842328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2: CONFO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ação de bem-estar ou conforto mental, físico ou soc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D1C4-FF23-4C21-B637-5F0ECDC452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39640" y="4365720"/>
            <a:ext cx="83170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3: CRESCIMENTO/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s apropriados para a idade nas dimensões físicas e nos sistemas orgânicos e/ou a progressão através dos estágios do desenvolv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0" y="998640"/>
            <a:ext cx="77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920" y="1412640"/>
            <a:ext cx="8381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Resulta de um processo de raciocínio clínico (análise e síntese) sobre os dados levantados do utente, por meio da entrevista e do exame físic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É o julgamento clínico sobre a resposta atual ou potencial do indivíduo/ família ou comunidade a problemas de saúde/ processos vitais, que determina a base para a escolha de intervenções direcionadas a resultados pelos quais o enfermeiro é responsável (NANDA, 199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F1E3-621C-4F76-BB6B-7D909A2C138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Rodapé 1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468360" y="1700280"/>
            <a:ext cx="3743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vista e exame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788000" y="1844640"/>
            <a:ext cx="2736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ção dos dados (análise e sínte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003640" y="3068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9200" y="510372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132000" y="400536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39640" y="1052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1692360" y="4508640"/>
            <a:ext cx="7056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fatores de ris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isão de problemas potenciais/ complic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recursos e de pontos for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1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56E8-EDEB-49D0-898D-679356D839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8" name="Conector de seta reta 15"/>
          <p:cNvCxnSpPr/>
          <p:nvPr/>
        </p:nvCxnSpPr>
        <p:spPr>
          <a:xfrm>
            <a:off x="4211640" y="2491920"/>
            <a:ext cx="5054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95280" y="112536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Em 1982 foi criada a North American Nursing Diagnosis Association (NANDA)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Principais funçõ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Espaço Reservado para Rodapé 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7BD-4722-4BA7-A973-420F847D09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5"/>
          <p:cNvSpPr/>
          <p:nvPr/>
        </p:nvSpPr>
        <p:spPr>
          <a:xfrm>
            <a:off x="826920" y="2492280"/>
            <a:ext cx="72741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onar a padronização da linguagem dos diagnóstico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r a classificação dos diagnós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eta para baixo 10"/>
          <p:cNvSpPr/>
          <p:nvPr/>
        </p:nvSpPr>
        <p:spPr>
          <a:xfrm>
            <a:off x="4427640" y="4076640"/>
            <a:ext cx="504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tângulo 11"/>
          <p:cNvSpPr/>
          <p:nvPr/>
        </p:nvSpPr>
        <p:spPr>
          <a:xfrm>
            <a:off x="900000" y="4797360"/>
            <a:ext cx="7272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processo resultou em uma TAXONOM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outras taxonomias, porém esta é a mais usada e conhec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2060280"/>
            <a:ext cx="410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s 155 Diagnósticos de Enfermagem estão distribuídos por domínios, facilitando a identificaçã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36C-E57A-4F70-9030-4D567EEABD1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http://www.livrosdeprogramacao.com.br/images/8536321040Gr.jpg"/>
          <p:cNvPicPr/>
          <p:nvPr/>
        </p:nvPicPr>
        <p:blipFill>
          <a:blip r:embed="rId1"/>
          <a:stretch/>
        </p:blipFill>
        <p:spPr>
          <a:xfrm>
            <a:off x="4716360" y="990720"/>
            <a:ext cx="3672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"/>
          <p:cNvSpPr/>
          <p:nvPr/>
        </p:nvSpPr>
        <p:spPr>
          <a:xfrm>
            <a:off x="0" y="350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95280" y="112536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O DE apresenta os seguintes compon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Título: termo ou frase concisa que representa um padrão de sugestões relacionad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efinição: explicita o conceito que se tem da situação expressa pela denominação do diagnós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aracterísticas definidoras: são as evidências que o enfermeiro identifica no utente a partir do levantamento de dados e que pelo seu julgamento interpreta e agrupa (sinais e sintoma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relacionados: são os elementos que contribuem para a ocorrência do diagnóstico (fatores etiológicos, do ambiente e/ou da pessoa) que favorecem a ocorrência da “resposta” expressa no diagnóstico). Servem de base para a determinação de intervençõ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1E5-62DB-426E-AC26-0F782095EB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395280" y="2133720"/>
            <a:ext cx="856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omponentes do DE: (continuaçã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de risco: são fatores ambientais e elementos fisiológicos, psicológicos, genéticos ou químicos que aumentam a vulnerabilidade de um indivíduo, de uma família ou de uma comunidade a um evento insalu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85AF-F23E-434B-9343-B49F6FB459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964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Exemplos de 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Comunicação prejudicada relacionada às barreiras acuidade auditiva e visual prejudic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Risco para infecção relacionado a baixa imunidade d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C0C-63AB-4F33-B636-7D47CFE8C9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Group 23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785440" cy="508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os que caracterizam o Diagnóstico de Enfermagem e Méd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0BB0-6C83-4244-9009-8165A2BAB9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as necessidades do idoso e o  Diagnósticos de Enfermagem (DE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nc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Áreas de domín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ponentes do 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ferença entre DE e diagnóstico méd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FC1-B611-4D0C-AF51-E6996DF544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250920" y="134136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iferenças entre  diagnósticos médico e de enfermag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ois utentes foram internados em uma unidade de terapia intensiva, com o mesmo diagnóstico médico: “Infarto agudo do miocárdi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A enfermeira avalia os utentes para estabelecer os DE e encontra: o utente 1 com dor precordial intensa, alterações do ritmo cardíaco, insegurança e medo de morrer; o utente 2 está sem dor, sem arritmias e confiante na equi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DDAE-4E63-48DA-981E-CEF8155F49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95280" y="4653000"/>
            <a:ext cx="8353440" cy="15570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, o tratamento médico dos utentes 1 e 2 será igual, mas a enfermeira poderá cuidá-los da mesma forma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deve levar em conta as respostas diferentes que cada pessoa deu ao mesmo problema médic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328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Diagnóstico de Enfermagem (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s áreas de domínio e os componentes do 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 diferenças essenciais entre DE e diagnóstico méd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Fazer a integração entre identificação de necessidades e DE como etapas do processo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C69-5096-4379-886E-F986B02D80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349360"/>
            <a:ext cx="1871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Uma vez identificadas as necessidades do idoso por meio da entrevista e do exame físico (primeira etapa do preocesso de enfermagem), o enfermeiro passa para a segunda etapa (Diagnóstic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44B-EC52-4EA1-B6BB-E31E26E09C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2C36-BC1F-4894-B134-07C758CE31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23640" y="981000"/>
            <a:ext cx="8597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necessidades do idoso podem ser agrupadas nas 13 áreas de domínio dos Diagnósticos de Enfermagem, de acordo com a NANDA, o que facilitará a interpretação dos achados pelo enfermeiro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7AD3-94B2-43E8-833E-D2111F5E25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3068640"/>
          <a:ext cx="8208720" cy="2766960"/>
        </p:xfrm>
        <a:graphic>
          <a:graphicData uri="http://schemas.openxmlformats.org/drawingml/2006/table">
            <a:tbl>
              <a:tblPr/>
              <a:tblGrid>
                <a:gridCol w="345600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Promoção da 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xu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Nut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Enfrentamento/ tolerância ao estr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Eliminação e tro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rincípio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Actividade/repo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gurança/prote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ercepção/ cogn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onf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Auto-percep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rescimento e desenvolv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Relacionamentos de pap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468360" y="1557360"/>
            <a:ext cx="82566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1: PROMOÇÃO DA SAÚ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ciência de bem-estar ou de normalidade da função e as estratégias utilizadas para manter sob controle  ou aumentar esse bem-estar ou normalidade da fun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68360" y="3789360"/>
            <a:ext cx="837576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2: NUTR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de ingerir, assimilar e utilizar nutrientes para fins de manutenção dos tecidos, reparação dos tecidos e produção de ener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6AEF-EAA0-4C6F-AE6C-1C72D1C2408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95280" y="1052640"/>
            <a:ext cx="847260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3: ELIMINAÇÃO E TRO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ção e excreção dos produtos residuais do metabolismo do organi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2708280"/>
            <a:ext cx="845028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4: ATIVIDADE/ REPO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, conservação, gasto ou equilíbrio de recursos energ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AC53-05E0-4931-9C9A-F78E9F15E9F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5280" y="4292640"/>
            <a:ext cx="84978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5: PERCEPÇÃO/ COGN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istema  humano de processamento de informações, incluindo atenção, orientação, sensação, percepção, cognição e comunica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468360" y="126828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6: AUTOPERCEP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ência de si me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68360" y="2565360"/>
            <a:ext cx="835164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7: RELACIONAMENTOS DE PAP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nexões ou associações positivas e negativas entre pessoas ou grupos de pessoas e os meios pelos quais essas conexões são demonstr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D09-10EE-4500-B04A-7209F74080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479736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8: SEXUA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e sexual, função sexual e reprodu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48:59Z</dcterms:created>
  <dc:creator>Escolastica</dc:creator>
  <dc:description/>
  <dc:language>en-US</dc:language>
  <cp:lastModifiedBy>Mendoza</cp:lastModifiedBy>
  <dcterms:modified xsi:type="dcterms:W3CDTF">2012-01-31T14:30:13Z</dcterms:modified>
  <cp:revision>16</cp:revision>
  <dc:subject/>
  <dc:title>Identificação das necessidades humanas básicas do utente idoso.</dc:title>
</cp:coreProperties>
</file>