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2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5A8F-BD93-4B10-B033-5B94DE74C9E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A734-5127-490E-A2D7-35D864A3C5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7F3E-9AB6-4124-9C97-4F9B78C16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A35A-7024-43B0-80F1-CED1B38F6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62EB-E5CD-42E5-AB52-995D47A72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308F-D642-4094-B9FA-EBBF432D6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6309-EBF8-4DD6-B3C5-274372F52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57EF-FF46-4D64-BC8A-BF161756A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8ED0-3FAA-421B-9604-203ACC0F5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EB6B-0318-44EE-B398-7976C272C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6EE1-2457-4BE1-A7AE-F9111B2F5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3B46-98EE-4A60-BA5A-52F6DBCAE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993D-DDE6-488A-85BC-00C5484B2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630D-BE79-4F7A-93AF-181EE4F2E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7871-5666-4F14-8A99-901D9675B47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6/Pneumonia_x-ray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213372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evantamento de necessidades do idoso: peculiaridades do exame físico (Aula 1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4652640"/>
            <a:ext cx="7543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ariz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idosos têm uma rinite especial que os mantém com o nariz escorrendo (rinorréia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mesmo sintoma aparece em algumas pessoas não idosas, especialmente quando se alimentam de comidas com temperos fortes e apimentados (rinite gustativa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as têm obstrução nasal quando praticam esporte, o que as atrapalha muito, obrigando-as a tratar a rinite para poderem prosseguir adequadamente com o espor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62DF-5054-4190-A82C-FEF9FC74AC1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920" y="228240"/>
            <a:ext cx="758016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vidade o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1557360"/>
            <a:ext cx="87138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sões benignas mais encontrad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t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Úlceras bucais traumátic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cundárias a dentaduras ou restauraçõe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eias varicosas na parte ventral da língua sem significado patogênic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omatite induzida por dentaduras (inflamações localizadas sob as dentadura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áries dentárias e/ou doença periodontal nos que mantiveram os dentes natu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70D6-16B5-409D-BBF6-816F3B9467B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http://t0.gstatic.com/images?q=tbn:ANd9GcRwETk5YAU0Thtzv20pRhDSzfeQEW1tlA4HVU0DhLsiwpBkFrRO"/>
          <p:cNvPicPr/>
          <p:nvPr/>
        </p:nvPicPr>
        <p:blipFill>
          <a:blip r:embed="rId1"/>
          <a:stretch/>
        </p:blipFill>
        <p:spPr>
          <a:xfrm>
            <a:off x="6294600" y="1052640"/>
            <a:ext cx="2739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ame buc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981000"/>
            <a:ext cx="4535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xame bucal deve pesquisar  às queixas do idoso (dor, sangramento, dificuldade para mastigar e deglutir, sensação de nódulo ou mass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poderá contribuir com esses achados ao examinar a boca do idoso no ato da higiene oral, ao alimentar idosos dependentes, e, assim, registar e inserir o idoso no devido serviç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A266-64C9-4EF6-969D-213BC55E8B3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http://t1.gstatic.com/images?q=tbn:ANd9GcSD2XsfVS5lw-mHmCOsnFcsO4ueugxT8jx9FSsMIT5hwB7vQB8E"/>
          <p:cNvPicPr/>
          <p:nvPr/>
        </p:nvPicPr>
        <p:blipFill>
          <a:blip r:embed="rId1"/>
          <a:stretch/>
        </p:blipFill>
        <p:spPr>
          <a:xfrm>
            <a:off x="5003640" y="2133720"/>
            <a:ext cx="39420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scoç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2133360"/>
            <a:ext cx="8382240" cy="30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bócio difuso é incomum no idoso, porém, quando ocorre, deve-se à doença de Graves, tireoidite, efeito de medicamentos ou linfo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bócio multinodular é mais prevalente, usualmente secundário à doença benigna e usualmente não constitui fator de risco para maligniz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AF31-C973-4B9B-8238-A4BA45776D8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ór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25360"/>
            <a:ext cx="583236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fose é uma curvatura fisiológica da coluna vertebral. Considera-se patológica quando está mais acentuada. É a corcun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fose na mulher é comumente secundária a doenças degenerativas da coluna, sobretudo à osteoporose com fratur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homens, usualmente é devida à causas secundárias, como: hipogonadismo, corticoterapia, mieloma múltiplo, metástases ósseas ou alcoolism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E4FD-EDDC-46B2-B7F8-BB910EC3A39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2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10" descr="http://www.infoescola.com/wp-content/uploads/2010/03/cifose.gif"/>
          <p:cNvPicPr/>
          <p:nvPr/>
        </p:nvPicPr>
        <p:blipFill>
          <a:blip r:embed="rId1"/>
          <a:stretch/>
        </p:blipFill>
        <p:spPr>
          <a:xfrm>
            <a:off x="6156360" y="1773360"/>
            <a:ext cx="2762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ór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000" y="148392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inecomastia: pode ocorrer no envelheciment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rmal, sendo desprovida de significado patogênico. No entanto, causas clássicas como tumores, hepatopatia e uso de alguns medicamentos devem ser descart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restrito ao leito, dependente para se alimentar, a obstrução de vias aéreas pode ser devida à presença de corpo estranho (prótese dentária) ou al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B8BB-FB14-4170-9607-BEFD63F268C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ór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sculta respiratória: é mais difícil de ser realizada em idosos, porque estes nem sempre conseguem realizar inspirações profun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frequentes as crepitações nas bases pulmonares desprovidas de significado clínico, particularmente quando desaparecem após a toss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usculta pode também identificar ruídos resultantes de pneumopatias prévias, o que dificulta a sua interpretação diante de sintomas  agu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iragem (maior esforço para respirar) constitui, em geral, obstrução de vias respiratórias, sendo comum nos portadores de Doença Pulmonar Obstrutiva Crônica (DPOC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63A4-C189-4DE8-BA7A-5CDDCA22229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ór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125360"/>
            <a:ext cx="4319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caso de pneumonia os sinais identificados à ausculta, como crepitações (abertura de um velcro), nem sempre apresentam correspondência imediata com a imagem radiológica, uma vez que as alterações na radiografia de tórax podem demorar até 72 horas para se tornarem evid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7CF6-54A0-4B26-BB14-6726ED695EA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2" descr="Ficheiro:Pneumonia x-r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981000"/>
            <a:ext cx="3095640" cy="5189760"/>
          </a:xfrm>
          <a:prstGeom prst="rect">
            <a:avLst/>
          </a:prstGeom>
          <a:ln w="0">
            <a:noFill/>
          </a:ln>
        </p:spPr>
      </p:pic>
      <p:sp>
        <p:nvSpPr>
          <p:cNvPr id="174" name="Retângulo 6"/>
          <p:cNvSpPr/>
          <p:nvPr/>
        </p:nvSpPr>
        <p:spPr>
          <a:xfrm>
            <a:off x="5435640" y="5661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adrão típico 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tângulo 7"/>
          <p:cNvSpPr/>
          <p:nvPr/>
        </p:nvSpPr>
        <p:spPr>
          <a:xfrm>
            <a:off x="4643280" y="162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ór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principais alterações características do idoso relacionadas à integridade da função respiratória s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órax rígi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ulmões menos elást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ansão da caixa torácica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1AFA-75B5-42DC-8DFD-016B223C7F5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5" descr="cien041"/>
          <p:cNvPicPr/>
          <p:nvPr/>
        </p:nvPicPr>
        <p:blipFill>
          <a:blip r:embed="rId1"/>
          <a:stretch/>
        </p:blipFill>
        <p:spPr>
          <a:xfrm>
            <a:off x="5940360" y="2421000"/>
            <a:ext cx="2652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parelho cardiovascu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000" y="1125360"/>
            <a:ext cx="8381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vasculare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a rigidez das grandes artérias, alongamento e dilatação das mesmas; o enrijecimento dessas artérias promove elevação dos níveis da pressão arterial sistól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a espessura da parede ventricul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são diastólica não sofre modificações significativas com o envelhec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-se aumento de 30% na espessura da parede ventricular esquerda na 8ª década de vida, e aumento do diâmetro aórtico (aorta ascendente) de aproximadamente 9% por déc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02FF-F965-4A71-BF96-B6C203CC00F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12" descr="http://cdn-cf.aol.com/se/clip_art/gstres/objcts/heart_beating_final"/>
          <p:cNvPicPr/>
          <p:nvPr/>
        </p:nvPicPr>
        <p:blipFill>
          <a:blip r:embed="rId1"/>
          <a:stretch/>
        </p:blipFill>
        <p:spPr>
          <a:xfrm>
            <a:off x="7524720" y="83664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evantament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134100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eculiaridades do exame físico n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B271-0B8C-45EC-824A-F52D76BF230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2" descr="http://www.yesacademia.com.br/imagem/jpg19.jpg"/>
          <p:cNvPicPr/>
          <p:nvPr/>
        </p:nvPicPr>
        <p:blipFill>
          <a:blip r:embed="rId1"/>
          <a:stretch/>
        </p:blipFill>
        <p:spPr>
          <a:xfrm>
            <a:off x="2987640" y="1868400"/>
            <a:ext cx="35290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parelho cardiovascu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cardíac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as dimensões do átrio esquer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a rigidez ventricu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cesso natural de envelhecimento não prejudica a força de contração do cor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22F-70E1-4294-AF1A-C9BB3EBE7BE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12" descr="http://cdn-cf.aol.com/se/clip_art/gstres/objcts/heart_beating_final"/>
          <p:cNvPicPr/>
          <p:nvPr/>
        </p:nvPicPr>
        <p:blipFill>
          <a:blip r:embed="rId1"/>
          <a:stretch/>
        </p:blipFill>
        <p:spPr>
          <a:xfrm>
            <a:off x="6948360" y="371628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parelho cardiovascu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autonômic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o esforço físico, a frequência cardíaca dos idosos aumenta menos do que nos jov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9B66-4FD9-402F-8D94-5B98870659D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12" descr="http://cdn-cf.aol.com/se/clip_art/gstres/objcts/heart_beating_final"/>
          <p:cNvPicPr/>
          <p:nvPr/>
        </p:nvPicPr>
        <p:blipFill>
          <a:blip r:embed="rId1"/>
          <a:stretch/>
        </p:blipFill>
        <p:spPr>
          <a:xfrm>
            <a:off x="7020000" y="306864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bdôme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alpação abdominal há maior probabilidade de se encontrarem massas pulsáteis devido a aneurisma da aorta e às fez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bdômen agudo em idosos pode advir sem rigidez intensa da parede abdominal, sendo até mais comum a distensão abdominal. Essa alteração pode ser devido a fraqueza da parede abdominal e à distensão de alças intestinais verificadas na peritoni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fígado em idosos pode ser palpável devido a anormalidades da caixa torácica e não ser indicativo de insuficiência cardíaca direita ou de hepatopat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6F04-9760-4841-8EBB-CDC04FFA595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mbros Inferiores (MMII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ausa mais frequente de edema de MMII em idosos é a imobilidade, agravada pela drenagem venosa precár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umente o edema de MMII é atribuído de maneira incorreta à IC nessa faixa etária. Sabe-se que mesmo quando o edema de MMII é devido a causa cardíaca, nos estágios iniciais da IC este é geralmente intermitente, de modo que nem sempre é detectado ao exame fís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dema de MMII não constitui, assim, sinal confiável de IC nos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B6B0-12A0-4616-BED1-1952900EEA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MII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bservar sempre edema, varizes e úlceras nos MMII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C231-BCF7-4160-BA33-19FD50062EC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2" descr="http://t1.gstatic.com/images?q=tbn:ANd9GcSQ2G7kFG5P3v6BJy3l5xHmZcaduYELue5EwVpETxH5IZyGi9ROHQ"/>
          <p:cNvPicPr/>
          <p:nvPr/>
        </p:nvPicPr>
        <p:blipFill>
          <a:blip r:embed="rId1"/>
          <a:stretch/>
        </p:blipFill>
        <p:spPr>
          <a:xfrm>
            <a:off x="900000" y="2205000"/>
            <a:ext cx="4388040" cy="3475080"/>
          </a:xfrm>
          <a:prstGeom prst="rect">
            <a:avLst/>
          </a:prstGeom>
          <a:ln w="0">
            <a:noFill/>
          </a:ln>
        </p:spPr>
      </p:pic>
      <p:sp>
        <p:nvSpPr>
          <p:cNvPr id="209" name="CaixaDeTexto 7"/>
          <p:cNvSpPr/>
          <p:nvPr/>
        </p:nvSpPr>
        <p:spPr>
          <a:xfrm>
            <a:off x="5580000" y="2349360"/>
            <a:ext cx="3384720" cy="30200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I edemaciado com presença de varizes e úlcera em cicatriza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as causas não forem controladas essas úlceras facilmente recidiv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MII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rofia do quadríceps: usualmente secundária a imobilidade prolongada, desnutrição ou osteoartrose dos joelhos e coxofemo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steoartrose pode acometer uma única ou diversas áreas articulares, envolvendo mais comumente articulações que suportam peso em membros inferiores, certas articulações das mãos e as colunas cervical e lomb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adiograficamente, considerando-se todas as articulações, a osteoartrose acomete cerca de 60% dos homens e 70% das mulheres após os 65 anos e após os 85 anos essa cifra atinge 100%. Seu aumento relaciona-se ao envelhecimento da popul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EA59-99A2-49BF-95DA-530BD372DAA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steoartro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5732640"/>
            <a:ext cx="48355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Osteoartrose de joelho com perda do alinhamento articular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61CF-13C9-45FE-8C0E-3FD7A9E3F6E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2" descr="http://www.medicinanet.com.br/imagens/20100813124804.jpg"/>
          <p:cNvPicPr/>
          <p:nvPr/>
        </p:nvPicPr>
        <p:blipFill>
          <a:blip r:embed="rId1"/>
          <a:stretch/>
        </p:blipFill>
        <p:spPr>
          <a:xfrm>
            <a:off x="900000" y="1197000"/>
            <a:ext cx="3419640" cy="4560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medicinanet.com.br/imagens/20100813124722.jpg"/>
          <p:cNvPicPr/>
          <p:nvPr/>
        </p:nvPicPr>
        <p:blipFill>
          <a:blip r:embed="rId2"/>
          <a:stretch/>
        </p:blipFill>
        <p:spPr>
          <a:xfrm>
            <a:off x="4500720" y="1484280"/>
            <a:ext cx="4392360" cy="3024360"/>
          </a:xfrm>
          <a:prstGeom prst="rect">
            <a:avLst/>
          </a:prstGeom>
          <a:ln w="0">
            <a:noFill/>
          </a:ln>
        </p:spPr>
      </p:pic>
      <p:sp>
        <p:nvSpPr>
          <p:cNvPr id="220" name="Espaço Reservado para Conteúdo 2"/>
          <p:cNvSpPr/>
          <p:nvPr/>
        </p:nvSpPr>
        <p:spPr>
          <a:xfrm>
            <a:off x="4500720" y="4508640"/>
            <a:ext cx="446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Osteoartrose das mãos com </a:t>
            </a:r>
            <a:r>
              <a:rPr b="0" lang="pt-BR" sz="2000" spc="-1" strike="noStrike">
                <a:solidFill>
                  <a:srgbClr val="3c3c77"/>
                </a:solidFill>
                <a:latin typeface="Verdana"/>
              </a:rPr>
              <a:t>Nódulos de Heberden nas interfalângicas dista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alux Valg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lux Valgo, denominação popular de joanetes, consiste no desvio lateral do grande dedo (desvio da falange proximal do hálux sobre a cabeça do primeiro metatársico)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536C-1BBD-4C15-B909-9FD4031FA7A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2" descr="http://www.anapaulasimoes.com.br/path/halux-valgo.jpg"/>
          <p:cNvPicPr/>
          <p:nvPr/>
        </p:nvPicPr>
        <p:blipFill>
          <a:blip r:embed="rId1"/>
          <a:stretch/>
        </p:blipFill>
        <p:spPr>
          <a:xfrm>
            <a:off x="3276720" y="3213000"/>
            <a:ext cx="30081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MII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ungueais: a onicogrifose é a deformidade e espessamento acentuada da unha principalmente do hálux (dedão), indicativo de negligência física e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unha fica espessada pela falta de cuidados, tem crescimento rápido, encurva-se e adquire uma coloração escu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 observada bem mais em idosos, mas também pode ocorrer devido a traumatismos, alterações biomecânicas do pé, infecções (onicomicoses), défice de irrigação sanguínea e de ingestão de nutrientes, Diabetes, malformação congênita da matriz ungueal; e sífilis tard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8328-4E9E-409E-91DC-4E8DC891389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nicogrifo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8CAD-41C9-4878-8BFB-A64960AB74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3360" y="-89676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http://www.dermis.net/bilder/CD020/550px/img0034.jpg"/>
          <p:cNvPicPr/>
          <p:nvPr/>
        </p:nvPicPr>
        <p:blipFill>
          <a:blip r:embed="rId1"/>
          <a:stretch/>
        </p:blipFill>
        <p:spPr>
          <a:xfrm>
            <a:off x="250920" y="1844640"/>
            <a:ext cx="4086000" cy="3057480"/>
          </a:xfrm>
          <a:prstGeom prst="rect">
            <a:avLst/>
          </a:prstGeom>
          <a:ln w="0">
            <a:noFill/>
          </a:ln>
        </p:spPr>
      </p:pic>
      <p:sp>
        <p:nvSpPr>
          <p:cNvPr id="235" name="Retângulo 7"/>
          <p:cNvSpPr/>
          <p:nvPr/>
        </p:nvSpPr>
        <p:spPr>
          <a:xfrm>
            <a:off x="4427640" y="1268280"/>
            <a:ext cx="4465440" cy="48488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 afecção pode ser prevenida quando sua etiologia for higiene inadequada ou onicomicose. Após instalada, deve-se cortar as unhas de modo apropriado lixando para conferir uma estética funcional aceitáv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desbastamento da unha e da matriz, está indicada para pacientes com boa circula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3280" y="141264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dentificar as principais peculiaridades do exame físico em idosos nos diferentes órgãos e/ou sistemas corpo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E8E6-B25E-4639-8735-C8479DC9AEB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2276640"/>
            <a:ext cx="13478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culiaridades do exame físico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lh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tose palpebral: pode ser uni ou bilateral. As causas mais frequentes nessa faixa etária são a ptose senil e a secundária à paralisia do terceiro par crani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ctrópio: eversão palpeb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rópio: inversão palpeb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cesso natural de envelhecimento associa-se à uma redução da acuidade visual devido às alterações fisiológicas das lentes oculares, défice de campo visual e doenças de ret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erca de 90% dos idosos necessitam do uso de lentes corretivas para enxergar adequadam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7DEB-87D9-412C-A857-C139C1C6E61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765180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lh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1125000"/>
            <a:ext cx="83818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rco senil: consiste em um anel esbranquiçado no perímetro da córnea, sendo comum no envelhecimento normal, sem significado patológi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CDB7-6AC8-473F-AB44-9447337B1F7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" descr="http://www.iridologia.com.br/ProjetoIridologia/web/arco_senil.jpg"/>
          <p:cNvPicPr/>
          <p:nvPr/>
        </p:nvPicPr>
        <p:blipFill>
          <a:blip r:embed="rId1"/>
          <a:stretch/>
        </p:blipFill>
        <p:spPr>
          <a:xfrm>
            <a:off x="3203640" y="256536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lh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upilas: a pupila do idoso é menor, sendo frequente a presença de pequenas diferenças de tamanho entre as duas. A reação pupilar à luz está preserv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lapso da íris: pode ser encontrado ocasionalmente em idosos, em geral, secundário à complicação de cirurgia de catara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vimentação ocular: aproximadamente um terço dos idosos apresenta anormalidades do desvio conjugado do olhar para cima, na ausência de doença neurológ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478A-4BD1-461D-B274-A2FD1D5433C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lh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4920" y="119664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apiledema (edema do disco óptico) tem sua detecção normalmente prejudicada no idoso pela coexistência de catarata e dilatação inadequada das pupil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a ausência, portanto, não exclui o diagnóstico de hipertensão intracranian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A77F-5DC4-4F85-936B-3FEF96BC072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2" descr="http://www.hojf.com.br/imagens/doencas/papiledema.gif"/>
          <p:cNvPicPr/>
          <p:nvPr/>
        </p:nvPicPr>
        <p:blipFill>
          <a:blip r:embed="rId1"/>
          <a:stretch/>
        </p:blipFill>
        <p:spPr>
          <a:xfrm>
            <a:off x="395280" y="3933720"/>
            <a:ext cx="2808360" cy="2094120"/>
          </a:xfrm>
          <a:prstGeom prst="rect">
            <a:avLst/>
          </a:prstGeom>
          <a:ln w="0">
            <a:noFill/>
          </a:ln>
        </p:spPr>
      </p:pic>
      <p:sp>
        <p:nvSpPr>
          <p:cNvPr id="125" name="Retângulo 6"/>
          <p:cNvSpPr/>
          <p:nvPr/>
        </p:nvSpPr>
        <p:spPr>
          <a:xfrm>
            <a:off x="3348000" y="3573360"/>
            <a:ext cx="5472000" cy="25333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uma condição bilateral, na grande maioria dos casos, com acuidade visual normal nas fases iniciais. Geralmente está associado a obscurecimento visual transitório com duração de segundos e visão dupla (diplopia). O diagnóstico pode ser realizado através do exame de fundo de olho como no exemplo ao lad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vi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00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incipal alteração do ouvido no idoso é a diminuição da audição como um processo natur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sua maioria essas alterações se devem à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tosclerose: envelhecimento dos ossos que formam o sistema auditivo, afetando a audição por condu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oxicações por medicamentos: kanamicina estreptomicina, aminoglicosídeos, certos antiinflamatórios e alguns diuréticos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ti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VC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um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tem dificuldade em captar sons al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0F79-18C2-4119-A20A-EA926FAF144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vi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minuição natural de audição que ocorre no idoso pode ser acompanhada de zumbido ou tinitus, o que, em geral, ocorre nos dois ouvidos e incomoda mui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zumbido piora com ansiedade, nervosismo, álcool, cafeína e uso de antiinflamatóri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o zumbido é de um só lado e há diminuição auditiva acentuada, em geral, deve-se a pequenos tumores localizados no ouv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minuição da audição também pode ocorrer pelo acúmulo de cerúmen, o que é muito comum e de fácil trata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E63B-EF50-4E69-8B08-596C25C9F15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16:26Z</dcterms:created>
  <dc:creator>Escolastica</dc:creator>
  <dc:description/>
  <dc:language>en-US</dc:language>
  <cp:lastModifiedBy>Mendoza</cp:lastModifiedBy>
  <dcterms:modified xsi:type="dcterms:W3CDTF">2012-01-31T14:25:51Z</dcterms:modified>
  <cp:revision>197</cp:revision>
  <dc:subject/>
  <dc:title>Peculiaridades do idoso no exame físico</dc:title>
</cp:coreProperties>
</file>