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6.gif" ContentType="image/gif"/>
  <Override PartName="/ppt/media/image14.jpeg" ContentType="image/jpeg"/>
  <Override PartName="/ppt/media/image1.wmf" ContentType="image/x-wmf"/>
  <Override PartName="/ppt/media/image1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A57-E400-42B6-977A-47284EC984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3E5-37E9-454E-8779-9AA3E3572B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243E-9FA1-4D89-A029-B1086DAB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7B37-4EE9-4F54-BCEA-CAC096622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59DB-9E58-4BBD-A12A-640C7630C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1FFB-26D1-4428-9157-89D62B36C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1D72-1608-4AAA-B857-5C97E6264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CEE2-A413-41AE-B0A0-40ED0BB8D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19B0-4DDD-42BC-B29E-E811D7538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4A76-E042-49A8-A9EC-75AC0B02E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50F7-70E8-42A8-8FCA-18D252155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C7F3-A250-4215-8708-DB38BDFCD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C890-C13C-4D19-9AEE-ACC82A764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42F-D4C3-4AA5-8668-856A0CD7E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3EF2-B90F-43A0-808B-266C00D21C3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vacina&#231;&#227;o+com+idosos+negros&amp;hl=pt-BR&amp;rlz=1W1RNQN_pt-BRBR458&amp;biw=1024&amp;bih=302&amp;tbm=isch&amp;tbnid=ujHt8R0R-KOzcM:&amp;imgrefurl=http://blogdojuazeiro.blogspot.com/2010_05_01_archive.html&amp;docid=02-4pGU9gO6PGM&amp;imgurl=http://3.bp.blogspot.com/_65qQzMrwzhQ/S_mQlDIbTsI/AAAAAAAAHt4/zWM1FuEtFGI/s1600/21-maio-2010+(16).JPG&amp;w=640&amp;h=480&amp;ei=ARf6Tv7vBdPMtgeHrpjQBg&amp;zoom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mo&#231;ambicanos&amp;um=1&amp;hl=pt-BR&amp;rlz=1R2SNNT_pt-BRBR431&amp;biw=1093&amp;bih=400&amp;tbm=isch&amp;tbnid=Pp8hUBp_qEOs8M:&amp;imgrefurl=http://www.santegidio.org/index.php?pageID=3&amp;id=4271&amp;idLng=1066&amp;docid=0RRj7l8bSGukiM&amp;imgurl=http://www.santegidio.org/immagini/varie/20111110_kinsasha_01.JPG&amp;w=500&amp;h=310&amp;ei=EQ_-TubRL8m1twe_v6TRBg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234900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4724280"/>
            <a:ext cx="770436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196640"/>
            <a:ext cx="835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ria de acordo com a condição geral de saúde-doença do idoso, bem como de suas limit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esse papel poderá ser melhor delimitado após a avaliação do idoso, em que o enfermeiro fará o diagnóstico do seu grau de dependênc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: o idoso é capaz de realizar as AVD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cialmente dependente: o idoso é capaz de realizar parte das AVD ou necessita de apoio em algumas de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talmente dependente: o idoso é incapaz de realizar as AVD, estando completamente dependente dos cuidados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6E0E-AC83-4752-9C9D-CF0FDCBD06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aspecto a ser considerado na definição do papel do enfermeiro no cuidado ao idoso é a diversidade da equipe de saúde que presta cuidado ao mes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profissionais que podem estar inseridos no cuidado a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sicólog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apeuta ocupa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sioterapeu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stente social e outr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to mais multiprofissional for a equipa melhor se delimita o papel d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4E0-D4B2-4927-99BC-F8B0C71773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alidade de Moçambique no cuidado ao idoso hospitalizado conta praticamente com enfermeiros, atendentes e copeiras, sendo as outras categorias profissionais apresentadas, ainda bastante escas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ontexto, o enfermeiro acaba tendo seu papel ampliado por atribuições que deveriam ser executas por profissionais  de outras form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4F12-0D89-4FE7-AA5A-33A7816F09A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pel do enfermeiro pode estar voltado para cuidados nos cam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ividu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ulatori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ntro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micíli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as geriátric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ituições de longa permanência e hospi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0A4-E8DD-4FCB-A60C-E5C6506E3C0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pel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do enfermeiro no atendimento ao idoso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4000" y="1268280"/>
            <a:ext cx="86407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ter a equipa de enfermagem preparada para lidar com as peculiaridades e limitações do utente idoso, perceber a importância de envolver o familiar/cuidador na assistência; e respeitar o comportamento de cada idoso conforme seu estado de saúde-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andar a equipa de enfermagem nos cuidados de higiene, alimentação, hidratação, monitoramento das funções cognitivas, das eliminações, administração de medicamentos, prevenção de úlceras por pressão, mobilidade e comunic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licar a Sistematização da Assistênci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B1A3-E6CE-43B2-8B0B-869FDDA3A0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e promover modificações ambientais para prevenção de quedas no domicílio e na unidade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ações individualizadas e/ou em grupo voltadas à informação, auto-estima, terapia ocupacional e recre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r orientações posturais e estimular, com a ajuda do cuidador, treinos funcionais de marcha e equilíb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as funções preservadas e desenvolver mecanismos compensatórios para as funções alter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39C9-C49E-414D-98DA-BD9C2C63A5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condições pessoais, familiares e do serviço que favoreçam ou dificultem o tratamento da pessoa idosa e corrigi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caminhar o idoso para as especialidades médicas, realização de exames, reabilitação e aquisição de medicament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formar quanto a liberação de verbas para idosos, aquisição de benefícios de previdência e aposentado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alizar visita domicil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538-8269-4FAF-AD31-C7B36C8771D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star cuidados paliativ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uidados que objetivam a melhoria da qualidade de vida do utente e de seus familiares diante de uma doença que ameaça a vida, com baixa perspectiva de cura, através da prevenção e alivio do sofrimento, tratamento da dor e de outros problemas físicos, psicológicos e espiri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B8C-EF45-42C8-B601-9A886A8847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apel do enfermeiro em um Lar de Idosos vai depender do nível de complexidade do referido 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apenas residencial, para idosos saudávei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residencial, com sistema de enfermaria? Ou os idosos enfermos são encaminhados para algum hospital de apoio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Dia, em que os idosos passam o dia e retornam para a família à noite ou finais de seman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para idosos dependentes, acamado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E6D-FD4F-45BE-865B-9EB8092BD9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196640"/>
            <a:ext cx="8381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tanto, a depender das características do Lar de idosos, o papel do enfermeiro terá enfoques variad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prevent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curativo e de reabil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A45-F3BC-42A4-B34E-AF803BF0CA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Imagem 5" descr="http://t1.gstatic.com/images?q=tbn:ANd9GcTqp90Z5g6mYnUZtHKOYQRGjuHq7DyqlSvFJWIGvuD9yKClMqZE9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73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rg_hi" descr="http://t2.gstatic.com/images?q=tbn:ANd9GcSk9TY9GR0DmfvkDkC5mVovG2rSe7YvdiV-1ocziQcpm2pFr8dh"/>
          <p:cNvPicPr/>
          <p:nvPr/>
        </p:nvPicPr>
        <p:blipFill>
          <a:blip r:embed="rId3"/>
          <a:stretch/>
        </p:blipFill>
        <p:spPr>
          <a:xfrm>
            <a:off x="395280" y="335772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916280"/>
            <a:ext cx="8308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no atendimento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9C1-1A88-4F7A-9220-AEFD863A7BF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41300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ependente das características do Lar de idosos, o enfermeiro deve estar preparado para lidar com as causas que levaram o idoso ao Lar, sendo este o diferencial para o seu papel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bandono familiar (a família não visita o idoso; os laços familiares do idoso são conflituos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elo familiar (a família considera o Lar mais seguro para o idoso, visita-o regularmente, participa da vida do idoso, leva-o para o convívio familiar sempre que possível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DFB7-C51B-4950-A919-F7F4EA27D1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 que perdeu o contato com a família por demência, dado como desaparecido e outras situações simi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decisão próp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5B02-4E4A-4178-933B-1AFE4AFC79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Imagem 5" descr="http://t2.gstatic.com/images?q=tbn:ANd9GcQL57ci4ArAWC3NJ_n7vEskKe8XCA079LRqpBbniab7m4-0raTyKg"/>
          <p:cNvPicPr/>
          <p:nvPr/>
        </p:nvPicPr>
        <p:blipFill>
          <a:blip r:embed="rId1"/>
          <a:stretch/>
        </p:blipFill>
        <p:spPr>
          <a:xfrm>
            <a:off x="4932360" y="270828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177" name="CaixaDeTexto 6"/>
          <p:cNvSpPr/>
          <p:nvPr/>
        </p:nvSpPr>
        <p:spPr>
          <a:xfrm>
            <a:off x="291636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 de ido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26828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çam várias iniciativas que fazem a diferença. Esses idosos podem ser de atendimento ambulatorial ou de Lar de idos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A1A4-CCAE-44DF-BBF7-D8ED6EFF00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" descr="http://t3.gstatic.com/images?q=tbn:ANd9GcTuOhnFK_y46BVYSJZ8UWleM-hYYpKr9otJOFWr2nZmKTyJgVGb"/>
          <p:cNvPicPr/>
          <p:nvPr/>
        </p:nvPicPr>
        <p:blipFill>
          <a:blip r:embed="rId1"/>
          <a:stretch/>
        </p:blipFill>
        <p:spPr>
          <a:xfrm>
            <a:off x="684360" y="2565360"/>
            <a:ext cx="5698800" cy="3792600"/>
          </a:xfrm>
          <a:prstGeom prst="rect">
            <a:avLst/>
          </a:prstGeom>
          <a:ln w="0">
            <a:noFill/>
          </a:ln>
        </p:spPr>
      </p:pic>
      <p:sp>
        <p:nvSpPr>
          <p:cNvPr id="183" name="CaixaDeTexto 6"/>
          <p:cNvSpPr/>
          <p:nvPr/>
        </p:nvSpPr>
        <p:spPr>
          <a:xfrm>
            <a:off x="6516720" y="299736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fermeira acompanha idosos durante caminh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540B-6205-4C51-9152-850EA6D4F0B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t1.gstatic.com/images?q=tbn:ANd9GcT-xRfOqJxyAOPpdYODSq2_bxzpDDwQ-K3Ei16fjCXxHP3sPCBT"/>
          <p:cNvPicPr/>
          <p:nvPr/>
        </p:nvPicPr>
        <p:blipFill>
          <a:blip r:embed="rId1"/>
          <a:stretch/>
        </p:blipFill>
        <p:spPr>
          <a:xfrm>
            <a:off x="395280" y="1341360"/>
            <a:ext cx="490392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CaixaDeTexto 6"/>
          <p:cNvSpPr/>
          <p:nvPr/>
        </p:nvSpPr>
        <p:spPr>
          <a:xfrm>
            <a:off x="395280" y="515772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praças; Também se aproveita para dar informações sobre vida saudável e realizar procedimentos de enfermagem (aferição da TA, glicemia e outr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http://t1.gstatic.com/images?q=tbn:ANd9GcT2_sDRPIx01CW_hHlSdDO2s1RQfiWT21wtTgpkD9Zfid_mLDGn"/>
          <p:cNvPicPr/>
          <p:nvPr/>
        </p:nvPicPr>
        <p:blipFill>
          <a:blip r:embed="rId2"/>
          <a:stretch/>
        </p:blipFill>
        <p:spPr>
          <a:xfrm>
            <a:off x="5508720" y="1341360"/>
            <a:ext cx="3343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A9D5-E2F3-4A92-8E21-3F04709EB4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2" descr="http://t2.gstatic.com/images?q=tbn:ANd9GcSo36RC90ijGvh_xUjXJQdY7WeLGT_xXLIO58UxZ_6ch5Jy2QfX"/>
          <p:cNvPicPr/>
          <p:nvPr/>
        </p:nvPicPr>
        <p:blipFill>
          <a:blip r:embed="rId1"/>
          <a:stretch/>
        </p:blipFill>
        <p:spPr>
          <a:xfrm>
            <a:off x="468360" y="1268280"/>
            <a:ext cx="4778280" cy="316872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5"/>
          <p:cNvSpPr/>
          <p:nvPr/>
        </p:nvSpPr>
        <p:spPr>
          <a:xfrm>
            <a:off x="468360" y="4508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teatro, cin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" descr="http://t1.gstatic.com/images?q=tbn:ANd9GcS03WWG5BOP7--tm4gG5uFkWTiOAlcBZSIPNzIiuVCt6BDYmFj1-w"/>
          <p:cNvPicPr/>
          <p:nvPr/>
        </p:nvPicPr>
        <p:blipFill>
          <a:blip r:embed="rId2"/>
          <a:stretch/>
        </p:blipFill>
        <p:spPr>
          <a:xfrm>
            <a:off x="5435640" y="1484280"/>
            <a:ext cx="3529080" cy="2600280"/>
          </a:xfrm>
          <a:prstGeom prst="rect">
            <a:avLst/>
          </a:prstGeom>
          <a:ln w="0">
            <a:noFill/>
          </a:ln>
        </p:spPr>
      </p:pic>
      <p:sp>
        <p:nvSpPr>
          <p:cNvPr id="196" name="CaixaDeTexto 7"/>
          <p:cNvSpPr/>
          <p:nvPr/>
        </p:nvSpPr>
        <p:spPr>
          <a:xfrm>
            <a:off x="6084720" y="4292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sessão cin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643-630B-4DCC-BBA3-66AC090AA6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http://2.bp.blogspot.com/-gDakMN5jXXs/To7-TBZmLWI/AAAAAAAAG9o/rBnkfWbuXmA/s1600/DSC_0132.JPG"/>
          <p:cNvPicPr/>
          <p:nvPr/>
        </p:nvPicPr>
        <p:blipFill>
          <a:blip r:embed="rId1"/>
          <a:stretch/>
        </p:blipFill>
        <p:spPr>
          <a:xfrm>
            <a:off x="395280" y="1484280"/>
            <a:ext cx="4554720" cy="302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t1.gstatic.com/images?q=tbn:ANd9GcQOM3C1dhJ8zeKX1CqQb-i54_bzB9RZW6HQ34CzFqUgcYxowR7B"/>
          <p:cNvPicPr/>
          <p:nvPr/>
        </p:nvPicPr>
        <p:blipFill>
          <a:blip r:embed="rId2"/>
          <a:stretch/>
        </p:blipFill>
        <p:spPr>
          <a:xfrm>
            <a:off x="5003640" y="1557360"/>
            <a:ext cx="3937320" cy="2951280"/>
          </a:xfrm>
          <a:prstGeom prst="rect">
            <a:avLst/>
          </a:prstGeom>
          <a:ln w="0">
            <a:noFill/>
          </a:ln>
        </p:spPr>
      </p:pic>
      <p:sp>
        <p:nvSpPr>
          <p:cNvPr id="202" name="CaixaDeTexto 6"/>
          <p:cNvSpPr/>
          <p:nvPr/>
        </p:nvSpPr>
        <p:spPr>
          <a:xfrm>
            <a:off x="395280" y="486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ebração de datas comemorativas. Aproveita-se para estimular e informar sobre alimentação saudável e importância da hidrat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8DE-5867-4271-8BF6-5CFB709775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t1.gstatic.com/images?q=tbn:ANd9GcTQdNER_0OCeRFCjXixwp_Uh-r7YEjpKxsEFcwYkBBBRlep7SPW0g"/>
          <p:cNvPicPr/>
          <p:nvPr/>
        </p:nvPicPr>
        <p:blipFill>
          <a:blip r:embed="rId1"/>
          <a:stretch/>
        </p:blipFill>
        <p:spPr>
          <a:xfrm>
            <a:off x="468360" y="1484280"/>
            <a:ext cx="5859360" cy="352908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5"/>
          <p:cNvSpPr/>
          <p:nvPr/>
        </p:nvSpPr>
        <p:spPr>
          <a:xfrm>
            <a:off x="755640" y="5013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actividades recreativas , lúdicas (jogo com garrafas recicláve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http://t1.gstatic.com/images?q=tbn:ANd9GcTrwwv94jC4XlmeTTNhmuZIgJtRgtsYgPhu3fxnhpf3iYit9Sr2"/>
          <p:cNvPicPr/>
          <p:nvPr/>
        </p:nvPicPr>
        <p:blipFill>
          <a:blip r:embed="rId2"/>
          <a:stretch/>
        </p:blipFill>
        <p:spPr>
          <a:xfrm>
            <a:off x="6732720" y="1628640"/>
            <a:ext cx="1703160" cy="352908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7"/>
          <p:cNvSpPr/>
          <p:nvPr/>
        </p:nvSpPr>
        <p:spPr>
          <a:xfrm>
            <a:off x="6875640" y="508464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4920" y="2060640"/>
            <a:ext cx="3313080" cy="100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itura dirigida: “O papel do enfermeiro num lar de idosos”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CB51-5C86-4F24-82B5-8D936FDAC8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826920" y="1341360"/>
            <a:ext cx="2854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35280" y="1267920"/>
            <a:ext cx="698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o papel do enfermeiro no atendimento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xplicar o 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E752-8782-4DC7-9031-7FB430A35D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160720"/>
            <a:ext cx="19429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exercem um papel prioritário no apoio aos idosos, patológicos ou não, independentes ou não, com autonomia ou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profissionais determinantes no processo de reabilitação, promovendo uma assistência sistematizada de modo que as necessidades dos idosos sejam identificadas de maneira individu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põem seus conhecimentos teórico-práticos à disposição do processo de envelhecimento, devendo manter-se em formação contínu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0D9-9958-42E9-8EBA-E886761C4A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quipe de enfermagem deve zelar para que o idoso consiga aumentar os hábitos saudáveis, diminuir e compensar as limitações inerentes a idade, confortar-se com a angustia e debilidade da velhice, incluindo o processo de mor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entanto, observa-se em muitas instituições de idosos a ausência do enfermeiro, que apesar de comprovada como indispensável acaba sendo negada por gestores que argumentam a falta de recursos financ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C416-335A-4048-B4A8-05A67D97A6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que deseja trabalhar exclusivamente com idosos pode realizar formação complementar em nível de especialização – Enfermagem Geriát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specialização irá fornecer subsídios para uma atenção de qualidade ao idoso, direcionada para as particularidades desse grupo etário em seus diversos contextos de v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não tendo a intenção de trabalhar diretamente com idosos, existe a possibilidade de o enfermeiro cuidar destes utentes em unidades básicas de saúde, enfermarias, emergências e demais setores da saúde. Portanto, devem formar uma base na sua formação ge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828-F55D-4045-9CA3-5DBD57CDDC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65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sua prática, o enfermeiro deve visar sempre a promoção da autonomia do idoso, possibilitando a este a execução das AVD e AIVD que tem condições de execu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092-E1DF-4298-BD64-382859ABD4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rg_hi" descr="http://t1.gstatic.com/images?q=tbn:ANd9GcTpT7FZF1JI4hMtNfZGSsgkgyVHJJV_vVvn0HBoo23jrOrFro0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4597560" cy="336240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6"/>
          <p:cNvSpPr/>
          <p:nvPr/>
        </p:nvSpPr>
        <p:spPr>
          <a:xfrm>
            <a:off x="5724360" y="4005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osos participam de actividades colaborativas com os trabalhadores de um Lar de ido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 do quão pequena seja esta atividade, para o idoso é a garantia da permanência de uma relativa independ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o idoso tem condições de tomar banho de chuveiro, não hesite em não dar o banho no leito! Leve-o ao chuveiro, tomando os cuidados necessários para a sua segurança, e proporcione sua autonomia, independência e o menor constrangimento pos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4FA6-579E-4F29-8AB6-E8D2AF37D5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lidar com idosos, principalmente os portadores de demência, o enfermeiro nunca deve se esquecer de que está lidando com um idoso, não com um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idoso nestas condições pode ter algumas reações infantis, como chorar, demonstrar mais medo, gritar, ser ”respondão”, porém, ele não vira criança como muitos acredit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corpo físico continua de adulto e em sua lucidez provavelmente não gostará de ser tratado como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r carinhoso, mas não tratar o idoso como crianças, com palavras no diminu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AB98-9903-4B35-985A-F4069CDD98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1:01:51Z</dcterms:created>
  <dc:creator>Escolastica</dc:creator>
  <dc:description/>
  <dc:language>en-US</dc:language>
  <cp:lastModifiedBy>Mendoza</cp:lastModifiedBy>
  <dcterms:modified xsi:type="dcterms:W3CDTF">2012-01-31T14:42:54Z</dcterms:modified>
  <cp:revision>44</cp:revision>
  <dc:subject/>
  <dc:title>Cuidados especiais a ter com idosos doentes</dc:title>
</cp:coreProperties>
</file>