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C322-494D-4AF0-BDFB-3B1D435BCD9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3262-7933-4473-9984-D8A47798E9D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2BF3-F649-4815-B1D2-208DBA5179D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73B8-1256-48BC-8743-A41A69A90EE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1B60-D0BE-4F8B-8931-D1E3D1370D0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93A2D-297C-4860-879F-340E49FEC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B896-349B-41CE-8325-7D44DB56E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51C14-3936-48F6-9165-EBC82EA80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CB56-F5C4-4816-8472-E3DA0E0CF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20682-96F1-44AF-9F76-BC233078B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8B04E-389F-4A4C-9F3E-A538E8F84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BEFE-B815-4A50-A83E-793D690B8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6328-DD21-4588-91D6-7A69AD519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C8D6-B7D7-435A-BD12-6291FADB1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8D140-2962-4F10-9FC5-E9CB970F9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E8453-BC20-4553-B18A-E4357090C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A208C-DD35-4D7A-BF62-3B6FAC9A6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4981-8D6C-42AB-AD32-364BBD90EC76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9890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2060640"/>
            <a:ext cx="65530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laboração e implementação do plano de cuidados ao utente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71280" y="4581000"/>
            <a:ext cx="75438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8"/>
          <p:cNvSpPr/>
          <p:nvPr/>
        </p:nvSpPr>
        <p:spPr>
          <a:xfrm>
            <a:off x="468360" y="1484280"/>
            <a:ext cx="8351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O enfermeiro deve decidir entre os diferentes tipos de problemas do utente com base nos seguintes parâmet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oblemas que exigem atenção imediata (urgência e emergência) e aqueles que podem esperar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oblemas que são de sua responsabilidade e aqueles que precisa encaminhar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oblemas que irá lidar usando planos de cuidados padronizado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buClr>
                <a:srgbClr val="3c3c7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ítulo 10"/>
          <p:cNvSpPr/>
          <p:nvPr/>
        </p:nvSpPr>
        <p:spPr>
          <a:xfrm>
            <a:off x="1371600" y="228600"/>
            <a:ext cx="74674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onentes de um plano de cuida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riorização das necessidades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B39D-5AB9-42B3-92E3-875A97887A2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ço Reservado para Rodapé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nalidades do 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000" y="1915920"/>
            <a:ext cx="838188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omover a comunicação entre os membros da equip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Direccionar o cuidado para as necessidades prioritárias d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riar um registo capaz de ser usado para avaliação, pesquisa e defesa leg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oporcionar documentação das necessidades de cuidado de saúde com finalidades de reembol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033A-3803-41F8-B066-D600B8FA91B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tervençã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nceito: é todo cuidado, procedimento ou acção prescrita pelo enfermeiro baseado no julgamento e no conhecimento clínico realizado para melhorar os resultados d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s intervenções de enfermagem são prescritas, em geral, de acordo com o saber individual de cada enfermeiro. Todavia com a </a:t>
            </a:r>
            <a:r>
              <a:rPr b="0" i="1" lang="pt-BR" sz="2400" spc="-1" strike="noStrike">
                <a:solidFill>
                  <a:srgbClr val="3c3c77"/>
                </a:solidFill>
                <a:latin typeface="Verdana"/>
              </a:rPr>
              <a:t>Nursing Intervention Classification (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NIC) esse comportamento caminha para mudanç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NIC reúne actualmente 514 intervenções na sua 4ª. edição (2008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F524-2E52-4F08-A610-3D9E15F09B2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mportância da NIC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1052640"/>
            <a:ext cx="446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adroniza e define a base dos conhecimentos para a prática de enfermage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acilita a seleção adequada de uma interven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acilita a comunicação dos tratamentos de enfermagem  a outros enfermeir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acilita a tomada de decisão clínica pelos enfermei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8607-DB69-48EE-B19E-6B71B2970D8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2" descr="Livro - Classificação das Intervenções de Enfermagem (NIC) - 4ª Edição"/>
          <p:cNvPicPr/>
          <p:nvPr/>
        </p:nvPicPr>
        <p:blipFill>
          <a:blip r:embed="rId1"/>
          <a:stretch/>
        </p:blipFill>
        <p:spPr>
          <a:xfrm>
            <a:off x="438156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7"/>
          <p:cNvSpPr/>
          <p:nvPr/>
        </p:nvSpPr>
        <p:spPr>
          <a:xfrm>
            <a:off x="395280" y="2060640"/>
            <a:ext cx="8352000" cy="1332000"/>
          </a:xfrm>
          <a:prstGeom prst="ellipse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47760" y="1593720"/>
            <a:ext cx="84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Resultados esperados ou desejados (NO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258920" y="227664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is resultados você espera do utente e em que praz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826920" y="393372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Problemas reais e de risco (possívei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179280" y="4365720"/>
            <a:ext cx="8713800" cy="1728720"/>
          </a:xfrm>
          <a:prstGeom prst="ellipse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900000" y="4653000"/>
            <a:ext cx="74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is os DE e os problemas reais e possíveis que precisam ser focalizados para assegurar um cuidado seguro e efic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onentes de um 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Espaço Reservado para Número de Slide 8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0E5A-8B32-4FDA-9BA0-6062662260F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spaço Reservado para Rodapé 9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3"/>
          <p:cNvSpPr/>
          <p:nvPr/>
        </p:nvSpPr>
        <p:spPr>
          <a:xfrm>
            <a:off x="324000" y="14842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Intervenções específicas (NI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468360" y="2060640"/>
            <a:ext cx="8351640" cy="1584360"/>
          </a:xfrm>
          <a:prstGeom prst="ellipse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347760" y="2349360"/>
            <a:ext cx="87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que será feito para prevenir e controla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s problemas principais e para alcançar o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ultados esperad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4000" y="407664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Avaliação/registos de evolu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Oval 17"/>
          <p:cNvSpPr/>
          <p:nvPr/>
        </p:nvSpPr>
        <p:spPr>
          <a:xfrm>
            <a:off x="250920" y="4653000"/>
            <a:ext cx="8569080" cy="1512720"/>
          </a:xfrm>
          <a:prstGeom prst="ellipse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1042920" y="5013360"/>
            <a:ext cx="758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icação dos resultados que comprovam que a pessoa está reagindo ao plano de cuida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ítulo 10"/>
          <p:cNvSpPr/>
          <p:nvPr/>
        </p:nvSpPr>
        <p:spPr>
          <a:xfrm>
            <a:off x="1371600" y="228600"/>
            <a:ext cx="74674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onentes de um plano de cuida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ítulo 10"/>
          <p:cNvSpPr/>
          <p:nvPr/>
        </p:nvSpPr>
        <p:spPr>
          <a:xfrm>
            <a:off x="1187280" y="189000"/>
            <a:ext cx="74678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onentes de um plano de cuida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onentes de um 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Espaço Reservado para Número de Slide 10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AE9E-CA6D-45B4-B7C7-5EBD1C73AFF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Espaço Reservado para Rodapé 1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8000" y="2204640"/>
            <a:ext cx="8381880" cy="21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plano de cuidados deve ser escri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s cuidados ou intervenções de enfermagem podem ser independentes e interdependentes (colaborativas com relação a outros profissionais da equipe de saúde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5434-FA2F-4412-B960-98CF6055210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7"/>
          <p:cNvSpPr/>
          <p:nvPr/>
        </p:nvSpPr>
        <p:spPr>
          <a:xfrm>
            <a:off x="324000" y="1700280"/>
            <a:ext cx="84960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ropósitos dos resultad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ão elementos de medida do plano de cuidados: mede-se o sucesso da plano determinando se os resultados esperados foram alcançados ou n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irecionam as intervenções: saber o que se está tentando alcançar antes de decidir como alcançá-l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lação entre plano de cuidados e resultados esperado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B448-63F9-4829-A92B-9ADC13098ED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5"/>
          <p:cNvSpPr/>
          <p:nvPr/>
        </p:nvSpPr>
        <p:spPr>
          <a:xfrm>
            <a:off x="324000" y="1052640"/>
            <a:ext cx="856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nsiste na decisão do enfermeiro acerca das intervenções a serem implementadas, objetivando uma assistência individualizada e de qualida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ter como subsídio a evolução de enfermagem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É feita em impresso próprio, dando seqüência à evolução de enfermagem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É feita diariamente para todos os utentes, exclusivamente pelo enfermeir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Tem no máximo 24 horas de validade, devendo ser alterada sempre que necessário, precedida de uma  evoluçã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ser datada e assinada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ituação especial: Consulta de enfermag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scriçã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FFC4-6FE2-4A5C-AF2C-347B105E8A5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468360" y="1052640"/>
            <a:ext cx="835164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incluir verbos precisos de açã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definir: quem, o quê, onde, quando, como e com que freqüência ocorrerã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abranger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ntroles de diurese, peso, secreções, drenos e sond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limentação (administração e aceitação da dieta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Higiene (cuidados especiais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inais e sintomas (observação dos sinais e sintomas relativos ou não à doença, bem como comportamento, adaptação e outro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scriçã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ED2C-F814-4D75-A8FC-26F62E835B2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Elaboração e implementação do plano de cuidados ao utente idos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9280" y="2349360"/>
            <a:ext cx="8310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Definir plano de cuidados (intervenções de enfermagem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Elementos que constituem o plano de cuida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Como implementar um plano de cuidados ao utente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22DD-5D77-4D3A-B5A6-7D2F158BD24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468360" y="1808280"/>
            <a:ext cx="8424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abranger (continuação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Tratamentos (cuidados especiais com sondas, feridas, preparo para exames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rientações (exames, tratamentos, educação para o autocuidado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ssistência às necessidades psicossocioespirituai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ncaminhamento para outros profissionais quando necessár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scriçã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36F9-C7CF-4D52-A470-78E23E12D99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mplementação do plano de cuidado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rresponde à fase de execução do plano,  considerando custo e conveniênc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implementação, sempre que possível, deve respeitar os desejos do idoso e de sua família quanto a serviços e enfermei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acompanhamento do cuidado deve incluir, de forma organizada e coordenada, acções formais e informais por parte do enfermeiro – é um processo contínuo, de si e com relação a equipa de enfermage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3C89-8AB8-4862-81DF-9CB84FDE010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mplementação do plano de cuidado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acompanhamento do cuidado resulta na observação contínua da execução do plano de cuidados, estabelecido de forma a garantir as adequações necessárias e sua execução com alto padrão de quali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s serviços prestados devem ser flexíveis e adaptáveis às mudanças observadas entre os utentes e suas famíli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B27A-4D64-4B0F-A6CC-9FE65E17451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mplementação do plano de cuidado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valiação dos resultados obtidos deve ser periódica e deve propiciar a adequação da planificação inicialmente estabeleci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bora simples e exeqüível, tal cuidado exige o repensar do plano vigente adequando-o às novas demandas d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1A16-0397-48D8-8360-D67895F5B77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35280" y="1557360"/>
            <a:ext cx="7014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nceituar plano de cuida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nceituar intervenção de enfermage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itar os elementos que constituem um plano de cuida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nhecer aspectos importantes do processo de implementação do plano de cuid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E978-78A5-46C8-8344-2544910D3E0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492280"/>
            <a:ext cx="18716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Uma vez identificadas as necessidades do idoso por meio da entrevista e do exame físico (primeira etapa do processo de enfermagem) e terem sido estabelecidos os Diagnósticos de Enfermagem, o enfermeiro passa a elaboração do Plano de cuidados (terceira etapa do processo de enfermagem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Porém, lembremos que essa separação é mais didática, pois na medida em que o enfermeiro coleta os dados do utente, seu raciocínio crítico já se inicia, culminando no DE e, consequentemente, nos principais cuidados relacionados ao mesm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BFCD-45F1-4990-BC88-07FC4CBA390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as do Process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upo 25"/>
          <p:cNvGrpSpPr/>
          <p:nvPr/>
        </p:nvGrpSpPr>
        <p:grpSpPr>
          <a:xfrm>
            <a:off x="152280" y="1295280"/>
            <a:ext cx="8991720" cy="4343400"/>
            <a:chOff x="152280" y="1295280"/>
            <a:chExt cx="8991720" cy="4343400"/>
          </a:xfrm>
        </p:grpSpPr>
        <p:sp>
          <p:nvSpPr>
            <p:cNvPr id="108" name="Oval 2"/>
            <p:cNvSpPr/>
            <p:nvPr/>
          </p:nvSpPr>
          <p:spPr>
            <a:xfrm>
              <a:off x="2514600" y="1295280"/>
              <a:ext cx="3962520" cy="19954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Oval 3"/>
            <p:cNvSpPr/>
            <p:nvPr/>
          </p:nvSpPr>
          <p:spPr>
            <a:xfrm>
              <a:off x="5486400" y="2691360"/>
              <a:ext cx="3505320" cy="2016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Oval 5"/>
            <p:cNvSpPr/>
            <p:nvPr/>
          </p:nvSpPr>
          <p:spPr>
            <a:xfrm>
              <a:off x="3886200" y="4242600"/>
              <a:ext cx="3048120" cy="13960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Oval 6"/>
            <p:cNvSpPr/>
            <p:nvPr/>
          </p:nvSpPr>
          <p:spPr>
            <a:xfrm>
              <a:off x="152280" y="2768760"/>
              <a:ext cx="3328920" cy="138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3276360" y="3352680"/>
              <a:ext cx="2209680" cy="703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sso de Enfermage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3124080" y="1605240"/>
              <a:ext cx="3175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1. Identificação de necessidades (Entrevista/ anamnese e Exame Físico)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6194520" y="2924640"/>
              <a:ext cx="2949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2. Definição do Diagnóstico de Enfermagem (uso da taxonomia da NANDA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4356000" y="4581000"/>
              <a:ext cx="2286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. Elaboração do plano de cuidad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914040" y="3156840"/>
              <a:ext cx="207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. Avaliação do utent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Oval 5"/>
            <p:cNvSpPr/>
            <p:nvPr/>
          </p:nvSpPr>
          <p:spPr>
            <a:xfrm>
              <a:off x="380880" y="4165200"/>
              <a:ext cx="3505320" cy="13550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. Implementação do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lano de cuidad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8" name="Espaço Reservado para Número de Slide 1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5973-57C6-4A2A-A38B-26765E9A7FB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Espaço Reservado para Rodapé 1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2349360"/>
            <a:ext cx="8382240" cy="22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ceit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plano de cuidados corresponde ao conjunto de intervenções de enfermagem estabelecidas para atender as necessidades prioritárias d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7261-1488-44FF-BBA7-80F1EEE0256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laboração do 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000" y="1628280"/>
            <a:ext cx="83818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plano é elaborado a partir da avaliação do utente, devendo estar voltado para o atendimento das necessidades identificadas, tendo por base os recursos potenciais do mesmo, de sua família e da comunidad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elaboração do plano de cuidados promove a integração de diferentes áreas do sector saúde e serviços sociais, uma vez que as necessidades do utente pode estar inserida em diversos camp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6D4C-42D2-4A42-96DC-81073599D49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laboração do 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5280" y="980640"/>
            <a:ext cx="85075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elaboração do plano pode ser estruturada nas seguintes etap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istagem das necessidades do utent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lista geral de necessidades do utente passa por uma priorização pelo enfermeiro, que verifica com o idoso se o mesmo está de acordo. Modificações podem ocorrer nesse mo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abelecimento de meta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metas são estabelecidas para curto, médio e longo prazo. São metas mensuráveis a serem desenvolvidas pelo idoso, pelo cuidador/familiar ou pela equipe de enfermage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60E4-7190-4F4F-907A-051F1C03C70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laboração do 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143000"/>
            <a:ext cx="838188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35480" indent="-33948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rganização dos cuidados a serem prestados: especificando tipo e quantidade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35480" indent="-33948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xemplos: número de visitas domiciliares, número de trocas de pensos, número de lavagens de aspirações, número de esvaziamento do colector de urina, 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B154-5B15-42BE-AE49-94385B8E4AC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tângulo 5"/>
          <p:cNvSpPr/>
          <p:nvPr/>
        </p:nvSpPr>
        <p:spPr>
          <a:xfrm>
            <a:off x="611280" y="4653000"/>
            <a:ext cx="8208720" cy="11912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lanificação do cuidado deve ser continuamente revisado, pois tende a se modificar conforme a evolução do quadro de saúde do utent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23:26:54Z</dcterms:created>
  <dc:creator>Escolastica</dc:creator>
  <dc:description/>
  <dc:language>en-US</dc:language>
  <cp:lastModifiedBy>Mendoza</cp:lastModifiedBy>
  <dcterms:modified xsi:type="dcterms:W3CDTF">2012-01-31T14:31:53Z</dcterms:modified>
  <cp:revision>28</cp:revision>
  <dc:subject/>
  <dc:title>Elaboração e implementação do plano de cuidados ao utente idoso</dc:title>
</cp:coreProperties>
</file>