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CA92-EA21-48FD-912E-CE6A84A5CC31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39B5-58CA-40AD-9A19-5446E7981F0D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FEB8-7B66-4CBD-BBD2-614F7363870C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CC63-3704-4103-91F1-86A2CD752AEE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7FE2-194B-44CB-A957-0D020EFE20EC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2ABE-3023-41EC-A0EB-445A290E7951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7CCE-2511-4ADB-88FC-BBAA76CB69B2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066F-9108-4F8D-9C58-BE6D23A04BA8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3A1E-026C-4F0C-BDB6-6CF95CAEAD8B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8884-26B1-41EF-B144-90D2A1E784C4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0C39-81F9-44BF-A881-47716678E066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6D60-88FC-4669-AD86-001C6C879526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CEDD-1788-4A15-B50A-7923D7A16192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8BF-32F3-4670-8A5A-64635D0A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C19-8FAD-4004-8FFC-6177D5F3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20A-36CB-4747-815E-38CAC4C1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519-F716-4DB2-A945-86E30B84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AAE-38AD-4A49-AAA4-C0FF865E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B85-3E3F-4C46-B302-963CCDA2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C63-E8BA-4FF5-9221-E1E6FFC2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FE4-51C2-475B-BE8C-C3083597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039-0B81-4723-92B4-6610FF2E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A57-DA1B-4712-AD73-626E8CF6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21A-0D68-407A-BE88-6A64EC8D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EC7-3DA2-4051-9D76-55D536B9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7407-BE7B-4B7B-AF1D-9ED4F1A13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8077320" cy="3048120"/>
          </a:xfrm>
          <a:prstGeom prst="rect">
            <a:avLst/>
          </a:prstGeom>
          <a:noFill/>
          <a:ln w="66600">
            <a:solidFill>
              <a:srgbClr val="00ff00"/>
            </a:solidFill>
            <a:miter/>
          </a:ln>
          <a:effectLst>
            <a:outerShdw dist="153009" dir="2493982" blurRad="0" rotWithShape="0">
              <a:srgbClr val="3333c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cc00cc"/>
                </a:solidFill>
                <a:latin typeface="Arial Black"/>
              </a:rPr>
              <a:t>Qualidade dos Dados</a:t>
            </a:r>
            <a:br>
              <a:rPr sz="5400"/>
            </a:br>
            <a:br>
              <a:rPr sz="2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95160" y="457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SIS</a:t>
            </a:r>
            <a:br>
              <a:rPr sz="2400"/>
            </a:br>
            <a:r>
              <a:rPr b="1" lang="pt-PT" sz="3200" spc="-1" strike="noStrike">
                <a:solidFill>
                  <a:srgbClr val="ff0000"/>
                </a:solidFill>
                <a:latin typeface="Times New Roman"/>
              </a:rPr>
              <a:t>Sistema de Informação para a Saú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504A-9351-4C02-ABC9-12E588356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9. O que se deve fazer quando se detectam erros</a:t>
            </a: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Identifique a causa do e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Corrija o erro (se possível</a:t>
            </a: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Previna que o erro volte a ocorrer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A64D-5079-4EC8-A17F-F458B0C92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10. Procedimentos Práticos de Controle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Verifique a completeza dos dados nos formul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eleça valores mínimos e máxim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ine os dados impressos para detectar erros usando medidas de controle gerais e específ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uma sessão de feedback sobre erro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767D-EA7C-4163-98D1-260A7067C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828800" y="2057400"/>
            <a:ext cx="5267160" cy="21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brigado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B236-2174-4FFC-9FD3-7151086D9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1. Objectivos Did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Valorizar a importância da Quid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Compreender porque ocorrem os err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Adquirir habilidades necessárias par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Detectar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Corrigir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Prevenir futuros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Logística do Controle de Qua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C44E-4B39-44CB-B058-6A2FD3BBC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2. Porque Razão dos Dados Estão Cheios de Erros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COLHIDOS inadequad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PROCESSADOS inadequad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rros nos dados não detectados e corrigidos</a:t>
            </a:r>
            <a:r>
              <a:rPr b="1" lang="pt-P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2D39-D394-4FE9-8E35-DFAC03A00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3. Porque os Dados Devem ser Cor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Uso de Dados Fidedignos é Perig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Produção de dados é C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incorrectos são dados inú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Produzir dados incorrectos é desperdício de tempo e dinh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Melhor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 ter dados do que ter dados incor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A04D-0883-4611-A6C2-1B06C5511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4. Em que medida os dados devem ser correctos?</a:t>
            </a: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42640" y="297144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s Dados devem ser o mais correctos possíveis de acordo com o propósito para que são process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0372-D191-4051-BB6C-B4AF52FE3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5. Princípios que enfatizam a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Formação/Capacit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Instrumentos de recolha/processamento amigá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Feedback sobre Erros dos D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Feedback sobre Informação Analis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Uso da Inform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F466-853A-45EE-9789-D8ADED0F3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6. Como se Podem Detectar os Erros?</a:t>
            </a: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Medidas gerais de Controle de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Medidas específicas de Controle de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00A0-2F41-4E17-99E4-A40EC5084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7. Medidas Gerais de Controle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Complete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Locais apropr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Instrumentos amigáve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Aritmé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49AF-26B5-4B3D-ACE8-BADA17E27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8. Medidas Específicas de Controle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Consistência de Tendência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Tendência Tempor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Mini/Max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Realis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Comparaç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Partes vs To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Dígitos Preferencia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86CC-C4DB-46E5-AB3A-0B43D5C75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20:14:06Z</dcterms:created>
  <dc:creator>António Sitói</dc:creator>
  <dc:description/>
  <dc:language>en-US</dc:language>
  <cp:lastModifiedBy>cfsm-m</cp:lastModifiedBy>
  <dcterms:modified xsi:type="dcterms:W3CDTF">2015-07-23T08:40:03Z</dcterms:modified>
  <cp:revision>31</cp:revision>
  <dc:subject/>
  <dc:title>Qualidade</dc:title>
</cp:coreProperties>
</file>