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2-16T09:40:43.25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327-FF0C-42E3-B305-3AE33778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07A-8BF0-46F2-BEA4-1176033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844-F35D-4314-8693-BCEA947B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D5E-D537-4780-8163-0BB7153B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21B6-BA33-45E8-9384-A129B331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7E1-92EF-4DF4-9171-5DF2F13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75C6-5090-4E4B-95F0-4265B4A5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C3FF-CECB-4A45-A92F-9531961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D1DB-8305-4B66-92D1-382262E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2210-F06D-42BC-8321-501FCF86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6CB8-D809-46E9-BB4A-27EDF117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C22-04ED-4FE5-A096-A3296C75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C30A-C24D-4C84-871B-653492CA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A89A-1367-48B8-921C-6AB9A9A5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B00C-D0CD-41BD-9952-293F7B44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6CE7-3D89-4D41-AD5A-C991D964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F22F-943D-4146-AC1B-951AD9E8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E0E7-E5E8-4B70-AAC8-035566B1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BD5B-1D3B-47E4-B987-1BE4FC1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9EE5-6E7F-4EAD-9CCD-359D6AB1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B4A6-6FFD-48A4-86A2-F145AC04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2829-0593-4972-A70D-6CFC0297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EBA-D028-4D64-A924-4B0B08D1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983B-2863-488B-9F0E-44DD020D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4AC9-CF22-4854-BB65-11120F5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DF5B-C80D-4197-BFED-1B5721A1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4E50-777D-4D63-9B3F-5E9654A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DBBD-A535-41A3-8618-C195F879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A272-D7CA-408A-97FB-EF9365B1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AAC5-615B-4AF3-98AF-481EC952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47CA-BC05-4B62-B900-7A022C61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8741-7860-4FE1-B1F3-330C618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0919-1136-4DC7-A91B-49A6D522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2EA-5E68-4B1D-AC03-B6B3C0E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03F7-0164-48A7-80FA-49EB4EF8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7B29-3C66-4575-BBD1-C4FE60BA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F38C9-2F6C-4E56-8376-98B9F1D9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1156-C504-4915-AA5D-7BE0B7F5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47DF-8F0B-453A-8EAC-6630469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39FD-A2A8-47E7-ABB1-831DA6B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ADE8-7918-419C-837D-9CF43076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90F0-A2C7-42FD-981B-E7C35D9F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F71D-9943-4FCD-907F-065DD773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EA27-550E-40EE-AD34-67A1ADC7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71E-CA72-46B5-BD4A-D3909D50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E417D-2A0C-43E4-BB4C-E2549D7E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B17B4-1E02-4397-B765-3E93CBF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2EDA-838A-4858-A23E-0A5AA6D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65130-0B3F-4C6B-896A-3057590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6592-613F-4276-A07B-40AC817D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2B650-3234-4D0F-BF7B-1274C56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9EF4A-B947-401F-ABFC-AC7F2EB5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16E0-57E8-4B7C-925D-87EA3BA3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EF97-85FC-42DA-83B5-500C63DB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FEF4-D12C-44A4-B32D-C20C95EA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FE4-3188-41A3-B4F6-57353979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9DB0A-70A3-4FED-89BC-380D28A3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C55-F905-4AE1-BD20-92ABF66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956-83AF-4495-BDC3-02A41482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344-14C6-4D49-896A-68A68BC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3F6B-223E-472F-BE73-05083379041E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0A3A-CE2F-4C06-A9F2-B7A57351A262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1C54-AAD1-4F96-A008-45DC09F1A171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F406-F3E9-4A5E-82A0-09008CF0A9B5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56C-F32D-486E-AEEE-CEBE802936D0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51DB-5038-4EA4-A90F-43A06D3C9045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9E8D-9F19-485D-8D01-AD5EA430BB51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919-7D1C-4113-97E1-E27A51892DBD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6CA-5E6D-4972-A571-307F76BFB276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04F9-9F0D-47C2-8B51-DA990BFF0268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sau.gov.mz/pt/content/downloa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666666"/>
                </a:solidFill>
                <a:latin typeface="Times New Roman"/>
              </a:rPr>
              <a:t>INDICADORES DE UTILIZAÇÃO DE CUIDADOS DE SAÚDE - TAXAS DE COBER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TEMA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C620-95BE-46F6-AC35-5DA58D645BF0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1EC7-E90C-4F21-995A-898C29255B6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BIBLOGRAFIA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38F-33C7-4453-9B2E-BE40975D3018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14200" y="1213920"/>
            <a:ext cx="8715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BARRETO, Avertino Teotónio, TABARD, Philipe. </a:t>
            </a:r>
            <a:r>
              <a:rPr b="0" i="1" lang="pt-PT" sz="2600" spc="-1" strike="noStrike">
                <a:solidFill>
                  <a:srgbClr val="000000"/>
                </a:solidFill>
                <a:latin typeface="Times New Roman"/>
              </a:rPr>
              <a:t>Manual de vigilância epidemiológica.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1ªedicao, Ministério de saúde, Maputo, 199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ZA" sz="2600" spc="-1" strike="noStrike" u="sng">
                <a:solidFill>
                  <a:srgbClr val="17bbfd"/>
                </a:solidFill>
                <a:uFillTx/>
                <a:latin typeface="Times New Roman"/>
                <a:hlinkClick r:id="rId1"/>
              </a:rPr>
              <a:t>WWW.misau.gov.mz/pt/content/downloa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. Manual de procedimento Para o sistema d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e informação de saúde. Captado em 17/02/2012.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3D2-5AE9-43F3-AC7D-E0EA97504FF1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FIM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0036-3079-4589-B68D-7953B6CB6223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MUITO OBRI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29C9-D9FF-4104-86BB-4DDD61AFE7D7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Cobertura do grupo etário 0-11 meses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5ABF-38DA-4E97-92CA-B65D4D00D617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2920" y="571680"/>
            <a:ext cx="885816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grupo etário 0-11 meses represent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da população total, a fonte destes dados é o impresso SIS-AO3A e este indicador calcula-se da seguinte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C.C. 0-11 meses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__  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ses administradas (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ª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 doses)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__           Grupo alvo pre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Quanto maior for a cobertura na população-alvo, menor será o número de casos previstos da doença-alvo resp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06D5-C44A-4D98-9678-F3EB5B4AC543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2556000" y="61657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131-707B-45FA-A549-4A4500A866D9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69192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cima de um certo nível de cobertura, para além da protecção individual, a vacina consegue também bloquear a transmissão da doenç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Não é necessário pois alcançar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para que isso aconteça: por exemplo, para sarampo, a transmissão cessa entr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80-8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em zonas rurais (baixa densidade populacional) 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90-9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em zonas urbanas (alta densidade populaciona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032-E152-4D00-A2FF-56D69039655E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BERTURA REAL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9F1E-8086-480A-BD17-39FCF6575C9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2920" y="642960"/>
            <a:ext cx="88581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Ao longo de monitorização do andamento do PAV, é importante diferenciar uma cobertura “cumulativa” duma “real”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Na cobertura “real” ao longo do ano, o denominador (grupo alvo) deve sempre reflectir o período do ano a que o cálculo se refer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É normal que as coberturas sejam mais altas nas áreas urbanas que áreas rurai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EFD1-11FA-4E96-B02C-7944735530CF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F9CA-93AB-4576-8E5D-BBEE59E66C49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4200" y="857160"/>
            <a:ext cx="8715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ltas coberturas deveriam também ser alcançadas à volta (raio de 5-10 km) de postos fixos de vacinação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são importantes se a qualidade da vacina estiver assegur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2C1-78B3-4517-BE35-3C1AE7B9142C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5BB7-6583-4437-823A-4676649AB43F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920" y="714240"/>
            <a:ext cx="885816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 cobertura num Distrito não pode ser uniforme, devido a influência de vários factores (densidade populacional, presença ou não de postos fixos, distância da sede, se a área é servida por brigada móve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O nível provincial atribui as metas distritais no seu todo, mas cabe ao responsável do PAV – em conjunto com o resto da equipe de saúde – redistribuir as metas (coberturas a alcançar) pelas diferentes subáreas do distri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721-AC6B-453F-867F-F1159F314614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A07B-BAC4-492C-8C0C-253C9607A24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4200" y="642960"/>
            <a:ext cx="8715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às quais nos referimos são habitualmente administrativas, isto é, resultam dos registos de actividades. Como tal, estão sujeitas a alguns problemas tais co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e dados demográficos fidedign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a qualidade de regis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Infelizmente podem ser falsific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CD5A-4668-4348-BDB1-D609A85C4C45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6666"/>
                </a:solidFill>
                <a:latin typeface="Arial"/>
              </a:rPr>
              <a:t>Cobertura de consultas pré-natais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B0B5-80E8-4A6C-9D24-702528184605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7120" y="764640"/>
            <a:ext cx="8786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dica o número de grávidas captadas pelo controle pré-natal. As grávidas esperadas são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da população to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fonte deste indicador é o impresso SIS-BO8 e calcula-se da seguint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. C.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---  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º de primeiras consultas 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--              Nº de grávidas esp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cobertura de consultas pré-natais tem de ser a mais alta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884-7F78-445E-92E5-977527C3C8AF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58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Frequência de atendimento na consulta pré-natal.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234000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B5E1-5C61-4B03-B16A-263181B4C8E5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2920" y="1213920"/>
            <a:ext cx="88581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É uma razão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. Mede quantas vezes em média uma grávida é vista ao longo do controle pré-natal, antes de chegar ao parto. A fonte deste indicador é o impresso SIS-BO8, e a fórmula é a segui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FCPN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----  </a:t>
            </a:r>
            <a:r>
              <a:rPr b="0" lang="pt-PT" sz="2600" spc="-1" strike="noStrike" u="sng">
                <a:solidFill>
                  <a:srgbClr val="000000"/>
                </a:solidFill>
                <a:uFillTx/>
                <a:latin typeface="Times New Roman"/>
              </a:rPr>
              <a:t>Nº total de consultas pré-na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----   Nº de primeiras consul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É um indicador de qualidade da consulta pré-natal, ou melhor, da sua eficácia potencial. Para ser eficaz um controle pré-natal tem que ocorrer no mínimo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três vezes/gravidez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82B7-AA07-4F3A-B5B5-6CB945B6F370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9:41Z</dcterms:created>
  <dc:creator>User</dc:creator>
  <dc:description/>
  <dc:language>en-US</dc:language>
  <cp:lastModifiedBy>User</cp:lastModifiedBy>
  <dcterms:modified xsi:type="dcterms:W3CDTF">2012-02-28T05:33:29Z</dcterms:modified>
  <cp:revision>31</cp:revision>
  <dc:subject/>
  <dc:title>TEMA</dc:title>
</cp:coreProperties>
</file>