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10A8E-9573-4CF4-B9E1-44B7B1266E2E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AA49E-6B37-4469-BD78-1E3393E90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74AFD-2F6B-4BAA-BC98-8C6C8B51E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Nota: Nesta apresentação, o termo “recém-nascido” refere-se a um bebé entre o parto e um mês de id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02949-F4D3-4505-B1E1-84111A3ED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ADEFC-55AB-4079-9354-BEC50B86D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4A104-5796-4F30-9726-2421C6B5EC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22E1C-D709-4E9D-AFD8-67CC9E702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08D15-4B67-4EF0-8236-0EBCAAB91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4C3DD-BE52-4F91-98DB-2A5FAEC46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5E38C-DF82-446C-BA52-9429C9C33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5D02C-BF3B-434B-9977-39287B8D4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recém-nascidos estão especialmente susceptíveis à hipotermia por terem uma grande superfície corporal o que ajuda a perda de calor; eles carecem de isolamento; e carecem de massa corporal para produzir e poupar calor. Eles também dependem dos cuidadores para os manter quentes e secos. Os cuidados para o recém-nascido incluem mantê-los aquecidos ao secá-los imediatamente após o parto e adiar o banho até a temperatura ter estabiliz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D5E1F-1432-4EC1-9C5C-0CDC3DC3B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7DC67-F449-469C-8B6D-5C816B6B9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03CE5-ED0B-4A2A-B593-94D734DCF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79440" y="3472920"/>
            <a:ext cx="7042320" cy="330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E64CA-D078-4D6B-8E46-48714421E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4A085-2282-4EA0-8716-BBFAAE349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793A7-5477-42AE-98BB-FC379220EC71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 lembrar que todos os recém-nascidos devem ser considerados em risco de necessitar de reanimação (ou seja, o assistente deverá estar preparado em todos os partos). Determinadas condições podem aumentar as probabilidades de se necessitar de reanimação. Por exemplo, se houver evidências de sofrimento fetal durante o trabalho de parto ou parto, mecónio espesso, parto com posição fetal invertida ou um parto premat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F02D9-A078-47D9-986F-B6E9E7C90F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senberg  também comparou a eficácia do uso da iodopovidona relativamente ao nitrato de prata e eritromicina, e descobriu que está é mais eficaz do que qualquer um d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D345A-7BE5-48C5-908F-B0A434C33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iodopovidona pode ser uma boa alternativa por ser eficaz e económ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7D7BD-E86B-43FF-8B60-0D7E2D6AB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63415-7533-4A09-B732-D0E4F8DD8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C90BF-2CE3-461A-AFF2-20197A5B7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AD875-F2A4-4845-92EE-97CF79F95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7F601-A519-4D76-8656-A2B3B63A9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61138-A9E7-4750-92C7-10A5D8E36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79440" y="3472920"/>
            <a:ext cx="7042320" cy="32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cuidados neonatais são importantes porque as principais causas de óbitos neonatais são a asfixia e infecções. É crucial a presença de um assistente capacitado no parto para avaliar correctamente ao recém-nascido, realizar intervenções essenciais e não adiar a ressuscitação quando indicada. Se necessário, o assistente deverá poder cuidar ou transportar um recém-nascido do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programas para diarreia e imunização são responsáveis pela descida da TMI, mas a TMN permanece elev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C9E57-01C5-4783-A7DA-93ED3C5D8D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C3A98-200F-46B3-9DE6-D163F262D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BA63D-994C-4EFE-B76B-3CA1FE48A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FC783-DCBB-469E-92F4-EE0A94F76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8C8BF-E8C9-43C9-811F-49F8CC07E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36BEC-EC4F-46E8-8CBF-A7F90980B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89956-0A2B-4714-B0E6-20126B445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CE3BA-0890-42ED-A184-F3D33D757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D96A3-7A3D-4275-B5F7-45502E47B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A9C6-F341-433B-A586-DE5D5F9A2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2395-1BAF-408C-8100-A7ECCFDC9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9980-E917-4383-A5E1-7FA1E3A6C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62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0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14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62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0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4D9C-58D2-4554-8156-42BF86EA0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9000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AC18-5125-4E89-A8F6-8367711B1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62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0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714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62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0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6117-EC4B-4299-A9A6-97F31FD2F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2971-D589-4F54-9105-D72CFC723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C4BD-4967-4127-A09C-5CFA44E79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9000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8915-737D-4656-BA29-FBF6EC649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DA18-48F3-4AE6-BD70-4AE5BC096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72CF-B53F-4625-9F86-501A99069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19E5-404F-49F1-A9CD-8681F648B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1268280" indent="-225360">
              <a:spcBef>
                <a:spcPts val="1400"/>
              </a:spcBef>
              <a:buClr>
                <a:srgbClr val="cc66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3" marL="1606680" indent="-22392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4" marL="2522520" indent="-342720">
              <a:spcBef>
                <a:spcPts val="1400"/>
              </a:spcBef>
              <a:buClr>
                <a:srgbClr val="80008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5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6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380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" name="Picture 7" descr="mid_access_hex"/>
          <p:cNvPicPr/>
          <p:nvPr/>
        </p:nvPicPr>
        <p:blipFill>
          <a:blip r:embed="rId2"/>
          <a:stretch/>
        </p:blipFill>
        <p:spPr>
          <a:xfrm>
            <a:off x="2405160" y="5997600"/>
            <a:ext cx="1600200" cy="588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Horizontal_RGB_600"/>
          <p:cNvPicPr/>
          <p:nvPr/>
        </p:nvPicPr>
        <p:blipFill>
          <a:blip r:embed="rId3"/>
          <a:stretch/>
        </p:blipFill>
        <p:spPr>
          <a:xfrm>
            <a:off x="347760" y="6062760"/>
            <a:ext cx="1788840" cy="5331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771960" y="6181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F539-D81E-49B1-AE66-D1193BE4B20A}" type="slidenum"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600200"/>
            <a:ext cx="9144000" cy="3962520"/>
          </a:xfrm>
          <a:prstGeom prst="rect">
            <a:avLst/>
          </a:pr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066680" y="6019920"/>
            <a:ext cx="723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Helvetica LT Std"/>
              </a:rPr>
              <a:t>Jhpiego</a:t>
            </a:r>
            <a:r>
              <a:rPr b="0" lang="pt-PT" sz="1100" spc="-1" strike="noStrike">
                <a:solidFill>
                  <a:srgbClr val="ffffff"/>
                </a:solidFill>
                <a:latin typeface="Helvetica LT Std"/>
              </a:rPr>
              <a:t> em parceria com a Save the Children, Constella Futures, A Academia para Desenvolvimento Educacional, O Instituto Superior Americano de Enfermeiras-Parteiras e IMA World Health</a:t>
            </a:r>
            <a:endParaRPr b="1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" name="Picture 12" descr="mid_access_hex"/>
          <p:cNvPicPr/>
          <p:nvPr/>
        </p:nvPicPr>
        <p:blipFill>
          <a:blip r:embed="rId2"/>
          <a:stretch/>
        </p:blipFill>
        <p:spPr>
          <a:xfrm>
            <a:off x="5791320" y="438120"/>
            <a:ext cx="259056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Horizontal_RGB_600"/>
          <p:cNvPicPr/>
          <p:nvPr/>
        </p:nvPicPr>
        <p:blipFill>
          <a:blip r:embed="rId3"/>
          <a:stretch/>
        </p:blipFill>
        <p:spPr>
          <a:xfrm>
            <a:off x="762120" y="533520"/>
            <a:ext cx="2895480" cy="861840"/>
          </a:xfrm>
          <a:prstGeom prst="rect">
            <a:avLst/>
          </a:prstGeom>
          <a:ln w="0">
            <a:noFill/>
          </a:ln>
        </p:spPr>
      </p:pic>
      <p:sp>
        <p:nvSpPr>
          <p:cNvPr id="49" name="Line 8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1268280" indent="-225360">
              <a:spcBef>
                <a:spcPts val="1400"/>
              </a:spcBef>
              <a:buClr>
                <a:srgbClr val="cc66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3" marL="1606680" indent="-22392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4" marL="2522520" indent="-342720">
              <a:spcBef>
                <a:spcPts val="1400"/>
              </a:spcBef>
              <a:buClr>
                <a:srgbClr val="80008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5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6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2130120"/>
            <a:ext cx="5486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Melhores Práticas em Cuidados Neonatais Imediato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720" y="3809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660066"/>
                </a:solidFill>
                <a:latin typeface="Helvetica LT Std"/>
              </a:rPr>
              <a:t>Melhores Práticas em Cuidados Maternos e Neonatais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7" name="Picture 4" descr="m11.jpg"/>
          <p:cNvPicPr/>
          <p:nvPr/>
        </p:nvPicPr>
        <p:blipFill>
          <a:blip r:embed="rId1"/>
          <a:stretch/>
        </p:blipFill>
        <p:spPr>
          <a:xfrm>
            <a:off x="7238880" y="1752480"/>
            <a:ext cx="1739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FD64-75AA-42CE-950D-9D395E35D3A2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9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Qual é o cuidado essencial para um recém-nascido imediatamente após o parto?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Picture 4" descr="j0078711"/>
          <p:cNvPicPr/>
          <p:nvPr/>
        </p:nvPicPr>
        <p:blipFill>
          <a:blip r:embed="rId1"/>
          <a:stretch/>
        </p:blipFill>
        <p:spPr>
          <a:xfrm>
            <a:off x="6172200" y="3200400"/>
            <a:ext cx="9936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29DC-00F5-41E8-B4AA-211F3E371499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ntervenções Essenciais nos Cuidad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Parto limpo e cuidados para o cordão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Evitar infecções neonatai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Protecção térmica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Prevenir e manejar a hipo/hipertermia neonata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Amamentação precoce e exclusiva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Iniciada 1 hora após o part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Início da respiração e ressuscitação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Identificação precoce e manejo da asfixi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30A8-44F1-4DE9-8FFF-952B8059B288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ntervenções Essenciais nos Cuidados Neonatai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uidados oftálmicos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evenir e fazer o manejo  da oftalmia do neona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munização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No nascimento: Vacina ‘’Bacille Calmette-Guerin (BCG)’’, vacina de póliovírus (OPV) oral e vacina contra o vírus da hepatite B (HBV) (OM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dentificação e gestão do recém-nascido doente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uidados para o recém-nascido prematuro e/ou com baixo peso à nascenç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2D9F-28EB-4114-BC1B-85DA65382565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Limpeza para Prevenção de Infecçõe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s princípios de limpeza são essenciais nos partos domiciliares e nas unidades sanitária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0120" indent="-33012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Princípios de limpeza no parto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Mãos limpa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Períneo limp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Não introduzir nada não limpo na vagin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Superfície de parto limp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Limpeza na pinçagem e corte do cordã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Limpeza para cuidado do cordã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3C3F-32E9-47E7-B1B3-10C79A4C822D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Limpeza para Prevenção de Infecçõe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Medidas de prevenção/controlo de infecções nas unidades de saúde e depois da alt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s cuidadores e todas as outras pessoas devem lavar as mãos antes de tocar ou cuidar do bebé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Evitar contacto com crianças e adultos doente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B43A-506A-4695-863A-F974D25AB076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79106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Quais são os princípios e práticas chave nos cuidados com o cordão umbilical?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3" name="Picture 4" descr="j0078711"/>
          <p:cNvPicPr/>
          <p:nvPr/>
        </p:nvPicPr>
        <p:blipFill>
          <a:blip r:embed="rId1"/>
          <a:stretch/>
        </p:blipFill>
        <p:spPr>
          <a:xfrm>
            <a:off x="3886200" y="1219320"/>
            <a:ext cx="9936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A1C8-CEAE-4CD5-A230-20B6D79467AB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Cuidados com o Cord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Não aplicar nenhuma compressa ou substância de qualquer naturez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Se o cordão sangrar, voltar a atá-l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Normalmente cai  4–7 dias após o part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té o cordão cair, colocá-lo fora da fralda para evitar contaminação com urina/fez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Lavar só com sabão e água limpa (se estiver sujo)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F755-B9EB-425B-BAD9-525B3F6C187D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Arial"/>
              </a:rPr>
              <a:t>Protecção Térmic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1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Fisiologia do Recém-nascido: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Temperatura normal : 36,5–37,5°C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Hipotermia: &lt; 36,5°C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eríodo de estabilização: 1ªs 6–12 horas após o parto: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Grande área de superfície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Fraco isolamento térmic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Massa corporal reduzida para produzir e conservar calor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Incapacidade de alterar a postura ou ajustar o vestuário para responder ao stress térmic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 </a:t>
            </a: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umento da hipotermia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Recém-nascido deixado molhado enquanto se espera a expulsão da placent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Lavagem precoce do recém-nascido (nas primeiras 24 hora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C62A-1235-4781-96A1-67CF0DB49693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revenção da Hipotermi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Fazer o parto num quarto aquecid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Secar bem o recém-nascido e embrulhá-lo num pano seco e aquecid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Entregar à mãe o mais cedo possível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0320" indent="-323280" algn="just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Contacto pele-com-pele durante as primeiras horas após o par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0320" indent="-323280" algn="just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omove o vínculo afectiv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0320" indent="-323280" algn="just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ossibilita a amamentação precoce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Verificar o aquecimento ao sentir os pés do recém-nascido de 15 em 15 minut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Dar banho depois da temperatura estar estável (depois de 24 horas)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FE75-CBBF-49F2-B2E6-01C0B1C426B8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mamentação Precoce e Exclusiv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ontacto precoce entre a mãe e o bebé: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ossibilita a amamentaçã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s políticas de quarto único nas unidades sanitárias previnem a infecção nosocomial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Melhores Práticas;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Sem alimentações pré-lácteas ou outro suplemen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dministrar a primeira amamentação na primeira hora após o par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osicionamento correcto para possibilitar uma boa pega do recém-nascid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mamentação conforme solicitad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poio psicossocial para a mãe que amament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7928280" y="56386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OMS 1999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E24F-2860-4D9E-8C1C-ABD29E47C843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Objectivos da Sess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Definir os elementos essenciais dos primeiros cuidados ao recém-nascido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Discutir a melhor prática para a promoção da saúde neonata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Usar dados e informação relevante para desenvolver recomendações apropriadas para os cuidados neonatais essenciai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F65F-A833-4A17-8252-F48BF826F51A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mamentação Precoce e Exclusiva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nício da amamentação: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O colostro é o primeiro leite secretado e é importante para o bebé para nutrição e protecção contra doença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 maioria dos bebés está pronta para mamar em15-55 minutos após o parto;  o sucesso na primeira mamada muitas vezes indica o êxito na amamentação posterior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uto-pega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Colocar o bebé de bruços por cima do abdómen da mãe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poiar o bebé à medida que se move em direcção ao sei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Dar tempo ao bebé para abocanhar o mamilo antes de colocá-lo dentro da boc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91560" y="551196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</a:rPr>
              <a:t>: SNL 2004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4891-1296-4D8A-9A55-893758B1341C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mamentação Precoce e Exclusiva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0" algn="just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Sinais de que o bebé esteja a receber leite suficiente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bebé urina pelo menos 6 vezes em 24 hora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onsegue-se ouvir o bebé a engolir a mamad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seio da mãe fica mais macio depois de uma mamad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bebé engorda com o tempo (depois da primeira semana)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bebé aparenta estar satisfeito após a mamad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315200" y="5791320"/>
            <a:ext cx="15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</a:rPr>
              <a:t>: SNL 2004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4278-2417-480E-A6E6-38AF81CF1CA4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nício da Respiração e Reanimaç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Respiração espontânea (&gt; 30 inspirações/min.) na maioria dos bebés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Estímulo suave, quando necessári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7320" indent="-33732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Pode ser necessária a reanimação do recém-nascido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Sofrimento fetal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resença de mecónio espess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artos vaginais com posição fetal invertida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rematur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7320" indent="-33732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esconhecida a eficácia da sucção oro-nasal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Vantagens biologicamente plausíveis  – vias respiratórias desimpedidas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otenciais desvantagens reais – arritmia cardíaca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refere-se a sucção com pêra (mas cada bebé deverá ter a sua pêra para prevenir a transmissão de infecções)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328800" y="6019920"/>
            <a:ext cx="16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Arial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: Hamilton 1999</a:t>
            </a: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C05D-406F-47D8-B635-19475442399D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odopovidona para Conjuntivite: </a:t>
            </a:r>
            <a:br>
              <a:rPr sz="3200"/>
            </a:b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Objectivo e Estrutur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bjectivo: </a:t>
            </a:r>
            <a:r>
              <a:rPr b="0" lang="pt-PT" sz="2800" spc="-1" strike="noStrike">
                <a:solidFill>
                  <a:srgbClr val="660066"/>
                </a:solidFill>
                <a:latin typeface="Helvetica LT Std"/>
              </a:rPr>
              <a:t>Determinar a incidência e tipo de conjuntivite depois da  iodopovidona  no Quéni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0120" indent="0" algn="just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0120" indent="-33012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Estrutura: Rotação semanal do regime: eritromicina, nitrato de prata, iodopovidon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Mais infecções com nitrato de prata do que com iodopovidona, OR 1,76, p &lt; 0,001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Mais infecções com eritromicina do que com iodopovidona OR 1,38, p=0,001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12800" y="5664240"/>
            <a:ext cx="27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Arial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: Isenberg, Apt and Wood 1995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E5A5-6CDF-4911-8BD1-064051421553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odopovidona para Conjuntivite: Conclus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91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0" algn="just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Iodopovidona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É uma boa profilaxi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Tem um espectro anti-bacteriano maior 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Causa maior redução nas unidades formadoras de colónias e no número de espécies bacteriana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É activa contra víru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É económic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059520" y="571500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</a:rPr>
              <a:t>: Isenberg, Apt and Wood 1995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8341-4050-4431-909E-3B6665FDED6C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munizaç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106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Vacinações BCG em toda a população de alto risco para infecção por tuberculose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Dose única de OPV (Polio) à nascença ou na 2ª semana após o parto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Vacinação HBV o mais cedo possível onde sejam comuns infecções perinatai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F2D9-9707-4872-8E07-F03D42863044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conselhament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Mesmo que a mãe tenha alta poucas horas após o parto, ela deverá receber aconselhamento sobre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Amamentação exclusiv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Higiene – cuidados oftálmicos e para o cordã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Protecção térmic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Sinais de perigo e o que fazer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EA60-1D20-44B6-8C6E-7D455DBACE0B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Encenaç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Realizar e discutir a encenação conforme descrito na apostila.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E40F-9A7D-4B34-A58A-1704F8E3DDEF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91064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Quais são os sinais de perigo no recém-nascido?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9" name="Picture 4" descr="j0078711"/>
          <p:cNvPicPr/>
          <p:nvPr/>
        </p:nvPicPr>
        <p:blipFill>
          <a:blip r:embed="rId1"/>
          <a:stretch/>
        </p:blipFill>
        <p:spPr>
          <a:xfrm>
            <a:off x="4267080" y="1600200"/>
            <a:ext cx="9939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B82E-B318-4D84-8142-00B810D1C9C4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lano de Prontidão para Complicaçõe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183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31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Sinais de Perigo para o Recém-nascido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ificuldade respiratóri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Convulsões, espasmos, perda de consciência, ou encurvamento da colun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Cianose (azulado)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Quente ao toque (febre)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Frio ao toque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Sangramento 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Icterícia (côr amarela)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797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Palidez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iarrei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Vómitos persistentes ou distensão abdomina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Não comer ou mamar ma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Pus ou vermelhidão no umbigo, olhos ou pele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Membros ou articulações inchadas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Fraquez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Letargia 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A1FC-B69A-43DF-B60B-87DD48DC902C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0" algn="just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660066"/>
                </a:solidFill>
                <a:latin typeface="Helvetica LT Std"/>
              </a:rPr>
              <a:t>Todos os anos:</a:t>
            </a:r>
            <a:endParaRPr b="1" lang="en-US" sz="26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8,1 milhões de mortes de bebés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4 milhões de mortes neonatai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40% do total da mortalidade de crianças com menos de 5 ano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ito mortes neonatais por minut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4 milhões de nados mort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 mortalidade de crianças com menos de um e de cinco anos diminuiu significativamente – mas a TMN pouco diminuiu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724280" y="1828800"/>
            <a:ext cx="3962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039C-5F1D-45CC-9F6D-4F3C45C63D5A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Resum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Parto limpo e cuidados com o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    </a:t>
            </a: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ordã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Protecção térmic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mamentação precoce e exclusiv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uidados oftálmic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munizaçã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457200" y="1295280"/>
            <a:ext cx="5272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s componentes essenciais dos cuidados neonatais normais incluem: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8" name="Picture 6" descr="M11_3.jpg"/>
          <p:cNvPicPr/>
          <p:nvPr/>
        </p:nvPicPr>
        <p:blipFill>
          <a:blip r:embed="rId1"/>
          <a:stretch/>
        </p:blipFill>
        <p:spPr>
          <a:xfrm>
            <a:off x="6248520" y="1828800"/>
            <a:ext cx="25686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90B5-EEE0-41F4-A4AC-1330B65CCBC0}" type="slidenum">
              <a:rPr b="1" lang="en-US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Referência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Bell TA et al. 1993. Randomized trial of silver nitrate, erythromycin and no eye prophylaxis for the prevention of conjunctivitis among newborns not at risk for gonococcal ophthalmitis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Pediatrics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92: 755–760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Chen J. 1992. Prophylaxis of ophthalmia neonatorum: comparison of silver nitrate, tetracycline, erythromycin, and no prophylaxis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Pediatr Infect Dis J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11: 1026–1030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Child Health Research Project and Maternal and Neonatal Health Program. 1999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Reducing Perinatal and Neonatal Mortality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. Report of a meeting in Baltimore, MD, 10–12 May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Ganges F. 2006. Normal Newborn Care, a presentation in Accra, Ghana,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Basic Maternal and Newborn Care Technical Update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. (April)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52F6-5EA3-4477-8E10-338B511A7652}" type="slidenum">
              <a:rPr b="1" lang="en-US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Referência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1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Hamilton P. 1999. Care of the newborn in the delivery room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Br Med J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318: 1403–1406. 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Isenberg SJ, Apt L and Wood M. 1995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A 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controlled trial of povidone-iodine as prophylaxis against ophthalmitis neonatorum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.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N Engl J Med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332: 562–566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Kinzie B and Gomez P.  2004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Basic Maternal and Newborn Care: A Guide for Skilled Providers.  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Jhpiego: Baltimore, MD. 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Saving Newborn Lives (SNL).  2004. 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Care of the Newborn: Reference Manual.  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Save the Children: Washington, D.C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World Health Organization (WHO). 1999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Care in Normal Birth: A Practical Guide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. WHO: Geneva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68DE-13D5-472D-8C88-4A8B4C11830C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	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9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Quais são as principais causas da mortalidade neonatal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210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2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31B7-24CE-4696-B6D6-0A00263127D4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Causas de Óbit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77720" y="1447920"/>
          <a:ext cx="75409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1447920"/>
                    <a:ext cx="75409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5"/>
          <p:cNvSpPr/>
          <p:nvPr/>
        </p:nvSpPr>
        <p:spPr>
          <a:xfrm>
            <a:off x="6248520" y="2133720"/>
            <a:ext cx="304560" cy="2819160"/>
          </a:xfrm>
          <a:custGeom>
            <a:avLst/>
            <a:gdLst>
              <a:gd name="textAreaLeft" fmla="*/ 0 w 304560"/>
              <a:gd name="textAreaRight" fmla="*/ 109800 w 30456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612120" y="3276720"/>
            <a:ext cx="896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66"/>
                </a:solidFill>
                <a:latin typeface="Helvetica LT Std"/>
              </a:rPr>
              <a:t>Infecção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660066"/>
                </a:solidFill>
                <a:latin typeface="Helvetica LT Std"/>
              </a:rPr>
              <a:t>36%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1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4A4F-BC8D-4F3D-9ABB-1D7ECB24840C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838080" y="1990800"/>
          <a:ext cx="788688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90800"/>
                    <a:ext cx="788688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3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  <a:ea typeface="Arial"/>
              </a:rPr>
              <a:t>Risco por Semana de Vida durante os Primeiros 5 Anos: O Primeiro Período Pós-natal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28600" y="563868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  <a:ea typeface="Arial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  <a:ea typeface="Arial"/>
              </a:rPr>
              <a:t>: Lawn Addis presentation based on global ENMR, NMR 2000 estimates, IMR and U5M in State of the World’s Children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295280" y="1370160"/>
            <a:ext cx="2286000" cy="838080"/>
          </a:xfrm>
          <a:prstGeom prst="downArrow">
            <a:avLst>
              <a:gd name="adj1" fmla="val 78120"/>
              <a:gd name="adj2" fmla="val 26620"/>
            </a:avLst>
          </a:prstGeom>
          <a:solidFill>
            <a:srgbClr val="cc33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10147"/>
                </a:solidFill>
                <a:latin typeface="Helvetica LT Std"/>
                <a:ea typeface="Arial"/>
              </a:rPr>
              <a:t>A semana de vida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10147"/>
                </a:solidFill>
                <a:latin typeface="Helvetica LT Std"/>
                <a:ea typeface="Arial"/>
              </a:rPr>
              <a:t>com maior risco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505320" y="137016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66"/>
                </a:solidFill>
                <a:latin typeface="Helvetica LT Std"/>
                <a:ea typeface="Arial"/>
              </a:rPr>
              <a:t>Risco de morte por cada semana de vida durante os primeiros 5 anos de vida, com base nas médias globais da taxa de mortalidad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FB21-DCE3-477A-A297-60508BE3C129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660066"/>
                </a:solidFill>
                <a:latin typeface="Helvetica LT Std"/>
              </a:rPr>
              <a:t>O processo do parto foi a causa antecedente de 2/3 das mortes por infecção:</a:t>
            </a:r>
            <a:endParaRPr b="1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Falta de higiene no parto e durante o período neonatal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Partos domiciliares sem assistentes de parto capacitados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660066"/>
                </a:solidFill>
                <a:latin typeface="Helvetica LT Std"/>
              </a:rPr>
              <a:t>Asfixia durante o parto nos países em desenvolvimento:</a:t>
            </a:r>
            <a:endParaRPr b="1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3% dos recém-nascidos sofrem de asfixia de parto ligeira a moderada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Frequentemente, a reanimação imediata não é iniciada ou o procedimento é inadequado ou incorrecto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5" name="Picture 5" descr="M11_1.jpg"/>
          <p:cNvPicPr/>
          <p:nvPr/>
        </p:nvPicPr>
        <p:blipFill>
          <a:blip r:embed="rId1"/>
          <a:stretch/>
        </p:blipFill>
        <p:spPr>
          <a:xfrm>
            <a:off x="6629400" y="4495680"/>
            <a:ext cx="1852560" cy="19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9396-A3B0-4B14-BD07-1BA42E0D01B5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Baixo Peso à Nascença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Um factor extremamente importante na mortalidade neonata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Hipotermia e Óbitos Neonatais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Contribuição significativa para os óbitos de bebés com baixo peso à nascença e recém-nascidos prematuro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áticas sociais, culturais e sanitárias que atrasam os cuidados ao recém-nascid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Países com uma elevada prevalência de ITS e práticas profiláticas inconsistentes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 Oftalmia do neonato é uma causa comum da cegueir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D7B4-DBF9-42B3-AEB0-362909C5F7A8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297144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pt-PT" sz="2000" spc="-1" strike="noStrike">
                <a:solidFill>
                  <a:srgbClr val="660066"/>
                </a:solidFill>
                <a:latin typeface="Arial"/>
              </a:rPr>
              <a:t>As estratégias para melhoria da saúde neonatal </a:t>
            </a: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evem ter como alvo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arteiras, famílias e comunidade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ofissionais dos cuidados de saúde dentro do sistema de saúde forma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28600" y="1447920"/>
            <a:ext cx="876312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Local do Parto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Até 2 de 3 partos na maioria dos países em desenvolvimento ocorrem em casa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Somente metade dos partos são assistidos por pessoal capacitado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Picture 7" descr="M11_2.jpg"/>
          <p:cNvPicPr/>
          <p:nvPr/>
        </p:nvPicPr>
        <p:blipFill>
          <a:blip r:embed="rId1"/>
          <a:stretch/>
        </p:blipFill>
        <p:spPr>
          <a:xfrm>
            <a:off x="1066680" y="3048120"/>
            <a:ext cx="2721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8T15:10:10Z</dcterms:created>
  <dc:creator>Sonia Elabd</dc:creator>
  <dc:description/>
  <dc:language>en-US</dc:language>
  <cp:lastModifiedBy>Natercia Fernandes</cp:lastModifiedBy>
  <dcterms:modified xsi:type="dcterms:W3CDTF">2009-08-03T19:29:35Z</dcterms:modified>
  <cp:revision>119</cp:revision>
  <dc:subject/>
  <dc:title>Normal Newborn C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../../nncpg.htm</vt:lpwstr>
  </property>
  <property fmtid="{D5CDD505-2E9C-101B-9397-08002B2CF9AE}" pid="9" name="LinkColor">
    <vt:r8>16711782</vt:r8>
  </property>
  <property fmtid="{D5CDD505-2E9C-101B-9397-08002B2CF9AE}" pid="10" name="MailAddress">
    <vt:lpwstr>repro@jhpiego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\PSS\Reproline\PPTs\MNH_PPTs\nnc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