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E22F-3771-4800-A8DB-D1CBDC3C7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45E3-F0E0-4D7C-B04B-C156C5D70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CB68-19D8-4909-B9B5-A74A9E275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2245-3372-4F6F-BB3B-64DBCF0CA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403D-D8C5-4B54-B3C0-E2277ED09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E43C-169F-4AFA-A392-35E3EB069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C34E-D363-4399-B4E9-00AD4A61A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D4A8-3EE3-4E17-BD79-419790EAF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A2CF-3985-48DF-B672-03B43BD64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10AA-7FAE-48BD-9348-236937998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C2E0-B5DA-4B62-B15A-24E088FBB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A03C-D3B3-40AC-A829-C19648977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6F08-9D8D-406C-B863-17ABC7F6F5C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NFERMAGEM OBSTÉT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4419360"/>
            <a:ext cx="6172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 Black"/>
              </a:rPr>
              <a:t>Módulo 10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ípios Orientadore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integral, ou seja tomar em consideração as necessidades intelectuais, emocionais, sociais e culturais das mulheres, seus filhos e família, e não somente uma atenção no âmbito biológ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r centrada na família e ser dirigido para as necessidades não só da mulher e seu filho, mas do cas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siderar a tomada de decisão ou escolha informada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0B7E-911D-4551-984B-87CF7194D66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ípios Orientadore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apropriada, tendo em conta as diferentes estruturas culturais, de forma a permitir que se atinja os seus objectivos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peitar a privacidade, a dignidade e a confidencialidade das mulher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stes princípios asseguram fortemente a protecção, promoção e o apoio necessário para se atingia uma atenção efectiva da mulher.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58B8-9C9F-4691-9876-6946EA4DAC6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laneamento Famili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Planeamento Familiar é uma forma racional e saudável de espaçar os nascimentos, abrangendo áreas como infertilidade e a sexual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É  um conjunto de acções que permitem às mulheres e aos homens escolher quando querem ter um filho, o número de filhos que querem ter e o espaçamento entre o nascimento dos seus filhos, contribuindo significativamente para a saúde da  mulher, das crianças e da família no geral.   (</a:t>
            </a: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comissão para a igualdade e para os direitos da Mulher, 2001:25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18D6-68F1-4787-BEC2-74525DFC9FF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51E1-4114-4379-93FA-66A8B9FDA17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tracep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É prevenção intencional da gravidez através de utilização de métodos anticonceptivos, ou seja, prevenção da concepção por bloqueio temporário ou permanente da fertil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Métodos Anticonceptiv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São métodos usados por indivíduos ou casais sexualmente activos para evita a gravide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laneamento Familiar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laneamento Familiar (Cont.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2060"/>
                </a:solidFill>
                <a:latin typeface="Arial"/>
              </a:rPr>
              <a:t>Tipos de Métodos Anticonceptivo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Método de Barreira: Preservativos Masculinos e Femini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Métodos Hormon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Pílul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Depropove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Implante Sub – dérm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DIU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4E97-9895-4303-B97E-68E850163E5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Tipos de Métodos (cont.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DA81-1BA7-46C8-964C-0938ACDAD43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3. Métodos Tradicion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mament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étodo Baseado na Percepção da Fertil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ito Interrompi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stinência Sex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4. Métodos Irreversíve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asectom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queação das Trompas de Falópio (Tubária ).</a:t>
            </a:r>
            <a:br>
              <a:rPr sz="2400"/>
            </a:b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onceito de Obstetrí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úde 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2375-8FD2-4957-87A4-E80B53729ED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 de Obstetríc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tetrícia, é a ciência que se ocupa pela saúde da  mulher durante a gravidez, parto e puérpera, fornecendo à mulher grávida e a sua família o apoio psico-social, assim como educação e orientações em relação à gravidez, parto, e cuidados ao Recém –Nascido (RN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mportância de Obstetrícia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mportância de Obstetríci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gnosticar, manejar a evolução e tratar complicações durante a gravidez, que mais contribuem para a morbilidade materna neonatal e infanti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FEFB-47CA-486C-A4DC-A9F5A7A26E3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s sinais e sintoma de gravidez dividem se em três categor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1- Sinais de presunção - os que sugerem a gest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2- Sinais de probabilidade – que indicam uma provável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3- Sinais de certeza – que confirmam um diagnóstico de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1B49-DE25-4D94-9CBD-CB30B952DCC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1-Sinais de presunção ( que sugerem gravidez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menorreia (ausência de menstruação)- é o primeiro sinal que alerta a mulher para uma provável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áuseas com ou sem vómitos. Aparece no início da gravidez e ocorre frequentemente nas manhã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ão das mamas – observa se desde o início da gravidez.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92F1-6E52-48D2-B34A-9C991507CA3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etênci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44680" indent="-5446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lica os conhecimentos sobre a fisiologia da gestação, parto e puerpério na elaboração, ,implementação, monitorização e avaliação do plano de cuidados de enfermagem às gestantes e recém – nasci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 as gestantes e familiares sobre a importância do controlo pré – natal na redução da Morbilidade e Mortalidade Materna, Neonatal e Infanti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 os utentes sobre os aspectos da sexualidade e planeamento famili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6240-6AF5-4219-8369-BCEBF4EA156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umento da frequência urinária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- ocorre devido à pressão exercida pelo útero aumentado sobre a bexig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Vibração ou tremor abdominal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– são os movimentos  fetais delicados e em ondas que a  mãe sente entre a 18ª e a 20ª semana de gest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2-Sinais de probabilidade: (que indicam fortemente a gravidez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umento uterino –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mento devido ao crescimento do feto, do útero e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13E4-EAEC-4824-94CD-CF89CF42783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s testes de gravidez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- quando realizados são positivos em 90% a 98% dos ca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- Sinais de Certeza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( modificações que evidenciam a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s batimentos cardíaco fetal  (BCF) -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ode ser ouvido nitidamente na 18ª a 20 ª semana de gravidez, através do fetoscóp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esença de movimentos fetais activos –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percebidos durante o exame de palp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1AC3-9F5B-42CB-B1E4-D293351733B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e Manifestações Física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alterações  fisiológicas durante  a gravidez e que causam distúrbios e desconfortos  n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 principais alterações músculo esqueléticas, durante a gravidez s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relaxamento das articulaçõe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ão na postura, causadas pelo crescimento do útero e acção das hormon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F545-C2DD-4B22-AF23-99374754DB2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e Manifestaçõe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relaxamento das articulações pélvicas é devido a hormona relaxina. Esta hormona aumenta a preparação para o parto vaginal e causa um andar balançante (marcha claudicante)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crescimento do útero distende os ligamentos redondos que apoiam o útero, causando uma dor aguda e rápida quando a mulher se move rapidamente (ex: levantar se de uma cadeira).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1DC1-81BD-4934-9529-1316F1E2FDA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as Manifestações Físicas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 aumento do peso do útero, pode ocorrer dor nos ligamentos especialmente em movimentos rápidos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s músculos retos podem separar – se (diástase) , devido a distensão dos músculos abdomin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aumento do peso e o edema podem provocar a compressão do nervo mediano, principalmente no pulso – causando a fraqueza ou a sensibilidade dos músculos do pulso e do poleg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118B-5159-4B65-A79A-432333EF23F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as Manifestações Físicas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sistema cardiovascular sofre modificações para o fornece o oxigénio e nutrientes ao feto a ao útero em cres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sangue deve chegar aos vasos sanguíneos uterinos com pressão suficiente para garantir a circulação placentária e troca adequada de oxigénio entre a mãe e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965C-D8CF-4548-835D-1ED5EF3DBE8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na suspeita de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uvir as queixas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itir que ela expresse as suas preocupações, ajudá-la a tomar decisões informa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cer toda a informação necessár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larificar as suas dúvi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atenção de qualidade 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Quando necessário garantir a articulação com outros serviços de saúde para continuidade da assistênci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554-D15C-4D30-82E9-FCB168F586D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à mulher Grávida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Assim que a mulher grávida entra na sala de consulta é important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mprimenta – la e perguntar o seu no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resentar se de uma forma cordi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corajar e permitir a presença de acompanhante durante a consulta, de acordo com o desejo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5B1D-B328-416A-8FF5-5E16C37CFDB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à mulher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gráv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a privacidade e confidencialidade ( não permitir que pessoas , para além das trabalhadores imprescindíveis, entrem durante a consulta, sem permissão da mulher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guntar se ela tem alguma queix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uvi –la com atenção e responder às suas perguntas e preocupa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cer informações sobre o que irá ser feito usando uma linguagem que a mulher enten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67CF-A25A-41D3-8E7F-362F05138C3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à mulher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grávid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trolo Pré-Nat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Identificação da Mulh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ome, filia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de nascimento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do civi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fissão/ocupa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ocal de trabalh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idênc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80A0-942E-4893-B4DB-B443A3667B6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Competências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lica os procedimentos de farmacologia na administração e controlo dos medicamentos de foro obstétrico prescritos e de emerg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ista oportunamente e de forma clara os procedimentos de enfermagem para assegurar a eficácia de prestação de cuidados obstétricos humanizados e de qual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F031-7650-4376-BB35-E9ECF723E02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elefone de contac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ssoa e contacto de refer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tância da residência até a unidade sanitá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ocal de referênc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História Clínic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tecedentes familiares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betes Mellitu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AC60-DAF9-4A1E-9D35-55DB5ED8BF2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âncer mama e /ou colo uterin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uberculos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ceiro sexual portador de infecção pelo HIV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Antecedentes Pessoai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ertensão Arter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betes mellitu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em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túrbios nutricion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BFAE-F7CE-432F-AF19-0BA5E8ACC7C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e-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ergia a medicamentos (penicilina, cotrimoxazol, sulfadoxina e perimitamina, outros) tipos de reac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História Obstétr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esta e pa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bor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ravidez ectópic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a ( o número de partos anteriore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4E36-5B6F-4648-B72B-F9A602B5551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esaria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dos Vivos e Nados Mor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lhos vivos actu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do último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stória dos partos anteriores (parto por ventosa? hemorragias em mais de 2 partos? remoção manual de placenta e mais de 2 partos? cesariana no último parto? Nado morto na última gravidez? Primigesta com idade inferior a 16 anos ou idade superior a 35 anos? e outros)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A23E-0D77-4AF1-9255-3811AF3C715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66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História da Gravidez Actual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da última menstruação (DUM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álculo da idade Gesta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Provável do Parto (DPP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xame Físico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xame Geral: Determinação do pes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ura e deformidade da ba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do nutri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ição de Pressão Arter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loração das mucos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0F0-1ECD-495C-AC84-529FA5FE059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xame Específ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xame das mamas: tipo de mamil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ença de nódul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creçõ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milos e coloração da pel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lpação Obstétrica e identificação da situação e apresenta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ição de altura uteri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scultação dos Batimentos cardíacos fet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squisa de edemas(face tronco e membr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4B59-D0CB-4310-B216-89739101840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4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specção dos Genitais externos e períneo: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ença de úlceras genitai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ença de condilo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xames complementares de diagnóstico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rupo sanguíneo e  Factor  Rh a todas as primigestas e multíparas que desconhecem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emoglobi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este rápido de Sífil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este rápido de HIV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Urina II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8F7-A361-47F6-9F3E-07E629625C3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- Na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Vacinaç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r o estado vacinal em relação a vacina Anti - Tetânica. Solicitar o cartão de vacinação da Mulher em idade fértil (MIF) confirmar  e proceder de acordo com o estado vacinal da mulhe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ducação, informação e Orientação sobr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envolvimento da gravidez, incluindo modificações corporais e emocionai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C263-A1F3-4E7B-8379-44FB98ADE30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- Na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mportância de Consulta Pré – natal e do cumprimento do calendário das consult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inais e Sintomas de perigo durante a gravidez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ducação nutricional e orientações sobre a alimentação durante a gravidez e puerpé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ri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Importânci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Do sexo segur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revenção do HIV e da transmissão vertical (cumprimento das consultas,</a:t>
            </a: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5FE6-649C-4E76-B569-D55E6FAB170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rientações e tratamen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articipação do parceiro/pai nas consultas pré-nat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 parto institu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consulta pós parto para  a mulher e recém nasci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 espaçamento das gravidezes e Planeamento Famili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reparação para, e do aleitamento materno inclusivo ou exclusiv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668C-8A76-4599-9159-A2B608072CF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96EF-8B56-4335-837B-52A1298F909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44200" y="1523520"/>
            <a:ext cx="8147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1760" indent="-5817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úde sexual e reprodutiva é o Direito da Família”, além do direito à saúde, as pessoas e as famílias têm também o direito a serviços integrados e de boa qualidade, que assegurem privacidade, ampla informação, livre escolha, confidencialidade e respe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igualdade entre mulheres e homens no diz respeito à relação sexual e reprodutiva,incluindo-se o respeito à integridade mútua, e o consentimento e divisão de responsabilidades pelos comportamentos sexuais e suas consequênc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EC0C-1D16-450F-90CD-4193BE941551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2057400" y="228600"/>
            <a:ext cx="647712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Conceito de Saúde Sexual e Reprodu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revenção da Malária: cumprimento das CPN para o TIP malária e utilização das Redes Mosquiteir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laboração do ´Plano para o parto, incluindo um plano antecipado de transporte no caso de ocorrência de complicações durante a gravidez, e na eminência do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idados a ter com o recém – nascido e importância do cumprimento do calendário de vacina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6380-6D58-486E-8060-6DD47F704B7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Uso de Medicamento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importante que a gestante saiba que não deve tomar nenhum medicamento, durante a gestação, sem prescrição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drogas são prejudiciais durante toda a gestação e a maior incidência de anormalidades provocadas no feto ocorre no primeiro trimestre da gestaçã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1FAE-0DA1-4ABA-A359-F9C15F83DD8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Uso de Medicamento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gestante deve também ser informada sobre os efeitos do abuso de drogas  na crianç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uitos medicamentos têm efeitos teratogênicos comprovados, capazes de interromper o  crescimento fetal e provocarem malforma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gumas das substâncias usados comumente são cocaína, a cafeína, o álcool e o taba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5D3-65D3-4DE0-AC24-D9105538305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371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 uso da Cocaína durante o primeiro trimestre de gravidez para o fet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queno para idade gestacio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ém nascido pré ter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blemas comportamen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lformações congénit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ofrimento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A1ED-671B-4E3D-A723-954506AD134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timo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Cocaína durante o primeiro trimestre de gravidez para a mã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ertensão arteri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colamento prematuro da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aquicard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uficiência cardía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D163-271F-4152-BB7F-DF08E9182C7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lpitações cardía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rritação estomacal 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rre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bo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 uso da Cocaína durante o primeiro trimestre de gravidez para o fet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omalias congénitas co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enda do palato e anormalias cardíac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timor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00D4-8172-45FF-8CC4-B5221BE5418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129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vuls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uficiência respirató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or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Cafeína durante o primeiro trimestre de gravidez para a mã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rritabilida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ón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mento de frequência Cardía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lpitações cardíacas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C32-F4E7-4740-A62C-0FB0F197268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Álcool durante o primeiro trimestre de gravidez para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quenos para a idade gestacio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riz curto e lábios superiores curtos e pouco desenvolvi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arência semelhante a de portadores síndro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criança tem, maior probabilidade de ter problemas de psicossociais, comportamentais e neurológico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A7FA-BC4E-4999-8A58-3E5F7BC7489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Tabaco durante o primeiro trimestre de gravidez para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óxia fetal devido a insuficiência de oxigénio nos tecidos do feto – com o risco de asfixia e de crescimento retardado do feto – baixo peso à nascenç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to pré ter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isco de dificuldades respiratóri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5C08-6216-45A9-861B-E4F873C5974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mportância de Controlo Pré-Nat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importância de Controlo pré natal é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itir o fornecimento de um pacote de intervenções focalizadas de prevenção e promoção de saúd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gnosticar, manejar e tratar adequadamente os problemas e complicações que mais contribuem para a morbimortalidade materna e fetal neste período, através de prestação de cuidados de saúde integrados , contínuos e humanizados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4179-4F76-4A65-AE4A-19F5FD3B03E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7C3B-E773-4F9A-8AF6-00C6D68976F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55308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onceito de Saúde Sexual e Reprodutiva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saúde reprodutiva implica que a “pessoa possa ter uma vida sexual segura e satisfatória, tendo a capacidade de reproduzir e a liberdade de decidir sobre quando e quantas vezes deve fazê – lo”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actores Culturais que influenciam na Saúde Ma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mora na chegada pela mulher na US, a espera da decisão da sogra/e ou outro membro influente na família do mar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renças e tabus alimentares que afectam na alimentação da mulher grávida ( Ex: não consumo de ovos, papaia pela mulher grávida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ctores religiosos (não transfusão de sangue em algumas religi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lta de poder de decisão da mulher sobre a sua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Baixo nível de escolaridade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C622-E251-4002-BFB7-9039DDB4D17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actores Culturais que influenciam na Saúde Matern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lta de poder de decisão da mulher sobre a sua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Baixo nível de escolaridade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8C7E-735E-4646-ADDC-42B3F37529A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moção de Saúde da Mulher Gráv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moção de Saúde da mulher grávida, é o processo de capacitação da mulher e da  comunidade para actuar na melhoria da sua qualidade de saúde, incluindo uma maior participação no controle deste process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a prevenção, rastreio e manejo de situações ou doenças que mais contribuem para a morbimortalidade materna  e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D06B-BDB0-45C4-A1C3-925662BC7F1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moção de Saúde da Mulher Grávid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 decorrer da gravidez depende de vários factore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saúde da gestação da mulhe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u estado de saúde actu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u estado emo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ua história anterior de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promoção de saúde na mulher grávida tem como finalida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uma gravidez com o mínimo de desconforto físico e emocionais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15D5-49B8-477E-B996-77844B7D63A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moção de Saúde da Mulher Grávid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belecer bons hábitos de saúde para beneficiar a mãe e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que o nascimento ocorra nas melhores circunstânci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scimento de uma criança normal e saud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parar a mulher uma maternidade segura e humaniz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belecer relacionamento positivo entre a criança, a mãe e os que lhe são próximos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E95C-7FD0-4504-8551-D72CBF6A526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Humanizado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ceito de Par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to é a expulsão do produto de concepção e seus anexos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A maneira como o enfermeiro se comunica com a futura mãe definirá como a gestante percebe o tratamento  que receb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ve estabelecer um relacionamento positivo com a mulher, proporcionando – lhe privacidade, explicando cada procedimento antes de ser realizado e atendo –a  com cortes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CF8A-9420-4297-9C8D-118E57AE695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apel do Enfermeiro Geral na Assistência ao Parto Normal Humanizad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gestante deve ter preferências, sempre que possível. Ex: se houver opção de escolha para o local do parto, ela pode optar entre a tradicional posição outra na qual ela se senta confort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de Admissão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a partur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ter as informações necessárias para o registo do trabalho d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E764-3DAF-4A15-B773-6F8BB462ADE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apel do Enfermeiro Geral na Assistência ao Parto Normal Humanizad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ção dos sinais vitais: temperatura, pulso, respiração e pressão arteri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ção da frequência cardíaca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e guardar as roupas e os objectos da senho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o progresso do trabalho d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parar a mãe para o trabalho de parto 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F5E0-36E8-4B86-84EE-C7592369684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Fases do Parto Normal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 parto tem 3 fases nomeadament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1- Fase Lat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2- Fase Activ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3- Fase de transi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1- Fase Latente-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É a fase em que  as contracções são fracas, a dilatação cervical é lenta (0 a 3cm) muitas vezes a parturiente informações sobre a experiência do trabalho de parto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9F8F-8313-40F6-B0FA-CDFD3F87AD4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Fase Latente (Cont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 enfermeiro pode revisar as sensações que a parturiente sentirá e as medidas através das quais obterá alív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curar manter se calma, usando as técnicas respiratóri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Fase Activ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esta fase as contracções tornam se mais frequentes e intensas. A cérvix dilata de 4 para 8cm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C6D5-C30F-4A0D-9922-B1CA77D5266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 Black"/>
              </a:rPr>
              <a:t>Saúde Sexual e Reprodutiva (component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laneamento Famili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sulta  Pré – nat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tendimento ao Parto incluindo os Cuidados Obstétricos Essenci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viços de referência e os cuidados Pós –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5071-7060-46C0-A213-84644FA8559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 lembrar a parturiente sobre as técnicas de respiração e estimula - la a descansar entre as contrac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o final desta fase é importante que o enfermeiro fale lenta, clara e exclusivamente com a parturiente, dando lhe total atençã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: Fase de Transi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esta fase as contracções permanecem frequentes e intensas. A cervix está dilatando (8 a 10 cm )até atingir a dilatação complet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A50C-557E-4DA8-9B19-34A334280FE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Fase de transição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esta fase é importante que o enfermeiro mantenha a gestante  e seu acompanhante informado sobre a evolução do trabalho de parto, elogiando os esforços que ela está fazen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eríodo Expulsiv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período expulsivo do trabalho de parto começa quando a cérvix está completamente dilatada (10cm) e termina com o nascimento da crianç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A4A1-B1AE-40D4-9CBF-3B05D513FCB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ao durante o Período Expulsiv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o período expulsivo a parturiente deve estar sempre acompanhada pelo enfermei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parturiente pode continuar no mesmo leito em esteve durante a dilatação e o parto ocorrer em condições de privacidade e sempre que possível na presença de um acompanhante da escolha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tre as contracções a mulher poderá sentar se ou ficar deitada de lado esquerdo para descans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82A8-D7D1-4692-98CE-C359009F3C7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ssépsia com savlon ou outro anti séptico nas coxas , região perineal, vulva e abdómen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foco deve ser auscultado durante o intervalo das contrac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r se a dilatação está efectivamente completa e se a apresentação está descida e em caso afirmativo verificar se as contracções são efectiv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8EB4-891C-4227-9317-FB6D97AE5B8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 os esforços maternos inicia se a expulsão da cabeça. A expulsão deverá ser gradu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expulsão deverá ser gradual. O enfermeiro deverá apoiar a cabeça com a mão e, se possível, proteger o períneo com a outra mão para evitar laceração do períne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sim que a cabeça sair, com auxílio de uma pêra  deverão ser aspiradas as secreções da boca e nariz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7058-8CE5-4F83-B735-ED3C8A9EC8C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circulares do cordão umbilical, à volta do pescoço da criança, deverão ser identificadas e libertadas suavemente até que os ombros afloram a vulva. Se não for possível, pinça se o cordão com pinças hemostáticas e corta s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a libertar o ombro anterior, pega se na cabeça com as mãos e faz se uma tracção suave em direcção ao sacro materno. Para se libertar o ombro posterior faz se uma tracção suave em direcção à sínfise púb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C858-4F29-46D9-BD39-A4EC4A480FF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continuação do trabalho de parto faz se normalmente coma os esforços da mã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pois da criança nascer, esta deve ser colocada ao mesmo nível do plano materno e o cordão deve ser  cortado 20 a 40 centímetros após o nas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AAFE-A829-48AB-A829-D97103AE809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de Enfermagem durante o terceiro Período (Dequitadur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ogo após os cuidados ao recém nascido, deve se proceder a expulsão da placenta, mediante a realização do manejo activo do terceiro período do trabalho d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ós a expulsão deve se examinar a placenta cuidadosamente para assegurar que não falta algumas partes da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9463-B651-47E7-92EF-2C1CB8766EB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ao Parto Normal Humanizado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parturiente e o recém nascido deverão permanecer sob vigilância constante durante a primeira hora após o parto, devendo ser observados a cada 15 minutos para detectar precocemente qualquer complicação que possa surgir neste perío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1886-4B69-4273-A6AE-13884FDFD83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de Enfermagem durante o terceiro Período (Dequitadura) –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ejo Activo do terceiro período do par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manejo activo do terceiro período ajuda a  prevenir a hemorragia pós parto e inclui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dministração de oxitocina logo após a expulsão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racção controlada do cordão com contra tracção uter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ssagem uter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EF7E-BA37-428F-85A3-1B6464D7A76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Saúde Sexual e Reprodutiva (componentes 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utras componente da saúde sexual e reprodutiva s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sistência ao Aborto e complicações pós – abo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e Tratamento das It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e Controle do HIV/SI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enção Integral dos Adolescentes e Joven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enção aos Casos de Violência e Abuso Sexu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e Controlo dos Cancros de colo do útero mama e da próstat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enção na fase de menopausa e andropausa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999ff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dministração de oxitocina logo após a expulsão fetal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ntro de 1º minuto após o parto palpe o abdómen para certificar que não há outro bebé e administre imediatamente 10UI de oxitocina, por via IM, para facilitar o descolamento e a expulsão da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D73C-FA82-4E86-AA26-7A1667A961F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de perigo durante o trabalho de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Identificação dos sinais de Perigo durante o trabalho de Part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Definição de Trabalho de parto arrastad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sidera se trabalho de parto </a:t>
            </a: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quando a fase activa está prolongada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devido a causas funcionais (ex: dinâmica uterina ) ou mecânica (ex: pélvis estreita )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dut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valiar a bac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apresentação e posição fetal e excluir uma desproporção feto pélv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7178-7FE0-447B-88E6-58FE8808326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xame Obstétrico e Ginecológico no Quarto Perío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rto período ( recuperação imedia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Útero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altura do fundo uterino, a localização e a consistência. Massagear o útero e remover os coágulos. Útero macio e esponjoso deve ser comunicado ao médico ou outro técnico qualific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Lóquios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eliminação vaginal mais de um  penso higiénico em 15 minutos deve ser comunicad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752B-EC90-42CA-B1C5-5A24AF18083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xame Obstétrico e Ginecológico no Quarto Perío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Bexiga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distensão a cada 30 minutos. Bexiga distendida aumenta o risco de hemorragia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eríneo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integridade do períneo. Um hematoma causará edema, secreção  da episiotomia ou do local da laceração devendo ser comunic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conforto do períneo: Aplicar imediatamente gelo no períneo, para reduzir o edema causado pelo traumatismo do parto ou pela episioto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FAF9-16B1-4F6E-85BD-4C1966621D8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de perigo durante o trabalho de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rabalho de parto prolong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duta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hidratação  intravenosa  e referir 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rabalho de Parto Obstruído (distócia mecânica)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rabalho de Parto arrastado é aquele em que apesar de haver contracções uterinas fortes o parto não pode progredir devido a factores mecânicos(causas maternas ou fetai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1699-4969-4772-A0F5-EBA1F342863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da Mulher no período imediat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stado de Hidratação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r líquidos por via oral, se forem tolerados. Providenciar alimentação, se a mulher tiver fo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Sinais vitais: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Avaliar a pressão arterial, o pulso e a respiração a cada 15 minutos, durante no mínimo numa ho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servar os sinais de possível choque devido à perda excessiva de sangu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mportamento: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Avaliar a fadiga e proporcionar ambiente propício ao descans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049F-8501-4185-856C-5EBB96E3F1A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Orientações Básicas sobre a Saúde Sexual e Reproduti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 acordo com a OMS as orientações básicas sobre saúde sexual e reprodutiva  determinam que a atenção dev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prestado o pacote previsto de cuidados fundamentais, utilizando um conjunto mínimo de intervenções que sejam realmente necessári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baseada no uso de tecnologia apropriada, definida como um conjunto de acções que inclui métodos, procedimentos, tecnologias, equipamento e outras ferramentas, todas aplicadas para resolver um problema específic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4F25-6EA1-42E2-8E06-F012C5A5031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ípios Orientadore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baseada em evidências, ou seja ser sustentada pelas melhores evidências científicas disponíveis, por estudos aleatórios apropriados sempre que possí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regionalizada e baseada num sistema eficiente de referência de Rede Primária de Saúde para a Rede Secundária e Terciá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multidisciplinar, com participação de profissionais de saúde como ESMI, obstétricas, pediatras, técnicos de medicina preventiva, enfermeiros e assistentes sociais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4308-B51D-47DC-8F0C-1763D54C8C5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endoza</cp:lastModifiedBy>
  <dcterms:modified xsi:type="dcterms:W3CDTF">2012-02-22T06:31:14Z</dcterms:modified>
  <cp:revision>1253</cp:revision>
  <dc:subject/>
  <dc:title>ANATOMIA E FISIOLOGIA HUMANA</dc:title>
</cp:coreProperties>
</file>