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1A14-9601-4FB4-95F2-95AF593EBDC3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64B6-82DA-4050-8D12-8BC3D5A67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DC56-CC90-4C1C-9451-090298E65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BC97-CB69-4EE4-8560-92DD1369FE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B501-9003-4F84-9F03-03A1036E6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F0BE-84C0-4DEA-9DE4-00654D0743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F2BC-6913-470A-AFC0-3D1F3D5B0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mortalidade materna é uma tragédia global, mas afecta ao mundo em vias de desenvolvimento. Quase todas as mortes por complicações associadas à gravidez  ocorrem no mundo em vias de desenvolvi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FF54-A915-4453-96E9-2B99E504C2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EEB4-607E-4CCD-AE1A-5AE7F5BB5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ara cada mulher que morre durante a gravidez, 30 mulheres sofrem de complicaçõ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s iniciativas deveriam inclui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laneamento famili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Gestão das complicações do abo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Gestão das complicações da gravidez e pa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743F-BA25-4ED2-B9B6-1CC91B30D0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2C76-8AB5-42CD-91BA-F44E4BB6E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3F71-CB36-41A4-B6E0-F9B7DA6082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BE1A-83A1-4084-97D4-A0F4DA151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9962-730F-4611-9D53-D0E529D903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0795-4C96-498F-9774-4AC799272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DC2-423A-4B50-8C03-38AE8936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244-D03D-48EA-A796-311F83A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D20-ED69-4805-88F7-D0D144D8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12E-A9F9-4CF5-A7EF-56DCBBF5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F6B-6152-406C-92A5-A45101CC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C49-BE0D-46B7-8BAC-CD338FB0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41B-C854-4104-83B7-AD126A0E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FC8-B131-42AD-80CD-92A9CAEE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875-E9F6-4258-B7E8-868B714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265-55CC-4099-AF4F-6D7C4BCC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941-4D05-49AD-9A98-966C094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BBA-A722-4DCD-9EE5-8C4DE0D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FAD8-27BD-45F6-B510-6E46BE174D53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omen"/>
          <p:cNvPicPr/>
          <p:nvPr/>
        </p:nvPicPr>
        <p:blipFill>
          <a:blip r:embed="rId1"/>
          <a:stretch/>
        </p:blipFill>
        <p:spPr>
          <a:xfrm>
            <a:off x="0" y="1222200"/>
            <a:ext cx="4911840" cy="487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logomz"/>
          <p:cNvPicPr/>
          <p:nvPr/>
        </p:nvPicPr>
        <p:blipFill>
          <a:blip r:embed="rId2"/>
          <a:stretch/>
        </p:blipFill>
        <p:spPr>
          <a:xfrm>
            <a:off x="4356000" y="0"/>
            <a:ext cx="106704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Title 5" descr=""/>
          <p:cNvPicPr/>
          <p:nvPr/>
        </p:nvPicPr>
        <p:blipFill>
          <a:blip r:embed="rId3"/>
          <a:stretch/>
        </p:blipFill>
        <p:spPr>
          <a:xfrm>
            <a:off x="682560" y="835200"/>
            <a:ext cx="7785000" cy="596880"/>
          </a:xfrm>
          <a:prstGeom prst="rect">
            <a:avLst/>
          </a:prstGeom>
          <a:ln w="0">
            <a:noFill/>
          </a:ln>
        </p:spPr>
      </p:pic>
      <p:pic>
        <p:nvPicPr>
          <p:cNvPr id="51" name="Title 5" descr=""/>
          <p:cNvPicPr/>
          <p:nvPr/>
        </p:nvPicPr>
        <p:blipFill>
          <a:blip r:embed="rId4"/>
          <a:stretch/>
        </p:blipFill>
        <p:spPr>
          <a:xfrm>
            <a:off x="969840" y="1407960"/>
            <a:ext cx="7783560" cy="603360"/>
          </a:xfrm>
          <a:prstGeom prst="rect">
            <a:avLst/>
          </a:prstGeom>
          <a:ln w="0">
            <a:noFill/>
          </a:ln>
        </p:spPr>
      </p:pic>
      <p:sp>
        <p:nvSpPr>
          <p:cNvPr id="52" name="Title 5"/>
          <p:cNvSpPr/>
          <p:nvPr/>
        </p:nvSpPr>
        <p:spPr>
          <a:xfrm>
            <a:off x="5003640" y="2286000"/>
            <a:ext cx="375948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tenção Humanizada à Saúde Materna e Neonatal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andeira_mocambique_1"/>
          <p:cNvPicPr/>
          <p:nvPr/>
        </p:nvPicPr>
        <p:blipFill>
          <a:blip r:embed="rId5"/>
          <a:stretch/>
        </p:blipFill>
        <p:spPr>
          <a:xfrm>
            <a:off x="136440" y="39600"/>
            <a:ext cx="11988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Situação de Saúde Mate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85800" y="1828800"/>
            <a:ext cx="8229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MM- 408/100.000 N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3383-573A-467D-A563-FC72E8828C5B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cio da Mortalidade Matern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491C-CC13-460B-9547-B578F994A48C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Tendências e Metas de Indicadores Seleccionados da Saúde Reprodutiva/Materna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m Moç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hart 8" descr=""/>
          <p:cNvPicPr/>
          <p:nvPr/>
        </p:nvPicPr>
        <p:blipFill>
          <a:blip r:embed="rId1"/>
          <a:stretch/>
        </p:blipFill>
        <p:spPr>
          <a:xfrm>
            <a:off x="378000" y="1384200"/>
            <a:ext cx="83880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B902-E119-445B-8F11-203AE5162EA7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90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Quais são as principais causas da mortalidade materna</a:t>
            </a:r>
            <a:r>
              <a:rPr b="1" lang="pt-PT" sz="3200" spc="-1" strike="noStrike">
                <a:solidFill>
                  <a:srgbClr val="000000"/>
                </a:solidFill>
                <a:latin typeface="Helvetica LT St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Ethiopian woman and baby"/>
          <p:cNvPicPr/>
          <p:nvPr/>
        </p:nvPicPr>
        <p:blipFill>
          <a:blip r:embed="rId1"/>
          <a:stretch/>
        </p:blipFill>
        <p:spPr>
          <a:xfrm>
            <a:off x="1981080" y="1752480"/>
            <a:ext cx="56008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472B-DE79-40E8-A2F2-16A135752B6A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a das Mortes Mater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Situação de Saúde Infan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685800" y="1828800"/>
            <a:ext cx="8229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MI- 124/1000 N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8EF0-30A8-4141-8718-67650F947513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Tendências e Metas de Indicadores da Saúde do Recém-Nascido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 da Criança Menor de 5 Anos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hart 5" descr=""/>
          <p:cNvPicPr/>
          <p:nvPr/>
        </p:nvPicPr>
        <p:blipFill>
          <a:blip r:embed="rId1"/>
          <a:stretch/>
        </p:blipFill>
        <p:spPr>
          <a:xfrm>
            <a:off x="378000" y="1450800"/>
            <a:ext cx="838800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8229-0B2D-4E4A-8A70-DEF93F8E062B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Calibri"/>
              </a:rPr>
              <a:t>Intrahospitalar: Pais 2001-2007, TNM e Proporção de NM com Foco+ por Províncias em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6631-647F-4F3A-860E-16DE73820025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Quais são as principais causas da mortalidade neonat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frican mother lying with infant"/>
          <p:cNvPicPr/>
          <p:nvPr/>
        </p:nvPicPr>
        <p:blipFill>
          <a:blip r:embed="rId1"/>
          <a:stretch/>
        </p:blipFill>
        <p:spPr>
          <a:xfrm>
            <a:off x="2209680" y="2362320"/>
            <a:ext cx="4829400" cy="3124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43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A95D-51BF-40E3-BF95-BC20F1DD9D1C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Calibri"/>
              </a:rPr>
              <a:t>Principais Causas de Morte Neonatal, 2007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omen"/>
          <p:cNvPicPr/>
          <p:nvPr/>
        </p:nvPicPr>
        <p:blipFill>
          <a:blip r:embed="rId1"/>
          <a:stretch/>
        </p:blipFill>
        <p:spPr>
          <a:xfrm>
            <a:off x="0" y="1146240"/>
            <a:ext cx="4911840" cy="487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mz"/>
          <p:cNvPicPr/>
          <p:nvPr/>
        </p:nvPicPr>
        <p:blipFill>
          <a:blip r:embed="rId2"/>
          <a:stretch/>
        </p:blipFill>
        <p:spPr>
          <a:xfrm>
            <a:off x="4356000" y="0"/>
            <a:ext cx="106704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Title 5" descr=""/>
          <p:cNvPicPr/>
          <p:nvPr/>
        </p:nvPicPr>
        <p:blipFill>
          <a:blip r:embed="rId3"/>
          <a:stretch/>
        </p:blipFill>
        <p:spPr>
          <a:xfrm>
            <a:off x="682560" y="835200"/>
            <a:ext cx="7785000" cy="596880"/>
          </a:xfrm>
          <a:prstGeom prst="rect">
            <a:avLst/>
          </a:prstGeom>
          <a:ln w="0">
            <a:noFill/>
          </a:ln>
        </p:spPr>
      </p:pic>
      <p:pic>
        <p:nvPicPr>
          <p:cNvPr id="57" name="Title 5" descr=""/>
          <p:cNvPicPr/>
          <p:nvPr/>
        </p:nvPicPr>
        <p:blipFill>
          <a:blip r:embed="rId4"/>
          <a:stretch/>
        </p:blipFill>
        <p:spPr>
          <a:xfrm>
            <a:off x="969840" y="1407960"/>
            <a:ext cx="7783560" cy="603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4038480" y="3130560"/>
            <a:ext cx="4932360" cy="1191240"/>
          </a:xfrm>
          <a:prstGeom prst="rect">
            <a:avLst/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ituação da Saúde Materna e Infantil em Moçambique e Iniciativa Maternidade Modelo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bandeira_mocambique_1"/>
          <p:cNvPicPr/>
          <p:nvPr/>
        </p:nvPicPr>
        <p:blipFill>
          <a:blip r:embed="rId5"/>
          <a:stretch/>
        </p:blipFill>
        <p:spPr>
          <a:xfrm>
            <a:off x="136440" y="39600"/>
            <a:ext cx="11988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FD4-3D63-4AEB-A35D-42F37FB56F1D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iciativas na área de SM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295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umanização dos Cuidados de  Saúde : Iniciativa Maternidade Modelo, lançada em Julho 2009 no VI Conselho Hospita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80880" y="1371600"/>
            <a:ext cx="8382240" cy="947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ciativa Presidencial para a Saúde da mãe e da cri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80880" y="2209680"/>
            <a:ext cx="8382240" cy="1328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stratégia de apoio técnico às províncias pelos  “padrinhos e madrinhas”: médicos Pediatras e Obstetr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" y="3429000"/>
            <a:ext cx="8305920" cy="1295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os e Estratégias:  Roteiro para aceleração da redução da Mortalidade MN, Plano Integrado para o alcançe dos ODM 4 e 5, Estratégia de PT e Casas de Espera e Parceria Nacional para a S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omic Sans MS"/>
              </a:rPr>
              <a:t>Conteúdo da Apresen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1600200"/>
            <a:ext cx="746784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Situação de Saúde Materna e Neonatal a nível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Situação de Saúde Materna e Neonatal em Moçamb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Principais documentos estratégicos aprovados e em Implementação na área de S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Humanização dos Cuidados de saúde: Iniciativa Maternidade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DA7C-CD53-489B-88E8-F31E9A48FB42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Helvetica LT Std"/>
              </a:rPr>
              <a:t>Mortalidade Materna: Uma Tragédia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Anualmente, morrem 529.000 mulheres por complicações associadas à grav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99% no mundo em vias de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~ 1% nos países desenvolvid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30" descr="globe"/>
          <p:cNvPicPr/>
          <p:nvPr/>
        </p:nvPicPr>
        <p:blipFill>
          <a:blip r:embed="rId1"/>
          <a:stretch/>
        </p:blipFill>
        <p:spPr>
          <a:xfrm>
            <a:off x="3886200" y="1828800"/>
            <a:ext cx="525780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0" y="36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Situação de Saúde Materna e Neonatal a nível Glob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391B-9EE4-4513-B01B-5586639D7405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Saúde Materna: Extens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75 milhões de gravidezes indesejadas/não planifica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50 milhões de abortos provocad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Comic Sans MS"/>
              </a:rPr>
              <a:t>20 milhões de abortos sem seguranç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Aproximadamente 600.000 óbitos maternos </a:t>
            </a:r>
            <a:br>
              <a:rPr sz="3400"/>
            </a:b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(1 por minuto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3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180F-3264-4BE8-B1E5-848F126E4FB8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1768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Comic Sans MS"/>
              </a:rPr>
              <a:t>Causas da Mortalidade Materna no Mun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orte mat.jpg"/>
          <p:cNvPicPr/>
          <p:nvPr/>
        </p:nvPicPr>
        <p:blipFill>
          <a:blip r:embed="rId1"/>
          <a:stretch/>
        </p:blipFill>
        <p:spPr>
          <a:xfrm>
            <a:off x="1781280" y="1523880"/>
            <a:ext cx="58100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1B1C-F29C-497B-A2D9-49223E116CA2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Saúde Neonatal: Extens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08240" y="1677600"/>
            <a:ext cx="791208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Todos os a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4 milhões de óbitos neonatais (primeiro mês de vid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Dentre os que morrem no primeiro mês, 2/3 morrem na 1ª se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Dentre os que morrem na primeira semana, 2/3 morrem nas primeiras 24 h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Oito óbitos neonatais a cada min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3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C6EA-9468-4BEE-AE6A-F4CC649DB1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100" spc="-1" strike="noStrike">
                <a:solidFill>
                  <a:srgbClr val="000000"/>
                </a:solidFill>
                <a:latin typeface="Comic Sans MS"/>
              </a:rPr>
              <a:t>Causas de Óbitos Neonatais no Mun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486400" y="182880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257040 h 4038480"/>
              <a:gd name="textAreaBottom" fmla="*/ 378144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99"/>
                  <a:pt x="10800" y="4398"/>
                </a:cubicBezTo>
                <a:lnTo>
                  <a:pt x="10800" y="6402"/>
                </a:lnTo>
                <a:cubicBezTo>
                  <a:pt x="10800" y="8601"/>
                  <a:pt x="16200" y="10800"/>
                  <a:pt x="21600" y="10800"/>
                </a:cubicBezTo>
                <a:cubicBezTo>
                  <a:pt x="16200" y="10800"/>
                  <a:pt x="10800" y="12999"/>
                  <a:pt x="10800" y="15198"/>
                </a:cubicBezTo>
                <a:lnTo>
                  <a:pt x="10800" y="17202"/>
                </a:lnTo>
                <a:cubicBezTo>
                  <a:pt x="10800" y="194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530400" y="3352680"/>
            <a:ext cx="1602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ec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morte neo.jpg"/>
          <p:cNvPicPr/>
          <p:nvPr/>
        </p:nvPicPr>
        <p:blipFill>
          <a:blip r:embed="rId1"/>
          <a:stretch/>
        </p:blipFill>
        <p:spPr>
          <a:xfrm>
            <a:off x="468360" y="1523880"/>
            <a:ext cx="52164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3520" y="2971440"/>
            <a:ext cx="8229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tuação de Saúde Materna e Neonatal em Moçamb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7:40:59Z</dcterms:created>
  <dc:creator>user</dc:creator>
  <dc:description/>
  <dc:language>en-US</dc:language>
  <cp:lastModifiedBy>Mendoza</cp:lastModifiedBy>
  <dcterms:modified xsi:type="dcterms:W3CDTF">2012-02-22T06:49:23Z</dcterms:modified>
  <cp:revision>84</cp:revision>
  <dc:subject/>
  <dc:title>Curso de Formação/Actualização de Formadores em COEB e CERN  Maputo,  10 a 21 de Agosto, 2009</dc:title>
</cp:coreProperties>
</file>