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8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0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C462-5FCD-4C05-AB32-9F180E24CDE8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92A-B9BE-4BC3-811F-C5F461D8FE9E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CF9D-E8AA-472A-8D50-B2931933A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FCBB-6350-41E9-94FA-12944A340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21D9-D488-44A3-AB75-26537E76E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109F-8D85-4677-ABEF-26533302A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F6F4C-CC43-40D6-9D66-19DAB5340C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58426-24AB-4F10-BA9E-6A5AEF181D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10887-BC43-49B1-8A6C-65287A85A6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AE4A4-7D7C-4DAC-A4B5-82A98BE883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A0A98-0041-4303-8A87-B0C70BEADF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7AAD1-3F46-48F5-97D2-CFBEECAB6B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ED861-ADE3-4580-8AB2-1B008D7134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1A88-DAB8-4371-A91D-77015D606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2002F-6109-4D64-9A01-A4B143848F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4137F-C490-4B61-9B56-967BFF388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8DE36-CA81-4309-92EF-144B1AEB3B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7C669-18FA-4FBD-9F32-FAE3C9E5DA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C8F55-05F3-4056-9AB1-EB90D17FAE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D449-A0AF-464E-9EB2-B7AE777A8D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A812-7F7F-45E2-80CC-39399530F8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F659-CEF4-4379-B57E-0D3076965D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E666-98D1-4B9D-9AAF-C884DCC5B1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8AAB-1398-425F-9DB5-264D39690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FA14-82E0-4F50-8B2F-CFB1D8965F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ED05-1A11-4FFF-A007-E181F55680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A370-80CB-4337-ABC2-7F4B1B2F72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86DE-9342-4A90-806B-1A61BBB378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AB25-AACA-4F5C-BFE2-A650DF03CB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81D5-FE11-48EB-A539-CC49EF18AA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32A4-A955-4BD6-958D-B72384DA45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342C-D66B-43F8-9E86-46CB8077B4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9A42-1497-4F60-AE6D-A6F1FBE4F3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2BEE-2A2B-4036-BB14-308A74CE5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414E-0B2D-4D85-B60B-BFF359647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6119-AF63-4852-8F5F-99C551B83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3AD2-FCB4-4716-A7A3-C1F6F46B5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E9E3-7F70-4716-9639-36C0D91E8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35A7-839D-4582-BF6A-C1AB81BFB20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7EBC-921C-4AC2-95B2-FB56ED5F8E6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AB69-EC27-47B8-8E63-9D5F6B4F026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31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7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57040" y="15235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ENEMA DE LIMPEZ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la - 1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lampar a sonda e retirar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m movimentos suave enrolando em papel higién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olução deve permanecer no cólon o tempo desejado ou prescri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mentar o efei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tirar as luvas e proceder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à lavagem higiénica das mã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locar o doente na aparadeira, cadeira sanita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ou ida à casa de banho,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forme a situação do doente, colocando a campainha junto de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bservar os resultados do enem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judar o doente a lavar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ríneo, vestir-se e posicionar confortavelm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C188-95F8-47B8-BFDB-EF35828D0D6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rejar o quarto ou enfermar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colher e dar o destin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dequado ao material e equipa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er à lavagem higiénica das mã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er aos respectivos regis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C2DC-8E30-404D-AB4A-41E1A2274FE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  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Discutir a importância da adequada eliminação intestinal para a saúde e o bem estar do indivídu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Descrever a finalidade do Enema ou Clister  de Limpez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Identificar as indicações de enem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-Aplicar princípios relevantes na aplicação e implementação das intervençõe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C10E-2EB4-44AE-9A1B-14A16EF4A0E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nema de Limpe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Introdução de uma sonda, no intestino grosso, inserida através do ânus, para instilação de uma certa quantidade de solução variável, em função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os objectivos a atingir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ndicaçõe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bstip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eparação do intestino para: exames, cirurgia, parto e clister opa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eparação do intestino para estabelecimento do padrão de evacuação, normalmente, durante um programa de trein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st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5BF2-4485-4E79-BD2B-00A8325B93A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nema de Limpe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960480"/>
            <a:ext cx="4040280" cy="48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Objectivo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447920"/>
            <a:ext cx="4040280" cy="5029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Remoção de sólidos e/ou gases acumulados no trato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intestinal inferior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stimular o peristaltismo intestin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almar e tratar a mucosa irritad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Limpar o intestino para exames, intervenções cirúrgicas e parto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esquisar a presença de hemorragia gastrointestina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4720" y="960480"/>
            <a:ext cx="4041720" cy="48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ntra-indicaçõ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4720" y="1447920"/>
            <a:ext cx="4041720" cy="5029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Infecção aguda do intestin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ancro do rec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pós rotura bolsas da águ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Doente com hemorróid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Nos períodos digestiv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m fistulas anai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erfuração intestin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acientes com suspeita de peritonit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7170-A0BD-4C88-A5CD-BAF769D0197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En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Evacuadores/Limpez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imples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ubrificantes - aumentam o peristaltism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moliantes - amolecem o material fecal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edicamentos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Opacos - para exames radiológic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Enema sedativ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Enema Antihelmíntic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42EE-451C-48BB-9DDA-2AAB8412045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e 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Tabuleiro contend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Irrigador, tubo de ligação e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uporte de irrigador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Sonda ou cânula rect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Jarro com solução prescrita (soro fisiológico, água tépida, etc)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ubrificante hidrossolúvel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inça de Koch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sguardo impermeável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ençol de pano e Papel higiénico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Luvas de procediment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paradeira ou cadeira sanit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E804-153F-457A-90E2-41B7DB7B694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 do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prescrição e objectiv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o registo da última dejec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er à lavagem higiénica das mã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parar o material e transportá-lo para junto do do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licar ao doente o procedi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solar o do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a temperatura da solu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osicionar correctamente o doente, decúbito lateral esquer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54E6-2C9D-45D9-A5BA-2D1E9E247CB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or unicamente a região necessária à execução do ene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locar resguardo impermeável absorvente, sob as nádeg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ndurar o irrigador no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uporte cerca de 45 a 60 cm acima do nível d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lçar as luv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daptar irrigador, tubo de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ligação e sonda, retirar o ar do tubo e sonda, antes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 inserir no rec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ubrific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4513-85EF-4E0F-A16B-421D1CBADCD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para as nádegas e introduzir a sonda com suavidade, pedindo ao doente que inspire profundamente e expire lentam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brir o clamp e iniciar 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dministração. Se o doente se queixar com cólicas ou desejo de evacuar, fechar o compressor e aguardar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que passe o estímulo 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iniciar a administr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Verificar se a solução está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er introduzi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Verificar se a solução está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er administrada lentam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Findo o enema fechar 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orneira ou compressor para não entrar 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794A-1732-4664-8439-A7C74E38A7C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6T12:21:50Z</dcterms:modified>
  <cp:revision>812</cp:revision>
  <dc:subject/>
  <dc:title>ANATOMIA E FISIOLOGIA HUMANA</dc:title>
</cp:coreProperties>
</file>