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dt" idx="2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ftr" idx="2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 type="sldNum" idx="2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B719-9C52-4928-9062-65599A3E3CB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6FD4-1D03-482F-8B3B-6E419ECCD9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Espaço Reservado para Cabeçalho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Espaço Reservado para Data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Espaço Reservado para Rodapé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Espaço Reservado para Número de Slid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8BE5-C54E-420D-805C-E19FEEB22B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A7F25-04EB-40D5-979E-6560768687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A45C6-EBE1-41B0-B6E6-FC569667885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32A031-8B51-40D1-9AB5-B415E675125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956829-B5F6-4AA1-9EE8-38257BEE791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422613-83DA-4DD9-ADA5-0C34869C813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6E6B9C-B4CF-4853-B88E-DADF572D1A1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79827D-0454-4418-96C9-48379251993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56E2EB-3FA8-496E-BB96-9AF87E03FE2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8B488C-5971-4055-AE7C-2A38F8FAFAA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2EA760-7FED-48AE-A6A3-0A9A1BFC508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3C9C54-7138-4214-8224-BAD37833B88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F83AC8-97F8-45A4-BA81-D98D5118B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066A0-F45D-4793-998B-44A07A8AA83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857B60-8A39-4361-9278-B5DE0EC06AB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6428CA-1285-4575-BAC4-6C8911986D3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D6799A-C3B6-4A95-9874-DC9D835EA43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38332B-76F1-45D0-A599-8C5D486B618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954B93-71EE-4AA8-A26B-419CEE30819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307BF4-AC9C-47C0-9243-8E027E472A6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1CEB54-6BDD-499A-A75C-923FC6C5823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31ED91-9526-478D-96B5-10839D3AFA6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3F7AEE-0C2C-41FB-A0E5-0DEAC0442F7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8D34EE-5854-4BA4-8FE5-E952FB24D7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36BC7-B488-4DCB-85C9-FF39999B17C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3F7B6E-477F-479E-B745-E614EC4B343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30143-DD16-4130-B611-ECE6137D1F2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781AA-E1D4-4636-89C3-9E68E0DC419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D156A-B0EF-463B-8A8F-A7243AC190C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4AB4D-2095-463D-9119-46630F70AA5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33DC6-09B6-4FC7-A86A-077EC22843C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99E94-186F-437C-B3AC-082AE34B6E0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A2C04-8D74-4A30-92E6-22166608295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8400D-FF2B-42B4-8558-F2823CDED9A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4280D-851F-46BC-9D51-8C2EC5BE87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926FA-94CD-4A91-A818-E7A9F9334D7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A2786-7509-46F0-AB1D-C3C9A246898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0FCB8-CE97-49DE-A8AC-3BB741E2EBC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000E42-F8B8-4D1C-A39E-8AA77626B2A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F7ADBC-5CED-4924-AB4F-01666407E09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4A6B21-598B-4A95-9904-FD3B9F468D7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CF14D0-2F7E-41CE-A878-D3C32A32641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DC2873-989E-4EBF-9341-4D57730C663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AA57FB-F846-464D-84FD-D3EF31AB990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E0C43B-432A-42B2-A87F-FDB26E00F7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20A4F1-FE67-485B-895C-D85ED0121D7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710616-CF18-4DCA-97AC-B0B51B8D7D8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BC99DB-0520-475B-B6BB-FE40704FE62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589169-256D-4489-9870-06D81F02944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F51A7C-ACFE-4979-8E9F-73E80B398DE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5255CA-B26B-4FE0-BE9D-2B9D75DB7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DB76B0-0C0A-44C2-A1E2-4A6E23A0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F16DF1-EB21-447D-ADCE-9B404930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4159D2-AD6D-4428-BC97-EF55F7ED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1F74A5-8CEE-41CF-8BCB-292AA585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A151C1-6DCD-4CF2-82B8-8BE37B3D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38FB8B-5969-4A9B-AAE4-F3AA5E3F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A4C9A8-5F49-4F78-87B1-E0972CDA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2F4514-C353-494D-B693-63298B57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86CCD5-D205-4C8F-81C6-F453867D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0E2D99-F2EC-437F-92F4-481B9609B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F463EE-6F60-4CA6-97FB-A31EFBA9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FB149-7A63-4B20-9F93-FDD7DA999F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FB07A-C2B7-469C-8373-F7461F48DF0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D99BE-A93D-4E80-80A0-E776939B92C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7E4F4-7B26-43DA-BCA2-2C799BFB40C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6CE2F-F1BD-4E33-B7FA-F82BC7BBC5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4A800-4458-4CFF-A7A9-85E862947B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27852-F0E7-4218-84F8-99F26EA838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C03C0-284F-40A0-8D73-9BF4A08C3D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F640D-031E-4785-9DBE-EDECE1375B2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53763-A4C0-4ED1-B6BA-FCB934ECA6D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DF930-12FA-4A75-87B8-E8F9F5CB129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2DD65-1665-4D03-822C-8FB9DE6D46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247AD-FE25-4106-BDDF-A5FBFEBD24F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55CB1-2147-4FCA-A035-2892BABE972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7EA9F8-0AAD-4B8F-A634-A875E64D295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371616-4EE1-4EE3-B353-5ADC310B54A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74A70B-7112-4B1D-B24E-D31FCAE78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95A67-01BD-4D83-B252-D9418870239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F5883F-1B6F-4992-A90C-20D0FF15964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D75869-6347-40A1-B42D-3AFD25DFD23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2EA14F-0E42-438D-9086-C7111C2B479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B8F969-7511-415E-AD12-6D39595549A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6E8E97-69DC-434C-B6EE-97523232160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8207E4-56B8-442C-BDC9-D71F7794CA8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C50C0E-18AE-4176-9691-FCAD1559B23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3D2563-ED99-4962-A586-A547A967417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066D97-EA74-40A8-8160-5E92EBB5A72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7AFEB-F472-41B1-811B-822262A6DA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48FC1-8310-4E51-A0A7-A94BA5762D1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6D5A5-979A-44BC-B5F2-E62DECF1DCD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7C1ED-576E-40F2-840A-3A05F036BB3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3C33E-EA67-45F6-9CA4-1E6D13F04B3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4F6EF-AFE4-40F7-9903-D507C16FBEE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C409D-FD78-4C18-BD94-305A0B2D39D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CDF1B-A72C-46F5-A963-228AFFF8E3F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3FB7B-19FF-423D-B4A6-86AF19218F5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A155D-9895-4394-A28E-94C6D376AB3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FEBA5-2303-4CB5-BDDF-020D43369AA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559B0-A33C-47A2-B073-8755D2129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DC93E-A93E-48DF-9901-EDFFFCAC5B5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4F9BD-157E-40CF-9A9E-0915BB369B9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2874BA-868F-4B14-B7EB-484BBF224A9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9C07DC-38FE-4A45-8956-2DAC131FC10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C263D2-5445-4B48-A20B-F96680525E6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9F8C10-99F4-4AAD-AD7A-B1511130F9E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F3A4DD-23D2-4D7F-B5C3-91DB2553B2F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704DAE-BABC-4B5D-9817-53A671075F0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61FFE7-4F14-4706-AAEA-6E0FB51D2C3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4230D6-9112-4002-81D2-92E7F51AD0F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9D1041-0C07-4388-BA4E-C967F88234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9251F-E58A-4F42-B56A-A344BD303B2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E8175F-DF14-4675-A08B-4A3A3E89255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BFC2EC-79E5-4D7F-A0E5-D497DE471C8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E2D1D3-9C29-410D-8957-2A803D68602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3C1C47-AEE6-4EA3-AA27-BF6495DAC8D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F30D46-E501-4090-9C85-4836BF4A58B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D586ED-A9FF-4065-B040-EAB1395D8A2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BB51AE-A5EB-44A1-9E1B-6A6C76628BD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F460E1-6274-4A40-B266-C893FD18049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C53BF9-7AA5-4E0F-B57C-4D23AD75C62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BB5754-CE5B-40F6-BBCD-70C3DDB08B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9B79D-B193-4C10-A0C0-B8F18288627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BB610A-D478-497A-9A03-660E932FFA6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4F4A45-E3F2-4665-B9A3-A887432DFD0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AA8857-3F12-45D8-84AA-DB9ABE4598F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917E96-6ECD-4C58-9507-77893D68CD1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B9B2F7-8E5B-46C9-834D-1B04F8BBF44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76FB2-DD70-4588-977F-B2D507B2C24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41563-79EE-4495-9939-560FA4E0131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E6F25-A1AE-4F34-AF8E-AD2DC78C25F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3C898-E15C-472F-91E8-5DD07F4A619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DA625-4410-4FB7-87E7-02E57F51E3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B6891-8154-4A73-9FEC-8D69E2A8F56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8F7AA-704F-4EAD-82D0-896CB43D717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56AAC-C4D9-4C5E-8052-1EBE07BE074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243D6-876A-49AD-825E-152C9EEBA85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202CB-9880-41AC-B53F-CE5C52D419D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9E373-6A66-4EAD-8A9C-F70F9BBBFDE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F113F-AFCE-49B3-A49C-84F707EFDA1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CB8D9-5D34-47C9-8C53-389BA101B42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50E0A3-676C-44DA-9D41-88D05887B36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16EB41-CF04-4A53-B2FD-A5499E31A62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AF8069-9172-47D6-AACF-692EFCB16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D51A-2275-4D36-833C-649F56B20290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18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19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C337-CE43-4A33-8E7A-D0B51A5FAC86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20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21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FE1A-4EA8-47D8-9E64-0EF58D26BDB7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ftr" idx="22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3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A5B1-0B4A-4CF6-B2E4-1318B71BB82E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25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26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7206-65DC-42DC-BE26-6DBBD8F25194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914400" y="20574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4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5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6593-67AB-44AD-A135-63936C80A0ED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6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7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F36A-A8CF-4F43-A6B8-C73672CA6C6E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8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9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2863-55F1-419E-9129-5BE24E77DE94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0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1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18D9-5FE6-4148-80A5-ACDF122D571A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ftr" idx="12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sldNum" idx="13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461A-D7B5-4462-86E4-F8BFE85AA7FD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ftr" idx="14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sldNum" idx="15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9DB9-8CDC-4095-98C5-EE539558BC48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ftr" idx="16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sldNum" idx="17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56E7-DC0B-4238-87EA-5AF71EBF6EA8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ufpa.br/dicas/treina.htm" TargetMode="Externa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Rectangle 2067"/>
          <p:cNvSpPr/>
          <p:nvPr/>
        </p:nvSpPr>
        <p:spPr>
          <a:xfrm>
            <a:off x="1219320" y="2133720"/>
            <a:ext cx="7086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  <a:ea typeface="Arial"/>
              </a:rPr>
              <a:t>CUIDADOS DE HIGIENE AO UTENTE: LAVAGEM DO CABELO E COURO CABELUDO; CUIDADO COM AS UNH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Rectangle 2065"/>
          <p:cNvSpPr/>
          <p:nvPr/>
        </p:nvSpPr>
        <p:spPr>
          <a:xfrm>
            <a:off x="609480" y="4724280"/>
            <a:ext cx="81536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  <a:ea typeface="Arial"/>
              </a:rPr>
              <a:t>Módulo 7: Bases científicas para prática de Enfermagem II – Fundamentos de Enfermag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écnicas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Trata-se de cuidados simples da lavagem das mãos. As mãos são vectores que favorecem a contaminação. As unhas são receptoras de numerosas bactéri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Propor ao utente para lavar as mãos ao sair da casa de banho, antes e depois das refeições, antes de tomar medicamentos, antes de se deitar e de acordo com as suas necessidad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Lavar as mãos com um sabão neutro, incluindo os espaços interdigitais, a palma e as costas da mão e embaixo das unh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Enxaguar e secar em toalha pesso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Manter as unhas aparadas, ret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8" name="Título 1"/>
          <p:cNvSpPr/>
          <p:nvPr/>
        </p:nvSpPr>
        <p:spPr>
          <a:xfrm>
            <a:off x="1219320" y="22860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  <a:ea typeface="Arial"/>
              </a:rPr>
              <a:t>Higiene das mãos e das unh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Footer Placeholder 5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álcool glicerinado pode estar ao alcance do utente para a higiene das mã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e substitui a lavagem das mãos com água e sabão desde que as mãos não estejam visivelmente suj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itar cerca de 5ml do produto na palma de uma das mãos e friccionar na região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almar e dorsal das mãos, espaço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nterdigital, dedos, unh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1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ítulo 1"/>
          <p:cNvSpPr/>
          <p:nvPr/>
        </p:nvSpPr>
        <p:spPr>
          <a:xfrm>
            <a:off x="1219320" y="22860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  <a:ea typeface="Arial"/>
              </a:rPr>
              <a:t>Higiene das mãos e das unh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AutoShape 2"/>
          <p:cNvSpPr/>
          <p:nvPr/>
        </p:nvSpPr>
        <p:spPr>
          <a:xfrm>
            <a:off x="76320" y="-54756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AutoShape 4"/>
          <p:cNvSpPr/>
          <p:nvPr/>
        </p:nvSpPr>
        <p:spPr>
          <a:xfrm>
            <a:off x="76320" y="-54756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5" name="Picture 8" descr="http://i110.twenga.com/suprimentos/alcool-gel/alcool-gel-70-glicerinado-tp_7057287750995622154b.png"/>
          <p:cNvPicPr/>
          <p:nvPr/>
        </p:nvPicPr>
        <p:blipFill>
          <a:blip r:embed="rId1"/>
          <a:stretch/>
        </p:blipFill>
        <p:spPr>
          <a:xfrm>
            <a:off x="6216480" y="3789360"/>
            <a:ext cx="2592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Lavagem dos cabelos e do couro cabelud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8" name="Picture 2" descr="http://images.quebarato.com.br/photos/big/F/3/3299F3_1.jpg"/>
          <p:cNvPicPr/>
          <p:nvPr/>
        </p:nvPicPr>
        <p:blipFill>
          <a:blip r:embed="rId1"/>
          <a:stretch/>
        </p:blipFill>
        <p:spPr>
          <a:xfrm>
            <a:off x="1905120" y="1295280"/>
            <a:ext cx="6395760" cy="4797720"/>
          </a:xfrm>
          <a:prstGeom prst="rect">
            <a:avLst/>
          </a:prstGeom>
          <a:ln w="0">
            <a:noFill/>
          </a:ln>
        </p:spPr>
      </p:pic>
      <p:sp>
        <p:nvSpPr>
          <p:cNvPr id="549" name="Espaço Reservado para Rodapé 5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Aspectos gerai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6840" y="1143000"/>
            <a:ext cx="8435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couro cabeludo é a pele que reveste o crânio e que possui cabel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É diferente das demais peles por dois motivos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baixo desta pele existe uma estrutura muito vascularizad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Grandes sangramentos ocorrem em ferimentos neste local, que devem necessariamente ser suturados para evitar a formação de hematom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2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Aspectos gerai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6840" y="1143000"/>
            <a:ext cx="8381880" cy="10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Trauma no couro cabeludo com necessidade de sutur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5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6" name="Picture 2" descr="http://t2.gstatic.com/images?q=tbn:ANd9GcRTQx9V0gd4lxegeZoy-4h0rOoqVwgb51c3hL5yCXJAlR42NBUlFQ"/>
          <p:cNvPicPr/>
          <p:nvPr/>
        </p:nvPicPr>
        <p:blipFill>
          <a:blip r:embed="rId1"/>
          <a:stretch/>
        </p:blipFill>
        <p:spPr>
          <a:xfrm>
            <a:off x="2075040" y="2259000"/>
            <a:ext cx="502272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Aspectos gerai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539640" y="1125360"/>
            <a:ext cx="561672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tecido do couro cabeludo fino, friável e altamente vascularizado é chamado de Gále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s ferimentos contusos apresentam grandes hematomas, e muitos recém-nascidos nascem com bossa, ou seja, hematomas abaixo do couro cabeludo e acima do crâni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9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CaixaDeTexto 5"/>
          <p:cNvSpPr/>
          <p:nvPr/>
        </p:nvSpPr>
        <p:spPr>
          <a:xfrm>
            <a:off x="826920" y="5084640"/>
            <a:ext cx="7777440" cy="119124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ortanto, a lavagem dos cabelos e do couro cabeludo deve ser cuidadosa, com o utente bem posicionado para evitar quedas e traum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1" name="Picture 6" descr="http://2.bp.blogspot.com/_6x87rIx8LHg/S_iLh_kE5CI/AAAAAAAAAMc/_2ZjntpmUGA/s1600/Acute_Subdural_hematoma550_ab%5B1%5D.jpg"/>
          <p:cNvPicPr/>
          <p:nvPr/>
        </p:nvPicPr>
        <p:blipFill>
          <a:blip r:embed="rId1"/>
          <a:stretch/>
        </p:blipFill>
        <p:spPr>
          <a:xfrm>
            <a:off x="6300720" y="1773360"/>
            <a:ext cx="2479680" cy="2952720"/>
          </a:xfrm>
          <a:prstGeom prst="rect">
            <a:avLst/>
          </a:prstGeom>
          <a:ln w="0">
            <a:noFill/>
          </a:ln>
        </p:spPr>
      </p:pic>
      <p:sp>
        <p:nvSpPr>
          <p:cNvPr id="562" name="Espaço Reservado para Conteúdo 2"/>
          <p:cNvSpPr/>
          <p:nvPr/>
        </p:nvSpPr>
        <p:spPr>
          <a:xfrm>
            <a:off x="6516720" y="1052640"/>
            <a:ext cx="2158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Hemato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533160" y="137124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nsiste na lavagem dos cabelos e do couro cabeludo, promovendo a limpeza, bem estar, o relaxamento e a sensação de conforto do paciente acamad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higiene do couro cabeludo é necessária para prevenir lesões, estimular a circulação sanguínea e evitar o aparecimento de pedículos, sendo importante também para a estima pesso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m geral, é realizada 2 a 3 vezes por semana, pois o acúmulo de seborréia e caspa causa prurido e desconforto no ut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4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46784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Lavagem dos cabelos e do couro cabelud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533160" y="137124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ntes de iniciar o procedimento, certifique-se de que não haja contra-indicações ou prescrição de cuidados especiais, como nos casos de utentes graves, submetidos a cirurgias de cabeça e pescoço ou com traumatismo raquimedula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reviamente à lavagem, proteger os ouvidos do utente com algodão, visando evitar a entrada de águ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ara facilitar o procedimento e evitar a fadiga, o utente deve ser posto em decúbito dorsal, com um travesseiro ou coxim sob os ombros; a cama deve estar forrada com oleado impermeável e toalha, e a bacia mantida sob a cabeç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7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46784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Lavagem dos cabelos e do couro cabelud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456840" y="1752480"/>
            <a:ext cx="8381880" cy="39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o intuito de propiciar conforto ao utente, moderar, no enxágüe, a quantidade de água, mas cuidar para que todo o sabão/shampoo seja removido. Este é oferecido pelo utente ou familia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alizar movimentos de fricção do couro cabeludo com a ponta dos dedos (nunca com as unhas) para estimular a circul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pós a lavagem, retirar o excesso de água dos cabelos com a toalha e providenciar a secagem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entear, quando o utente estiver impossibilitad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0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46784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Lavagem dos cabelos e do couro cabelud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Registos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pós a lavagem dos cabelos e couro cabeludo registar o procedimento no processo do ut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crescentar registos sobr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Queda de cabel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arefação de áreas (sugestivo de micoses, cicatrizes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resença de pediculose (tratar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resença de seborréia ou caspa excessiv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4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5" name="Picture 9" descr="fichario">
            <a:hlinkClick r:id="rId1"/>
          </p:cNvPr>
          <p:cNvPicPr/>
          <p:nvPr/>
        </p:nvPicPr>
        <p:blipFill>
          <a:blip r:embed="rId2"/>
          <a:stretch/>
        </p:blipFill>
        <p:spPr>
          <a:xfrm rot="1300200">
            <a:off x="3057120" y="4284720"/>
            <a:ext cx="188280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0T15:15:31Z</dcterms:created>
  <dc:creator>Escolastica</dc:creator>
  <dc:description/>
  <dc:language>en-US</dc:language>
  <cp:lastModifiedBy>Hamido</cp:lastModifiedBy>
  <dcterms:modified xsi:type="dcterms:W3CDTF">2011-07-26T13:18:38Z</dcterms:modified>
  <cp:revision>8</cp:revision>
  <dc:subject/>
  <dc:title>Slide 1</dc:title>
</cp:coreProperties>
</file>