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2000AB-9E5A-43E2-9A0C-704BAAE1E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5CE04A-7AB7-4CAF-9743-2F26EC019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8F74-4992-46F6-8D74-D73A41371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CF40-1C03-432D-9F90-F7ABE2F9C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FF2E-A28C-4708-B9EE-9D88EA72A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F820-6242-4468-B1FB-1182976C6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7238-3976-475B-BA3F-F202CE040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1104-3873-49CC-91BD-79F2E6130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E635-F4D6-4232-98A8-D00EEA14E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B1C0-354C-4AAB-82B0-6401DE288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94CB-2E18-4089-BDC0-E9CA00124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42D4-B0F3-42B4-B7A0-839188D89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5390-A9AA-4C8C-8567-E6BB4ADC0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E7C8-628D-4729-A689-A91CCC5BD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F04-91C7-437C-B8E2-6A5A359089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.br/imgres?imgurl=http://www.cantocidadao.org.br/uploads/image/Geral/brinquedo1.jpg&amp;imgrefurl=http://www.cantocidadao.org.br/visualizaritem.php?ItemId=92&amp;usg=__ZVZRpM__UYqQW65_v6GYOolF_iY=&amp;h=532&amp;w=471&amp;sz=204&amp;hl=pt-BR&amp;start=22&amp;tbnid=EJbYikfQLJCiXM:&amp;tbnh=132&amp;tbnw=117&amp;prev=/images?q=brinquedo&amp;gbv=2&amp;ndsp=18&amp;hl=pt-BR&amp;sa=N&amp;start=18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.br/imgres?imgurl=http://www.preceonline.com.br/ntc/fotos/ter&#231;o.jpg&amp;imgrefurl=http://www.preceonline.com.br/ntc/default.asp?Cod=16&amp;usg=__gVB3XXNdfkZcPla8Qad961GIwTA=&amp;h=400&amp;w=400&amp;sz=32&amp;hl=pt-BR&amp;start=21&amp;tbnid=zICT4hRf-6qxlM:&amp;tbnh=124&amp;tbnw=124&amp;prev=/images?q=ter&#231;o&amp;gbv=2&amp;ndsp=18&amp;hl=pt-BR&amp;sa=N&amp;start=18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.br/imgres?imgurl=http://www.digitaldrops.com.br/drops/imagens/MagnoRadio1.jpg&amp;imgrefurl=http://rosaliraster.blogspot.com/2009/06/fotografias-de-uma-historia-radiofonica.html&amp;usg=__7a2F9CI5Y5XzXdd7YiuHAu8X6F8=&amp;h=581&amp;w=400&amp;sz=29&amp;hl=pt-BR&amp;start=48&amp;tbnid=cfKSMGCOb67t4M:&amp;tbnh=134&amp;tbnw=92&amp;prev=/images?q=r&#225;dio&amp;gbv=2&amp;ndsp=18&amp;hl=pt-BR&amp;sa=N&amp;start=36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.br/imgres?imgurl=http://www.vivermelhor.pt/loja/images/carro%20roupa%20suja1540.bmp&amp;imgrefurl=http://www.vivermelhor.pt/loja/index.php?cPath=22&amp;osCsid=9eokc05omrvn7b3c204e6ak9l2&amp;usg=__9QX-UVQzgVRArrN9lS7TR7T4NuY=&amp;h=348&amp;w=344&amp;sz=351&amp;hl=pt-BR&amp;start=15&amp;tbnid=Trh5jHsnf1QyRM:&amp;tbnh=120&amp;tbnw=119&amp;prev=/images?q=roupa+suja&amp;gbv=2&amp;hl=pt-BR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hop.hokohoko.com/images/_original/ts_np_nachttisch_weiss_02.png&amp;imgrefurl=http://estrategiaempresarial.wordpress.com/2008/10/17/porta-livros-e-copo-dagua-hanno-da-nordprodukt/&amp;usg=__yaFR8gD6qRoKg0nGpA_iWhlthAM=&amp;h=346&amp;w=320&amp;sz=162&amp;hl=pt-BR&amp;start=32&amp;tbnid=N6RUBJmi0cwqzM:&amp;tbnh=120&amp;tbnw=111&amp;prev=/images?q=cabeceira+com+&#225;gua+e+copo&amp;gbv=2&amp;ndsp=18&amp;hl=pt-BR&amp;sa=N&amp;start=18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.br/imgres?imgurl=http://catalogohospitalar.com.br/img/produtos/9672/01.jpg&amp;imgrefurl=http://catalogohospitalar.com.br/moveis-para-quarto-mesa-de-cabeceira-em-formica-ib-122.html&amp;usg=__n-asR0t84JkM0S9tjTB5K0kaXjc=&amp;h=325&amp;w=217&amp;sz=6&amp;hl=pt-BR&amp;start=3&amp;tbnid=BL8OApVZcbHvVM:&amp;tbnh=118&amp;tbnw=79&amp;prev=/images?q=cabeceira+de+quarto+de+hospital&amp;gbv=2&amp;hl=pt-BR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7"/>
          <p:cNvSpPr/>
          <p:nvPr/>
        </p:nvSpPr>
        <p:spPr>
          <a:xfrm>
            <a:off x="1066680" y="213372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EIOS PARA PROPORCIONAR CONFORTO AO UTENTE: ARRUMAÇÃO DE CAMAS E ORNAMENTAÇÃO DA ENFERM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28760" y="1500120"/>
            <a:ext cx="84103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ém de a estética proporcionar uma sensação agradável, a assistência humanizada pressupõe a preservação dos direitos dos utentes, boas relações interpessoais e a realização das actividades de forma a melhor atender às necessidades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mpliação do horário de visitas, facilitação do uso de meios de comunicação com o exterior e conservação de objectos pessoais são formas de melhor atender às necessidades dos ut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920"/>
            <a:ext cx="7651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480" y="1214280"/>
            <a:ext cx="442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enfermaria pode permitir que o utente se considere em sua casa, um local privativo e sob seu controlo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ve proporcionar ao utente expressar seus sentimentos e valores, dispor objectos pessoais e que lhe despertam recordações, como fotografias, objectos religiosos e outros. 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equipe de enfermagem deve zelar pela unidade do utente sem desrespeitar sua privacidade.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1" name="Picture 2" descr="http://www.bahianoticias.com.br/fotos/editor/Image/hge-enfermaria.jpg"/>
          <p:cNvPicPr/>
          <p:nvPr/>
        </p:nvPicPr>
        <p:blipFill>
          <a:blip r:embed="rId1"/>
          <a:stretch/>
        </p:blipFill>
        <p:spPr>
          <a:xfrm>
            <a:off x="4859280" y="1197000"/>
            <a:ext cx="3807000" cy="248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t0.gstatic.com/images?q=tbn:EJbYikfQLJCiXM:http://www.cantocidadao.org.br/uploads/image/Geral/brinquedo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716280"/>
            <a:ext cx="161604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3.gstatic.com/images?q=tbn:zICT4hRf-6qxlM:http://www.preceonline.com.br/ntc/fotos/ter%C3%A7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3860640"/>
            <a:ext cx="165708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t2.gstatic.com/images?q=tbn:cfKSMGCOb67t4M:http://www.digitaldrops.com.br/drops/imagens/MagnoRadio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4653000"/>
            <a:ext cx="1170000" cy="170496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77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1143000"/>
            <a:ext cx="4329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a cama com roupas  limpas, secas e bem esticadas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oupas sujas devem ser deitadas imediatamente em recipiente para roupa suja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o ambiente arejado e iluminado, conforme vontade do utente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arrastadeira, escarradeira, urinol, limpos e ao alcance do utente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8" name="Picture 6" descr="http://www.hbarreiro.min-saude.pt/NR/rdonlyres/3D768CDF-2774-4471-9306-DC2A0C02D7C7/8778/enfermaria3.JPG"/>
          <p:cNvPicPr/>
          <p:nvPr/>
        </p:nvPicPr>
        <p:blipFill>
          <a:blip r:embed="rId1"/>
          <a:stretch/>
        </p:blipFill>
        <p:spPr>
          <a:xfrm>
            <a:off x="4853160" y="134136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t1.gstatic.com/images?q=tbn:Trh5jHsnf1QyRM:http://www.vivermelhor.pt/loja/images/carro%2520roupa%2520suja1540.bm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4429080"/>
            <a:ext cx="1984680" cy="2000160"/>
          </a:xfrm>
          <a:prstGeom prst="rect">
            <a:avLst/>
          </a:prstGeom>
          <a:ln w="0">
            <a:noFill/>
          </a:ln>
        </p:spPr>
      </p:pic>
      <p:sp>
        <p:nvSpPr>
          <p:cNvPr id="140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294920"/>
            <a:ext cx="4648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ssegurar que estão disponíveis: recipiente para água potável e co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locar a mesa de cabeceira do lado oposto a porta, à cabeceira desta, e a cadeira do mesmo lado aos pés da ca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rificar as condições dos móveis, paredes, janelas, portas, tecto, e comunicar ao administrativo necessidades de manuten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2" descr="http://t0.gstatic.com/images?q=tbn:N6RUBJmi0cwqzM:http://shop.hokohoko.com/images/_original/ts_np_nachttisch_weiss_0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192888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2.gstatic.com/images?q=tbn:BL8OApVZcbHvVM:http://catalogohospitalar.com.br/img/produtos/9672/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29200" y="342900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Ver imagem em tamanho grande"/>
          <p:cNvPicPr/>
          <p:nvPr/>
        </p:nvPicPr>
        <p:blipFill>
          <a:blip r:embed="rId5"/>
          <a:stretch/>
        </p:blipFill>
        <p:spPr>
          <a:xfrm>
            <a:off x="6572160" y="2000160"/>
            <a:ext cx="1500120" cy="1690920"/>
          </a:xfrm>
          <a:prstGeom prst="rect">
            <a:avLst/>
          </a:prstGeom>
          <a:ln w="0">
            <a:noFill/>
          </a:ln>
        </p:spPr>
      </p:pic>
      <p:sp>
        <p:nvSpPr>
          <p:cNvPr id="146" name="Espaço Reservado para Rodapé 7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143000"/>
            <a:ext cx="8534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 cama confortável, devidamente preparada e limpa, favorece o repouso e o sono adequad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4" descr="http://ww3.scml.pt/media/hosa/enfermaria_01.jpg"/>
          <p:cNvPicPr/>
          <p:nvPr/>
        </p:nvPicPr>
        <p:blipFill>
          <a:blip r:embed="rId1"/>
          <a:stretch/>
        </p:blipFill>
        <p:spPr>
          <a:xfrm>
            <a:off x="2571840" y="205740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9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ipos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143000"/>
            <a:ext cx="4392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ma fechad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a que está desocupada, a espera de um nov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ma aber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a cama ocupada, que pode ser por um utente ambulante, em condições de se locomover ou por um utente que não deambul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1" name="Picture 6" descr="http://www.moveishospitalares.form-email.com.br/images/cama_padrao_2.jpg"/>
          <p:cNvPicPr/>
          <p:nvPr/>
        </p:nvPicPr>
        <p:blipFill>
          <a:blip r:embed="rId1"/>
          <a:stretch/>
        </p:blipFill>
        <p:spPr>
          <a:xfrm>
            <a:off x="4746600" y="1676520"/>
            <a:ext cx="4237200" cy="340812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ma cirúrgica ou cama de anestes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reparada para receber utente operado ou submetido a procedimentos diagnósticos ou terapêuticos sob anestesi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lençol em forma de travessa para facilitar seu recebimento, deslocamento  e higiene (trocar apenas a travessa); dispor cobertor para conter o fri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importante ter suporte lateral, para prevenir queda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5" name="Picture 2" descr="http://t2.gstatic.com/images?q=tbn:ANd9GcQni-Bbegwaofjsl-C0SqQ7Y_2nms_ojJxwl3jwGt0qchDBWFiBAA"/>
          <p:cNvPicPr/>
          <p:nvPr/>
        </p:nvPicPr>
        <p:blipFill>
          <a:blip r:embed="rId1"/>
          <a:stretch/>
        </p:blipFill>
        <p:spPr>
          <a:xfrm>
            <a:off x="5183280" y="1143000"/>
            <a:ext cx="376056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577280" cy="633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1920" y="1218960"/>
            <a:ext cx="449604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que a roupa de cama apresentar sujidade ou estiver molhada com fluidos corporais deve ser trocada, para garantir o conforto do utente e evitar a formação de úlcera de pressão e lesões na pel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rrumação da cama deve ser sempre precedida da limp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término da arrumação da cama, observar a reorganização da unidade d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1" descr="C:\Documents and Settings\Administrador\Meus documentos\Moçambique GERAL\fotos formacao serventes xaixai fev 2007\P2010016.JPG"/>
          <p:cNvPicPr/>
          <p:nvPr/>
        </p:nvPicPr>
        <p:blipFill>
          <a:blip r:embed="rId1"/>
          <a:stretch/>
        </p:blipFill>
        <p:spPr>
          <a:xfrm>
            <a:off x="4648320" y="19810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11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65324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268280"/>
            <a:ext cx="84582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 arrumação da cama a equipe deve organizar o trabalho de forma a evitar problemas posturais e desperdício de energ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tanto, dev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videnciar todo o material necessário ant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brar a roupa de cama de maneira funcional, na ordem de instal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ltar, primeiramente, todo o lençol da cama e, em seguida, preparar todo um lado da cama e depois o out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5"/>
          <p:cNvSpPr/>
          <p:nvPr/>
        </p:nvSpPr>
        <p:spPr>
          <a:xfrm>
            <a:off x="539640" y="5373720"/>
            <a:ext cx="8280360" cy="8254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rrumação será praticada no Laboratório Humanístico (L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506000" cy="633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4920" y="126792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prevenir infecções, lavar sempre as mãos antes e após a realização da arrumação de cam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unca pôr roupa limpa sobre a cama de outro utente ou na cama a ser arrumada sem antes limp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manuseio excessivo da roupa e seu contato com o uniforme ou com o ch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 cama estiver destinada a receber utente operado, a arrumação dos lençóis deve ser feita de modo a facilitar seu recebimento e higiene (travessa) e aquecimento do mesmo (cobertor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idado ao deslocar o utente, evitando trauma(s) e não puxar as sondas, cateteres e tubos, que podem desconectar-se com movimentos bruscos ou mesmo lesar o local onde estão instal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295280"/>
            <a:ext cx="443412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unidade do utente, quer seja um ambiente individualizado (quarto) ou espaço colectivo (enfermaria), deve proporcionar-lhe completa segurança e bem-es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conservação do teto, piso e paredes, instalação elétrica e hidráulica, disposição do mobiliário e os espaços para a movimentação do utente, da equipa e dos equipamentos são aspectos import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0" name="Picture 2" descr="http://www.rafaelgreca.org.br/blog2/wp-content/uploads/bnovo-12.jpg"/>
          <p:cNvPicPr/>
          <p:nvPr/>
        </p:nvPicPr>
        <p:blipFill>
          <a:blip r:embed="rId1"/>
          <a:stretch/>
        </p:blipFill>
        <p:spPr>
          <a:xfrm>
            <a:off x="4565520" y="1905120"/>
            <a:ext cx="4329360" cy="289224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219320"/>
            <a:ext cx="495288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ambiente e os factores estéticos influenciam o estado emocional e o humor das pesso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ração atraente, cores de paredes e tectos agradáveis, iluminação adequada, ambiente arejado, calmo e silencioso, proporcionam maior aconchego às pessoas, especialmente quando do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3" name="Picture 2" descr="http://zairaempreendimentos.com/imagesuploads/fb68c2e21bcccf7491273f616486edce.jpg"/>
          <p:cNvPicPr/>
          <p:nvPr/>
        </p:nvPicPr>
        <p:blipFill>
          <a:blip r:embed="rId1"/>
          <a:stretch/>
        </p:blipFill>
        <p:spPr>
          <a:xfrm>
            <a:off x="5508720" y="126828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1.bp.blogspot.com/_kG7GIu-WnY4/R2kFkS2sNoI/AAAAAAAAABk/qxM_FHePWhI/s400/silencio.jpg"/>
          <p:cNvPicPr/>
          <p:nvPr/>
        </p:nvPicPr>
        <p:blipFill>
          <a:blip r:embed="rId2"/>
          <a:stretch/>
        </p:blipFill>
        <p:spPr>
          <a:xfrm>
            <a:off x="6400800" y="3886200"/>
            <a:ext cx="2281320" cy="245736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13:02:48Z</dcterms:created>
  <dc:creator>Escolástica Moura</dc:creator>
  <dc:description/>
  <dc:language>en-US</dc:language>
  <cp:lastModifiedBy>Hamido</cp:lastModifiedBy>
  <cp:lastPrinted>1999-03-19T19:46:22Z</cp:lastPrinted>
  <dcterms:modified xsi:type="dcterms:W3CDTF">2011-07-26T13:08:22Z</dcterms:modified>
  <cp:revision>173</cp:revision>
  <dc:subject/>
  <dc:title>Intodução a Patologia Bá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2cts1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L:\english\2tools\2presgrp\ctschpt1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