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A82F-54C5-49F7-9F5B-469A20CC3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AF8C-D079-485B-AB59-6BA319C55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717F-AE90-4BC3-AF84-5DDA5A788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959A-A31B-49F5-90F9-4A1D80DA2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29FC-0122-42A2-B835-7CEB3DF10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44C3-24F3-4F4E-8915-AB2AB059F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8726A-CE34-495D-A316-756FB22B9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1E97-0CD1-42F5-BC2E-55154B081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ACCC-D7E4-4339-8926-D5EF80D4A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60E9-C6A7-459A-A527-6AE57DDCE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F170-1F82-4D71-A5C4-C8ACC0740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0DE0-F3AB-4E4B-AEAE-6974E2FCD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FF5E-84DF-43E9-874B-CA40AE09A72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FUNDAMENTOS DE ENFERMAGEM</a:t>
            </a:r>
            <a:br>
              <a:rPr sz="36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EPARACAO DO CORPO(MUMI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520" y="4800240"/>
            <a:ext cx="6172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Sub-modulo 1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 fim da discussao o estudante deve ser capaz de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itar os objectivos e a importância dos cuidados após a mor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Nomear os componentes dos cuidados pós mor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escrever a técnica de prestação de cuidados de enfermagem pós mor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estar os Cuidados de enfermagem após a mor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05B5-82F3-4F87-A672-16B63BF30B1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5"/>
          <p:cNvSpPr/>
          <p:nvPr/>
        </p:nvSpPr>
        <p:spPr>
          <a:xfrm>
            <a:off x="4038480" y="1981080"/>
            <a:ext cx="484200" cy="5968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 DA 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morte ou óbito significa a cessação de vida, com interrupção irreversível das funções vitais do organismo e, legalmente deve ser confirmado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D868-4915-44FA-BBD2-32A1DAF4C59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CIA DOS CUIDADOS COM O CORP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E para permitir que o enfermeiro inicia a preparação do corpo,realizando a limpeza e desinfecção,para  evitar os odores desagradáveis e saída de secreções, sangue e adequar a posição do corpo antes que ocorra a rigidez cadavéri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Permite que a família encontre o corpo devidamente preparado e conservado em lugar seguro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Permite  os familiares encontrar os pertences do morto, arrolados e guardados em local apropriado e seguro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5CE0-7862-4917-9D25-73F676EFB37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mite que o enfermeiro após a morte do paciente, observe o esfriamento do corpo, manchas generalizadas,  cor da pele,relaxamento dos esfíncteres e rigidez do corpo/cadavér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mite a  preparação do corpo que consiste na limpeza e desinfecção deixar o corpo preparado e conservado, adequando a posição do corpo antes que ocorra a rigidez cadavérica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AAF9-797E-475D-83D1-C97DF61E06E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676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acao do Corp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9047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Enfermeiro antes da  preparacao do material a ser utilizado,deve verificar se há necessidade de realizar a higiene do corpo;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videnciar o seguinte material (algodão,pinça,ligadura,benzina para remover adesivo, maca, lençóis, biombo (se houver outros pacientes no quarto) e etiquetas de identificação preenchida e assinada pelo enfermei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ós a limpeza do corpo e retirada de drenos, sondas, cateteres e outros objectos, realizar o tamponamento de cavidades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12D2-642F-469A-A8B4-0F266C7ED1A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acao do Corp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Enfermeiro deve estar atento antes que ocorra rigidez cadavérica, fechar os olhos do morto, colocar a prótese dentária ou outras próteses (se houver) e com o auxílio de atadura imobilizar o queixo, os pés e os brac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tiqueta de identificação deve ficar presa ao pulso, o corpo mantido em posição anatómica decúbito dorsal e braços sobre o tórax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corpo deve ser transferido para maca forrada com lençol disposto a diagonal, com o qual será enrolado, coberto e transportado a morgu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B011-8A92-4F69-A5A9-45DCCDE22C4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acao do Corp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s valores e pertences devem ser entregue  aos familiares e na ausência dos mesmos, arrolados e guardados em local apropriado e segur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unca  descartar pertences que aparentemente não possuem valor, como papel de orações, revistas, entre outros, deixar que os familiares seleccionem o que achar desprezi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ós os procedimentos, lavar e desinfectar os aparelhos e materiais utilizados na reanimação e providenciar a limpeza da unidade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8450-0376-4699-B9EE-196713340E6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 E EPI NECESSAR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l Necessario para preparação do corpo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Bacia, água, sabão, algodão, compressas, toalha, éter ou benzina, ataduras e adesiv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Dois lençói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Biombo, quando necessári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Recipiente com casos plásticos identificados para o lixo comum e o lixo infeccioso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Procedimento: Ver Pág: 11- Guião de procedimentos básicos de enfermag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EPI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máscara, óculos, barrete, luvas de procedimentos, avental plástico e sapatos impermeáveis fechado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08F8-86FE-4BC6-BC52-07942DA4F86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2-01-16T12:16:27Z</dcterms:modified>
  <cp:revision>846</cp:revision>
  <dc:subject/>
  <dc:title>ANATOMIA E FISIOLOGIA HUMANA</dc:title>
</cp:coreProperties>
</file>