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F96D-4F99-40DF-B25C-A773493F26AA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E1C2-37E3-42BC-AB6B-BF7C263C9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05ADD-EF6F-4886-B2DE-6257F6F945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F480B-F12F-4637-A0AD-F1ACD17B40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A2E94-4A32-48DF-B043-68DD3A63EC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8D96F-FF7B-4E4D-9F4B-AD02146410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4CCD4-19DE-44A8-9100-51C79EC30D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18014-C43B-4E48-A353-3E2081AE04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11362-7E96-4D15-BEA1-C38C4A9820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77086-FCE4-4933-9E10-260BB4C3B5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38A8A-5B90-430E-A57D-35488CDA38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D6B72-2FDA-4DBE-B1E2-9A4F20D058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F6B94-07BA-430E-B084-83B2A9891B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2C7F1-F4A7-4CB7-BBD1-3DD8A088ED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5"/>
          <p:cNvSpPr/>
          <p:nvPr/>
        </p:nvSpPr>
        <p:spPr>
          <a:xfrm rot="5400000">
            <a:off x="-3227400" y="3227400"/>
            <a:ext cx="6858000" cy="40320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FEFC-B815-41C7-A417-621D3F68A28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3"/>
          <p:cNvSpPr/>
          <p:nvPr/>
        </p:nvSpPr>
        <p:spPr>
          <a:xfrm>
            <a:off x="1371600" y="14479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24"/>
          <p:cNvGrpSpPr/>
          <p:nvPr/>
        </p:nvGrpSpPr>
        <p:grpSpPr>
          <a:xfrm>
            <a:off x="0" y="1447920"/>
            <a:ext cx="2742840" cy="2514240"/>
            <a:chOff x="0" y="1447920"/>
            <a:chExt cx="2742840" cy="2514240"/>
          </a:xfrm>
        </p:grpSpPr>
        <p:sp>
          <p:nvSpPr>
            <p:cNvPr id="45" name="Rectangle 25"/>
            <p:cNvSpPr/>
            <p:nvPr/>
          </p:nvSpPr>
          <p:spPr>
            <a:xfrm>
              <a:off x="0" y="3326040"/>
              <a:ext cx="689040" cy="636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26"/>
            <p:cNvSpPr/>
            <p:nvPr/>
          </p:nvSpPr>
          <p:spPr>
            <a:xfrm>
              <a:off x="1366560" y="1447920"/>
              <a:ext cx="686880" cy="63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27"/>
            <p:cNvSpPr/>
            <p:nvPr/>
          </p:nvSpPr>
          <p:spPr>
            <a:xfrm>
              <a:off x="681120" y="3324240"/>
              <a:ext cx="698400" cy="6364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28"/>
            <p:cNvSpPr/>
            <p:nvPr/>
          </p:nvSpPr>
          <p:spPr>
            <a:xfrm>
              <a:off x="2042640" y="1447920"/>
              <a:ext cx="700200" cy="63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29"/>
            <p:cNvSpPr/>
            <p:nvPr/>
          </p:nvSpPr>
          <p:spPr>
            <a:xfrm>
              <a:off x="679680" y="2076480"/>
              <a:ext cx="698040" cy="628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30"/>
            <p:cNvSpPr/>
            <p:nvPr/>
          </p:nvSpPr>
          <p:spPr>
            <a:xfrm>
              <a:off x="1366560" y="2076480"/>
              <a:ext cx="686880" cy="628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31"/>
            <p:cNvSpPr/>
            <p:nvPr/>
          </p:nvSpPr>
          <p:spPr>
            <a:xfrm>
              <a:off x="0" y="2695680"/>
              <a:ext cx="689040" cy="6393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32"/>
            <p:cNvSpPr/>
            <p:nvPr/>
          </p:nvSpPr>
          <p:spPr>
            <a:xfrm>
              <a:off x="679680" y="2695680"/>
              <a:ext cx="698040" cy="639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2"/>
          <a:stretch/>
        </p:blipFill>
        <p:spPr>
          <a:xfrm>
            <a:off x="8058240" y="3808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ubmarino.com.br/books_productdetails.asp?Query=ProductPage&amp;ProdTypeId=1&amp;ProdId=93057&amp;ST=SE&amp;franq=136426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067"/>
          <p:cNvSpPr/>
          <p:nvPr/>
        </p:nvSpPr>
        <p:spPr>
          <a:xfrm>
            <a:off x="32004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520" y="1600200"/>
            <a:ext cx="5943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500" spc="-1" strike="noStrike">
                <a:solidFill>
                  <a:srgbClr val="ffffff"/>
                </a:solidFill>
                <a:latin typeface="Arial"/>
              </a:rPr>
              <a:t>Cuidados de Enfermagem na Alta do Utente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94920" y="45716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ódulo 6 – Fundamentos de Enfermag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ulas 13/16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Intervenções de Enfermagem - L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Material necessário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artão de identificação do pacient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artão de operação de for paciente de foro cirúrgic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testado de hospitalizaçã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Guia de transferência para consulta externa de controlo ou seguimento pós alta (  se necessário)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testado de doenç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Recibo de pagamento de hospitalizaçã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Guia de alt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Receitas médic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26BB-6FD7-4448-8879-C33CC01F5F8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Intervenções de Enfermagem - L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91404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Procedimentos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Certificar-se da alta no processo clínico do paciente, que deve estar assinada pelo médico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Verificar no processo clínico as medicações ou outros tratamentos a serem feitos antes da saída do paciente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Informar ao paciente sobre a alta, discutir com ele sobre a hora de saída e como será transportado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Entregar ao paciente a receita médica e orientá-lo devidamente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Auxiliar o paciente a vestir-se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Reunir as roupas e seus pertences e colocá-los na mala ou sacola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6EC7-2F33-442C-9F03-BE6B0859BE3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Intervenções de Enfermagem - L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Procedimentos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Devolver objectos e medicamentos ao paciente, que foram guardados no hospital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Providenciar cadeira de rodas ou maca para transportar o paciente até o veícul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Transportar o paciente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Preparar a unidade para receber outro paciente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Fazer registos: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Data e horário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Condições de saída (deambulando, de maca ou de cadeira de rodas)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Procedimentos realizados e as orientações dadas.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BDBB-5432-42E1-B10B-1329A80AF4F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Intervenções de Enfermagem - L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Procedimentos para paciente cirúrgic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nformar o paciente sobre a sua alta, com antecedência, sempre que possíve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ntactar o serviço social quando necessári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xplicar o paciente com clareza sobre os cuidados no domicílio: dieta indicada, repouso se necessário, uso correcto de medicamentos, higiene geral e cuidados com a ferid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Orientar sobre a necessidade de fazer penso no centro de saúde e marcar consulta de controlo, se pertinent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A0B5-5B12-4BE9-8E77-97F7E3FABC5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Intervenções de Enfermagem - L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Procedimentos para paciente cirúrgic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ntregar ao paciente os seus bens que estavam na posse da enfermar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ovidenciar o transporte do paciente em maca ou na cadeira de rodas, quando necessári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Fornecer a primeira medicação a ser tomada em casa, se necessári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Verificar se existirem dúvidas esclareça o paciente e/ou a familiar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Forneça a primeira medicação a ser tomada em casa, se necessári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espeça-se do paciente e seus familiare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08FD-BDFB-442C-BEA5-9E7076EE843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Intervenções de Enfermagem - L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9907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Procedimentos para paciente cirúrgic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Registe a alta no livro conforme a rotina do hospital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Encaminhe o processo internamento do paciente à secretaria do serviço para procedimentos e arquivo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Providencie a limpeza da cama ou unidade do paciente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Fazer registos: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Data e horário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Condições de saída (deambulando, de maca ou de cadeira de rodas)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Procedimentos realizados e as orientações dada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3F4C-0732-4E40-8756-C0F1403B3D1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BLIOGRAF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 u="sng">
                <a:solidFill>
                  <a:srgbClr val="000066"/>
                </a:solidFill>
                <a:uFillTx/>
                <a:latin typeface="Arial"/>
                <a:ea typeface="Times New Roman"/>
              </a:rPr>
              <a:t>Conceitos e Habilidades Fundamentais no Atendimento de Enfermagem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–TIMBY K.BARBARA, 6º Edi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"/>
              </a:rPr>
              <a:t>Enfermagem Fundamental Abordagem Psicofisiológica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SORENSEN e LUCKMANN, 3º Edi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66"/>
                </a:solidFill>
                <a:uFillTx/>
                <a:latin typeface="Arial"/>
                <a:ea typeface="Times New Roman"/>
              </a:rPr>
              <a:t>Fundamentos de Enfermagem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  - POTTER PERRY 7ª edi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MISAU. </a:t>
            </a:r>
            <a:r>
              <a:rPr b="1" i="1" lang="pt-PT" sz="2400" spc="-1" strike="noStrike" u="sng">
                <a:solidFill>
                  <a:srgbClr val="000066"/>
                </a:solidFill>
                <a:uFillTx/>
                <a:latin typeface="Arial"/>
                <a:ea typeface="Times New Roman"/>
              </a:rPr>
              <a:t>Guião de Procedimentos Básicos de Enfermagem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. Maputo – Moçambique, 2009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3322-693F-4599-A24B-0AE53EB7BEC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pós a discussão deste tema os alunos deverão ser capazes de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escrever os tipos de  alta  hospitala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Reconhecer as tarefas do enfermeiro no processo de alta do paci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estar os cuidados de enfermagem na alta do paci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&amp;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wn Arrow 4"/>
          <p:cNvSpPr/>
          <p:nvPr/>
        </p:nvSpPr>
        <p:spPr>
          <a:xfrm>
            <a:off x="3962520" y="1981080"/>
            <a:ext cx="9144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ceito de Alta Hospitala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Alta Hospitalar é o encerramento da assistência prestada ao paciente no hospital. O paciente recebe alta quando seu estado de saúde permitir ou quando está em condições de recuperar-se e continuar o tratamento em cas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 alta consiste em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Obtenção de uma ordem escrita pelo médico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Cumprimento de instruções para a alta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Ajuda ao paciente para sair da unidade sanitária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Resumo das condições da paciente no momento da alta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Comunicação ao pessoal para a limpeza e desinfecção do quarto após a saída do paciente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E923-D44D-48DF-9F00-C5F92C6C6A6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Tipos de Alta Hospitala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1818ff"/>
                </a:solidFill>
                <a:latin typeface="Arial"/>
              </a:rPr>
              <a:t>Alta curado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1818ff"/>
                </a:solidFill>
                <a:latin typeface="Arial"/>
              </a:rPr>
              <a:t>Alta melhorado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1818ff"/>
                </a:solidFill>
                <a:latin typeface="Arial"/>
              </a:rPr>
              <a:t>Alta inalterado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1818ff"/>
                </a:solidFill>
                <a:latin typeface="Arial"/>
              </a:rPr>
              <a:t>Alta a pedido: 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quando é solicitada pelo paciente ou sua família. Para este tipo de alta o paciente e/ou sua família deve proceder assinatura do termo de responsabilidade a ser arquivado no processo clínic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1818ff"/>
                </a:solidFill>
                <a:latin typeface="Arial"/>
              </a:rPr>
              <a:t>Alta condicional ou licença médica: 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concedida pelo médico em datas comemorativas, sendo necessário que o cliente assine um termo de responsabilidade antes de sair da unidad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BDB2-D787-4645-9A7F-905FD1D1450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Tipos de Alta Hospitala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1818ff"/>
                </a:solidFill>
                <a:latin typeface="Arial"/>
              </a:rPr>
              <a:t>Alta por indisciplina ou compulsiva: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mposta pela equipa devido aos comportamentos do paciente incompatíveis com a convivência hospitalar, exemplo: roubos, agressão, etc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1818ff"/>
                </a:solidFill>
                <a:latin typeface="Arial"/>
              </a:rPr>
              <a:t>Transferência: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nsiste na remoção do paciente de uma unidade para outra dentro da própria instituição ou para outras instituiçõe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1818ff"/>
                </a:solidFill>
                <a:latin typeface="Arial"/>
              </a:rPr>
              <a:t>Evasão ou Abandono: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o paciente abandona as instalações hospitalares. Geralmente para estes casos deve ser comunicada a chefia da enfermaria e autoridades policiai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1818ff"/>
                </a:solidFill>
                <a:latin typeface="Arial"/>
              </a:rPr>
              <a:t>Óbito: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quela que ocorre por morte do paci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70AD-CF42-49FF-81D6-3F44E67786B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684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O enfermeiro  identifica na admissão do paciente o conhecimento e as habilidades este necessitará para manter um nível seguro de auto cuidado após a alta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Elabora um plano de ensino  durante a hospitalização do paciente na unidade sanitária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Revê o que o foi ensinado, orienta-o sobre os cuidados e aconselha-o a marcar uma consulta na data especificada pelo médico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Faz o resumo no diário de enfermagem, das condições do paciente na alta e das instruções dadas.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Orientações para a alta do pacien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F5FB-69D4-4F9B-9097-B1A5FA04EF9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ooter Placeholder 5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6840" y="10666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Antes do paciente sair do hospital o enfermeiro deve  verificar junto ao sector administrativo se a conta de hospitalização foi paga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Auxiliar o paciente na arrumação dos seus pertences, se houver lista de verificar para assegurar que nada ficou esquecido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Comunicar os familiares para providenciar o transporte, ou ajuda-lo a chamar um táxi se ele  assim o desejar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Coordenar com a Acção Social para providenciar o transporte para o paciente ( se for necessário).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Orientações para a alta do pacien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9EC4-E54A-4D2B-9E95-6299CDD42FC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5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85440" y="11430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Conduzir o paciente em carrinho de rodas ou apoiá–lo a caminhar até a porta(se necessário)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Permanecer com o paciente na porta até que entre na viatura e esteja instalado com segurança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companhamento do Pacien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FBE5-B9BF-4417-A098-AC2D32E4857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6840" y="11430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Retirar os lençóis e cobertores da  cama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Desinfectar a cama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Arrumar o quarto, ou a cama e deixar pronto para a recepção de outro paciente.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Limpeza Final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3B04-9954-4CEA-9066-0C6C380E6D7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5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6:59:16Z</dcterms:created>
  <dc:creator>Carlos Catingue</dc:creator>
  <dc:description/>
  <dc:language>en-US</dc:language>
  <cp:lastModifiedBy>Hamido</cp:lastModifiedBy>
  <dcterms:modified xsi:type="dcterms:W3CDTF">2011-07-26T08:33:36Z</dcterms:modified>
  <cp:revision>675</cp:revision>
  <dc:subject/>
  <dc:title>ANATOMIA E FISIOLOGIA HUMANA</dc:title>
</cp:coreProperties>
</file>