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AC7-4314-411F-A1E0-0BFE576937B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20D-5A37-4875-B74F-79C5F3B3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C76B-593F-4F80-A905-5A84A13A64A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816C-9E5F-4636-AA38-BE52B1368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5455-ADDA-4011-8554-B7CDB64E0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2967-A037-475B-BC23-6D0763EB6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C469-1E28-411E-A9CB-4D313431D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BFC5-9798-42EA-A2D2-3764BB1D1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F05A-8B9B-4D73-B8FB-15F4D6483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4C1D-298C-40AC-B4D0-9CB25F8DE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0F70-9D52-41FD-9B8A-DAD300B27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8497-42A5-40E9-B4E6-C55E3596F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A58A-77F3-4524-8117-301F6A0B4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E6F5-27F6-4438-BD70-95D32B71D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379B-8E06-4047-A6F0-B797DC3CB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B49-F0B7-4545-B6DB-6C96FD729EB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hyperlink" Target="http://www.fundamentos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68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ientações para a alta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duzir o paciente em carrinho de rodas ou apoia–lo a caminhar até a porta(se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lençóis e cobertores da 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a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38080" y="633564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en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52480" y="6335640"/>
            <a:ext cx="54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rtificar se existe uma ordem médica para a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outras prescrições e outras instruções médicas para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–se sobre a existência ou não de novas ordens médicas que precisam ser executadas antes de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2133720" y="60958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-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se sobre a existência ou não de novas ordens médicas que precisam de ser executadas ante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isar o plano de alta do enferm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ificar o tempo para o paciente sair do hospi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cutir com o paciente o meio de transporte para leva – lo para ca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ncelar as refeições que seriam servidas a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ificar o banho e outros cuidados médicos e de enfermagem atempad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0" y="6335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- 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Necess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rtão de identific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rtão de operação de for paciente de foro cirúrg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stado de hospitaliz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transferência para o paciente marcar consulta externa de controlo no hospital e,  ou guia de transferência para o Centro de Saúde      (  se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stado de doenç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ibo da Hospitaliz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38080" y="633564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necess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dimento na alta de paciente Cirúrgico – Cont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STUDANTE DEVE SER CAPAZ DE 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MPETÊNCIAS      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peça – se do paciente e seus familia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giste a alta no livro conforme a rotina do hospi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s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- Misau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s cuidados de higiene e, evitar trocar de roupa de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nalizar o tratamento e as prescrições de enfermagem conforme o plano de cuid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judar  o paciente a vestir – se com a roupa que usará para ca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isar as instruções da alta e finalizar a educação par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633564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uxiliar o paciente a empacotar os seus pertences; se for caso; solicitar que ele assine a liste de peça de vestuário ou objectos de valor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judar o paciente a usar a cadeira de rodas para se deslocar até ao transporte se necessári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companhar o paciente até a viatur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Enviar todo o processo para o arquiv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Guardar a cadeira de rodas no lugar correcto na enfermari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– MISAU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 resumo da alta no livro de altas onde deve const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e horári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dições do paciente no moment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umo das instruções d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io de transporte us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ção da (s) pessoa (as) que acompanhou (aram) 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457200" y="6335640"/>
            <a:ext cx="62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lo de documentação de alta cirúrgica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e hor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aciente estava afebril, sem dor na  região afectada. As suturas foram removidas. A incisão abdominal intacta, sem sinais nem sintomas de infecção. Sem penso. Com prescrição médica de amoxacicl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e é capaz de repetir o número de cápsulas pode auto administrar se por dose, os horários adequados para tal os possíveis efeitos secundários do medic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440" y="9140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s sinais e sintomas de infecção repetidos e necessidades de relata – los imediatam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i orientado para tomar banho de chuveiro como costume e evitar temporariamente levantar objectos pesados/ com mais de 19 quil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do quanto a consulta de acompanhamento dentro de uma semana com o médico, conforme a indicado no cartão de instruçõe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62320" y="633564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d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09120" y="10666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aciente recebeu cópia da folha de instruções da alta. Foi efectuado pagamento da hospitalização pelo filh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i auxiliado em carrinho de rodas até a viatura particular que o transportou para casa sem quaisquer queix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66"/>
                </a:solidFill>
                <a:latin typeface="Arial"/>
              </a:rPr>
              <a:t>Assinatura do enfermeiro e responsabilidade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16540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b- módulo17/32 Cuidados de Enfermagem ao paciente na fase Term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s cuidados de enfermagem para 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 importância dos cuidados de enfermagem no paciente nas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7720" y="1143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uma fase em que a recuperação do paciente está aquém de uma expectativa desej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ões corporais que normalmente antecedem a morte indicam para a equipa de enfermagem que o estado de saúde do paciente é grave e a resposta ao tratamento não é satisf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 de Fase Term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alta é um processo que ocorre quando o paciente sai de uma instituição de cuidados de saúde, e consiste em:</a:t>
            </a: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nção de uma ordem escrit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mprimento de instruções para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juda ao paciente para sair da unidade sanit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o paciente apresenta sinais e sintomas neurológico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gitação psicomotora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de 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musc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minuição ou ausência de reflex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eda de mandíbul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 de Fase Terminal (cont. 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capacidade de degluti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cumulação de secreções Orofarínge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 esfíncter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ríase/ dilatação da pupil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mbém ocorrem alterações dos sinais vitais tais co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ência cardiocirculatória e respirató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ulso filiform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45280" y="6335640"/>
            <a:ext cx="44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pneia acentu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iração ruidosa e irreg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anose,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quim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le pálida e f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or/sudorese frio e visc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pacientes, chegam a fase terminal sem alterações no estado de consciência e quando são informados sobre a gravidade e evolução da doença apresentam reacções emocionais distin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família pode sentir se desorientada sobre como agir ou o que dizer ao paciente, uma vez que a abordagem sobre a morte é dolorosa e de difícil  compreensão e acei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mpreensão dos seus sentimentos é fundamental para uma abordagem propícia e eficaz e o paciente e seus familiares, percebam que o enfermeiro está a fazer  tudo para minimizar a sua“dor”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paciente ou um familiar manifestar o desejo de receber assistência espiritual, o enfermeiro pode proporcionar o encontro com o representante de sua escolh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emocional e confort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dar apoio e encorajamento a família e respeitar suas crenç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do paciente e companhia dos seus ante queridos, mantendo o num quarto ou utilizar biombos se ele estiver 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os cuidados de higiene corporal de forma carinhosa com maior frequência necess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danças de decúbito e adequado alinhamento do corpo numa cam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6176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 paciente frequentemente sem exigir uma resposta verbal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nter os olhos fechados se o reflexo palpebral estiver ausente, para evitar a ulceração da cór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pirações frequentes de secreções para manter as vias aéreas superiores premiá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umedecer o ar e retirar as próteses dentárias se o paciente tiv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Aceitar o comportamento do paciente não importa qual sej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oportunidade para que o paciente expresse livremente os seus sentimen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compreender os sentimentos do paciente e trata – lo com muito carinh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os direitos do paciente e ajuda - o a escolher a maneira e o local em que deseja receber os cuidados antes de su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. Estágio de não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ação é um mecanismo psicológico de defesa pelo qual o paciente recusa se a creditar que determinada informação seja verdadeira. O paciente neste estágio po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jeitar que o diagnóstico seja verdad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pecular que o resultado de seus testes sejam err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e de protectora de quem está a ser confrontado com uma realidade muito doloro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606680" y="632448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s da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s da morte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. Estágio da Rai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é uma reacção de emoção e sensação de ser vítima. Uma vez que a morte em eminência não pode ser vingado, os pacientes deslocam sua raiva contra outros, como os enfermeiros, os médicos, a família e até a Deus.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pode ser expressa através de queixas contra os cuidados prestados ou reacções exageradas ao mínimo proble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 – Con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umo das condições da paciente no moment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ção ao pessoal de para limpeza e desinfecção do qu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Estágio de Negoci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ociação é uma forma de tentar adiar o inevitável (a morte). Nesta fase o paciente pede ao médico para repetir o tratamento médico, ou negoceia com Deus para adiar a sua morte de modo a assistir um evento próximo na família. Exemplo: o casamento de seu filho mais no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 de Morte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paciente vai se apercebendo de que a morte não pode ser adiado e entra em depress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4.  Estágio de Depress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período muito realista de sofrimento, em que paciente tem tendência a desistir do mundo, prefere estar sozinho, há diminuição do apetite, e so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5.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toma consciência e aceita todas as implicações de seu prognóstico. O paciente pode manifestar o desejo de ir morrer em casa ao lado da famí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 de Mor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-módulo 18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ação do Corpo(Múmia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a mú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s objectivos e a importância da preparaçã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material e EPI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corpo após 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idados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morte ou óbito, é a cessação de vida do paciente, com interrupção irreversível  das funções vitais do organismo e, é legalmente  confirm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057400" y="63356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sfriament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manchas generaliz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r roxeada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s esfíncteres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gidez do corpo/cadavéric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057400" y="633564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a família encontre o corpo devidamente preparado e conservado em lugar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vitar os odores desagradáveis e saídas de secreções 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equar a posição do corpo antes que ocorra a rigidez cadavér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s familiares encontrem os pertences do seu ente querido conferidos e guardados em lugar apropriado e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e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quipamento de Protecção Individual(EPI):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ásca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ócul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plástico e sapatos impermeáveis fech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para preparação do corpo: bacia, água, sabão, algodão, compressas, toalha, éter ou benzina, ligaduras e ades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is lençó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iombo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cipiente com sacos plásticos identificados, para o lixo comum e lixo infecci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mar o médico para confirmar o ób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icar se o preenchimento do processo clínico está corre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egurar que o horário e data do óbito estão correc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rmar se o “certificado de óbito” foi preenchido correctamente conforme o processo clínico e está assin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VIO??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torização médica par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édico é que determina quando o paciente está suficientemente bem para sair do hospital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édico faz a prescrição e indica a data e o local para uma consulta de acompanh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ar as mãos com água e sabão ou fricciona –las com álcool glicerinado, se não estiverem visivelmente suj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r os EPI descri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ar a roupa, catéteres, sondas, sistemas de drenagem, ligaduras e outros materiais inseridos no corp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par com éter ou benzina as marcas de adesivo, se necessári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os olhos e a boca do falecido, colocando um ligadura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e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as pálpebras e a boca do falecido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com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corpo com duas tiras largas de adesivo( um na atesta e outro no peito) com: serviço onde ocorreu o óbito, nome completo do falecido, idade, filiação, hora e dat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volva o corpo com lençol colocado no sentido diagonal, deixando –o em decúbito dors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brir o corpo com outro lenço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e organizar os materiais us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EPI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- POTTER PERRY 7ª ed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Fundamentos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de Enfermagem.com/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040" y="30481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633564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09480" y="1298520"/>
            <a:ext cx="815364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lta a Pe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paciente sai da unidade sanitária, antes da autorização médica. </a:t>
            </a: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Geralmente, a alta ocorre quando o paciente ou os familiares não estão satisfeitos com o atendimento ou cuidados pr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es casos, o enfermeiro tem a função de persuadir o paciente ou os familiares, para desistirem da ide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Caso permaneça a decisão, a enfermeira deve solicitar a assinatura de um termo de compromisso, que é um documento que  protege o médico e a instituição da responsabilidade por complicações que possam ocorrer depoi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Alta por Ób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quela que ocorre com a morte do paciente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38080" y="633564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24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 –o a marcar uma consulta na data especificada pelo médico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38080" y="63356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8080" y="633564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1:12Z</dcterms:modified>
  <cp:revision>672</cp:revision>
  <dc:subject/>
  <dc:title>ANATOMIA E FISIOLOGIA HUMANA</dc:title>
</cp:coreProperties>
</file>