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9.jpeg" ContentType="image/jpeg"/>
  <Override PartName="/ppt/media/image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9AEB-1A02-49F3-8A75-3818AD4376F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7203-004E-4E32-B57A-A2FA9C8D2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A1C2-D223-42D9-A089-643AA4975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F3A5-BC73-4795-A5ED-9D1A29FA4C6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B0B83-604A-43CF-AA92-FD99EE9C78A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B5777-497D-4FC6-8A47-8519A3227C1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C1126-4358-429F-9EE9-5F7E36C2CB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D23C1-F43B-4D54-8A8C-BD6FAA9B3D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5A303-049C-43AD-8054-FEB4D877AB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AB169-576E-4F31-BE02-A05D09E9830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ADAE3-C035-480E-91DE-B22F0C3DCD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4A7A9-5A12-4293-9B79-6F208E6B24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C0F59B-1E5B-4455-9DB3-F5FB73C9CFF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56A2A4-9E41-48AE-9CD7-1FD63838C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E233-F8AF-4352-A125-7C6BF15FE7B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68C31F-6DF1-4EE3-B8F3-EDD872F8A4F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614FAF-88E3-4661-BD07-91078F8E5D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26600F-C239-44AC-8DDA-2AA75EF1F15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C5F9AD-D781-41FA-9F2F-51FEB6E0EE2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8686BF-5699-4C6A-A036-610B4FF2F6C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A98D1A-848B-4235-BC25-CF06465BE24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D88A78-8230-4F13-8C3F-457B01AEAB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EBF6A2-0D91-49F4-9E22-41C4BB37333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81EBFF-0300-4FEC-89C6-FC32415564D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B2F752-1331-4046-9B42-4584A69AC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3150-DF0C-45E3-BD18-AA5F50061FD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2ACDFA-AEC5-4AA8-A719-398236F5A5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60501-9D69-4F87-8197-9226EC7F96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154A7-95D8-4FD0-9D07-F05C574310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E83BC-5A9E-4765-89B5-0C39010A6EA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E3E34-9D38-4548-962A-06A80510FF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8A054-F8D5-4CFB-970A-7904EE6D283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6F0A6-2786-435D-9100-D95C255DA08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5EB62-5E5E-4B98-9938-0853571C21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A9441-CE75-4AC3-B8DB-8DFCEFFA73C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1B745-34A8-48EC-8FD1-BDF2674A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03857-BE86-492E-B589-02944D76CF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6BBAC-E35E-444E-80C6-15A1EF6F29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54C4E-2DB3-46A6-9644-8CEE98B9EC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507DEB-C3E9-4344-804A-D89E5550DDE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61975-9DC3-46FB-B9AE-D8246871F13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B5504-5DC0-45DE-95F7-F4D175E85AD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1D197C-2DBE-4A35-84B4-01EE23A2021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32FBFC-D65A-4442-A859-3AB4C776F95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13FAD-1299-4F85-A82C-8AF552213A7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42F27-DDF8-47E3-82AD-8941F6BDCC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0CB29-3EF0-4F53-9B71-9A6DFFFA964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BDC59-3AD9-42DB-BA9C-28002D5DDFB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23A23C-DE1A-4ECD-956F-B4CFC38DCFB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B65C73-EE48-470F-A761-83669EF5E4B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1349FB-E1A5-4A33-B4B3-FE086158EF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2BE6-EDE0-4559-8388-3851F4EA3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89F71-DCCB-4E6A-A704-4A9FD73073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40538-69B9-4DCD-ACC3-0DEA1D32FD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CE351-BCDB-4575-910E-C965095B5C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AF908-7CA2-42C2-95BC-2437D421E6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438F7-D5BA-4191-924C-DB7F82E850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D2B2-0F5C-4373-AC79-AE121D735D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4B66A-251D-4008-BC47-39A281FC99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56CB9-D2FB-4B48-88CB-4EB167ECC8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A55BE-646A-468F-9916-5F22AEFBCC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8CCBE-FAB3-440E-951B-AD895F0FEC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E3923-FBA3-462C-8264-8655E612C6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E6961-5A4C-4E56-86B0-1A28578CAA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3437D-CC76-4803-A8E2-3184E1467C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2FB16-E1F0-49F0-BD1B-8497D3AD48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7E121-53E5-4544-AB43-14F83846DD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31CEE-9BBA-4CBE-9960-FDE8440CE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F1F5-1B17-4EEB-AA77-7312522A1F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3C27A-029C-44B1-A60D-9A97B596CA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884E3-0F44-4DB2-92E0-96CFC81B0B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C8A1F1-6D3D-40F7-AF1B-3D0E0AA023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9A289-94DF-47DD-95E9-4AFABB7AA2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5CBE8-B629-4D19-846A-36DD2FE87C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EE7AD9-54AA-49E6-87FE-AF90793C66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C146C1-13AB-4616-A465-3A8B0C3F8F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05A65-0C93-4736-925C-1BC8AC4E6A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8809D-FB63-457C-BC6D-FA658B671A6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0A1EA-A1C0-42FA-A7D5-D41370652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B70F-2C78-45F3-9603-53471C40FE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6A24-40DC-45EA-A65B-4F80CD7B08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ADB4-8AC5-47BC-896D-AB8652AB8FB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BF4E-723A-46D2-8489-4767206745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F37D-0825-4685-B4ED-641834B0E09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9261-EE4E-4762-8B2C-3769C4ACC20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BE24-24C6-4676-B953-21F8E34C4A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BAEFD-9408-4F5F-9260-01D373B30B5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6416-CE44-41F9-8C2C-28A7817516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F2F3-E6D1-4B6B-B1B0-39130C16325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2A31-18BC-47C0-B477-9CAF9C0CB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D4D5-3702-4561-8911-F938D8AEBF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3B7A-6ED8-4922-A144-F7CA87D1A23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8C289-A13F-4BE6-9762-1F15503CD9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03741-BDFA-4673-96BA-F475B4A076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088BB-FC85-4258-AF91-A447784CCC3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7FEC5-E0DB-40C7-85C0-F6E62DBD28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154F6-6A40-4D02-9C7A-87F0DF4E73A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0D0AF-729D-46CF-BE90-DC091631DF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B4104-3AA8-4B77-B766-BAABE00E76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E1F9F-6FBF-4FD3-8FE0-A0614CDEDD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2F2E6-D82D-4790-8088-0B0930B4F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6B35-8304-4A14-9137-CFDB3AF713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D6C51-9042-4A6D-A16A-7F64FC77288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792F1-E119-4C03-A62B-CDE9530494C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1D921-F4AF-4958-A6F6-F4D53599FCD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BA8BDA-8D54-40A6-8609-BDCE7457D8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8DF5AE-FFE5-4160-829E-28E7936C73C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A47E4E-39F3-4B02-ADDF-51C47B6EDF5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5EE85E-726B-454D-94A7-AD606A2C9A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4984D-3C17-4617-8209-966CCC5324E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28FA07-603A-49AA-8254-BBFE71CA5A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40BA59-EEEF-44AE-A088-1A2D97865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FCDA-4C8F-4692-9498-248E5BEA42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4180ED-5980-41D3-9D08-A7DA91367C4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4DBD1D-D714-4788-8D17-39FEA6B883A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6C0BCB-5960-42E7-A98B-60C4BE9837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4815C9-3A22-4F6D-9F9E-CD6E05A2C23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C7842D-245B-40EE-83F8-3077F6338B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3095-9188-49A4-AC79-3EFBEA5402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2445A-8212-4B96-9C2C-2999EBBA055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0C74A-8E9D-4C8A-B4AC-E094F42DD9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34D3B-419A-411C-9E54-7B206969A41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20116-905E-4FC4-8674-DB97970B4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16FF-7FCC-442E-89D6-81405464B9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1765C-CEFA-4CE0-8981-942E8963BD4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9A4FB-0396-4D61-86C5-0B99F008D7F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2952C-B6B1-46B4-9849-3046CA248E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5BA53-BA29-4B0F-9A5B-5C39F0A3D87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F271-9DA5-42B9-B824-F67AB4EAE5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2ED6C-5C18-432D-BE6B-4925FAA9303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63A1-099D-4BCC-AFB3-0A788D7B27A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8B912-B9B2-4B0B-A2EE-24B6F3036C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A92F0-0C77-4972-A44E-66DF7470CC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5B127-6E17-45A3-B0AA-8F6506337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E111-0C1F-4DD9-B34B-330CAA46987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7291-A76E-46E5-8827-63F140BD23CD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F073-BEE3-4562-99C5-8264C6AA3EE0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2C2A-291E-45DD-9422-A433DA0EEA7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DA98-F297-49C1-9A20-2C0E33EC68A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B324-C1DB-4332-94AF-6B3CCB19D985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A737-6252-4C1D-9A33-BC94BD4E0492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B868-D39F-4905-8554-7BCB0266A98E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73B0-536F-46C3-97AE-00D8DEF5DCAA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5AC6-691E-4E5D-A6B3-5D24CC2D1A5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3579-2BC2-46B8-831A-783AED489B31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3.bp.blogspot.com/-IkHukene01c/TWQZgScvLgI/AAAAAAAAAK8/vV8tqkuqP9E/s1600/Posi&#231;&#227;o+de+Fowler.gif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067"/>
          <p:cNvSpPr/>
          <p:nvPr/>
        </p:nvSpPr>
        <p:spPr>
          <a:xfrm>
            <a:off x="1066680" y="2133720"/>
            <a:ext cx="7467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Arial"/>
              </a:rPr>
              <a:t>MEIOS PARA PROPORCIONAR CONFORTO AO UTENTE: POSIÇÕES DE CONFORTO DO UTENTE E MECANICA CORPO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Rectangle 2065"/>
          <p:cNvSpPr/>
          <p:nvPr/>
        </p:nvSpPr>
        <p:spPr>
          <a:xfrm>
            <a:off x="685800" y="4800600"/>
            <a:ext cx="8153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  <a:ea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itotômica: a utente é posta em decúbito dorsal, as coxas são bem afastadas uma das outras e flexionadas sobre o abdome; para manter as pernas nesta posição usam-se suportes para as pernas (perneiras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parto, toque, curetagem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 durante exa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6" name="Picture 4" descr="http://2.bp.blogspot.com/-hEb-gmIEf7k/TWQhfJGVTkI/AAAAAAAAALM/mXKo-i_yOws/s320/Posi%25C3%25A7%25C3%25A3o+Ginecol%25C3%25B3gica.jpg"/>
          <p:cNvPicPr/>
          <p:nvPr/>
        </p:nvPicPr>
        <p:blipFill>
          <a:blip r:embed="rId1"/>
          <a:stretch/>
        </p:blipFill>
        <p:spPr>
          <a:xfrm>
            <a:off x="1619280" y="3789360"/>
            <a:ext cx="6207120" cy="2405160"/>
          </a:xfrm>
          <a:prstGeom prst="rect">
            <a:avLst/>
          </a:prstGeom>
          <a:ln w="0">
            <a:noFill/>
          </a:ln>
        </p:spPr>
      </p:pic>
      <p:sp>
        <p:nvSpPr>
          <p:cNvPr id="557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6840" y="1142640"/>
            <a:ext cx="838188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redelemburg: a utente fica em decúbito dorsal, com as pernas e pé acima do nível da cabe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retorno venoso, cirurgia de varizes, edema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AutoShape 2"/>
          <p:cNvSpPr/>
          <p:nvPr/>
        </p:nvSpPr>
        <p:spPr>
          <a:xfrm>
            <a:off x="76320" y="-495360"/>
            <a:ext cx="1752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76320" y="-495360"/>
            <a:ext cx="1752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6" descr="http://www.destradeind.com.ar/img/fluo_foPosicion03.jpg"/>
          <p:cNvPicPr/>
          <p:nvPr/>
        </p:nvPicPr>
        <p:blipFill>
          <a:blip r:embed="rId1"/>
          <a:stretch/>
        </p:blipFill>
        <p:spPr>
          <a:xfrm>
            <a:off x="4716360" y="2997360"/>
            <a:ext cx="3868920" cy="2303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http://www.dipelco.com/Imagenes/TMP26.JPG"/>
          <p:cNvPicPr/>
          <p:nvPr/>
        </p:nvPicPr>
        <p:blipFill>
          <a:blip r:embed="rId2"/>
          <a:stretch/>
        </p:blipFill>
        <p:spPr>
          <a:xfrm>
            <a:off x="684360" y="2997360"/>
            <a:ext cx="3905280" cy="2724120"/>
          </a:xfrm>
          <a:prstGeom prst="rect">
            <a:avLst/>
          </a:prstGeom>
          <a:ln w="0">
            <a:noFill/>
          </a:ln>
        </p:spPr>
      </p:pic>
      <p:sp>
        <p:nvSpPr>
          <p:cNvPr id="564" name="Espaço Reservado para Rodapé 8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6840" y="1143000"/>
            <a:ext cx="838188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reta ou ortostática: o utente permanece em pé com chinelos ou com o chão forrado por um tape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exames neurológicos e certas anormalidades ortopéd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Picture 2" descr="http://wmturismo.com.br/images/standing.jpg"/>
          <p:cNvPicPr/>
          <p:nvPr/>
        </p:nvPicPr>
        <p:blipFill>
          <a:blip r:embed="rId1"/>
          <a:stretch/>
        </p:blipFill>
        <p:spPr>
          <a:xfrm>
            <a:off x="971640" y="3141720"/>
            <a:ext cx="3887640" cy="3168720"/>
          </a:xfrm>
          <a:prstGeom prst="rect">
            <a:avLst/>
          </a:prstGeom>
          <a:ln w="0">
            <a:noFill/>
          </a:ln>
        </p:spPr>
      </p:pic>
      <p:sp>
        <p:nvSpPr>
          <p:cNvPr id="568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CaixaDeTexto 7"/>
          <p:cNvSpPr/>
          <p:nvPr/>
        </p:nvSpPr>
        <p:spPr>
          <a:xfrm>
            <a:off x="5076720" y="3789360"/>
            <a:ext cx="3816360" cy="22885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tenção! Todas as posições apresentadas até aqui são extremamente usadas na assistência Materno-infant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921800" cy="1152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mportância da mecânica corporal no trabalho do enfermeir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78920" y="1413000"/>
            <a:ext cx="4070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 enfermeiro deve realizar boa mecânica corporal, principalmente ao cuidar de utentes acamados;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rientar e supervisionar os demais membros da equipa a esse respeito;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os cuidados de enfermagem é muito comum o  levantamento de peso excessivo, incorreto ou repetitivo, que com o tempo pode vir a prejudicar a coluna vertebral do trabalhador. 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72" name="Picture 2" descr="C:\Documents and Settings\Administrador\Meus documentos\Moçambique GERAL\enfermaria modelo\fotos enfermaria modelo jan fev 2008\serv 4 jan 2008.JPG"/>
          <p:cNvPicPr/>
          <p:nvPr/>
        </p:nvPicPr>
        <p:blipFill>
          <a:blip r:embed="rId1"/>
          <a:stretch/>
        </p:blipFill>
        <p:spPr>
          <a:xfrm>
            <a:off x="4284720" y="1981080"/>
            <a:ext cx="4681440" cy="3511800"/>
          </a:xfrm>
          <a:prstGeom prst="rect">
            <a:avLst/>
          </a:prstGeom>
          <a:ln w="0">
            <a:noFill/>
          </a:ln>
        </p:spPr>
      </p:pic>
      <p:sp>
        <p:nvSpPr>
          <p:cNvPr id="573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68000" y="1916280"/>
            <a:ext cx="83818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o executar cuidados de enfermagem que requeiram esforços físicos acentuados, o trabalhador dev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licitar o auxílio de um coleg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lanear técnicas e meios que favoreçam a taref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o fazê-las, manter as costas sempre erectas e os joelhos flexion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921800" cy="1152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mportância da mecânica corporal no trabalho do enfermeir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18960" y="214200"/>
            <a:ext cx="7281720" cy="79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Verdana"/>
              </a:rPr>
              <a:t>Como aplicar boa mecânica corporal</a:t>
            </a:r>
            <a:endParaRPr b="1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14200" y="1143000"/>
            <a:ext cx="8701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Mecânica corporal é o modo como o corpo se movimenta e mantém o equilíbrio pelo uso mais eficiente de suas par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se os músculos mais longos e fortes dos braços e pernas para evitar tensão dos músculos das cost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Os músculos dos quadris, das coxas e das pernas são fortes e devem ser usados sempre que poss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79" name="Picture 2" descr="http://imagem.vilamulher.terra.com.br/interacao/original/60/postura-correta-4-60-226.jpg"/>
          <p:cNvPicPr/>
          <p:nvPr/>
        </p:nvPicPr>
        <p:blipFill>
          <a:blip r:embed="rId1"/>
          <a:stretch/>
        </p:blipFill>
        <p:spPr>
          <a:xfrm>
            <a:off x="1643040" y="3505320"/>
            <a:ext cx="5916600" cy="3352680"/>
          </a:xfrm>
          <a:prstGeom prst="rect">
            <a:avLst/>
          </a:prstGeom>
          <a:ln w="0">
            <a:noFill/>
          </a:ln>
        </p:spPr>
      </p:pic>
      <p:sp>
        <p:nvSpPr>
          <p:cNvPr id="580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Regras para prática da boa mecânica corpo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880" y="1295280"/>
            <a:ext cx="8382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Encoraje o utente a fazer o máximo por si próprio, sempre que pos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oporcionará exercitar seu tônus muscular, prevenir contracturas, deformidades e articulações endureci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Mantenha uma larga base de sustentação, ficando com os pés confortavelmente afastados, um à frente do outro e as pontas voltadas para o movimento que se vai execut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Fique junto ao utente e flexione os joelhos e quadris quando precisar inclinar-se, em vez de dobrar a cintu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3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Regras para prática da boa mecânica corpo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1600200"/>
            <a:ext cx="4800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arregue objectos pesados junto ao corp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Movimente o utente fazendo-o rolar ou virar, sempre que possível, em vez de levantá-l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empre que possível, puxe o utente em sua direcção, pois tal procedimento exige menos esforço do que empurrá-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86" name="Picture 2" descr="http://t3.gstatic.com/images?q=tbn:nVxbAd3lxKbeHM:http://www.singrafs.org.br/infografs/seguranca/2_9.jpg"/>
          <p:cNvPicPr/>
          <p:nvPr/>
        </p:nvPicPr>
        <p:blipFill>
          <a:blip r:embed="rId1"/>
          <a:stretch/>
        </p:blipFill>
        <p:spPr>
          <a:xfrm>
            <a:off x="5638680" y="1600200"/>
            <a:ext cx="2935440" cy="4071960"/>
          </a:xfrm>
          <a:prstGeom prst="rect">
            <a:avLst/>
          </a:prstGeom>
          <a:ln w="0">
            <a:noFill/>
          </a:ln>
        </p:spPr>
      </p:pic>
      <p:sp>
        <p:nvSpPr>
          <p:cNvPr id="587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68000" y="981000"/>
            <a:ext cx="8381880" cy="19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postura confortável é aquela que gera segurança e bem-estar n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 ser escolhida pelo utente, exceto quando tumores, cicatrizes, drenos, equipamentos ortopédicos, patologias o imped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76320" y="-585720"/>
            <a:ext cx="1847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76320" y="-585720"/>
            <a:ext cx="1847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76320" y="-585720"/>
            <a:ext cx="1847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0" name="Picture 8" descr="http://www.comunicacao.ba.gov.br/fotos/2007/10/24/hospital-manoel-vitorino-inicia-programa-de-resposta-ao-trauma-e-a-violencia/primeira-cirurgia-do-programa-de-resposta-ao-trauma-e-a-violencia-1/image_preview"/>
          <p:cNvPicPr/>
          <p:nvPr/>
        </p:nvPicPr>
        <p:blipFill>
          <a:blip r:embed="rId1"/>
          <a:stretch/>
        </p:blipFill>
        <p:spPr>
          <a:xfrm>
            <a:off x="379440" y="3357720"/>
            <a:ext cx="4114800" cy="2735280"/>
          </a:xfrm>
          <a:prstGeom prst="rect">
            <a:avLst/>
          </a:prstGeom>
          <a:ln w="0">
            <a:noFill/>
          </a:ln>
        </p:spPr>
      </p:pic>
      <p:sp>
        <p:nvSpPr>
          <p:cNvPr id="511" name="AutoShape 12"/>
          <p:cNvSpPr/>
          <p:nvPr/>
        </p:nvSpPr>
        <p:spPr>
          <a:xfrm>
            <a:off x="76320" y="-571680"/>
            <a:ext cx="159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AutoShape 14"/>
          <p:cNvSpPr/>
          <p:nvPr/>
        </p:nvSpPr>
        <p:spPr>
          <a:xfrm>
            <a:off x="76320" y="-571680"/>
            <a:ext cx="159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AutoShape 16"/>
          <p:cNvSpPr/>
          <p:nvPr/>
        </p:nvSpPr>
        <p:spPr>
          <a:xfrm>
            <a:off x="76320" y="-571680"/>
            <a:ext cx="159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Picture 18" descr="http://i2.photobucket.com/albums/y12/elvysoares/Cesariana6.jpg"/>
          <p:cNvPicPr/>
          <p:nvPr/>
        </p:nvPicPr>
        <p:blipFill>
          <a:blip r:embed="rId2"/>
          <a:stretch/>
        </p:blipFill>
        <p:spPr>
          <a:xfrm>
            <a:off x="4932360" y="3068640"/>
            <a:ext cx="3624120" cy="2719440"/>
          </a:xfrm>
          <a:prstGeom prst="rect">
            <a:avLst/>
          </a:prstGeom>
          <a:ln w="0">
            <a:noFill/>
          </a:ln>
        </p:spPr>
      </p:pic>
      <p:sp>
        <p:nvSpPr>
          <p:cNvPr id="515" name="CaixaDeTexto 14"/>
          <p:cNvSpPr/>
          <p:nvPr/>
        </p:nvSpPr>
        <p:spPr>
          <a:xfrm>
            <a:off x="1403280" y="6093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irurgia ortopéd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CaixaDeTexto 15"/>
          <p:cNvSpPr/>
          <p:nvPr/>
        </p:nvSpPr>
        <p:spPr>
          <a:xfrm>
            <a:off x="5580000" y="5732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sare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Espaço Reservado para Rodapé 1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utente deve assumir uma postura confortável, estando em movimentação ativa ou passiva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 movimentação passiva, cabe a equipe de enfermagem realizar a mudança de decúbito, com as seguintes finalidade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cxnSp>
        <p:nvCxnSpPr>
          <p:cNvPr id="520" name="Conector de seta reta 6"/>
          <p:cNvCxnSpPr/>
          <p:nvPr/>
        </p:nvCxnSpPr>
        <p:spPr>
          <a:xfrm flipH="1">
            <a:off x="2986920" y="3860640"/>
            <a:ext cx="79308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1" name="Conector de seta reta 8"/>
          <p:cNvCxnSpPr/>
          <p:nvPr/>
        </p:nvCxnSpPr>
        <p:spPr>
          <a:xfrm>
            <a:off x="5076360" y="3933720"/>
            <a:ext cx="86436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2" name="Elipse 10"/>
          <p:cNvSpPr/>
          <p:nvPr/>
        </p:nvSpPr>
        <p:spPr>
          <a:xfrm>
            <a:off x="684360" y="4581360"/>
            <a:ext cx="3671640" cy="15116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evenir esca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Elipse 11"/>
          <p:cNvSpPr/>
          <p:nvPr/>
        </p:nvSpPr>
        <p:spPr>
          <a:xfrm>
            <a:off x="4932360" y="4508640"/>
            <a:ext cx="3527280" cy="1512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porcionar confor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Espaço Reservado para Rodapé 9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1142640"/>
            <a:ext cx="83818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enfermeiro poderá utilizar travesseiro, lençol, travessa e outros materiais improvisados para proporcionar posição de conforto a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27" name="Picture 2" descr="[k1a,m.jpg]"/>
          <p:cNvPicPr/>
          <p:nvPr/>
        </p:nvPicPr>
        <p:blipFill>
          <a:blip r:embed="rId1"/>
          <a:stretch/>
        </p:blipFill>
        <p:spPr>
          <a:xfrm>
            <a:off x="2195640" y="2430360"/>
            <a:ext cx="4271760" cy="3665520"/>
          </a:xfrm>
          <a:prstGeom prst="rect">
            <a:avLst/>
          </a:prstGeom>
          <a:ln w="0">
            <a:noFill/>
          </a:ln>
        </p:spPr>
      </p:pic>
      <p:sp>
        <p:nvSpPr>
          <p:cNvPr id="528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142640"/>
            <a:ext cx="83818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deiras, colchões d’água e colchões pneumáticos, camas versáteis, ajudam a posicionar o utente, oferecendo-lhe confor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31" name="Picture 2" descr="http://catalogohospitalar.com.br/img/produtos/27532/imagem-de-poltrona-para-coleta-de-sangue-estofado-suporte-para-o-braco-suporte-para-soro-assento-com-altura-fixa-encosto-regulavel-muito-mais-confortavel_g.jpg"/>
          <p:cNvPicPr/>
          <p:nvPr/>
        </p:nvPicPr>
        <p:blipFill>
          <a:blip r:embed="rId1"/>
          <a:stretch/>
        </p:blipFill>
        <p:spPr>
          <a:xfrm>
            <a:off x="250920" y="2421000"/>
            <a:ext cx="3457440" cy="3456000"/>
          </a:xfrm>
          <a:prstGeom prst="rect">
            <a:avLst/>
          </a:prstGeom>
          <a:ln w="0">
            <a:noFill/>
          </a:ln>
        </p:spPr>
      </p:pic>
      <p:sp>
        <p:nvSpPr>
          <p:cNvPr id="532" name="CaixaDeTexto 6"/>
          <p:cNvSpPr/>
          <p:nvPr/>
        </p:nvSpPr>
        <p:spPr>
          <a:xfrm>
            <a:off x="179280" y="5516640"/>
            <a:ext cx="39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celente para Fowler e manter membros inferiores elevados ou pla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3" name="Picture 4" descr="http://catalogohospitalar.com.br/img/produtos/9660/imagem-de-camas-hospitalares-eletrica-movimento-fawler-e-elevacao-ib-545-el_g.jpg"/>
          <p:cNvPicPr/>
          <p:nvPr/>
        </p:nvPicPr>
        <p:blipFill>
          <a:blip r:embed="rId2"/>
          <a:stretch/>
        </p:blipFill>
        <p:spPr>
          <a:xfrm>
            <a:off x="6084720" y="2276640"/>
            <a:ext cx="2816280" cy="2260440"/>
          </a:xfrm>
          <a:prstGeom prst="rect">
            <a:avLst/>
          </a:prstGeom>
          <a:ln w="0">
            <a:noFill/>
          </a:ln>
        </p:spPr>
      </p:pic>
      <p:sp>
        <p:nvSpPr>
          <p:cNvPr id="534" name="CaixaDeTexto 8"/>
          <p:cNvSpPr/>
          <p:nvPr/>
        </p:nvSpPr>
        <p:spPr>
          <a:xfrm>
            <a:off x="6300720" y="4508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ma que pode ajudar ao utente assumir diversas posições de modo confortá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5" name="Picture 6" descr="Forração Orto Agua Residencial 201-26"/>
          <p:cNvPicPr/>
          <p:nvPr/>
        </p:nvPicPr>
        <p:blipFill>
          <a:blip r:embed="rId3"/>
          <a:stretch/>
        </p:blipFill>
        <p:spPr>
          <a:xfrm>
            <a:off x="3708360" y="2600280"/>
            <a:ext cx="2016000" cy="2263680"/>
          </a:xfrm>
          <a:prstGeom prst="rect">
            <a:avLst/>
          </a:prstGeom>
          <a:ln w="0">
            <a:noFill/>
          </a:ln>
        </p:spPr>
      </p:pic>
      <p:sp>
        <p:nvSpPr>
          <p:cNvPr id="536" name="CaixaDeTexto 10"/>
          <p:cNvSpPr/>
          <p:nvPr/>
        </p:nvSpPr>
        <p:spPr>
          <a:xfrm>
            <a:off x="3780000" y="4797360"/>
            <a:ext cx="19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forto e prevenção de esca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Espaço Reservado para Rodapé 11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6840" y="1143000"/>
            <a:ext cx="8381880" cy="14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owler: Utente fica semi sent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408600" indent="-156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descanso, alimentação, conforto ventilatório, patologias e cirurgias respiratór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0" name="Picture 2" descr="http://3.bp.blogspot.com/-IkHukene01c/TWQZgScvLgI/AAAAAAAAAK8/vV8tqkuqP9E/s320/Posi%25C3%25A7%25C3%25A3o+de+Fowle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3003480"/>
            <a:ext cx="4681440" cy="3291120"/>
          </a:xfrm>
          <a:prstGeom prst="rect">
            <a:avLst/>
          </a:prstGeom>
          <a:ln w="0">
            <a:noFill/>
          </a:ln>
        </p:spPr>
      </p:pic>
      <p:sp>
        <p:nvSpPr>
          <p:cNvPr id="541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6840" y="1142640"/>
            <a:ext cx="838188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ims: Lado direito - deitar a utente sobre o lado direito flexionando-lhe as pernas, ficando a direita semi flexionada e a esquerda mais flexionada, chegando próxima ao abdômen. Para o lado esquerdo, basta inverter o lado e a posição das pernas.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lavagem intestinal, exame retal e toque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 durante exa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Picture 4" descr="http://3.bp.blogspot.com/-JnIjfDkDhjA/TWQTD88usNI/AAAAAAAAAKw/o9fun9nLwD0/s320/Posi%25C3%25A7%25C3%25A3o+de+Sims.jpg"/>
          <p:cNvPicPr/>
          <p:nvPr/>
        </p:nvPicPr>
        <p:blipFill>
          <a:blip r:embed="rId1"/>
          <a:stretch/>
        </p:blipFill>
        <p:spPr>
          <a:xfrm>
            <a:off x="2124000" y="4292640"/>
            <a:ext cx="5592960" cy="1800360"/>
          </a:xfrm>
          <a:prstGeom prst="rect">
            <a:avLst/>
          </a:prstGeom>
          <a:ln w="0">
            <a:noFill/>
          </a:ln>
        </p:spPr>
      </p:pic>
      <p:sp>
        <p:nvSpPr>
          <p:cNvPr id="545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68000" y="1268280"/>
            <a:ext cx="838188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enu-peitoral: Utente se mantém ajoelhada e com o peito descansando na cama. Os joelhos devem ficar ligeiramente afastad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exames vaginais, retais (sigmoidoscopia) e cirurgias. 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 durante exa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8" name="Picture 2" descr="http://1.bp.blogspot.com/-43oDHG61p10/TWQj7O6BJeI/AAAAAAAAALU/jP7N4lRPD5k/s320/Posi%25C3%25A7%25C3%25A3o+Genu+Peitoral.jpg"/>
          <p:cNvPicPr/>
          <p:nvPr/>
        </p:nvPicPr>
        <p:blipFill>
          <a:blip r:embed="rId1"/>
          <a:stretch/>
        </p:blipFill>
        <p:spPr>
          <a:xfrm>
            <a:off x="1763640" y="3933720"/>
            <a:ext cx="5946840" cy="2303640"/>
          </a:xfrm>
          <a:prstGeom prst="rect">
            <a:avLst/>
          </a:prstGeom>
          <a:ln w="0">
            <a:noFill/>
          </a:ln>
        </p:spPr>
      </p:pic>
      <p:sp>
        <p:nvSpPr>
          <p:cNvPr id="549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6840" y="1142640"/>
            <a:ext cx="83818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inecológica: a utente fica deitada de costas, com as pernas flexionadas sobre as coxas, a planta dos pés sobre o colchão e os joelhos afastados um do outr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sondagem vesical, exames vaginais e retal, parto normal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 durante exa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2" name="Picture 6" descr="http://4.bp.blogspot.com/_rs0xdFahBCA/S5EfvKtoaOI/AAAAAAAAApM/wVxEsPwX7nk/s320/parto1.gif"/>
          <p:cNvPicPr/>
          <p:nvPr/>
        </p:nvPicPr>
        <p:blipFill>
          <a:blip r:embed="rId1"/>
          <a:stretch/>
        </p:blipFill>
        <p:spPr>
          <a:xfrm>
            <a:off x="1774800" y="3933720"/>
            <a:ext cx="5524560" cy="2016360"/>
          </a:xfrm>
          <a:prstGeom prst="rect">
            <a:avLst/>
          </a:prstGeom>
          <a:ln w="0">
            <a:noFill/>
          </a:ln>
        </p:spPr>
      </p:pic>
      <p:sp>
        <p:nvSpPr>
          <p:cNvPr id="553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37:55Z</dcterms:created>
  <dc:creator>Escolastica</dc:creator>
  <dc:description/>
  <dc:language>en-US</dc:language>
  <cp:lastModifiedBy>Hamido</cp:lastModifiedBy>
  <dcterms:modified xsi:type="dcterms:W3CDTF">2011-07-26T13:06:44Z</dcterms:modified>
  <cp:revision>70</cp:revision>
  <dc:subject/>
  <dc:title>Slide 1</dc:title>
</cp:coreProperties>
</file>