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8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9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0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8960-9929-4004-9FE9-26B2BFC35156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3066-D878-4DAB-A675-69AD0C5C49D7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CC2FA-6181-4A82-9834-9919F62F6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ACFB-2E3A-4E1D-BBBF-0C494ABB9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1FA5-C5D1-4C3E-9D74-FF08776E3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02FB-A491-4BBD-AE36-70541CFE8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ECD0D-62AE-41FD-A4FC-E3B42D3CC7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14937-0B2A-467C-B649-EC3B349399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15A9E-D73B-47E6-8835-A3506D5994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B0BF1-08E5-4DB0-8091-8489FC5E89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B4B5A-9A91-4DD5-89C0-C23F366CF6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45A30-43B3-4B66-AF68-1FC0449D87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06400-EB9F-4726-B027-18E32A415E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5AC1-6572-419B-8561-06B5861E9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0CE58-5C93-44B8-9148-CD34176DBE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459D6-E82E-4A98-B657-76F0D3D4FC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FB7CD-8CD7-48FC-B3DF-CF8D4ED30A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46E2E-F94C-4E2B-B15C-109A3A856F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4AF4C-38B7-4619-B273-BDEDB65CDD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1FDF-A06D-4EB6-856B-3E68F066C0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6952-F4C8-497A-B036-478B690814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83E3-1E58-49DF-B063-7D48CFA42A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E957-F954-4657-A32E-1D33094D1A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AC23-F770-46BF-8A49-0E73E9675C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8B76-FB93-4666-B2E2-6E9C0165D9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6295-20A3-4B8E-9742-30BFBB96A4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778A-C3A9-4BDE-AA73-5F406ADFBA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16C0-15AE-4AC7-95A3-C867DB2512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BB74-C36F-443A-B96A-587B9A3594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513E-8C99-4757-B855-320B2F5112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687D-444C-407F-87BF-79E74B7B0C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6A1F-AA78-4293-B7A7-BA5F452658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680C-795A-482B-A30E-93D5FDF4B4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7331-74EC-4511-B576-A79E2F0CD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BED51-969B-44C5-96C6-27CC01A69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3FBC8-7520-4599-AF1D-A0E0A9AD9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C316-E7D9-4E60-A840-0C2C2E8E3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CD89-0A48-4B5F-892E-87A61F5F3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4AB0-DF7F-4C92-9207-781B299CB42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54CE-16DB-4CD0-B358-D9CF22242FD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3"/>
          <p:cNvSpPr/>
          <p:nvPr/>
        </p:nvSpPr>
        <p:spPr>
          <a:xfrm>
            <a:off x="914400" y="19810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951F-05F2-46B6-871B-86F6B88C9C1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131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7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320" y="1752480"/>
            <a:ext cx="678204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COM A ALIMENTAÇÃO DO UT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ula 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etas Especi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8600" y="990720"/>
          <a:ext cx="8610480" cy="5410080"/>
        </p:xfrm>
        <a:graphic>
          <a:graphicData uri="http://schemas.openxmlformats.org/drawingml/2006/table">
            <a:tbl>
              <a:tblPr/>
              <a:tblGrid>
                <a:gridCol w="2057400"/>
                <a:gridCol w="6553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racteríst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perproteí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ntém maior quantidade de proteína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imentos: leite, gelatina, carne, iogurte, queijos e ov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poproteí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ntém menor quantidade de proteín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bstipa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sem resídu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ra pacientes com diarreia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ão proibidos: verduras cruas ou cozidas, legumes, frutas cruas, frituras e alimentos gordurosos, leite e derivados, doces (só gelatinas) e sumos de frut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axativ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com resídu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ra pacientes com obstipação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imentos em maior quantidade: verduras, legumes, frutas (laranja, papaia, ameixa) e líqu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pogorduros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problemas de fíg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ntém pouca quantidade de gordura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ão proibidos: manteiga, margarina, queijo, iogurte, frituras e alimentos gorduros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http://crescendocomjesus.files.wordpress.com/2011/02/mac3a7a.gif"/>
          <p:cNvPicPr/>
          <p:nvPr/>
        </p:nvPicPr>
        <p:blipFill>
          <a:blip r:embed="rId1"/>
          <a:stretch/>
        </p:blipFill>
        <p:spPr>
          <a:xfrm>
            <a:off x="228600" y="152280"/>
            <a:ext cx="3579840" cy="2286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886200" y="228240"/>
            <a:ext cx="5105520" cy="6172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Acompanhar os utentes de quem cuida, preparando o ambiente e auxiliando-as durante as refeiçõ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É importante verificar se os pacientes  aceitam a dieta e identificar os factores que interferem na alimentação do ut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Deve familiarizar se do tipo de dieta d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Organize bem a bandeja da dieta dos pacient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Estar atendo as quantidades e a apresentação ou a disposição dos alimentos no prat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5" name="Picture 8" descr="http://4.bp.blogspot.com/_dKP4R4YuD08/TLSZh0UW19I/AAAAAAAAAN0/V8IU9YFLWnM/s1600/alimentacao-balanceada-70-164.jpg"/>
          <p:cNvPicPr/>
          <p:nvPr/>
        </p:nvPicPr>
        <p:blipFill>
          <a:blip r:embed="rId2"/>
          <a:stretch/>
        </p:blipFill>
        <p:spPr>
          <a:xfrm>
            <a:off x="225360" y="2968560"/>
            <a:ext cx="3517920" cy="34387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9"/>
          <p:cNvSpPr/>
          <p:nvPr/>
        </p:nvSpPr>
        <p:spPr>
          <a:xfrm>
            <a:off x="1219320" y="133200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D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Út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sistência de Enfermagem na alimentação do Utente - Prática L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44756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ff0000"/>
                </a:solidFill>
                <a:latin typeface="Arial"/>
              </a:rPr>
              <a:t>Critérios para apoio na alimentaçã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cientes disfágic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cientes ceg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cientes com demênc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cientes debilita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cientes em com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cientes com Sonda Nasogástr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AUXILIando na alimentação.PNG"/>
          <p:cNvPicPr/>
          <p:nvPr/>
        </p:nvPicPr>
        <p:blipFill>
          <a:blip r:embed="rId1"/>
          <a:stretch/>
        </p:blipFill>
        <p:spPr>
          <a:xfrm>
            <a:off x="5308560" y="1371600"/>
            <a:ext cx="360684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sonda06.gif"/>
          <p:cNvPicPr/>
          <p:nvPr/>
        </p:nvPicPr>
        <p:blipFill>
          <a:blip r:embed="rId2"/>
          <a:srcRect l="0" t="44557" r="0" b="0"/>
          <a:stretch/>
        </p:blipFill>
        <p:spPr>
          <a:xfrm>
            <a:off x="5810400" y="3486240"/>
            <a:ext cx="25714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sistência de Enfermagem na alimentação do Utente - Prática L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3712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terial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Bandej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po com água, sumo ou chá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Lenço de papel ou guardanap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alher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refeição ou dieta específica para o paci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teriais para reposicionamento do paci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teriais para higiene das mã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sistência de Enfermagem na alimentação do Utente - Prática L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Lavar as mãos antes de servir a bandej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ntregar a bandeja de refeições, observando a temperatura desejáve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nferir o nome na bandeja e comparar ao bracelete de identificaçã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locar a bandeja diante d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Retirar as tampas dos alimentos e verificar o aspect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Auxiliar o paciente, se necessário, a abrir as embalagens e a preparar os aliment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Substituir os alimentos indesejáveis ou solicite alimentos especiais adicionai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457200" y="1228680"/>
            <a:ext cx="838188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Servindo e retirando a Bandeja de refe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sistência de Enfermagem na alimentação do Utente - Prática L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Verificar se o paciente possui outras solicitações: posicionamento, uso de óculos, etc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ertificar de que a campainha esteja ao alcance da mão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Verificar a evolução do paciente periodicamente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Retirar a bandeja quando o paciente concluir a refeição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Observar a percentagem de alimentos consumidos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Auxiliar o paciente a escovar os dentes e a usar o fio dental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olocar o paciente na posição confortável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Fazer registos: tipo de dieta, percentagem dos alimentos consumidos e a quantidade de líquidos consumidos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457200" y="1228680"/>
            <a:ext cx="838188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Servindo e retirando a Bandeja de refe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sistência de Enfermagem na alimentação do Utente - Prática L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Lavar as mãos antes de preparar os aliment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Obter ou limpar os utensíli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levar a cabeceira da cama para colocar o paciente sentado ou use uma cadeir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Verificar para que a dieta e a bandeja correctas sejam servidas a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brir a parte superior do peito e o colo do paciente com uma toalha ou um guardanap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Sentar-se ao lado do paciente ou diante del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Retirar a tampa dos alimentos e abrir as embalagens, colocar os temper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457200" y="1228680"/>
            <a:ext cx="838188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Alimentando um Pa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sistência de Enfermagem na alimentação do Utente - Prática L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7524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stimular o paciente a colaborar o máximo, segundo as suas capacidad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vitar a press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laborar com o paciente em relação aos alimentos desejados antes de colocar a comida nos talher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Oferecer porções razoáveis de alimento a cada mordid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Dar tempo para que o paciente mastigue completamente e engula o aliment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Deixar o paciente indicar quando está pronto para nova porção ou novo gole de bebid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nversar agradavelmente com 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457200" y="1228680"/>
            <a:ext cx="838188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Alimentando um Pa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sistência de Enfermagem na alimentação do Utente - Prática L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7524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Retirar a bandeja e deixar o paciente confortável, permanecendo sentado ou semi-sentado pelo menos 30 minut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Oferecer ao paciente oportunidade para a higiene or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alcular a percentagem de alimentos ingerid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Fazer registos sobre: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Tipo de dieta e a percentagem de alimentos ingerido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Quantidade de líquidos ingerido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Tolerância aos alimento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Problemas encontrados com o acto de mastigar e de engolir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Métodos utilizados para resolver os problema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457200" y="1228680"/>
            <a:ext cx="838188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Alimentando um Pa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838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limentação pela Sonda Nasogástrica (Gavagem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066320"/>
            <a:ext cx="5562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  <a:ea typeface="Arial"/>
              </a:rPr>
              <a:t>Consiste na administração de alimentos por meio de uma sonda nasogástrica ou através de gastrostomia ou jejunoscopia, 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conselhando se uma pausa nocturna, não superior a 4/6 hora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  <a:ea typeface="Arial"/>
              </a:rPr>
              <a:t>Esta técnica também é chamada </a:t>
            </a:r>
            <a:r>
              <a:rPr b="1" lang="pt-PT" sz="2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Gavagem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  <a:ea typeface="Arial"/>
              </a:rPr>
              <a:t>Esta alimentação também se chama de </a:t>
            </a:r>
            <a:r>
              <a:rPr b="1" lang="pt-PT" sz="2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Nutrição Entera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sonda06.gif"/>
          <p:cNvPicPr/>
          <p:nvPr/>
        </p:nvPicPr>
        <p:blipFill>
          <a:blip r:embed="rId1"/>
          <a:stretch/>
        </p:blipFill>
        <p:spPr>
          <a:xfrm>
            <a:off x="6191280" y="1071720"/>
            <a:ext cx="257184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26668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  <a:ea typeface="Arial"/>
              </a:rPr>
              <a:t>Reconhecer os objectivos e importância da alimentação e hidratação do paci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  <a:ea typeface="Arial"/>
              </a:rPr>
              <a:t>Identificar os tipos de dietas hospitalare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  <a:ea typeface="Arial"/>
              </a:rPr>
              <a:t>Prestar assistência de enfermagem na alimentação do paciente, de acordo com o tipo de diet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  <a:ea typeface="Arial"/>
              </a:rPr>
              <a:t>Administrar alimentos ao paciente através de sonda nasogástrica (gavagem)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  <a:ea typeface="Arial"/>
              </a:rPr>
              <a:t>Realizar cuidados especiais em relação a sonda alimentar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Down Arrow Callout 5"/>
          <p:cNvSpPr/>
          <p:nvPr/>
        </p:nvSpPr>
        <p:spPr>
          <a:xfrm>
            <a:off x="533520" y="1066680"/>
            <a:ext cx="8305560" cy="1600200"/>
          </a:xfrm>
          <a:prstGeom prst="downArrowCallout">
            <a:avLst>
              <a:gd name="adj1" fmla="val -21535"/>
              <a:gd name="adj2" fmla="val 24990"/>
              <a:gd name="adj3" fmla="val 25000"/>
              <a:gd name="adj4" fmla="val 64977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2060"/>
                </a:solidFill>
                <a:latin typeface="Arial"/>
              </a:rPr>
              <a:t>Após a discussão deste tema os alunos deverão ser capaz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limentação pela Sonda Nasogástrica (Gavagem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étodos de gavagem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cc"/>
                </a:solidFill>
                <a:latin typeface="Arial"/>
              </a:rPr>
              <a:t>Bólus: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rovoca frequentemente náuseas, vómitos, diarreia e cólicas, devendo por isso ser evita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cc"/>
                </a:solidFill>
                <a:latin typeface="Arial"/>
              </a:rPr>
              <a:t>Contínua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 alimento em administrado em gotejamento gravitacional. Indicada para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acientes hemodinâmicamente instáveis e em pacientes com duodenostomia ou jejunostomia, diminuindo o risco de aparecimento de náuseas, vómitos, diarreia e cólicas.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Exige controlo rigoroso acada 30 minu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cc"/>
                </a:solidFill>
                <a:latin typeface="Arial"/>
              </a:rPr>
              <a:t>Intermitente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 introdução do alimento pode ser feita por meio de seringa, com fluxo lento, para evitar náuseas, diarreia, distensão e cólicas</a:t>
            </a: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limentação pela Sonda Nasogástrica (Gavagem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9903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Precauçõe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  <a:ea typeface="Arial"/>
              </a:rPr>
              <a:t>Verificar as condições de higiene da sond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  <a:ea typeface="Arial"/>
              </a:rPr>
              <a:t>Testar o posicionamento da sonda e sua permeabilidade antes do uso. </a:t>
            </a: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Para estimular o peristaltismo podem ser administrados pequenos bólus de alimentos (10 - 20CC)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Controlar a existência de conteúdo gástrico a cada 4 em 4 horas quando a alimentação é contínua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457200" y="45115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Nos pacientes em ventilação mecânica (ventilador) durante a pausa nocturna e após ter sido digerido o conteúdo alimentar, o sistema de alimentação deve ser colocado em drenagem passiva, para se prevenir a distenção gást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limentação pela Sonda Nasogástrica (Gavagem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teriais e EPI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abuleiro com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Seringa 100cc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Copo plástico de uso único com águ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Guardanapos de papel ou similar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clamp ou pinça de Kocher (se necessário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Recipiente com alimentaçã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Sistema para alimentação entérica ou sistema de soro sem </a:t>
            </a: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filtr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Bomba de alimentação entérica ou bomba infusor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Material para higiene oral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Suporte de soros (se necessário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na Gavagem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Identificar o doente e </a:t>
            </a: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conferir a rescrição: tipo de </a:t>
            </a: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limentação, forma e duração da administraçã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roceder à lavagem higiénica das mãos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reparar o material e transportá-lo para junto do doente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Explicar ao doente todos os </a:t>
            </a: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rocedimentos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roporcionar um ambiente calmo, sem cheiros desagradáveis e apresentar os alimentos em recipientes adequados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spirar o conteúdo gástrico e reintroduzi-lo, excepto se contra-indicado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na Gavagem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Introduzir 2cc (em crianças) </a:t>
            </a: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a 10cc de ar auscultando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simultaneamente a região epigástrica (aspirar de seguida), se não existir conteúdo gástrico residual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osicionar o doente em semi-Fowler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Verificar a temperatura dos alimentos a administrar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eparar e conectar o sistema de alimentação à sonda. Se usar seringa de alimentação, injectar lentamente e de forma contínua, observando as reacções do paci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Regular o ritmo da administração de acordo com a prescriçã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Lavar a sonda injectando 5 a 30CC de água após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terminar a administraçã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na Gavagem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Lavar o sistema/seringa de alimentação após cada utilização. Reutilizá-lo apenas durante 24 hor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porcionar higiene oral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uma vez por turno e S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anter o doente com a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beceira elevada pelo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enos a 30°, em decúbit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lateral direito ou decúbito semi-dorsal direito, durante 30' após a aliment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Recolher e dar o destino adequado a todo o materi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ceder à lavagem higiénica das mã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na Gavagem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Registos de Enfermagem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rocedimento (data/hora)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Tipo de alimentaçã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Quantidad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Duraçã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Reacção do doent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Data de substituição do sistema ou sering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mplicaçõe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ferência Bibliográf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imby, Barbara K. 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Conceitos e Habilidades Fundamentais no Atendimento de Enfermagem.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6ª Edição. Editora Artmed, Porto Alegre – Brasil, 2001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ISAU. 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Guião de Procedimentos Básicos de Enfermagem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Maputo – Moçambique, 2009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otter &amp; Perry. 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Fundamentos de Enfermagem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6ª Edição, Mosby Elsevier Editora Lda. São Paulo - Brasil, 200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niversidade Fernando Pessoa. 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Fundamentos Básicos em Enfermagem. Normas e Procedimentos.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cola Superior de Saúde, 2006. Brasi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http://2.bp.blogspot.com/-ZQBrszIpOoQ/TVvuxwwxUQI/AAAAAAAAAh0/QyB2rI7YdDk/s1600/Publica%25C3%25A7%25C3%25A3o4.jpg"/>
          <p:cNvPicPr/>
          <p:nvPr/>
        </p:nvPicPr>
        <p:blipFill>
          <a:blip r:embed="rId1"/>
          <a:stretch/>
        </p:blipFill>
        <p:spPr>
          <a:xfrm>
            <a:off x="5068800" y="1523880"/>
            <a:ext cx="4075200" cy="48006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limentação e Hidrat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990360"/>
            <a:ext cx="6019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Importância da alimentaçã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ssencial para a saúde e bem-estar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Fornecer nutriente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Facilitar a recuperação do paci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ntribui nos diversos processos orgânicos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resciment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Desenvolviment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Imunológic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icatrização 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Fornecimento de energi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limentação e Hidrat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14300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mportância da Hidrataç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evenir desidrat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umento da força muscul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o balanço hídrico (reposição de perdas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utenção da termorregulação e volume circulató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utenção da função ren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http://www.coladaweb.com/files/soro.JPG"/>
          <p:cNvPicPr/>
          <p:nvPr/>
        </p:nvPicPr>
        <p:blipFill>
          <a:blip r:embed="rId1"/>
          <a:stretch/>
        </p:blipFill>
        <p:spPr>
          <a:xfrm>
            <a:off x="6802560" y="3581280"/>
            <a:ext cx="2341440" cy="3232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http://3.bp.blogspot.com/_pJNBsZFqf4A/SuSNUoEqeXI/AAAAAAAAACg/6EvOuJMd7cg/s200/virose_3.jpg"/>
          <p:cNvPicPr/>
          <p:nvPr/>
        </p:nvPicPr>
        <p:blipFill>
          <a:blip r:embed="rId2"/>
          <a:stretch/>
        </p:blipFill>
        <p:spPr>
          <a:xfrm>
            <a:off x="5105520" y="1066680"/>
            <a:ext cx="2708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868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ipos de dietas hospitala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Dieta de Rotin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9350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  <a:ea typeface="Arial"/>
              </a:rPr>
              <a:t>Geral, Livre ou Voluntári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  <a:ea typeface="Arial"/>
              </a:rPr>
              <a:t>Pastos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  <a:ea typeface="Arial"/>
              </a:rPr>
              <a:t>Brand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  <a:ea typeface="Arial"/>
              </a:rPr>
              <a:t>Lev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  <a:ea typeface="Arial"/>
              </a:rPr>
              <a:t>Líquida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191120" y="129492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Dietas Especi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191120" y="1935000"/>
            <a:ext cx="449568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Hipocalórica/diabéticos)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Hipercalóric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Hipossódic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ssódica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Hiperproteíc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Hipogorduros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Obstipa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Laxativa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http://www.extrabom.com.br/upld/receitas/9/caldo-verde179x137.jpg"/>
          <p:cNvPicPr/>
          <p:nvPr/>
        </p:nvPicPr>
        <p:blipFill>
          <a:blip r:embed="rId1"/>
          <a:stretch/>
        </p:blipFill>
        <p:spPr>
          <a:xfrm>
            <a:off x="6402240" y="4038480"/>
            <a:ext cx="2589480" cy="1981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http://www.dicaseideias.com/wp-content/uploads/2010/11/dietas.jpg"/>
          <p:cNvPicPr/>
          <p:nvPr/>
        </p:nvPicPr>
        <p:blipFill>
          <a:blip r:embed="rId2"/>
          <a:stretch/>
        </p:blipFill>
        <p:spPr>
          <a:xfrm>
            <a:off x="5508720" y="1143000"/>
            <a:ext cx="3406680" cy="2133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etas de Roti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990720"/>
            <a:ext cx="5715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Dieta geral, livre ou voluntári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Permite escolha ilimitada de alimentos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Todo tipo de alimentos e preparação sem restrições de acordo com a tolerância do paciente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Dieta Pastosa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Aplicável a pacientes com dificuldades de mastigação e/ou deglutição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Alimentos permitidos em consistência cremosa: Purés, sopas cremosas, arroz bem cozido, papa de bolacha, pudins, frutas cozidas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etas de Roti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123720" y="990360"/>
            <a:ext cx="5715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Dieta Branda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onstituída de alimentos bem cozidos, restrita de celulose e alimentos fermentáveis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Usadas nos pré e pós-operatórios e em transição para a dieta geral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Dieta Lev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onsistência semi-liquida, usada nos pré e pós-operatórios e distúrbios gastrointestinais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Alimentos: caldos, sopas, carnes, verduras, legumes (bem cozidos e em puré), frutas macias, gelatinas e pudins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http://4.bp.blogspot.com/_Fg-ewAsidiA/SvX7PmrCBAI/AAAAAAAAAIY/_2I2ciBLdB4/s320/sopinha.JPG"/>
          <p:cNvPicPr/>
          <p:nvPr/>
        </p:nvPicPr>
        <p:blipFill>
          <a:blip r:embed="rId1"/>
          <a:stretch/>
        </p:blipFill>
        <p:spPr>
          <a:xfrm>
            <a:off x="152280" y="1139760"/>
            <a:ext cx="3060720" cy="2298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http://www.radio.com.pt/NR/rdonlyres/51241F6F-5B9D-417E-A376-F63B5ABA2FAB/6921/FestivalSopas.jpg"/>
          <p:cNvPicPr/>
          <p:nvPr/>
        </p:nvPicPr>
        <p:blipFill>
          <a:blip r:embed="rId2"/>
          <a:stretch/>
        </p:blipFill>
        <p:spPr>
          <a:xfrm>
            <a:off x="225360" y="4078440"/>
            <a:ext cx="29815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etas de Roti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580920" y="990360"/>
            <a:ext cx="5257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Dieta Líquida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nsistência líquida e requer mínimo de trabalho digestiv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Aplicável para pacientes com disfagias, desconforto gastrointestinais, dificuldades de mastigação, deglutição e pré e pós-operatóri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Alimentos: água, chá, gelatinas, sucos, verduras e frutas em forma de suco, caldos, sopas liquidificadas, verduras, cremes, sorvete, gelatina, cereai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http://t0.gstatic.com/images?q=tbn:ANd9GcTo5UHkaAe8n78qLGlisa005Ydqdo1b2PyLyLLitfsyCq9xK7La&amp;t=1"/>
          <p:cNvPicPr/>
          <p:nvPr/>
        </p:nvPicPr>
        <p:blipFill>
          <a:blip r:embed="rId1"/>
          <a:stretch/>
        </p:blipFill>
        <p:spPr>
          <a:xfrm>
            <a:off x="457200" y="1066680"/>
            <a:ext cx="2895480" cy="2935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://analgesi.co.cc/html/figura/14682b.gif"/>
          <p:cNvPicPr/>
          <p:nvPr/>
        </p:nvPicPr>
        <p:blipFill>
          <a:blip r:embed="rId2"/>
          <a:stretch/>
        </p:blipFill>
        <p:spPr>
          <a:xfrm>
            <a:off x="457200" y="3886200"/>
            <a:ext cx="323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etas Especi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143000"/>
          <a:ext cx="8610480" cy="5273640"/>
        </p:xfrm>
        <a:graphic>
          <a:graphicData uri="http://schemas.openxmlformats.org/drawingml/2006/table">
            <a:tbl>
              <a:tblPr/>
              <a:tblGrid>
                <a:gridCol w="1887480"/>
                <a:gridCol w="67230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racteríst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pocalórica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 diabético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plicável para pacientes que não podem comer açucar e necessitam controlar os alimentos energéticos: arroz, batata, pão e massa;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ão proibidos: alimentos e bebidas contendo açucar, alimentos gordurosos e frituras em excesso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percalór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ra fornecer mais energ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comenda-se o fornecimento de maior quantidade de arroz, massa, doces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possód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eta com controlo de sódio e sal, pode ser oferecido até 2g de sal (em 24 horas);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ão proibidos: pão, bolachas de água e sal, biscoitos, queijos salgados e embutid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ssód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eta preparada sem adição do sal no cozimento dos alimentos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1-06-23T08:01:13Z</dcterms:modified>
  <cp:revision>808</cp:revision>
  <dc:subject/>
  <dc:title>ANATOMIA E FISIOLOGIA HUMANA</dc:title>
</cp:coreProperties>
</file>