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5D0C-BB71-41A6-B1E5-C656EAF9C0E2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4820-7D97-4196-BA70-F4DE54E1C3C1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EB99-AFC9-4255-B442-0A5777CE0D6F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F31C-B830-4BD2-B21C-E61A9067E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95B2-E9EC-4423-B937-0A982B459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78DE-D8F1-443F-BFB8-DC0393A04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F0C0A-F703-4175-8848-594DB309E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E235C-960E-4C72-A589-EA4898EBDF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808B3-756D-4CEC-B30B-0A0F793411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D691A-5722-4B39-8DDA-D335C59F3D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93ACD-F1C0-4BA9-9CEE-0AA468A549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56F7E-0BB0-467D-850C-BBA2FDE293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323CB-62CA-4F08-9F9F-93FE3A4B1B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DE2E2-2056-45CB-897D-0ED52F0954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8197-1F28-401B-BD83-2716EDF41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67560-9455-4C6E-B589-413D3A2493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F3AED-65C3-443B-8013-37DE962B23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293AD-A694-463C-BCDD-C0F062DAAE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492D4-7AFB-4794-8E8A-6B8095D588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80739-F816-4B05-8CF3-0E6D27D3E4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BE51-37B4-46C9-8A5C-7F0ADF66A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8008-ECF3-4CA9-B9E3-6CEF9488A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4301-2D47-4E5F-B494-D4896D648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BF79-D783-4B5C-9B42-0B9415101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AED0-9A54-41EC-99DD-43161F5D4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2344-CB1C-45E7-A0BD-9C982A55F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68B0-2AF8-4498-92AD-C95EB83D7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FF61-EE54-4EFB-81D7-32E591B4060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E9E4-3725-4A97-A0F5-913F77E0A63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9807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1" lang="pt-PT" sz="3600" spc="-1" strike="noStrike">
                <a:solidFill>
                  <a:srgbClr val="ffffff"/>
                </a:solidFill>
                <a:latin typeface="Arial"/>
                <a:ea typeface="Arial"/>
              </a:rPr>
              <a:t>Fundamentos de Enfermagem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160" y="4648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 Black"/>
              </a:rPr>
              <a:t>Submódulo 12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 Black"/>
              </a:rPr>
              <a:t>Controle da diurese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1170-B87C-47F7-B707-A5BD1BFF2C9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328680" y="6335640"/>
            <a:ext cx="82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Enfermagem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Arial"/>
              </a:rPr>
              <a:t>COMPETÊNCIAS    </a:t>
            </a:r>
            <a:r>
              <a:rPr b="1" lang="pt-PT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Discutir a importância do controle da diurese no pacient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Identificar os parâmetros normais na diures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34360" y="6335640"/>
            <a:ext cx="46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agem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MPORTÂNCIA DA MEDIÇÃO DA DIURESE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É importante a medição da diurese porque permite fazer-se o balanço hídrico ( quantidade de líquidos ingeridos e eliminados),  evitando assim o desiquilíbrio hidroeletrolítico e de ácido-básico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controle da diurese deve ser muito maior na criança do que no adulto pelo facto dela ser mais vulnerável aos desiquilíbrio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hidroelétrico e ácido-básico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2F8A-7540-47D2-A7D4-A0D437E27CE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2356560" y="6398640"/>
            <a:ext cx="50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99ff"/>
                </a:solidFill>
                <a:latin typeface="Agency FB"/>
              </a:rPr>
              <a:t>Curso de Enfermagem  Geral e  de </a:t>
            </a:r>
            <a:r>
              <a:rPr b="1" i="1" lang="pt-PT" sz="1400" spc="-1" strike="noStrike">
                <a:solidFill>
                  <a:srgbClr val="9999ff"/>
                </a:solidFill>
                <a:latin typeface="Agency FB"/>
              </a:rPr>
              <a:t>Saúde</a:t>
            </a:r>
            <a:r>
              <a:rPr b="1" i="1" lang="en-US" sz="1400" spc="-1" strike="noStrike">
                <a:solidFill>
                  <a:srgbClr val="9999ff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CAÇÕE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CONTROLE DA DIURESE ESTÁ INDICADO NOS SEGUINTES CASOS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Vigilância da desidratação ou da retenção da águ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Insuficiência renal ou cardía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-Paciente em reanimação com ventilação assistid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        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-160920" y="6335640"/>
            <a:ext cx="68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Enfermagem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ÂMETROS DA DIURESE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parâmetros da diurese tem a ver com a quantidade aproximada de água ingerida diariamente ( casos normais) em 24 horas varia de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100 a 2900 ml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quantidade eliminada pela urina varia de 1000 a 1500ml as restantes quantidades são eliminadas por outras vias como por exemplo: pelas fezes, pela pele e pelos pulmões durante a respira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34360" y="6335640"/>
            <a:ext cx="46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agem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TERIAL E EPI NECESSÁRI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MATERIAL NECESSÁRIO SERÁ O SEGUINTE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rasco de aproximadamente 2,5l para recolha da urin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Luvas não esterilizada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ompressas não esterilizada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B: O material e EPI necessários encontram-se no laboratório Humanístic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         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34360" y="6335640"/>
            <a:ext cx="46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agem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</a:rPr>
              <a:t>PROCEDIMENTOS E REGIST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B: Os procedimentos são feitos no L H, consultando o guião de Procedimentos, nas páginas, 67 e 68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ontudo deve-se ter em conta o seguinte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 O paciente urina num urinol ou arrastadeira e esta urina é recolhida num frasco preparado para o efeit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34360" y="6335640"/>
            <a:ext cx="46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agem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</a:rPr>
              <a:t>CONT. DE PROCEDIMENTOS E REGIST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As medições são feitas nas manhãs depois da 1ª micção,mas ter o cuidado de lavar bem o frasco para a recolha da urina do di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34360" y="6335640"/>
            <a:ext cx="46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agem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. DOS PROCEDIMENTOS E REGIST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-O registo da quantidade da urina eliminada é feito de manhã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4-Se o paciente estiver algaliado, deve-se esvaziar o saco colector em determinadas horas do dia e regist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5- O total das quantidades recolhidas soma-se de 24 em 24 horas e regista-se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55720" y="6335640"/>
            <a:ext cx="34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so de Enfermagem  Geral e  de 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Saú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terno-Infant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INSTRUMENTACAO</cp:lastModifiedBy>
  <dcterms:modified xsi:type="dcterms:W3CDTF">2016-05-18T09:21:33Z</dcterms:modified>
  <cp:revision>819</cp:revision>
  <dc:subject/>
  <dc:title>ANATOMIA E FISIOLOGIA HUMANA</dc:title>
</cp:coreProperties>
</file>