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gency F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gency FB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gency F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EB1D-722E-40EE-AB76-DD97E2FAF57B}" type="slidenum">
              <a:rPr b="0" lang="pt-PT" sz="1200" spc="-1" strike="noStrike">
                <a:solidFill>
                  <a:srgbClr val="000000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9B53-EFDA-4AE8-B980-F1F98A2ADEA7}" type="slidenum">
              <a:rPr b="0" lang="pt-PT" sz="1200" spc="-1" strike="noStrike">
                <a:solidFill>
                  <a:srgbClr val="000000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0B494-E94F-4177-9910-3163460B25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30C8A-5B85-4458-B313-41E6ED5A4E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40944-196F-47D6-9BED-5F66F13B19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3E021-2097-4BAF-BBDE-0185B09A14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D832F1-C5F5-4206-B5D0-CDBD238E76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738C6-4D87-489B-B6F9-C7497916B1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301CDE-3F2D-472D-B78A-1911FFD152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24EB0-5E45-4130-8DEF-4B72D22D5F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2397C-7C24-4D26-A2DD-456E28D1C3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54E3CC-9C70-43B4-951F-8438EBDCCB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75CC9-2E0B-42ED-BD3F-E36857EB9C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CB247-1C8F-43A9-9515-FBE2D5A851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D69FA-1230-4BD3-B468-CE07F3BC84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6A88A3-66F2-4B0F-9A4F-D6224F5CAD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C1C331-764C-42EA-9CF1-98A0EB9F70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8D37CE-E301-4C0C-99EF-13C4614C58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0BE75-541F-4280-A6B4-7CA6554AEB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D6DDF-C5A8-4467-A56C-1A77FFDF89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BCDBA-7483-4184-B842-11E3AAAE4A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8069F-D03F-49AD-9A2C-46DED11628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96079-D19D-4F21-93A7-814C744439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3389C-6F85-483B-B44C-6B7EA812B8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663AB-D091-42F5-8CCB-C84839130C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FD5ED-CF44-43EC-96C9-19D509A903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91160" y="6324120"/>
            <a:ext cx="1447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EFC4-BF2C-4E8C-9F61-1C6863C8F64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914400" y="198108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7391160" y="6324120"/>
            <a:ext cx="1447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8705-8DE1-458B-B92B-7BBE8D7554C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400" y="1523520"/>
            <a:ext cx="54864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pt-PT" sz="3200" spc="-1" strike="noStrike">
                <a:solidFill>
                  <a:srgbClr val="ffffff"/>
                </a:solidFill>
                <a:latin typeface="Arial"/>
                <a:ea typeface="Arial"/>
              </a:rPr>
              <a:t>Fundamentos de Enfermagem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33160" y="46483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  <a:ea typeface="Arial"/>
              </a:rPr>
              <a:t>Módulo 10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  <a:ea typeface="Arial"/>
              </a:rPr>
              <a:t>Bases Científicas para a Prática de Enfermagem II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gency FB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Curso de Enfermagem Geral</a:t>
            </a:r>
            <a:endParaRPr b="1" lang="en-US" sz="20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C448-6475-473D-9A3A-D106CC703F5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gency FB"/>
              </a:rPr>
              <a:t>CONT. DE TRANSFERÊNCIA DA CAMA PARA A MACA E VICE-VERSA</a:t>
            </a: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Deve-se ter a maca colocada perpendicularmente aos pés da cam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Técnica de transferência da maca para a cam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    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É a mesma técnica como a anterior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ANSFERÊNCIA DO UTENTE DA CAMA PARA A CADEIRA DE RODAS E VICE-VERSA</a:t>
            </a: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Para transferir o paciente da cama para a cadeira a técnica é idêntica à de o fazer sentar na berma da cam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 Enfermeiro posiciona o paciente com o decúbito voltado para a berma da cam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Elevar a cabeceira da cama, e colocar-se numa posição que lhe permite segurar as costas do paciente com uma mão enquanto outra segura os membros inferiore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ANSFERÊNCIA DO UTENTE DA CAMA PARA A CADEIRA DE RODAS  E VICE-VERSA</a:t>
            </a: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Colocar o paciente sentado na cadeira e os pés no chão.Largar o paciente suavemente, controlando-o para não cair nem se cansar.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Frequentemente os pacientes reaprendem a andar depois de longo tempo de repouso no leito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AMBULAÇÃO ASSISTIDA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Normalmente esta tarefa é do Departamento da Fisioterapia, mas por vezes tem havido necessidade de o Enfermeiro ajudar o paciente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Existem muitos métodos de o Enfermeiro auxiliar o paciente a deambular, mas cabe a ele selecionar o melhor para cada situação</a:t>
            </a:r>
            <a:r>
              <a:rPr b="0" lang="en-US" sz="2800" spc="-1" strike="noStrike">
                <a:solidFill>
                  <a:srgbClr val="000066"/>
                </a:solidFill>
                <a:latin typeface="Agency FB"/>
              </a:rPr>
              <a:t>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. DA DEAMBULAÇÃO ASSISTIDA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1º-Um dos métodos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 Enfermeiro segura o braço mais próximo do paciente sob seu braço ao nível do cotovelo e segura a mão dele na sua. Sincroniza seus passos com os dele e movendo seu pé internamente para a frente ao mesmo tempo que o paciente move o seu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ONT. DE DEAMBULAÇÃO ASSISTIDA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gency FB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utro Método (2)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 Enfermeiro pega na mão esquerda do paciente na sua própria e passa o braço direito em volta da sua cintur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qui também o andar é sincronizado para proporcionar uma base de sustentação bem ampl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utro Método (3)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 Enfermeiro apoia o paciente segurando-o pela cintura por detrá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.DE DEAMBULAÇÃO ASSISTIDA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Isto pode ser feito com ajuda duma toalha dobrada ao cumprido e colocada em volta da cintura, isto ajuda a manter o equilíbrio.Pode-se usar cintos próprios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POIO AO UTENTE COM DIFICULDADES NA MARCHA</a:t>
            </a:r>
            <a:endParaRPr b="1" lang="en-US" sz="30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12952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Arial"/>
              </a:rPr>
              <a:t>APOIO AO UTENTE COM DIFICULDADES NA       </a:t>
            </a:r>
            <a:endParaRPr b="1" lang="en-US" sz="4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Arial"/>
              </a:rPr>
              <a:t>  </a:t>
            </a: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Arial"/>
              </a:rPr>
              <a:t>MARECHA</a:t>
            </a:r>
            <a:endParaRPr b="1" lang="en-US" sz="44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OMPETÊNCIAS              </a:t>
            </a:r>
            <a:endParaRPr b="1" lang="en-US" sz="36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O ESTUDANTE DEVE SER CAPAZ DE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1- Identificar as técnicas que ajuda o utente a desenvolver a força muscular dos membros superiores e inferiore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2- Executar as técnicas que devem ser usadas pelo Enfermeiro para ajudar o utente a deambular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3-Citar orientações gerais que se aplicam na transferência de paciente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42480" y="6335640"/>
            <a:ext cx="502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Curso de Enfermagem  Geral e  de </a:t>
            </a:r>
            <a:r>
              <a:rPr b="0" lang="pt-PT" sz="1400" spc="-1" strike="noStrike">
                <a:solidFill>
                  <a:srgbClr val="000000"/>
                </a:solidFill>
                <a:latin typeface="Agency FB"/>
              </a:rPr>
              <a:t>Saúde</a:t>
            </a: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 Materno-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. DE COMPETÊNCIA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4-Descrever a maneira mais correcta de deambular com ajuda de muleta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5- Identificar os factores físicos que condicionam a deambulação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MPORTÂNCIA DA MARCHA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316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 importância da marcha é tão vital que leva todas as criaturas vivas  a movimentarem-se.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. DA IMPORTÂNCIA DA MARCHA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 perda de marcha diminui o conceito que a pessoa tem de si mesma.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Sua imagem é afectada e ela se considera diminuida principalmente se estiver atingido também o sistema génito-urinário.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Muitas vezes o Enfermeiro é solicitado a ajudar um paciente a locomover-se ou a mudar de posição.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       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C287-DC36-48D8-8917-278EAC59561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. de ajuda na marcha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 ajuda do Enfermeiro ao paciente deve ser feita com movimentos suaves e seguros, baseados em seus conhecimentos da mecânica corporal, o que não só ajuda o paciente a locomover-se facilmente, como também lhe dá a sensação de confiança no Enfermeiro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TIPOS DE APOIO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s tipos de apoio ao utente com dificuldades de marcha podem compreender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1-Andarilho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2-Cadeira de rodas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3-Muletas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4-Bengal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        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s pacientes necessitam de usar os músculos das suas mãos, braços e ombros para ter a força adicional na utilização deste tipo de meios auxiliares da marcha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TRANSFERÊNCIA DA CAMA PARA A MACA E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VICE-VERESA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6765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Técnica de transferência de um paciente da cama para a maca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e vice-versa exige a presença de três Enfermeiros ( 3 pessoas)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Um segura a parte superior do utente, outro no meio e outro nos pés.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 da parte superior coordena os seus dois colega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          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6:59:16Z</dcterms:created>
  <dc:creator>Carlos Catingue</dc:creator>
  <dc:description/>
  <dc:language>en-US</dc:language>
  <cp:lastModifiedBy>Hamido</cp:lastModifiedBy>
  <dcterms:modified xsi:type="dcterms:W3CDTF">2011-06-16T14:14:09Z</dcterms:modified>
  <cp:revision>807</cp:revision>
  <dc:subject/>
  <dc:title>ANATOMIA E FISIOLOGIA HUMANA</dc:title>
</cp:coreProperties>
</file>