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30A8A-DE3C-4988-B3C5-C9DF78F827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871B1-CAD1-4C6C-A8E5-3485CADD17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030C4-279B-475F-B10F-6A666C20A0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45B85-5C46-4EC2-A612-13FE331606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C65DE-BBA0-4028-BEF4-DABAF4CFF5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EE002-9D28-4ECE-A49A-733F82AB27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3FFBF-471C-480F-9CC1-775740DE84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858BC-D288-43CC-BBDE-31B35D5F04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C0D1F-2224-4D84-BCAA-06C698CEAE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B4A9E-A9F6-4ED5-84AE-A1124E5B16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B7945-4BAA-4B70-90D1-8EC2E96612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5161D-0920-46B2-8B62-8160264AFF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5"/>
          <p:cNvSpPr/>
          <p:nvPr/>
        </p:nvSpPr>
        <p:spPr>
          <a:xfrm rot="5400000">
            <a:off x="-3227400" y="3227400"/>
            <a:ext cx="6858000" cy="40320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8" descr="Jhpiego_logo"/>
          <p:cNvPicPr/>
          <p:nvPr/>
        </p:nvPicPr>
        <p:blipFill>
          <a:blip r:embed="rId3"/>
          <a:stretch/>
        </p:blipFill>
        <p:spPr>
          <a:xfrm>
            <a:off x="7543800" y="6297480"/>
            <a:ext cx="1143000" cy="4842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3805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FBCCB-D06C-4134-85E4-F5396D167390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23"/>
          <p:cNvSpPr/>
          <p:nvPr/>
        </p:nvSpPr>
        <p:spPr>
          <a:xfrm>
            <a:off x="1371600" y="144792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24"/>
          <p:cNvGrpSpPr/>
          <p:nvPr/>
        </p:nvGrpSpPr>
        <p:grpSpPr>
          <a:xfrm>
            <a:off x="0" y="1447920"/>
            <a:ext cx="2742840" cy="2514240"/>
            <a:chOff x="0" y="1447920"/>
            <a:chExt cx="2742840" cy="2514240"/>
          </a:xfrm>
        </p:grpSpPr>
        <p:sp>
          <p:nvSpPr>
            <p:cNvPr id="46" name="Rectangle 25"/>
            <p:cNvSpPr/>
            <p:nvPr/>
          </p:nvSpPr>
          <p:spPr>
            <a:xfrm>
              <a:off x="0" y="3326040"/>
              <a:ext cx="689040" cy="636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26"/>
            <p:cNvSpPr/>
            <p:nvPr/>
          </p:nvSpPr>
          <p:spPr>
            <a:xfrm>
              <a:off x="1366560" y="1447920"/>
              <a:ext cx="686880" cy="6379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27"/>
            <p:cNvSpPr/>
            <p:nvPr/>
          </p:nvSpPr>
          <p:spPr>
            <a:xfrm>
              <a:off x="681120" y="3324240"/>
              <a:ext cx="698400" cy="6364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28"/>
            <p:cNvSpPr/>
            <p:nvPr/>
          </p:nvSpPr>
          <p:spPr>
            <a:xfrm>
              <a:off x="2042640" y="1447920"/>
              <a:ext cx="700200" cy="6379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29"/>
            <p:cNvSpPr/>
            <p:nvPr/>
          </p:nvSpPr>
          <p:spPr>
            <a:xfrm>
              <a:off x="679680" y="2076480"/>
              <a:ext cx="698040" cy="6282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30"/>
            <p:cNvSpPr/>
            <p:nvPr/>
          </p:nvSpPr>
          <p:spPr>
            <a:xfrm>
              <a:off x="1366560" y="2076480"/>
              <a:ext cx="686880" cy="6282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31"/>
            <p:cNvSpPr/>
            <p:nvPr/>
          </p:nvSpPr>
          <p:spPr>
            <a:xfrm>
              <a:off x="0" y="2695680"/>
              <a:ext cx="689040" cy="6393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32"/>
            <p:cNvSpPr/>
            <p:nvPr/>
          </p:nvSpPr>
          <p:spPr>
            <a:xfrm>
              <a:off x="679680" y="2695680"/>
              <a:ext cx="698040" cy="6393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Rectangle 33"/>
          <p:cNvSpPr/>
          <p:nvPr/>
        </p:nvSpPr>
        <p:spPr>
          <a:xfrm>
            <a:off x="29718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8" descr="Jhpiego_logo"/>
          <p:cNvPicPr/>
          <p:nvPr/>
        </p:nvPicPr>
        <p:blipFill>
          <a:blip r:embed="rId2"/>
          <a:stretch/>
        </p:blipFill>
        <p:spPr>
          <a:xfrm>
            <a:off x="7772400" y="6172200"/>
            <a:ext cx="11430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" descr=""/>
          <p:cNvPicPr/>
          <p:nvPr/>
        </p:nvPicPr>
        <p:blipFill>
          <a:blip r:embed="rId3"/>
          <a:stretch/>
        </p:blipFill>
        <p:spPr>
          <a:xfrm>
            <a:off x="8058240" y="38088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7"/>
          <p:cNvSpPr/>
          <p:nvPr/>
        </p:nvSpPr>
        <p:spPr>
          <a:xfrm>
            <a:off x="2971800" y="1676520"/>
            <a:ext cx="502920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3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submarino.com.br/books_productdetails.asp?Query=ProductPage&amp;ProdTypeId=1&amp;ProdId=93057&amp;ST=SE&amp;franq=136426" TargetMode="External"/><Relationship Id="rId2" Type="http://schemas.openxmlformats.org/officeDocument/2006/relationships/hyperlink" Target="http://www.fundamentos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Sub- módulo17/32 Cuidados de Enfermagem ao paciente na fase Terminal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poio emocional e confort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761760" y="11426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Observar o paciente frequentemente sem exigir uma resposta verbal 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94840" indent="-29484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Manter os olhos fechados se o reflexo palpebral estiver ausente, para evitar a ulceração da córne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94840" indent="-29484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Realizar aspirações frequentes de secreções para manter as vias aéreas superiores premiávei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94840" indent="-29484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Humedecer o ar e retirar as próteses dentárias se o paciente tiver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94840" indent="-294840" algn="ctr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94840" indent="-29484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66"/>
                </a:solidFill>
                <a:latin typeface="Arial"/>
              </a:rPr>
              <a:t>Curso de Enfermagem Geral e Saúde Materno Infantil </a:t>
            </a: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94840" indent="-29484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94840" indent="-294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94840" indent="-29484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poio Emocional e Conforto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c000"/>
                </a:solidFill>
                <a:latin typeface="Arial"/>
              </a:rPr>
              <a:t>Aceitar o comportamento do paciente não importa qual sej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Dar oportunidade para que o paciente expresse livremente os seus sentimento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Procurar compreender os sentimentos do paciente e trata – lo com muito carinh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Respeitar os direitos do paciente e ajuda - o a escolher a maneira e o local em que deseja receber os cuidados antes de sua mort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66"/>
                </a:solidFill>
                <a:latin typeface="Arial"/>
              </a:rPr>
              <a:t>Curso de Enfermagem Geral e Saúde Materno Infantil</a:t>
            </a: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1. Estágio de não aceitaçã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 negação é um mecanismo psicológico de defesa pelo qual o paciente recusa se a creditar que determinada informação seja verdadeira. O paciente neste estágio pode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Rejeitar que o diagnóstico seja verdadeir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Especular que o resultado de seus testes sejam errado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Serve de protectora de quem está a ser confrontado com uma realidade muito doloros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1606680" y="6324480"/>
            <a:ext cx="445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so de Enfermagem Geral e Saúde Materno Infant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Estágios da Mort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ágios da morte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II. Estágio da Raiva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 raiva é uma reacção de emoção e sensação de ser vítima. Uma vez que a morte em eminência não pode ser vingado, os pacientes deslocam sua raiva contra outros, como os enfermeiros, os médicos, a família e até a Deus.   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 raiva pode ser expressa através de queixas contra os cuidados prestados ou reacções exageradas ao mínimo problem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66"/>
                </a:solidFill>
                <a:latin typeface="Arial"/>
              </a:rPr>
              <a:t>Curso de Enfermagem Geral e Saúde Materno Infantil </a:t>
            </a: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685440" y="11430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3. Estágio de Negociaçã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88000" indent="-28800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 negociação é uma forma de tentar adiar o inevitável (a morte). Nesta fase o paciente pede ao médico para repetir o tratamento médico, ou negoceia com Deus para adiar a sua morte de modo a assistir um evento próximo na família. Exemplo: o casamento de seu filho mais nov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88000" indent="-28800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88000" indent="-2880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88000" indent="-2880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88000" indent="-2880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66"/>
                </a:solidFill>
                <a:latin typeface="Arial"/>
              </a:rPr>
              <a:t>Curso de Enfermagem Geral e Saúde Materno Infantil</a:t>
            </a: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88000" indent="-2880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696080" cy="761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Estágio de Morte ( 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457200" y="9903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O  paciente vai se apercebendo de que a morte não pode ser adiado e entra em depressão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4.  Estágio de Depressã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É o período muito realista de sofrimento, em que paciente tem tendência a desistir do mundo, prefere estar sozinho, há diminuição do apetite, e son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5. Aceitaçã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O paciente toma consciência e aceita todas as implicações de seu prognóstico. O paciente pode manifestar o desejo de ir morrer em casa ao lado da famíli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ágio de Morte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ub-módulo 18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eparação do Corpo(Múmia)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60948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 u="sng">
                <a:solidFill>
                  <a:srgbClr val="000066"/>
                </a:solidFill>
                <a:uFillTx/>
                <a:latin typeface="Arial"/>
              </a:rPr>
              <a:t>O ESTUDANTE DEVE SER CAPAZ DE </a:t>
            </a: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Conceituar a múmi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Reconhecer os objectivos e a importância da preparação do corp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Identificar o material e EPI necessári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Prestar os cuidados de enfermagem ao corpo após a mort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66"/>
                </a:solidFill>
                <a:latin typeface="Arial"/>
              </a:rPr>
              <a:t>Cuidados de Enfermagem Geral e Saúde Materno Infantil</a:t>
            </a: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COMPETÊNCIA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ceito de Mort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6840" y="12193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 morte ou óbito, é a cessação de vida do paciente, com interrupção irreversível  das funções vitais do organismo e, é legalmente  confirmada pelo médic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2057400" y="6335640"/>
            <a:ext cx="449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so de Enfermagem Geral e Saúde Materno Infant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69608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Sinais de Mort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O esfriamento do corp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s manchas generalizada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Cor roxeada da pel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Relaxamento dos esfíncteres e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Rigidez do corpo/cadavérica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2057400" y="6335640"/>
            <a:ext cx="464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so de Enfermagem Geral e Saúde Materno Infant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 u="sng">
                <a:solidFill>
                  <a:srgbClr val="000066"/>
                </a:solidFill>
                <a:uFillTx/>
                <a:latin typeface="Arial"/>
              </a:rPr>
              <a:t>O ESTUDANTE DEVE SER CAPAZ DE </a:t>
            </a: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Identificar os cuidados de enfermagem para o paciente na fase terminal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Reconhecer a importância dos cuidados de enfermagem no paciente nas fase terminal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Prestar os cuidados de enfermagem ao paciente na fase terminal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66"/>
                </a:solidFill>
                <a:latin typeface="Arial"/>
              </a:rPr>
              <a:t>Curso de Enfermagem Geral e Saúde Materno Infantil</a:t>
            </a: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COMPETÊNCIA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Permitir que a família encontre o corpo devidamente preparado e conservado em lugar segur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Evitar os odores desagradáveis e saídas de secreções e sangu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dequar a posição do corpo antes que ocorra a rigidez cadavéric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Garantir que os familiares encontrem os pertences do seu ente querido conferidos e guardados em lugar apropriado e segur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66"/>
                </a:solidFill>
                <a:latin typeface="Arial"/>
              </a:rPr>
              <a:t>Curso de Enfermagem Geral e Saúde Materno e Infantil</a:t>
            </a: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Importância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Material e EPI necessário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quipamento de Protecção Individual(EPI): 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áscar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óculos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barrete,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luvas de procedimentos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vental plástico e sapatos impermeáveis fechado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Material para preparação do corpo: bacia, água, sabão, algodão, compressas, toalha, éter ou benzina, ligaduras e adesiv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74320" indent="-27432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66"/>
                </a:solidFill>
                <a:latin typeface="Arial"/>
              </a:rPr>
              <a:t>Curso de Enfermagem Geral e Saúde Materno Infantil</a:t>
            </a: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74320" indent="-274320">
              <a:spcBef>
                <a:spcPts val="3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74320" indent="-27432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74320" indent="-2743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terial necessário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ois lençói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Biombo, quando necessári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ecipiente com sacos plásticos identificados, para o lixo comum e lixo infeccioso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66"/>
                </a:solidFill>
                <a:latin typeface="Arial"/>
              </a:rPr>
              <a:t>Curso de Enfermagem Geral e Saúde Materno Infantil</a:t>
            </a: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rocediment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hamar o médico para confirmar o óbito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50200" indent="-25020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Verificar se o preenchimento do processo clínico está correcto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50200" indent="-25020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ssegurar que o horário e data do óbito estão correctos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50200" indent="-25020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nfirmar se o “certificado de óbito” foi preenchido correctamente conforme o processo clínico e está assinado pelo médic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50200" indent="-25020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NVIO???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50200" indent="-25020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50200" indent="-250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50200" indent="-250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50200" indent="-250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50200" indent="-2502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Curso de Enfermagem Geral e Saúde Materno Infantil   </a:t>
            </a: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50200" indent="-250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50200" indent="-250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50200" indent="-250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50200" indent="-250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   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dimento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-24012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Lavar as mãos com água e sabão ou fricciona –las com álcool glicerinado, se não estiverem visivelmente suja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40120" indent="-24012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Utilizar os EPI descritos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40120" indent="-24012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etirar a roupa, catéteres, sondas, sistemas de drenagem, ligaduras e outros materiais inseridos no corp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40120" indent="-24012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Limpar com éter ou benzina as marcas de adesivo, se necessário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40120" indent="-240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40120" indent="-24012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40120" indent="-24012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40120" indent="-24012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Curso de Enfermagem Geral e Saúde Materno Infantil</a:t>
            </a: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40120" indent="-24012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4012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40120" indent="-240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40120" indent="-240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40120" indent="-240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40120" indent="-240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40120" indent="-240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dimento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Retirar anéis, brincos e outras jóias e identificar para entregar a famíli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Realizar a higiene do corpo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Fechar os olhos e a boca do falecido, colocando um ligadura sob o queixo até a cabeç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Iniciar o tamponamento, ao tapar todos os orifícios corporais com algodão para evitar a saída de secreções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Fixar as mãos e os pés com ligadur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66"/>
                </a:solidFill>
                <a:latin typeface="Arial"/>
              </a:rPr>
              <a:t>Curso de Enfermagem Geral e Saúde Materno Infantil.</a:t>
            </a: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dimento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Retirar os anéis, brincos e outras jóias e identificar para entregar a famíli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Realizar a higiene do corpo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Fechar as pálpebras e a boca do falecido sob o queixo até a cabeç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Iniciar o tamponamento, ao tapar todos os orifícios corporais com algodão para evitar a saída de secreções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Fixar as mãos com os pés com ligadur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77560" indent="-2775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77560" indent="-27756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66"/>
                </a:solidFill>
                <a:latin typeface="Arial"/>
              </a:rPr>
              <a:t>Curso de Enfermagem Geral e Saúde Materno Infantil</a:t>
            </a: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Identificar o corpo com duas tiras largas de adesivo( um na atesta e outro no peito) com: serviço onde ocorreu o óbito, nome completo do falecido, idade, filiação, hora e data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Envolva o corpo com lençol colocado no sentido diagonal, deixando –o em decúbito dorsal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Cubrir o corpo com outro lençol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Recolher e organizar os materiais usados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Retirar os EPI 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66"/>
                </a:solidFill>
                <a:latin typeface="Arial"/>
              </a:rPr>
              <a:t>Curso de Enfermagem Geral e Saúde Materno Infantil</a:t>
            </a: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Procedimento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BLIOGRAF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Conceitos e Habilidades Fundamentais no Atendimento de Enfermagem </a:t>
            </a:r>
            <a:r>
              <a:rPr b="1" lang="pt-PT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–TIMBY K.BARBARA, 6º Ediçã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 u="sng">
                <a:solidFill>
                  <a:srgbClr val="666699"/>
                </a:solidFill>
                <a:uFillTx/>
                <a:latin typeface="Times New Roman"/>
                <a:ea typeface="Times New Roman"/>
                <a:hlinkClick r:id="rId1"/>
              </a:rPr>
              <a:t>Enfermagem Fundamental Abordagem Psicofisiológica </a:t>
            </a:r>
            <a:r>
              <a:rPr b="1" lang="pt-PT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SORENSEN e LUCKMANN, 3º Ediçã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Fundamentos de Enfermagem</a:t>
            </a:r>
            <a:r>
              <a:rPr b="1" lang="pt-PT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 - POTTER PERRY 7ª edição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www.Fundamentos</a:t>
            </a:r>
            <a:r>
              <a:rPr b="1" i="1" lang="pt-PT" sz="2400" spc="-1" strike="noStrike">
                <a:solidFill>
                  <a:srgbClr val="000066"/>
                </a:solidFill>
                <a:latin typeface="Arial"/>
              </a:rPr>
              <a:t> de Enfermagem.com/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7720" y="11430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98440" indent="-29844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É uma fase em que a recuperação do paciente está aquém de uma expectativa desejável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98440" indent="-29844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lterações corporais que normalmente antecedem a morte indicam para a equipa de enfermagem que o estado de saúde do paciente é grave e a resposta ao tratamento não é satisfatóri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98440" indent="-29844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98440" indent="-2984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98440" indent="-298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66"/>
                </a:solidFill>
                <a:latin typeface="Arial"/>
              </a:rPr>
              <a:t>Curso de Enfermagem Geral e Saúde Materno Infantil</a:t>
            </a: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98440" indent="-2984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98440" indent="-2984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98440" indent="-2984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98440" indent="-2984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53316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ceito  de Fase Termin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Geralmente o paciente apresenta sinais e sintomas neurológicos como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gitação psicomotora 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estado de inconsciênci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Relaxamento muscular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Diminuição ou ausência de reflexos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Queda de mandíbul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844560" y="6335640"/>
            <a:ext cx="445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so de Enfermagem Geral e Saúde Materno Infant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838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nais e Sintomas  de Fase Terminal (cont. )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Incapacidade de deglutição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cumulação de secreções Orofarínge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Relaxamento do esfíncter e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Medríase/ dilatação da pupil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Também ocorrem alterações dos sinais vitais tais como: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Falência cardiocirculatória e respiratóri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Pulso filiforme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Hipotensão arterial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844560" y="6335640"/>
            <a:ext cx="445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so de Enfermagem Geral e Saúde Materno Infant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nais e Sintomas (cont.)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3"/>
          <p:cNvSpPr/>
          <p:nvPr/>
        </p:nvSpPr>
        <p:spPr>
          <a:xfrm>
            <a:off x="845280" y="6335640"/>
            <a:ext cx="444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so de Enfermagem Geral e Saúde Materno infant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nais e Sintomas (cont.)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Dispneia acentuada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Respiração ruidosa e irregular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Cianose, e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Equimose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pele pálida e fri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Suor/sudorese frio e viscoso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Muitos pacientes, chegam a fase terminal sem alterações no estado de consciência e quando são informados sobre a gravidade e evolução da doença apresentam reacções emocionais distinta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29040" indent="-32904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 família pode sentir se desorientada sobre como agir ou o que dizer ao paciente, uma vez que a abordagem sobre a morte é dolorosa e de difícil  compreensão e aceitaçã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29040" indent="-32904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29040" indent="-3290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29040" indent="-32904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29040" indent="-32904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66"/>
                </a:solidFill>
                <a:latin typeface="Arial"/>
              </a:rPr>
              <a:t>Curso de Enfermagem Geral e Saúde Materno Infantil</a:t>
            </a: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Sinais e Sintomas ( 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 compreensão dos seus sentimentos é fundamental para uma abordagem propícia e eficaz e o paciente e seus familiares, percebam que o enfermeiro está a fazer  tudo para minimizar a sua“dor”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Se o paciente ou um familiar manifestar o desejo de receber assistência espiritual, o enfermeiro pode proporcionar o encontro com o representante de sua escolh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91600" indent="-2916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66"/>
                </a:solidFill>
                <a:latin typeface="Arial"/>
              </a:rPr>
              <a:t>Curso de Enfermagem Geral e Saúde Materno Infantil</a:t>
            </a: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poio emocional e conforto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456840" y="99036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 algn="just">
              <a:spcBef>
                <a:spcPts val="3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O enfermeiro deve dar apoio e encorajamento a família e respeitar suas crença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Garantir a privacidade do paciente e companhia dos seus ante queridos, mantendo o num quarto ou utilizar biombos se ele estiver a enfermari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Realizar os cuidados de higiene corporal de forma carinhosa com maior frequência necessári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Mudanças de decúbito e adequado alinhamento do corpo numa cama confortável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66"/>
                </a:solidFill>
                <a:latin typeface="Arial"/>
              </a:rPr>
              <a:t>Curso de Enfermagem Geral e Saúde Materno Infantil</a:t>
            </a: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poio emocional e conforto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7T06:59:16Z</dcterms:created>
  <dc:creator>Carlos Catingue</dc:creator>
  <dc:description/>
  <dc:language>en-US</dc:language>
  <cp:lastModifiedBy>Hamido</cp:lastModifiedBy>
  <dcterms:modified xsi:type="dcterms:W3CDTF">2011-07-25T13:02:07Z</dcterms:modified>
  <cp:revision>673</cp:revision>
  <dc:subject/>
  <dc:title>ANATOMIA E FISIOLOGIA HUMANA</dc:title>
</cp:coreProperties>
</file>