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7384-7C06-424E-AD7E-C0F442A26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2468-95A4-4667-8A7D-58214823E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84CC-38FD-4872-8FFD-06A290F0F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0328-8AFA-49C6-9964-CD30074E7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54209-87FA-4CF5-AC48-6BAE751D67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D441C-6F1A-430B-A517-737830E9C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2013-DE24-40C7-9C7A-34B728F28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93697-6FA9-49A3-9B7B-93D9D8216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D8559-515C-4EF5-99D8-7151D94F51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6A66B-286F-4155-90CE-2A84D94D54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B1AAB-4BED-49B6-8D50-84D0254D5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9132-DFCC-4F62-B1C8-28453461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583F7-EB08-4B6E-BF08-D23F9D6D2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CD20A-E17A-47F5-9D78-A822D05043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BB838-4991-4C57-98FF-80BF5F6D43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07980-1104-45B5-942B-D30A064CC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4C7CA-114B-4B6E-86B6-BE606821BD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4BBB-4272-4060-82D2-4408301891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80A4-64D2-4616-B584-510497FA06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FAF7-85E5-4AF6-B8E8-4E8493244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9E5E-E82F-47FF-9720-576FA5191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166F-A979-43EB-B70E-BF6EE8E05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8352-81B1-49E7-8FA3-6282F4DBC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716F-94AC-41B0-B0F7-2503C68BD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BD7-7FEA-478B-B018-85F19396D3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D2B2-6CFE-4477-AD51-A872A22AFCC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7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DMINISTRACAO DO SANGUE E SEUS DERIVA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ub-modulo 09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Antigenios determinam o grupo sanguineo caracteristico-A,B,AB,e O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factor Rh positivo,significa que a proteina esta presente na celu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factor Rh negativo, significa que a proteina nao esta presente na celu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D89E-62EC-4ACC-B877-2C99821C5C8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a evitar reaccoes de incompatibilidade, deve administrar o mesmo grupo sanguineo e o mesmo factor Rh, porem existem algumas excep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 grupo “O” e considerado dador universal uma vez que nao apresenta as caracteristicas do grupo sanguineo A e B na membrana celul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444B-3600-43C8-9829-8AB9143EECF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sangue tipo O pode ser fornecido a qualquer pessoa porque nao ira desencadear uma reac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pessoas com Rh positivo podem receber sangue Rh negativo e positivo, uma vez que o factor nao contem a proteina sensibiliza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inverso nao e valido, ou seja as pessoas com Rh negativo nunca devem receber sangue Rh positivo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C360-4C9B-490F-A4FA-C5FE1CC8CD4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106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upos Sanguineos e Tipos Compative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66680" y="1417680"/>
          <a:ext cx="7772400" cy="4373640"/>
        </p:xfrm>
        <a:graphic>
          <a:graphicData uri="http://schemas.openxmlformats.org/drawingml/2006/table">
            <a:tbl>
              <a:tblPr/>
              <a:tblGrid>
                <a:gridCol w="3502080"/>
                <a:gridCol w="427032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os Sanguin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Sanguineos Compativ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8ab9"/>
                    </a:solidFill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e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e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A, B e 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 (+) e Rh (-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(-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(-) ape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</a:tr>
            </a:tbl>
          </a:graphicData>
        </a:graphic>
      </p:graphicFrame>
      <p:sp>
        <p:nvSpPr>
          <p:cNvPr id="2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81D5-63BE-4F74-B963-AC668E2E91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ivados do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stem varios derivados do sangue que podem ser administrados a utentes que necessitam de substancias especificas que nao tenham todos os componentes celulares do sangue integr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 ver a tabela seguinte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1EB-1CB6-4A77-8057-B3DDB6B19C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ela 2: Derivados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143000"/>
          <a:ext cx="8381880" cy="5211720"/>
        </p:xfrm>
        <a:graphic>
          <a:graphicData uri="http://schemas.openxmlformats.org/drawingml/2006/table">
            <a:tbl>
              <a:tblPr/>
              <a:tblGrid>
                <a:gridCol w="1981080"/>
                <a:gridCol w="3124440"/>
                <a:gridCol w="3276360"/>
              </a:tblGrid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ivados de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c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sito da administrac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que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ulares em forma de disco que promovem a coagulacao do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m a capacidade de controlo de sangr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uloci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celulas brancas do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horam a capacidade de combater as infecc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2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o sem celul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itui os factores coagulantes e aumenta o volume de liquidos intravascul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2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um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as do plas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i as doencas de coagulacao de sangue ( hemofilia)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o precipi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tos de factores coagulan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 as doencas de coagulacao do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BCFC-4275-4657-8F7E-43D280B4B7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necessa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positivo para a recepcao do sangu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vas de procediment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ema para administracao do sangue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ro fisiolog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quipamento de Proteccao Individual (EPI) necessari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dimentos e Registos; Apos o procedimento, o enfermeiro deve fazer registos do segui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data e a hora da transfusa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Tipo e a quantidade do produto transfundi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sinais vitais do paciente e sua verificacao no inicio da transfus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reacao do paciente no inicio da transfus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961-99D0-4209-92F2-1B9F296765F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Pre-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reacções de transfusão de sangue ocorrem devido a reacção antigéno-anticorpo, podendo variar de uma reacção ligeira a um choque anafilático. Por isso, É importante a realização de prova do sangue doado e do sangue de quem vai receber-lo, pois o receptor precisa receber do doador um tipo de sangue compatível com o seu, para que não haja distruição das hemácias. (hemólise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5C8-87A9-43FB-88EA-C5C74A1009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Pre-transfusion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aliar os Sinais Vitais antes e durante a transfus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za uma agulha ou cateter com calibre nao inferior a numero 20, uma solucao salina normal e sistema tipo“y”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Uma unidade transfusional deve correr no máximo quatro horas de tempo (em condições normai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A62B-91BD-42F3-9CE6-5018A4E47F0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Pre-transfusion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sangue ou seu derivado deve ter uma etiqueta de identificação com os seguintes dados: Nome completo, número da cama do paciente e sua localização, grupo ABO e Tipo do receptor, data e nome do responsável pela realização dos testes e pedido do produto e resultado de compatibi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muito importante que o enfermeiro que vai administrar o sangue ou seus componentes confira atentamente a etiqueta, para verificar se os dados estão correc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F88F-4557-46F5-8D81-9803E39082A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istar quatro factores que afectam a escolha do cateter utilizado para a administração de soluções intravenos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as reacções a transfusões de sangue e seus deriv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cutir os critérios para solucionar uma veia através do qual são administrados líquidos intraveno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Intra-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O sangue deve ser administrado mediante punção de uma veia calibrosa ou utilização de cateter venoso central, se disponí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 transfusão deve ser sempre instalado com um sistema próprio com filtro, trocado de 4 em 4 horas ou antes, se houver sinais de saturação ou contaminação, podendo ser usado para mais de uma unidade no mesmo paciente desde que respeitados esses critérios. Se tiver que fazer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BCB8-77CC-4EE9-A3EE-DD6E52C5616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Intra-Transfusional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Nos primeiros 15 minutos deve se deixar o sangue gotejar lentamente, observando as condições do paciente  para despiste da ocorrência de hemólis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umentar a velocidade se não houver contra-indic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onitorar o processo de transfusão, observando as reacções e aparecimento de sinais ou sintomas como febre, calafrios, tremores, erupção cutânea, prurido generalizado, cefaleia, hipotensão, taquicardia, dispnei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D2B-06D4-439B-AE44-453405AA01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Intra-Transfusional – Reacção 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Em caso de reacção: Interromper imediatamente a transfusão e comunicar médico ou outro técnico superior e ao banco de sangu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cções imediat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2060"/>
                </a:solidFill>
                <a:latin typeface="Arial"/>
              </a:rPr>
              <a:t>Interromper a transfusão, mantendo a punção venosa com uma solução fisiológica a 0.9%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2060"/>
                </a:solidFill>
                <a:latin typeface="Arial"/>
              </a:rPr>
              <a:t>reexaminar cuidadosamente todas as etiquetas, rótulos e registos, conferindo novamente os dados do paciente com os do banco de sangue ou componentes em uso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699A-3D08-4DCD-A2A8-F7922AB3175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Intra-Transfusional – Reacção transfusio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aminhar o balão contendo o resto do sangue ou componente, o sistema e a etiqueta de identificação do balão, para o banco de sangue, tendo o cuidado de não contaminar o produto durante a mani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her amostra de sangue para exame e determinação de hemoglob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59E-1980-42FC-A250-79ACB57B676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Intra-Transfusional – Reacção transfusio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aminhar o balão contendo o restante do sangue ou componente, o sistema e a etiqueta de identificação do balão, para o banco, tendo o cuidado de não contaminar o produto durante a mani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her amostras de sangue para exame e determinação de hemoglob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089-5371-4F74-B1B0-77A50AB6F29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Pos-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  avaliar os sinais vitais de quinze em quinze minutos ate a situacao do utente ficar normaliz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58A4-D499-462E-BC91-B66B2FC3A37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85800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ccoes mais frequentes na administrac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reaccoes ocorrem durante os primeiros 5 a 15 minutos apos o inicio da transfus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orrem reaccoes febris alergias, (rubor e dispneia), septicas, tremores, sobrecarga circulatoria, sinais de hipoglicem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usas de reaccoes na administracao de sang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ompatibilidade sanguine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recarga circulatoria(Taquicardia por hipotensa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1EA-67A7-42C9-9106-6D203DF323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s de reaccoes na administracao de sangue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ompatibilidade sanguine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recarga circulato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quicardia por hipotensa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3A1-F19A-42E2-BF3B-E67E6D546B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Tabela 3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eacoes a Transfus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9B22-A2B0-46B1-84E2-3EC0DFBD7D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914400"/>
          <a:ext cx="8543880" cy="6319800"/>
        </p:xfrm>
        <a:graphic>
          <a:graphicData uri="http://schemas.openxmlformats.org/drawingml/2006/table">
            <a:tbl>
              <a:tblPr/>
              <a:tblGrid>
                <a:gridCol w="1447920"/>
                <a:gridCol w="1905120"/>
                <a:gridCol w="2133360"/>
                <a:gridCol w="305748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Reac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is  Sint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pati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nsao, pulso rapido, dificuldade repiratoria,dor nas costas e rub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pati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de entre o sangue do dador e do rece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 a infusao do sangu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salina ev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oxige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r os p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31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, calafrios,dor de cabeca, pulso rapido e dores muscula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as a proteinas estranhas no sangue do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 a infusao do sang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 a salin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lia os sinais vit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,tremores, hipotensa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ao do sangue com micro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 a infusao de sa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a solucao salin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o sangue em lugar seg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ma, prurido, vermelhidao, sinais vitais estav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quena sensibilidade de substancias no sangue do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 o volume da infusao do sa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lia os sinais vitais do pa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o anti-histami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eacoes a Transfus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44B-DE91-4079-8A6A-CC98539FDBF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397160"/>
          <a:ext cx="8534160" cy="5029200"/>
        </p:xfrm>
        <a:graphic>
          <a:graphicData uri="http://schemas.openxmlformats.org/drawingml/2006/table">
            <a:tbl>
              <a:tblPr/>
              <a:tblGrid>
                <a:gridCol w="1523880"/>
                <a:gridCol w="2133720"/>
                <a:gridCol w="2057400"/>
                <a:gridCol w="2819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Reac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is  Sintom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mor moder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e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ao de sangue fr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r a infus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rir o paciente e deixar lhe confortave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brecarg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tensao, dificuldade respiratoria, sons respiratorios ruidosos e pulso oscilant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 volume ou infusao rapida, funcao cardiaca ou renal comprometido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ir  o volume do sangue infundido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r a cabec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r oxigen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glcem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nsao, caibras musculares e convulso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as transfusoes de sangue contendo agentes anticalc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r a transfusao de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r a solucao sal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625760" y="5562720"/>
          <a:ext cx="6984720" cy="69516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ceito de Transfusao de Sangue</a:t>
            </a:r>
            <a:br>
              <a:rPr sz="20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nce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nsfusao de sangu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 procedimento clinico utilizado atraves do acesso venoso, em que e  administrado sangue total ou seus derivados/componentes,tais como o plasma, concentrado de hemacias e plaque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D459-8D38-4BAE-B094-3E7839922D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essoas com sangue tipo “O” são considerados dadores universais e as do tipo “AB” receptores univers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nfermeiro deve sempre observar se não há presença de bolhas ou alterações na cor do sangu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resença de bolhas pode indicar multiplicação de bactérias e a cor anormal ou turva podem ser indicação de hemóli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5F5-57E6-474B-A96E-588069E3AF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mo       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deve adicionar ao sangue ou a seus derivados quaisquer substâncias ou medicamentos bem como sua infusão concomitante pela mesma linha que a do sangue. Caso haja necessidade, deve se optar por soluções isotônicas ao sangue, sem cálcio de modo a evitar a hemóli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O tempo de infusão não deve exceder a 4 horas, devido ao risco de proliferação de bacté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185A-7E26-4C65-99CD-550F7CCE566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ibliografias;Enfermagem Basica, Teoria e Pra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ditora,RIDEEL Pag-308 a 317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itos  e habilidades fundamentais  no atendimento de Enfermagem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a edicao; Barbara K.TIMB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gs 296 a 30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54C9-2F6A-48D2-9CFD-EC317215D62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os de Administrac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umas situacoes exigem a necessidade de transfunsao de sangue e seus derivados; por ex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ngueTota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e para  repor as perdas de sangue provocadas p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o Cirurgico ou politraumatis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lasma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ra repor a perda de liquidos em grandes queimadu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ntrad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de hemaceas, para casos de anemias grav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ntrad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plaqueta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para o controlo de hemorragi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D9A-ED76-43EC-9862-563D4A9A46C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sicao do Sang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Sangue e composto por duas partes distintas; Solida e Liqu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id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e constituida por celulas sanguine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iquid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; e constituida por plas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celulas sanguineas sao os eritrocitos ou globulos vermelhos, os leucocitos ou globulos brancos e as plaquetas, tambem chamados por tro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7605-9A2C-4FF9-AA88-7C6A5A0057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aucoes a serem tomadas na transfunsao sangui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nsfusao de Sangue deve ser realizada de maneira criteriosa e por um profissional de saude competente que detenha conhecimentos sobre os procedimentos tecnicos de transfusao, natureza do produto, possiveis reaccoes adversas e cuidados com 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nsfusao de sangue assim como seus derivados  devem serem realizados mediante prescricao medica, na qual devem constar;nome legivel do medico ou outro tecnico e sua assinatu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pedido de sangue sera encaminhado  ao banco  de sangue deve conter a identificacao do receptor, o produto hemoterapeutico indicacdo sua respectiva quantidade e indicacao de transfusa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39A2-B4D6-4C13-AC4F-6B48554F22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aucoes a serem tomadas na transfunsao sangui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pedido de sangue sera encaminhado  ao banco  de sangue deve conter a identificacao do receptor, o produto hemoterapeutico indicacdo sua respectiva quantidade e indicacao de transfusa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-se colher uma amostra de sangue do paciente, colocar em frasco contendo anti-coagolante, devidamente identificado e encaminhado junto com pedido para banco de sangue, para determinacao do grupo sanguine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ngue Matern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6DB6-1A72-4A52-8AB0-A9BF20FBCCF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reparação psicologica ao utente para transfusa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os a colheita do sangue, e testado para verificar se tem anti-corpos de sifilis, hepatite e virus da imunodeficiencia humana (HIV),para evitar a administracao do sangue capaz de transmitir doencas sanguineas ao u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DC8-C5B1-4DB2-A751-3D151110A2D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ngu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istem varias diferencas entre as proteinas presentes no sangue de um individuo, quer seja dador como receptor, onde cada um pode provocar  grandes ou pequenas reaccoes a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nsfusã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5e"/>
                </a:solidFill>
                <a:latin typeface="Arial"/>
              </a:rPr>
              <a:t>O grupo mais importante para a transfusao de sangue, e o sistema ABO, o qual inclui os grupos B,o antigeno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 e de Saude Materno-Infant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28C-8DD9-43BB-A497-6B0026DBFA2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scisa</cp:lastModifiedBy>
  <dcterms:modified xsi:type="dcterms:W3CDTF">2014-07-30T18:07:29Z</dcterms:modified>
  <cp:revision>948</cp:revision>
  <dc:subject/>
  <dc:title>ANATOMIA E FISIOLOGIA HUMANA</dc:title>
</cp:coreProperties>
</file>