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9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13.gif" ContentType="image/gif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dt" idx="2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 type="ftr" idx="2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 type="sldNum" idx="2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22BB5-09A7-420E-BF75-16A9698231CF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A25ED-1CB7-4300-9452-69720D4BD1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56D67D-A219-4077-A4D0-8A95C2426E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5F3C7B-F1CA-4E69-A61C-F1874FDA93F1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02A6C22-663F-41A6-926C-6759C3F8CC9E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66D2AA1-A38C-4DA3-B341-965C597D6A0F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5DB4640-8E78-447A-9ED6-F9F7D004198B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2E60100-64CF-47BC-85A2-B44D5CFAD3BB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62C72E-76BE-4121-83BB-EA81314B4185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AAE254-5814-4368-B4AF-A4087BB4D20B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005A937-545F-4C47-8CD5-F2CEE1629678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B80FAF0-4D64-41F5-853B-BBE14A49A75F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1ABB87C-3182-44CC-B8D5-D3CDAA70C9EC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155C244-3615-481E-8C4B-5D6D0BC858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58915C-2522-4B71-9BBE-DF77C4D7F736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E17F033-0ADC-4F75-A22C-98DCD6E974B7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06ED9EF-30EF-488A-A8C5-FB067D69DD9A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7BE269F-9397-47EC-A7F1-A1CA701F6634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A10C36F-0CD5-4072-832C-4389F4E181E3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0E73664-17E8-47ED-9252-271038B6A6DA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11AC833-6FEB-4260-954C-A3104433F6E2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5BF37B8-8FB1-4D89-8100-959EB48F16ED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68D8553-83B6-4A99-BF05-A2EC51AED741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4259914-A077-4A0A-805D-72D4D670F91A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DC45D96-7C47-4767-855D-E4EB6C3DF3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FE9E0A-147B-4A3A-B7E5-74AF3E47BD19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D59E904-F13F-4E0A-AFF6-C2D7A3BCB254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5E07BF-14EF-4494-B224-2F3F63AD3AAF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FCB5FD-3D19-43C5-A872-7F5114105BED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FFF315-71F2-446D-9FB2-9B08B31B04B4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256DA7-E7F1-4E90-8953-D04F5C36E392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AB9238-542D-4089-9E03-CD2372B97A08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3A8079-9847-41B5-9F3B-37ABF9F98C67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18C1D5-24EC-4F83-8B9F-3713A4AA847C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AC3E05-989F-4D8E-8464-9115E94054EC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6F2896-788C-4B6B-9763-5F13975A07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BD5EA8-E712-40BE-BC92-5B9BE35ADC8E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BF5E53-E0FE-4F09-956B-0F3FC43F3621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C99343-B346-49EE-9562-27F1F2E15734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675B699-6852-43B4-977F-3E4AC3ED71E9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F3FB1CD-BC8B-4B83-93E3-21A47AADABD8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89943EB-62BA-43BD-8D9D-A16E584C25EF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29D1F41-1055-4F0C-B2D4-7A6D5DD531BD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2DBF8E6-6ADC-4920-A98C-B27EBB9973EA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BF0F3DB-B21A-448D-AC3C-AA79E44FAE16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E18469B-4F9E-4841-B2E0-B9F00106C4F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4D15AF5-4B50-485A-84AD-FF899974508A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64D1E2A-804C-4490-BCD7-5E236F0C699F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2BEC046-2AB0-4515-9957-77E8905EAC62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D281071-0E0F-4C05-AD11-4250A28617DB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9C622D9-B526-4AF2-BB95-C351BC3A1E31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F84E95E-DCD1-4E31-B491-6655E984D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97B3D36-134D-4BC8-A160-4A52FB1C4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932A12D-9883-4E98-9772-48DA29CBB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351C891-ABF0-4214-B420-7A85C28CC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CA15046-6173-4461-A8DF-5911BB776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4FD98DD-178D-451B-8DC4-3E5AEE8DD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4F4D11F-138F-48F3-B668-DD81075F7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7E7F861-4ECE-4A68-B33D-155162574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0F512EE-2C64-4C28-9DB2-51B58DB1D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BF2EAB4-7CB6-41FA-830A-FEF0FD7BD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F64FCE6-617F-48C0-9DD9-3A49F3E39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36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499402A-A19D-4635-B3A8-2B8A83F86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7B5DB2-59AC-464C-BCF8-872F88B174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911547-96FE-436B-A3D7-1DB93FE615A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954249-0A9E-47FA-91E9-18F9FB8FD1C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20D7F5-29EA-42F4-A685-9E30862B975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A43393-809C-4CAD-B513-576CA23EC11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E34D3C-A685-40FC-B535-460CCFCEE68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355E17-B265-405F-AA06-18A7CDF71EB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C1DEDB-2F5A-43D0-8117-F81FDE8C5C8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F0D55B-9DEF-4CF9-B18D-5A31DEF49CE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7970DB-5912-498B-9549-115B047A639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F865C7-519F-4E29-89BD-78EDA1D758C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7CDABD-A73C-4EFF-8FD2-DD5AD4F8219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7B0F28-EC50-4B78-A42F-50D73935E68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901C0D-5DAB-4011-B9D5-0AB7AE717DE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355CB35-B640-4BCA-837B-E127682555B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B62FEBC-304F-4FBD-9057-1FF3CCFA3BB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DE3BD08-59E8-4895-A431-5BAF9ADF37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3A84CE-D1EA-44F4-A266-F0101D4A5BA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D696D1C-B52C-4558-A008-0CF50EDC7FB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D27207A-3358-4E15-93F5-282B646BD25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24FEC9C-02A7-41AA-AAF2-BF737A37625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A72AF75-C5B2-4317-955F-16F63E20573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69427F0-AFE8-4A5B-868E-2705076AE8F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35684BA-05FD-44D1-8F3E-A062952D38A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8188EC6-C122-4E96-A4BE-45A363A2C27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28620DE-78E4-4347-8239-DF9F16A89B6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E30CB1E-230D-422E-A45F-A2132CBC1B3D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B20C16-5028-42E2-9CFC-85A8FA3BB6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DC3BC5-60EF-4F71-B943-3BAE63B73D22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1DA8B6-B4B2-4BE3-86C3-1A2768650724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5973F8-4183-43FB-89A8-4EFB25B07EE7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BECC29-A08C-4239-ACCB-836517254EC2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416749-5B45-4351-B229-6DFB00CA7A71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99F81A-78E8-4822-A95B-AA4A7A782FAC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F0C517-9D18-447E-AB6E-EA736D1EFA34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C7B086-2ECD-49CF-9AF5-18D9172BC884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057E82-4CB3-407C-A1F3-1F877EC07FA7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D74266-A254-40E7-A3E1-85C82BFC3F0A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35C862-68E0-476F-A0EA-9A9A71988F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78E582-59BA-4423-ADFB-A656DC735668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A4BFF8-85C1-4030-B46E-2DA9945FBB97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146AD61-A0D4-4B06-B73D-4BC161A40C96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6AD4FF7-D384-4CC8-9DF7-0790B4632577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6B84119-A331-4E41-9464-7F8D61BBDBE4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7AE0CB4-5A68-4940-A069-14B7C9D3BFAD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0F1529E-9264-4BA1-A05F-4A01111602A0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1339DA5-20D0-4017-A7DF-03ECDA69BBEF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0D7729A-8B5F-4866-A24A-F5D2DDA77697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4BA183A-3A46-4D24-86A0-D3C24EF1D604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C7A22B0-B260-4602-B43E-AAEBB16E83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C8D954-9787-45F3-9717-772D76B1FB97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AEE6E62-225A-42AE-A904-C3288D051F95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C80B616-2E1D-48E4-8A69-EA116E0CB17F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20FF512-F2D4-4715-879A-60AC2C4474B9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DB5ADDE-B35B-42B0-9983-E8C471F08C0F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E06A97A-41DA-49BB-BCE1-F2BE5430041B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B327CB1-8E17-493A-8BBF-058F259823A5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5EB3581-A900-4517-85D8-E25AEAE96C10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D7D8A3F-9D05-4D19-BA42-F4C5A27CB4FD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72C0F0B-7571-41C7-B9E4-28779EB75EFE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5E76565-AC45-47A8-835D-C49B951592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8741DD-69AE-4EA8-AF9B-7FDF2B8F4015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7CF1A7C-E4E5-45E9-8B1F-0083EF0D68D1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BD7FBAE-553F-44F6-B582-63C8B84F43C4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FDFA79E-3A60-4985-947A-004672199463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2807305-C2F6-40FE-857D-3309DD0C33BD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C0A7263-1681-4C99-BDE5-7ED1D179435D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AD396A-42F1-41CD-8755-4048DA5F8B90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A7D0FC-4100-412C-B5CB-74449BD203C6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449C94-C4DA-4766-AEFA-8B8AE9AC359C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21A08E-086F-4FCC-9CCF-76161CA3209A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37A7E4-6219-401A-9C41-D6188D9782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56BA88-2C40-4F15-A73C-319BB61F012C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A1A6FD-5330-4919-8C7A-1FDE03F550F8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710525-7F0A-4A5C-9C54-0697D0308121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B8E12E-E72F-456E-9A55-0E2544E6B707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480A04-EE4D-40D0-8C25-40D3282E3C94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B4C600-4E8A-4695-85F2-86867FED979C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1C7901-7579-46BD-8149-086C9C25C7CD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3C4A1A-B4A7-4F8B-BED0-71DF01BD11C1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11A4AF-6785-4E29-8717-12B0CDAF3D59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1ECDF67-9984-44EA-A5A8-9C9CE2A03F4F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945C24F-28C2-4F01-9770-D27F6BB0C5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2590560" y="6400440"/>
            <a:ext cx="4724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BR" sz="1200" spc="-1" strike="noStrike">
                <a:solidFill>
                  <a:srgbClr val="9999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Times New Roman"/>
                <a:ea typeface="Arial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3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400440"/>
            <a:ext cx="152388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9999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2A283-D28A-412E-AC72-089A00EBFF8F}" type="slidenum">
              <a:rPr b="0" lang="pt-PT" sz="1200" spc="-1" strike="noStrike">
                <a:solidFill>
                  <a:srgbClr val="9999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ftr" idx="18"/>
          </p:nvPr>
        </p:nvSpPr>
        <p:spPr>
          <a:xfrm>
            <a:off x="2590560" y="6400440"/>
            <a:ext cx="4724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BR" sz="1200" spc="-1" strike="noStrike">
                <a:solidFill>
                  <a:srgbClr val="9999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Times New Roman"/>
                <a:ea typeface="Arial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sldNum" idx="19"/>
          </p:nvPr>
        </p:nvSpPr>
        <p:spPr>
          <a:xfrm>
            <a:off x="7314840" y="6400440"/>
            <a:ext cx="152388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9999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4F260-2C6B-46B5-BFF4-D46D25951703}" type="slidenum">
              <a:rPr b="0" lang="pt-PT" sz="1200" spc="-1" strike="noStrike">
                <a:solidFill>
                  <a:srgbClr val="9999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 type="ftr" idx="20"/>
          </p:nvPr>
        </p:nvSpPr>
        <p:spPr>
          <a:xfrm>
            <a:off x="2590560" y="6400440"/>
            <a:ext cx="4724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BR" sz="1200" spc="-1" strike="noStrike">
                <a:solidFill>
                  <a:srgbClr val="9999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Times New Roman"/>
                <a:ea typeface="Arial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 type="sldNum" idx="21"/>
          </p:nvPr>
        </p:nvSpPr>
        <p:spPr>
          <a:xfrm>
            <a:off x="7314840" y="6400440"/>
            <a:ext cx="152388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9999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7489F-DBF0-43E9-BB77-B97515C322BA}" type="slidenum">
              <a:rPr b="0" lang="pt-PT" sz="1200" spc="-1" strike="noStrike">
                <a:solidFill>
                  <a:srgbClr val="9999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ftr" idx="22"/>
          </p:nvPr>
        </p:nvSpPr>
        <p:spPr>
          <a:xfrm>
            <a:off x="2590560" y="6400440"/>
            <a:ext cx="4724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BR" sz="1200" spc="-1" strike="noStrike">
                <a:solidFill>
                  <a:srgbClr val="9999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Times New Roman"/>
                <a:ea typeface="Arial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sldNum" idx="23"/>
          </p:nvPr>
        </p:nvSpPr>
        <p:spPr>
          <a:xfrm>
            <a:off x="7314840" y="6400440"/>
            <a:ext cx="152388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9999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45BED-B61E-4FA5-BCB0-4A7348E9DA5E}" type="slidenum">
              <a:rPr b="0" lang="pt-PT" sz="1200" spc="-1" strike="noStrike">
                <a:solidFill>
                  <a:srgbClr val="9999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dt" idx="2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ftr" idx="25"/>
          </p:nvPr>
        </p:nvSpPr>
        <p:spPr>
          <a:xfrm>
            <a:off x="2590560" y="6400440"/>
            <a:ext cx="4724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BR" sz="1200" spc="-1" strike="noStrike">
                <a:solidFill>
                  <a:srgbClr val="9999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Times New Roman"/>
                <a:ea typeface="Arial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 type="sldNum" idx="26"/>
          </p:nvPr>
        </p:nvSpPr>
        <p:spPr>
          <a:xfrm>
            <a:off x="7314840" y="6400440"/>
            <a:ext cx="152388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9999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EC75F-4E91-49C0-B1D2-8435BB1F58A6}" type="slidenum">
              <a:rPr b="0" lang="pt-PT" sz="1200" spc="-1" strike="noStrike">
                <a:solidFill>
                  <a:srgbClr val="9999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3"/>
          <p:cNvSpPr/>
          <p:nvPr/>
        </p:nvSpPr>
        <p:spPr>
          <a:xfrm>
            <a:off x="914400" y="2057400"/>
            <a:ext cx="7772400" cy="2514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Rectangle 33"/>
          <p:cNvSpPr/>
          <p:nvPr/>
        </p:nvSpPr>
        <p:spPr>
          <a:xfrm>
            <a:off x="2971800" y="144792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" name="Picture 1" descr=""/>
          <p:cNvPicPr/>
          <p:nvPr/>
        </p:nvPicPr>
        <p:blipFill>
          <a:blip r:embed="rId2"/>
          <a:stretch/>
        </p:blipFill>
        <p:spPr>
          <a:xfrm>
            <a:off x="304920" y="228600"/>
            <a:ext cx="628560" cy="622440"/>
          </a:xfrm>
          <a:prstGeom prst="rect">
            <a:avLst/>
          </a:prstGeom>
          <a:ln w="0">
            <a:noFill/>
          </a:ln>
        </p:spPr>
      </p:pic>
      <p:sp>
        <p:nvSpPr>
          <p:cNvPr id="44" name="Text Box 37"/>
          <p:cNvSpPr/>
          <p:nvPr/>
        </p:nvSpPr>
        <p:spPr>
          <a:xfrm>
            <a:off x="2971800" y="1676520"/>
            <a:ext cx="5029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Rectangle 38"/>
          <p:cNvSpPr/>
          <p:nvPr/>
        </p:nvSpPr>
        <p:spPr>
          <a:xfrm>
            <a:off x="2971800" y="160020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3"/>
          </p:nvPr>
        </p:nvSpPr>
        <p:spPr>
          <a:xfrm>
            <a:off x="2590560" y="6400440"/>
            <a:ext cx="4724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BR" sz="1200" spc="-1" strike="noStrike">
                <a:solidFill>
                  <a:srgbClr val="9999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Times New Roman"/>
                <a:ea typeface="Arial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ftr" idx="4"/>
          </p:nvPr>
        </p:nvSpPr>
        <p:spPr>
          <a:xfrm>
            <a:off x="2590560" y="6400440"/>
            <a:ext cx="4724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BR" sz="1200" spc="-1" strike="noStrike">
                <a:solidFill>
                  <a:srgbClr val="9999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Times New Roman"/>
                <a:ea typeface="Arial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5"/>
          </p:nvPr>
        </p:nvSpPr>
        <p:spPr>
          <a:xfrm>
            <a:off x="7314840" y="6400440"/>
            <a:ext cx="152388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9999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A0949-E1A1-411B-AF02-478A5FC3BB79}" type="slidenum">
              <a:rPr b="0" lang="pt-PT" sz="1200" spc="-1" strike="noStrike">
                <a:solidFill>
                  <a:srgbClr val="9999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ftr" idx="6"/>
          </p:nvPr>
        </p:nvSpPr>
        <p:spPr>
          <a:xfrm>
            <a:off x="2590560" y="6400440"/>
            <a:ext cx="4724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BR" sz="1200" spc="-1" strike="noStrike">
                <a:solidFill>
                  <a:srgbClr val="9999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Times New Roman"/>
                <a:ea typeface="Arial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sldNum" idx="7"/>
          </p:nvPr>
        </p:nvSpPr>
        <p:spPr>
          <a:xfrm>
            <a:off x="7314840" y="6400440"/>
            <a:ext cx="152388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9999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F81D6-47EC-4030-A675-A38EF8046C56}" type="slidenum">
              <a:rPr b="0" lang="pt-PT" sz="1200" spc="-1" strike="noStrike">
                <a:solidFill>
                  <a:srgbClr val="9999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ftr" idx="8"/>
          </p:nvPr>
        </p:nvSpPr>
        <p:spPr>
          <a:xfrm>
            <a:off x="2590560" y="6400440"/>
            <a:ext cx="4724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BR" sz="1200" spc="-1" strike="noStrike">
                <a:solidFill>
                  <a:srgbClr val="9999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Times New Roman"/>
                <a:ea typeface="Arial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sldNum" idx="9"/>
          </p:nvPr>
        </p:nvSpPr>
        <p:spPr>
          <a:xfrm>
            <a:off x="7314840" y="6400440"/>
            <a:ext cx="152388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9999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FAFCD-4665-4BFD-B367-A608F66A6C93}" type="slidenum">
              <a:rPr b="0" lang="pt-PT" sz="1200" spc="-1" strike="noStrike">
                <a:solidFill>
                  <a:srgbClr val="9999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ftr" idx="10"/>
          </p:nvPr>
        </p:nvSpPr>
        <p:spPr>
          <a:xfrm>
            <a:off x="2590560" y="6400440"/>
            <a:ext cx="4724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BR" sz="1200" spc="-1" strike="noStrike">
                <a:solidFill>
                  <a:srgbClr val="9999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Times New Roman"/>
                <a:ea typeface="Arial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sldNum" idx="11"/>
          </p:nvPr>
        </p:nvSpPr>
        <p:spPr>
          <a:xfrm>
            <a:off x="7314840" y="6400440"/>
            <a:ext cx="152388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9999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59A0D-AFB1-44B1-BCF1-A8A819C94C8D}" type="slidenum">
              <a:rPr b="0" lang="pt-PT" sz="1200" spc="-1" strike="noStrike">
                <a:solidFill>
                  <a:srgbClr val="9999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ftr" idx="12"/>
          </p:nvPr>
        </p:nvSpPr>
        <p:spPr>
          <a:xfrm>
            <a:off x="2590560" y="6400440"/>
            <a:ext cx="4724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BR" sz="1200" spc="-1" strike="noStrike">
                <a:solidFill>
                  <a:srgbClr val="9999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Times New Roman"/>
                <a:ea typeface="Arial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 type="sldNum" idx="13"/>
          </p:nvPr>
        </p:nvSpPr>
        <p:spPr>
          <a:xfrm>
            <a:off x="7314840" y="6400440"/>
            <a:ext cx="152388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9999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2ED54-D2E8-4019-9FA7-ABB110E4FC3B}" type="slidenum">
              <a:rPr b="0" lang="pt-PT" sz="1200" spc="-1" strike="noStrike">
                <a:solidFill>
                  <a:srgbClr val="9999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ftr" idx="14"/>
          </p:nvPr>
        </p:nvSpPr>
        <p:spPr>
          <a:xfrm>
            <a:off x="2590560" y="6400440"/>
            <a:ext cx="4724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BR" sz="1200" spc="-1" strike="noStrike">
                <a:solidFill>
                  <a:srgbClr val="9999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Times New Roman"/>
                <a:ea typeface="Arial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sldNum" idx="15"/>
          </p:nvPr>
        </p:nvSpPr>
        <p:spPr>
          <a:xfrm>
            <a:off x="7314840" y="6400440"/>
            <a:ext cx="152388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9999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85231-15DE-40D8-B94D-5AE6DE5F4F43}" type="slidenum">
              <a:rPr b="0" lang="pt-PT" sz="1200" spc="-1" strike="noStrike">
                <a:solidFill>
                  <a:srgbClr val="9999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ftr" idx="16"/>
          </p:nvPr>
        </p:nvSpPr>
        <p:spPr>
          <a:xfrm>
            <a:off x="2590560" y="6400440"/>
            <a:ext cx="4724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BR" sz="1200" spc="-1" strike="noStrike">
                <a:solidFill>
                  <a:srgbClr val="9999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Times New Roman"/>
                <a:ea typeface="Arial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 type="sldNum" idx="17"/>
          </p:nvPr>
        </p:nvSpPr>
        <p:spPr>
          <a:xfrm>
            <a:off x="7314840" y="6400440"/>
            <a:ext cx="152388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9999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071DC-A69B-4AD5-BE16-D3CAEE0FAAC6}" type="slidenum">
              <a:rPr b="0" lang="pt-PT" sz="1200" spc="-1" strike="noStrike">
                <a:solidFill>
                  <a:srgbClr val="9999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ufpa.br/dicas/treina.htm" TargetMode="External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2"/>
          <p:cNvSpPr/>
          <p:nvPr/>
        </p:nvSpPr>
        <p:spPr>
          <a:xfrm>
            <a:off x="25909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Rectangle 2067"/>
          <p:cNvSpPr/>
          <p:nvPr/>
        </p:nvSpPr>
        <p:spPr>
          <a:xfrm>
            <a:off x="1219320" y="2133720"/>
            <a:ext cx="70866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Verdana"/>
                <a:ea typeface="Arial"/>
              </a:rPr>
              <a:t>CUIDADOS DE HIGIENE AO UTENTE: HIGIENE OR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Rectangle 2065"/>
          <p:cNvSpPr/>
          <p:nvPr/>
        </p:nvSpPr>
        <p:spPr>
          <a:xfrm>
            <a:off x="609480" y="4724280"/>
            <a:ext cx="815364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66"/>
                </a:solidFill>
                <a:latin typeface="Verdana"/>
                <a:ea typeface="Arial"/>
              </a:rPr>
              <a:t>Módulo 7: Bases científicas para prática de Enfermagem II – Fundamentos de Enfermag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968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Higiene oral do utente pelo enfermeiro: procediment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4390560" y="1197000"/>
            <a:ext cx="47530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Guião de Procedimentos Básicos de Enfermagem. Páginas 15/16.</a:t>
            </a:r>
            <a:endParaRPr b="1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O formador pede dois alunos voluntários. Um fará o papel de utente e outro, o papel de enfermeiro. Considerar que o utente está impossibilitado de realizar sua higiene oral.</a:t>
            </a:r>
            <a:endParaRPr b="1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Os demais estudantes vão lendo paulatinamente os passos do procedimento no Guião, enquanto o colega vai demonstrando sob supervisão do formador. </a:t>
            </a:r>
            <a:endParaRPr b="1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87" name="Espaço Reservado para Rodapé 3"/>
          <p:cNvSpPr/>
          <p:nvPr/>
        </p:nvSpPr>
        <p:spPr>
          <a:xfrm>
            <a:off x="25909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88" name="Picture 4" descr="http://t0.gstatic.com/images?q=tbn:ANd9GcR-1x5wOtPpapkbqYmggGM3lrIRxrLHg9JKtbsd-9EnE05gyZCbfQ"/>
          <p:cNvPicPr/>
          <p:nvPr/>
        </p:nvPicPr>
        <p:blipFill>
          <a:blip r:embed="rId1"/>
          <a:stretch/>
        </p:blipFill>
        <p:spPr>
          <a:xfrm>
            <a:off x="468360" y="1484280"/>
            <a:ext cx="3886200" cy="4664160"/>
          </a:xfrm>
          <a:prstGeom prst="rect">
            <a:avLst/>
          </a:prstGeom>
          <a:ln w="0">
            <a:noFill/>
          </a:ln>
        </p:spPr>
      </p:pic>
      <p:sp>
        <p:nvSpPr>
          <p:cNvPr id="589" name="CaixaDeTexto 7"/>
          <p:cNvSpPr/>
          <p:nvPr/>
        </p:nvSpPr>
        <p:spPr>
          <a:xfrm>
            <a:off x="5029200" y="5715000"/>
            <a:ext cx="3809880" cy="642600"/>
          </a:xfrm>
          <a:prstGeom prst="rect">
            <a:avLst/>
          </a:prstGeom>
          <a:gradFill rotWithShape="0">
            <a:gsLst>
              <a:gs pos="0">
                <a:srgbClr val="ceceff"/>
              </a:gs>
              <a:gs pos="100000">
                <a:srgbClr val="efefff"/>
              </a:gs>
            </a:gsLst>
            <a:lin ang="16200000"/>
          </a:gradFill>
          <a:ln w="9360">
            <a:solidFill>
              <a:srgbClr val="c4c4f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Disponibilizar os materiais necessários e EP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Registos de Enfermage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456840" y="1143000"/>
            <a:ext cx="8381880" cy="35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Após a higiene oral, o enfermeiro deve registar no processo do utente o procedimento;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Acrescentar registos sobre as condições da mucosa oral, gengivas, cáries, vermelhidão, sangramento, ressecamento dos lábios, dificuldade de mastigação e outros.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92" name="Espaço Reservado para Rodapé 3"/>
          <p:cNvSpPr/>
          <p:nvPr/>
        </p:nvSpPr>
        <p:spPr>
          <a:xfrm>
            <a:off x="25909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93" name="Picture 9" descr="fichario">
            <a:hlinkClick r:id="rId1"/>
          </p:cNvPr>
          <p:cNvPicPr/>
          <p:nvPr/>
        </p:nvPicPr>
        <p:blipFill>
          <a:blip r:embed="rId2"/>
          <a:stretch/>
        </p:blipFill>
        <p:spPr>
          <a:xfrm rot="1300200">
            <a:off x="2480760" y="4068720"/>
            <a:ext cx="1882800" cy="19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Higiene oral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8" name="Espaço Reservado para Rodapé 5"/>
          <p:cNvSpPr/>
          <p:nvPr/>
        </p:nvSpPr>
        <p:spPr>
          <a:xfrm>
            <a:off x="25909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49" name="Picture 2" descr="http://t0.gstatic.com/images?q=tbn:ANd9GcSoPkok_6EJlMPolHU-uItp7uKewtuGhoPe44zcmDHbzzoFPhwk"/>
          <p:cNvPicPr/>
          <p:nvPr/>
        </p:nvPicPr>
        <p:blipFill>
          <a:blip r:embed="rId1"/>
          <a:stretch/>
        </p:blipFill>
        <p:spPr>
          <a:xfrm>
            <a:off x="2050920" y="1125360"/>
            <a:ext cx="6345360" cy="47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Higiene oral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456840" y="1828800"/>
            <a:ext cx="83818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A higiene oral reduz a colonização local, sendo importante para prevenir e controlar infecções, diminuir a incidência de cáries dentárias, manter a integridade da mucosa bucal, evitar ou reduzir a halitose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Deve ser feita pela manhã, após as refeições e antes de deitar</a:t>
            </a: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52" name="Espaço Reservado para Rodapé 3"/>
          <p:cNvSpPr/>
          <p:nvPr/>
        </p:nvSpPr>
        <p:spPr>
          <a:xfrm>
            <a:off x="25909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Higiene oral do utente ativ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468000" y="1628640"/>
            <a:ext cx="8381880" cy="37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É realizada pelo próprio utente;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O enfermeiro deve solicitar o material aos familiares;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Aproveitar a estadia do utente no hospital para observar a escovação, ensinando a técnica correta quando necessário e a importância da troca de escova a pelo menos cada 2/3 mêses.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55" name="Espaço Reservado para Rodapé 3"/>
          <p:cNvSpPr/>
          <p:nvPr/>
        </p:nvSpPr>
        <p:spPr>
          <a:xfrm>
            <a:off x="25909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Higiene oral do utente ativ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456840" y="1142640"/>
            <a:ext cx="8381880" cy="28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Orientações dadas pelo enfermeiro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Escove as superfícies voltadas para a bochecha dos dentes superiores e, depois, dos inferiores (1). </a:t>
            </a:r>
            <a:endParaRPr b="1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Escove as superfícies internas dos dentes superiores e, depois, dos inferiores (2). </a:t>
            </a:r>
            <a:endParaRPr b="1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Em seguida, escove as superfícies de mastigação. </a:t>
            </a:r>
            <a:endParaRPr b="1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Para ter hálito puro, escove também a língua, local onde muitas bactérias ficam alojadas (3). </a:t>
            </a:r>
            <a:endParaRPr b="1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58" name="Espaço Reservado para Rodapé 3"/>
          <p:cNvSpPr/>
          <p:nvPr/>
        </p:nvSpPr>
        <p:spPr>
          <a:xfrm>
            <a:off x="25909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59" name="Picture 2" descr="http://www.colgate.com.br/Colgate/BR/OC/Information/Images/ArticleImages/OHB/GoodOralHygiene/BrushingAndFlossing/brush1.jpg"/>
          <p:cNvPicPr/>
          <p:nvPr/>
        </p:nvPicPr>
        <p:blipFill>
          <a:blip r:embed="rId1"/>
          <a:stretch/>
        </p:blipFill>
        <p:spPr>
          <a:xfrm>
            <a:off x="1116000" y="4076640"/>
            <a:ext cx="2160720" cy="2219400"/>
          </a:xfrm>
          <a:prstGeom prst="rect">
            <a:avLst/>
          </a:prstGeom>
          <a:ln w="0">
            <a:noFill/>
          </a:ln>
        </p:spPr>
      </p:pic>
      <p:pic>
        <p:nvPicPr>
          <p:cNvPr id="560" name="Picture 4" descr="http://www.colgate.com.br/Colgate/BR/OC/Information/Images/ArticleImages/OHB/GoodOralHygiene/BrushingAndFlossing/brush2.jpg"/>
          <p:cNvPicPr/>
          <p:nvPr/>
        </p:nvPicPr>
        <p:blipFill>
          <a:blip r:embed="rId2"/>
          <a:stretch/>
        </p:blipFill>
        <p:spPr>
          <a:xfrm>
            <a:off x="3635280" y="4076640"/>
            <a:ext cx="2183040" cy="224316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6" descr="http://www.colgate.com.br/Colgate/BR/OC/Information/Images/ArticleImages/OHB/GoodOralHygiene/BrushingAndFlossing/brush3.jpg"/>
          <p:cNvPicPr/>
          <p:nvPr/>
        </p:nvPicPr>
        <p:blipFill>
          <a:blip r:embed="rId3"/>
          <a:stretch/>
        </p:blipFill>
        <p:spPr>
          <a:xfrm>
            <a:off x="6089760" y="4056120"/>
            <a:ext cx="2193840" cy="2252520"/>
          </a:xfrm>
          <a:prstGeom prst="rect">
            <a:avLst/>
          </a:prstGeom>
          <a:ln w="0">
            <a:noFill/>
          </a:ln>
        </p:spPr>
      </p:pic>
      <p:sp>
        <p:nvSpPr>
          <p:cNvPr id="562" name="CaixaDeTexto 8"/>
          <p:cNvSpPr/>
          <p:nvPr/>
        </p:nvSpPr>
        <p:spPr>
          <a:xfrm>
            <a:off x="2987640" y="407664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3" name="CaixaDeTexto 9"/>
          <p:cNvSpPr/>
          <p:nvPr/>
        </p:nvSpPr>
        <p:spPr>
          <a:xfrm>
            <a:off x="7956720" y="4076640"/>
            <a:ext cx="21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4" name="CaixaDeTexto 10"/>
          <p:cNvSpPr/>
          <p:nvPr/>
        </p:nvSpPr>
        <p:spPr>
          <a:xfrm>
            <a:off x="5508720" y="4076640"/>
            <a:ext cx="21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Higiene oral do utente com limitaçõe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O acompanhante pode ser orientado para realizar a higiene oral, desde que o utente esteja consciente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Este deve ser preparado para o procedimento correcto, inclusive o uso de EPI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O enfermeiro deve observar os primeiros procedimentos até certificar as condições de realização pelo acompanhante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Caso a higiene oral seja realizada pelo acompanhante, o enfermeiro não deve deixar de tomar conhecimento sobre os horários de realização, as condições da mucosa oral do utente, ressecamento dos lábios, sangramento e outro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67" name="Espaço Reservado para Rodapé 3"/>
          <p:cNvSpPr/>
          <p:nvPr/>
        </p:nvSpPr>
        <p:spPr>
          <a:xfrm>
            <a:off x="25909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Higiene oral do utente inconscient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Em pacientes inconscientes compete ao enfermeiro lavar-lhe os dentes,gengivas, bochechas, língua e lábios com o auxílio de uma espátula envolvida em gaze umedecida em solução dentifrícia ou solução de bicarbonato.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Após verificação, se necessário, aplicar um lubrificante nos lábios para prevenir rachaduras que facilitam a penetração de microrganismos, infecção e dificultam a alimentação.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70" name="Espaço Reservado para Rodapé 3"/>
          <p:cNvSpPr/>
          <p:nvPr/>
        </p:nvSpPr>
        <p:spPr>
          <a:xfrm>
            <a:off x="25909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Higiene oral do utent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456840" y="1143000"/>
            <a:ext cx="42670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Material necessário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Copo com água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Escova de dentes ou espátula montadacom algodão ou compressa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Pasta dentífrica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Cuvete ou copo descartável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Toalha de rosto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Vaselina (protecção dos lábios)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73" name="Espaço Reservado para Rodapé 3"/>
          <p:cNvSpPr/>
          <p:nvPr/>
        </p:nvSpPr>
        <p:spPr>
          <a:xfrm>
            <a:off x="25909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74" name="Picture 2" descr="http://inet.sitepac.pt/CopoAgua.jpg"/>
          <p:cNvPicPr/>
          <p:nvPr/>
        </p:nvPicPr>
        <p:blipFill>
          <a:blip r:embed="rId1"/>
          <a:stretch/>
        </p:blipFill>
        <p:spPr>
          <a:xfrm>
            <a:off x="4952880" y="1143000"/>
            <a:ext cx="1524240" cy="169560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4" descr="http://t3.gstatic.com/images?q=tbn:ANd9GcRN_eFqwe9sZ1_I3BGaqMd-eZzrNqAY1LUJ5YZTxn_HrICVfsHT"/>
          <p:cNvPicPr/>
          <p:nvPr/>
        </p:nvPicPr>
        <p:blipFill>
          <a:blip r:embed="rId2"/>
          <a:stretch/>
        </p:blipFill>
        <p:spPr>
          <a:xfrm>
            <a:off x="6400800" y="990720"/>
            <a:ext cx="2266920" cy="200952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6" descr="http://t1.gstatic.com/images?q=tbn:ANd9GcRW0guKNthBe69PH7klad4_YdrEswPI-62I0IowuzUKAvFAhKpNxg"/>
          <p:cNvPicPr/>
          <p:nvPr/>
        </p:nvPicPr>
        <p:blipFill>
          <a:blip r:embed="rId3"/>
          <a:stretch/>
        </p:blipFill>
        <p:spPr>
          <a:xfrm>
            <a:off x="4419720" y="3166920"/>
            <a:ext cx="2303280" cy="119556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8" descr="http://t1.gstatic.com/images?q=tbn:ANd9GcSiAqlaeJQDXk8ydGXEMlqqayuLphpHPy38CJmZJkP6feoVDrTiGw"/>
          <p:cNvPicPr/>
          <p:nvPr/>
        </p:nvPicPr>
        <p:blipFill>
          <a:blip r:embed="rId4"/>
          <a:stretch/>
        </p:blipFill>
        <p:spPr>
          <a:xfrm>
            <a:off x="6858000" y="297180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578" name="Picture 10" descr="http://t1.gstatic.com/images?q=tbn:ANd9GcRtJ9aOnzmhHSQKN8OmfxghurI9Ue5oGU7c7NZ5PT_waT50-3ds"/>
          <p:cNvPicPr/>
          <p:nvPr/>
        </p:nvPicPr>
        <p:blipFill>
          <a:blip r:embed="rId5"/>
          <a:stretch/>
        </p:blipFill>
        <p:spPr>
          <a:xfrm>
            <a:off x="4648320" y="4495680"/>
            <a:ext cx="1914480" cy="1914480"/>
          </a:xfrm>
          <a:prstGeom prst="rect">
            <a:avLst/>
          </a:prstGeom>
          <a:ln w="0">
            <a:noFill/>
          </a:ln>
        </p:spPr>
      </p:pic>
      <p:pic>
        <p:nvPicPr>
          <p:cNvPr id="579" name="Picture 12" descr="http://t0.gstatic.com/images?q=tbn:ANd9GcTKJR3TqixI-5y8xM1-ah2QjqBfoPcGX-CFDATAkJo5xjcal-sF8Q"/>
          <p:cNvPicPr/>
          <p:nvPr/>
        </p:nvPicPr>
        <p:blipFill>
          <a:blip r:embed="rId6"/>
          <a:stretch/>
        </p:blipFill>
        <p:spPr>
          <a:xfrm>
            <a:off x="7010280" y="4557600"/>
            <a:ext cx="1587600" cy="18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Higiene oral do utent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456840" y="1142640"/>
            <a:ext cx="83818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EPI necessário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Luvas de procedimento;</a:t>
            </a:r>
            <a:endParaRPr b="1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Máscara;</a:t>
            </a:r>
            <a:endParaRPr b="1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Óculos;</a:t>
            </a:r>
            <a:endParaRPr b="1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Avental plástico.</a:t>
            </a:r>
            <a:endParaRPr b="1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82" name="Espaço Reservado para Rodapé 3"/>
          <p:cNvSpPr/>
          <p:nvPr/>
        </p:nvSpPr>
        <p:spPr>
          <a:xfrm>
            <a:off x="25909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83" name="Picture 2" descr="http://t0.gstatic.com/images?q=tbn:ANd9GcSoPkok_6EJlMPolHU-uItp7uKewtuGhoPe44zcmDHbzzoFPhwk"/>
          <p:cNvPicPr/>
          <p:nvPr/>
        </p:nvPicPr>
        <p:blipFill>
          <a:blip r:embed="rId1"/>
          <a:stretch/>
        </p:blipFill>
        <p:spPr>
          <a:xfrm>
            <a:off x="4087800" y="2286000"/>
            <a:ext cx="4680000" cy="3505320"/>
          </a:xfrm>
          <a:prstGeom prst="rect">
            <a:avLst/>
          </a:prstGeom>
          <a:ln w="0">
            <a:noFill/>
          </a:ln>
        </p:spPr>
      </p:pic>
      <p:sp>
        <p:nvSpPr>
          <p:cNvPr id="584" name="CaixaDeTexto 6"/>
          <p:cNvSpPr/>
          <p:nvPr/>
        </p:nvSpPr>
        <p:spPr>
          <a:xfrm rot="20153400">
            <a:off x="651960" y="3507480"/>
            <a:ext cx="2819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O gorro também é importante para evitar salpicos no cabelo do trabalhado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0T13:33:16Z</dcterms:created>
  <dc:creator>Escolastica</dc:creator>
  <dc:description/>
  <dc:language>en-US</dc:language>
  <cp:lastModifiedBy>Hamido</cp:lastModifiedBy>
  <dcterms:modified xsi:type="dcterms:W3CDTF">2011-07-26T13:16:15Z</dcterms:modified>
  <cp:revision>12</cp:revision>
  <dc:subject/>
  <dc:title>Slide 1</dc:title>
</cp:coreProperties>
</file>