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3B03-E33E-4A97-AD6C-C7B9B280CC2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F28-238D-4EB3-B801-20BCD40A50B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E07-CC3F-4EBE-970D-E909EB73B30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5EE-14CF-4EE1-A58F-9A7267286CE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F5FD-10AE-47B3-90EC-07CD5B6BE81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A6F0-E476-4E94-BA24-9986A7127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FD4E-36AC-4281-A6B5-49D9A3E24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83C1-1832-42B5-8BFC-6846453C2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A0F1-7E07-441E-9B94-A871BC389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9E081-2123-49F0-A715-33081F58DF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1DBB-3978-474D-B72D-B9BB748A3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0F289-165C-4189-9F54-993B3B7DB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69FE6-512A-4C2E-8257-37A1A562CF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41C07-CCED-405F-94D4-5CD2BD58C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2A2A-664D-494A-B995-2842D9C4F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C9CC8-F667-4F41-B1E4-C3727D014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F6D9-3CBE-4044-8B07-E65ED9A17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00431-72CB-45D7-AF88-D0C65EFAA7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B57EF-647C-49BC-B6E0-1463E291E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B7DDE-D75A-4D5B-855F-BBE0FF049E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D20E0-1A6A-4786-B419-4034DE43BB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20B93-97B5-4790-9FA1-B7134251A7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BB2A-1E34-4771-8E24-9DA6513D3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E31E-AE4B-4779-8D00-03E4E46BD2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506C-4D2C-4B12-9EAD-A1C9BD59D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1277-3E93-4CA3-B16D-D5AADABFF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8B76-61FD-4230-B792-F980E4854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E025-DEDE-4242-AEFD-116357621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C96A-7B5B-4224-8452-1A72C907E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26B-D9AE-4A2D-8CA3-0BED2A5413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C2B-A39A-4218-AD85-CF604A6BF2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8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8284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ASPIRAÇÃO DE SECREÇÕES NAS VIAS RESPIRATÓRIAS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520" y="47242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ula 11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00400" y="1828440"/>
            <a:ext cx="541008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 retirada das secreções da traqueia precisa ser asséptica, atraumática e eficaz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spirar inicialmente a traqueostomia, seguindo a cavidade nasal e or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idea-lamp-257x300.jpg"/>
          <p:cNvPicPr/>
          <p:nvPr/>
        </p:nvPicPr>
        <p:blipFill>
          <a:blip r:embed="rId1"/>
          <a:stretch/>
        </p:blipFill>
        <p:spPr>
          <a:xfrm>
            <a:off x="479520" y="2057400"/>
            <a:ext cx="23493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3808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oxia e dispneia, pela remoção de oxigénio com as secre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 ansiedade e inquietação, podendo alterar o padrão respi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arritmias cardíacas </a:t>
            </a:r>
            <a:r>
              <a:rPr b="1" lang="pt-PT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resulta da hipoxia e do estimulo ao nervo vago (ramo traqueobronquic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umatismo da traqueia ou brônqu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angramento </a:t>
            </a:r>
            <a:r>
              <a:rPr b="1" lang="pt-PT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em pacientes que usam anticoagulantes ou com discrasia sanguíne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ões sistémicas  e pulmonares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is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abuleiro contend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PI: mascara cirúrgica, óculos, avental plástico, 2 pares de luvas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pirador fixo ou portáti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rasco colector e extensão de borrach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2 Sondas de aspiração com ou sem dispositivo para controlar a su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ering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rasco (250 ml) de soro fisiológico ou água destila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mbu conectado a fonte de oxigéni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oalha de ros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–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0000"/>
                </a:solidFill>
                <a:latin typeface="Arial"/>
              </a:rPr>
              <a:t>Preparação do Procedimento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mprimentar o utente e identifique-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s sinais e sintomas de obstrução das vias aéreas superiores e inferio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s sinais e sintomas associados a hipoxia: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apreensão, ansiedade, menor capacidade de concentração, letargia, ↓ consciência, fadiga, irritabilidade, palidez, cianose e dispne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corajar o paciente a tossir durante o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judar o paciente a assumir a posição de fowler ou semi-fowler, com a cabeça em hiperextens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o oxímetro de pulso no ded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a toalha sobre o tórax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avar as mã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parar material para aspiração de secreçõe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brir o kit de aspiração (usando técnica asséptica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embrulhar a cápsula/cuvete e colocar na cabeceira, enche-a de 100 ml de Soro fisiológ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ectar uma ponta do tubo ao aspirador e testar a funcionalidad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Ligar e acertar a pressão do aspirador: De parede (80 a 120 mmHg) e portátil (7 a 15 mmHg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Aspiração Orofarínge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Usar a máscara cirúrgica ou protector faci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Usar as luvas de procedimen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nda o cateter de aspiração ao tubo de conex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serir o cateter na boca do paciente, mover o cateter pelo interior da boca, incluindo a faringe e linha das gengivas até a completa limpeza de secreçõ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orajar o paciente a tossir e repetir a aspiração S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impar o cateter sugando o soro fisiológico da cuve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que o cateter num lugar limpo e desligar o aparelh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Aspiração Nasofaríngea e Nasotraque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umentar a quantidade de oxigénio em 100%, se não for  contra-indicado e encorajar a respiração profu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luvas estéreis em ambas mã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ectar o cateter ao tubo de conexão sem tocar nas áreas não estérei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o funcionamento do aspirador aspirando a solução na cuve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brir cerca de 6 a 8 cm do cateter com lubrificante hidrossolúve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mover o equipamento de oxigénio. </a:t>
            </a:r>
            <a:r>
              <a:rPr b="1" lang="pt-PT" sz="2300" spc="-1" strike="noStrike" u="sng">
                <a:solidFill>
                  <a:srgbClr val="ff0000"/>
                </a:solidFill>
                <a:uFillTx/>
                <a:latin typeface="Arial"/>
              </a:rPr>
              <a:t>Sem aplicar a aspiração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inserir delicadamente o cateter nas narin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faríngea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eguir o curso natural das narinas, inclinando delicadamente o cateter para baixo, avançando ate a parte posterior da faring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plicar a sucção intermitente por 10 a 15 segundos, colocando e retirando o polegar da mão dominante sobre o respiro do catete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tirar lentamente o cateter girando-o em vai-vem entre os dedos polegar e indicador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traqueal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eguir o curso natural das narinas, avançando o cateter ligeiramente inclinado para baixo um pouco acima da entrada da traque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eixe o paciente respirar e inserir rapidamente 16 a 20 cm na traqueia. O paciente vai começar a tossi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traqueal - Continuação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s posições opcionais para aspiração nasotraqueal: virar a cabeça do paciente para direita ajuda a aspirar o brônquio principal esquerdo. Virar para esquerda ajuda a aspirar o brônquio principal direit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plicar a sucção intermitente por 10 a 15 segundos, colocando e retirando o polegar da mão dominante sobre o respiro do cateter e lentamente retirando o cateter girando-o para frente e para trás entre o polegar e indicador dominant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Encorajar o paciente a tossi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colocar o dispositivo de oxigénio, se aplicável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xaguar o cateter e o tubo de conexão com soro fisiológico ou agua destila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a necessidade de repetir o procedimen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gistos de enfermagem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Data e hora da realização do procediment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aracterísticas das secreções: quantidade, consistência, cor e odor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Estado cardiopulmonar do paciente: Comparar os sinais vitais do paciente e saturação do oxigénio antes e depois da aspira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posta do paciente ao procedimento: facilidade de respirar e se a congestão diminuiu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2666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nceituar aspiração de secreções, descrevendo os objectivos da aplicação da técnic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conhecer a importância de aspiração de secreções no utent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Seleccionar os materiais e EPI necessário para diferentes tipos de aspiração de secreçõe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plicar a técnica de aspiração de secreções usando os diferentes método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n Arrow Callout 5"/>
          <p:cNvSpPr/>
          <p:nvPr/>
        </p:nvSpPr>
        <p:spPr>
          <a:xfrm>
            <a:off x="533520" y="1066680"/>
            <a:ext cx="8305560" cy="1600200"/>
          </a:xfrm>
          <a:prstGeom prst="downArrowCallout">
            <a:avLst>
              <a:gd name="adj1" fmla="val -21535"/>
              <a:gd name="adj2" fmla="val 24990"/>
              <a:gd name="adj3" fmla="val 25000"/>
              <a:gd name="adj4" fmla="val 6497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pós a discussão dest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 Bibliográ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Guião de Procedimentos Básicos de Enfermagem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Maputo – Moçambique, 2009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Potter &amp; Perry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Fundamentos de Enfermagem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, 6ª Edição, Mosby Elsevier Editora Lda. São Paulo - Brasil, 2005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KNOBEL, Elias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Condutas no Paciente Grave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Ed. Ateneu. São Paulo, 1994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KISNER, Carolyn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Exercícios Terapêuticos.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Fundamentos e Técnica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 Ed. Manole. São Paulo, 1996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LIPPERT, Lynn.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inesiologia Clínica para Fisioterapeutas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Ed. Revinter, Rio de Janeiro, 1996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</a:rPr>
              <a:t>http://www.wgate.com.br/conteudo/medicinaesaude/fisioterapia/respiratoria/pneumo_cristina/pneumo_cristina.ht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54380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de Secreçã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ceit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 o procedimento utilizado para retirar secreções do trato respiratório e ou cavidade oral através de sucção por cat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mportância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vitar a atelectas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umentar a capacidade residual funcio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cilitar as trocas gasos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elhorar o conforto respiratório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gistar as características das secre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ssegurar que as vias respiratórias estejam permeáve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de Secreçõ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Objectivo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anter as vias aéreas liv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secreções do trato respiratório ou boca sem traumatism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venir, tratar infecções respiratórias e vias aéreas sup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ipo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al e 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otraqueal e Orofaringe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ofaríengea e orofarínge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faríngea/Nasofaríng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dicação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não conseguem eliminar as secreções por deglutição ou expectoraçã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tra-indic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fazem anti-coagulan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distúrbios da coagulação, septicemia ou deformação nasofaringe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mplicaçõe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 infecção nos seios paranasais pode ser decorrente de obstrução da drenagem, assim como a possível aspiração de sangue pela traquei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 Nasal e Or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vias aéreas podem ser aspiradas a partir do nariz ou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Quando o cateter é inserido no nariz, bem profundamente nas vias aéreas superiores, que e a técnica mais comum, chamamos d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aspiração nasofaring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 o cateter e movimentado na direcção das vias aéreas inferiores, usa-se o termo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aspiração nasotraqueal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1.bp.blogspot.com/_l2b0D4VScwk/SfsRRjRtPAI/AAAAAAAAASM/nXMjUuOsUmA/s400/unesp+3.jpg"/>
          <p:cNvPicPr/>
          <p:nvPr/>
        </p:nvPicPr>
        <p:blipFill>
          <a:blip r:embed="rId1"/>
          <a:stretch/>
        </p:blipFill>
        <p:spPr>
          <a:xfrm>
            <a:off x="5753160" y="391464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portaldoprofessor.mec.gov.br/storage/discovirtual/galerias/imagem/0000001441/md.0000017419.gif"/>
          <p:cNvPicPr/>
          <p:nvPr/>
        </p:nvPicPr>
        <p:blipFill>
          <a:blip r:embed="rId2"/>
          <a:stretch/>
        </p:blipFill>
        <p:spPr>
          <a:xfrm>
            <a:off x="5715000" y="1171440"/>
            <a:ext cx="30700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iracao  Nasal e Or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426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 via aérea oral, usa-se cânula de Guedel/Mayo que mantém a língua posicionada para frente ao interior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o geral, a cânula de Guedel é usado em pacientes inconscientes que não podem proteger as próprias vias aére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ânula de Guedel evita a obstrução de uma via aérea superior ocasionada pelo relaxamento da língu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http://2.bp.blogspot.com/_F3rZOmQ5LLE/TNb0w8Nt_vI/AAAAAAAAAzs/EpOUikkjfPM/s1600/Tubo+Mayo.jpg"/>
          <p:cNvPicPr/>
          <p:nvPr/>
        </p:nvPicPr>
        <p:blipFill>
          <a:blip r:embed="rId1"/>
          <a:srcRect l="58755" t="13361" r="2499" b="19832"/>
          <a:stretch/>
        </p:blipFill>
        <p:spPr>
          <a:xfrm>
            <a:off x="6400800" y="3322800"/>
            <a:ext cx="2514600" cy="300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http://2.bp.blogspot.com/_F3rZOmQ5LLE/TNb0w8Nt_vI/AAAAAAAAAzs/EpOUikkjfPM/s1600/Tubo+Mayo.jpg"/>
          <p:cNvPicPr/>
          <p:nvPr/>
        </p:nvPicPr>
        <p:blipFill>
          <a:blip r:embed="rId2"/>
          <a:srcRect l="6253" t="25056" r="50003" b="28186"/>
          <a:stretch/>
        </p:blipFill>
        <p:spPr>
          <a:xfrm>
            <a:off x="6324480" y="1143000"/>
            <a:ext cx="2667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É a remoção de secreções da traqueia ou brônquios, por meio de uma sonda inserida através do nariz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onda é introduzida ate a traqueia pela cavidade oral, ou através da narina preferencial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timula o reflexo da tosse, ajuda manter a via respiratória desobstruída mantendo uma troca de oxigénio e dióxido de carbono, prevenindo a pneumon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nula de Guedel, facilita a aspiração orotraqueal do paciente inconsciente, tornando mais fácil o acesso da sonda  traqu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971800" y="9907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dic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apresentam secreções pulmonares e com a diminuição da capacidade de tossi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tubo endotraque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diminuição do estado de consciênc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obstrução das vias aére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em ventilação mecânic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ra remoção das secreções acumuladas na traquei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C106-17FD-4CBC-BA05-D337B4735812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1447920" y="228600"/>
            <a:ext cx="739116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http://3.bp.blogspot.com/_GqWLVBJXIaE/TCisV6WNXAI/AAAAAAAAAHA/QcujIhvWcfM/s1600/tot.jpg"/>
          <p:cNvPicPr/>
          <p:nvPr/>
        </p:nvPicPr>
        <p:blipFill>
          <a:blip r:embed="rId1"/>
          <a:stretch/>
        </p:blipFill>
        <p:spPr>
          <a:xfrm>
            <a:off x="3808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drscope.com/privados/pac/generales/radiologia/f5.jpg"/>
          <p:cNvPicPr/>
          <p:nvPr/>
        </p:nvPicPr>
        <p:blipFill>
          <a:blip r:embed="rId2"/>
          <a:stretch/>
        </p:blipFill>
        <p:spPr>
          <a:xfrm>
            <a:off x="358920" y="4152960"/>
            <a:ext cx="307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21T08:58:27Z</dcterms:modified>
  <cp:revision>817</cp:revision>
  <dc:subject/>
  <dc:title>ANATOMIA E FISIOLOGIA HUMANA</dc:title>
</cp:coreProperties>
</file>