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4AE1-1361-458B-BFAF-2EA08ABE8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4D2D-9644-4B67-8F04-1174AC886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FA03-35E7-48A9-B9B0-CFBC01CAE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802C-12FE-4CFA-94F6-01D7C0987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CAC4-3F4A-4A5C-A9E6-11EE0B787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395E-529B-42F8-9550-80F572C7C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7E23-2E7D-402E-B77F-F7A70421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2AF9-AF1F-4D52-8C92-66749FD07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BBE7-1673-4AF8-8867-46578CAEF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C15F-72F6-43F7-B966-E4387EEC3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7369-BBFC-41C0-BE96-6053D077D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D8FF-118A-4C61-B0F9-F4EEEB1CA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9592-5867-4A59-9A2A-2632077D87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FUNDAMENTOS DE ENFERMAG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 –MÓDULO 17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nsferência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MPETÊNCIAS   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transferênci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rever as indicações para transferência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 papel do enfermeiro no processo de transferênci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cuidados de enfermagem na transferência do paciente.</a:t>
            </a:r>
            <a:r>
              <a:rPr b="1" lang="pt-PT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368800" y="640080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transferência, consiste na alta de um paciente de uma unidade sanitária ou serviço e sua baixa em outra, sem que haja um período em casa entre essas duas operações. Pode ocorrer quando o estado de um paciente melhora ou agrava – se.</a:t>
            </a: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05040" y="632160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çõ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or indicação médica, para o paciente receber  cuidados de especialida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m situações de emergência com pacientes em estado grave, para receber cuidados intensiv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676520" y="6335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transferência, com relatório detalhado  sobre a situação clínica do paciente,  elaborado pelo médico ou outro técnico credenc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cumento de Identific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os necessári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3480" y="633564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ientações de enfermagem pra a transferência do pacient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238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garantir que o paciente e seus familiares estejam informados da necessidade de transferência o mais cedo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tempo permitir paciente e os seus familiares manifestarem certa preferência, estimular a família a investigar e a colaborarem em relação à instituição de sua preferência. </a:t>
            </a: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633564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r – se com a unidade sanitária ou serviço para onde o paciente será transfer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registo da transferência no processo de enfermagem ou no livro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 registo da transferência no processo de enfermagem ou no livro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um breve resumo por escrito da condição do paciente, do tratamento e dos cuidados de enfermagem realiz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os pertences do paciente, entrega a família se estiver presente, tratamento e dos cuidados de enfermagem realiz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os pertences do paciente, entregar a família se estiver presente ou envi os com 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xiliar o paciente a transferir para maca ou para cadeira de ro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locar a guia de transferência no envelope fechado e entrega  o enfermeiro que vai acompanhar  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43480" y="633564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ei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2316240"/>
          <a:ext cx="7924680" cy="9446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4"/>
          <p:cNvSpPr/>
          <p:nvPr/>
        </p:nvSpPr>
        <p:spPr>
          <a:xfrm>
            <a:off x="533520" y="1066680"/>
            <a:ext cx="82296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a transferência do paciente, os serviços financeiros para efeitos de pagamento de hospitalização, se for necess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outros serviços no sentido de concluírem as suas responsabilidades com o paciente ( serviço de cozinha, farmáci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os serviços de transporte para levarem o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Atenção: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 u="sng">
                <a:solidFill>
                  <a:srgbClr val="000000"/>
                </a:solidFill>
                <a:uFillTx/>
                <a:latin typeface="Arial"/>
              </a:rPr>
              <a:t>o paciente deve ir sempre acompanhado pelo enferm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42400" y="6335640"/>
            <a:ext cx="41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rie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0:31Z</dcterms:modified>
  <cp:revision>573</cp:revision>
  <dc:subject/>
  <dc:title>ANATOMIA E FISIOLOGIA HUMANA</dc:title>
</cp:coreProperties>
</file>