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20B-68A5-4724-A8C0-63E3E26435A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DA1-8C89-4BB9-9851-2D3C5DB33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370C-CE66-45A5-A9B0-4EFFB4073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9859-3E8D-4216-900D-D1BAAB3EBB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7EADF-DAF1-47E3-B7AD-7B2220581D1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F061F-69D2-4FA8-A51A-E439E580B3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8B9BE-2634-4D93-A8E1-726B67BA2B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61663-D391-4B6D-A982-679472E071A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0BDDF-5A90-4713-AA7B-6737F5D503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3F8D6-85C0-4569-8FEC-6E28E140EE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57E18-1A7C-4451-8409-5D78D7593B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C9FF9-DDBF-490C-8B51-732017E7DB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4DAD5-13CF-49C5-9A72-3AC4AD59C3A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DB83ED-F03B-49E8-B2A2-5E10DA2EE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2F13-0BE6-443C-A338-F6294E2A2CF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055AD-44DA-4984-89B7-909F5E1938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D3435-B476-47E8-8A3D-BDD8DF7167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CC1B6-9D3B-4AAB-B8FD-0B563CF455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1768C1-7DE9-4DC9-B79F-A3559ECF855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6F3BF3-EDAC-455E-BC0E-79CEF9A049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B2BBE1-5757-4DB3-884F-CCF48D20E5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49315-F7A8-45DA-AC76-0F4DA096A39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AA0C6D-9ABE-41DB-8866-74904D59B00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5C15DE-3F69-4251-8021-6777B1C7E6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69D0E-C952-44FB-90E1-AE248F12C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C9F2-CC6F-497B-AEEB-2547B903D4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5A7FD4-36C1-4376-AD44-513A20BE19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7DB43-803A-4212-AEBC-B36A61FE1C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740D-5A2F-467C-B9AC-16A906FB01E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9A1D-F37D-41C1-AA8F-26BE9E0D34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C951-69FE-4CED-8327-F1BB071CD6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019A-3D5C-4926-9833-E3CB978200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23E75-4353-4298-AF4D-7D8E51B6B0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DFCC5-5FBE-41D4-88AA-C26B9C647E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2C28-ACFB-48E5-8B7B-BAA8D3CC4E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FC00-E5E8-4717-9EF6-30622071C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65AD6-2F19-4FA4-919C-D06D5D2E8D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6729A-CE3D-45D5-B6E2-03471495352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0AE9-4EDC-4ECB-859A-CFCDE1D242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C5094-EA2F-4C02-8F0E-3C43082F8E6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13FDA-D986-4966-BDE3-2B7268504F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383BA-ABDF-4925-877A-E2E5EBCA7D4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A8F38-4786-4B75-B9E7-D1AAD90F69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FF574-03EF-45BC-BC49-43DEFA50056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63CF6B-43B5-4B65-802F-CD8CE98D89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824511-1572-41BD-9878-5FB328248A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7BD5B-C769-4AC0-9F8C-A77315F192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58BA-F054-485B-9581-3031B3EB09D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7CE7A-F91A-4A75-93A7-8E0882C3C7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21BAB-3F41-41EB-AA20-C515CBAE13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A15146-6EBF-47C6-85A5-A566DE245F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BE691-B343-45E9-B8F1-B491721A9CE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CC146-F6A1-4B0C-828D-BFAD248E0DE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34E77-EB7F-4ACB-9F06-FC6EF3D59A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C2502-80AA-4A08-A280-4053C4DF289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8C1B5-BFD2-40EE-84B2-DCF83230B59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3DAF5-EE11-4D49-8D57-276130A8E79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B82A3-00FB-447E-8336-44A0E82123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932A9-CEF7-4D89-AA52-A9097F45C5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70535-C54C-49EB-8144-2814D24CD2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42F23-EF14-4C69-883D-9A93ECD8B9E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4663D-DF9A-442D-B8A5-75AB0F77BAC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6D714-5477-4A23-B38B-8AE38B0654B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753E4-5745-457C-B594-0606405B0E6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6B514-E30C-4898-BD2A-055690D0B18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8071A-E0E2-403F-BA9D-4A0B84A68D4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0239C-E43C-4AB5-81B1-A553E83807F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6B0CA-2796-4DE4-9D53-E8B85C854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49032-A5D9-40F4-945B-8B8D9C6A779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12743-F99F-4F57-8964-DBEC363F254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AB10E-9446-43E2-BFDE-7592968818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90987-3B8F-49A9-B4FA-DA0E7F3E17D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25587-8D5D-4751-8D93-5406E9D67DA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AF676-35E2-4013-A956-5DE97806C89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614F8-1490-4210-B161-43ABD062D7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3FDA1-48AB-41D6-B8C9-46E8E704C40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F3CCC-A3E2-40D7-8DD5-3519F532562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782D2-52E4-424A-9B35-CC07E5BC64A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BB893-B6A3-47FC-A4CC-299A1CE8F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1D344-FE44-4C48-8486-397CE974480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2133E-CF50-448A-B343-4E2E87C8EC1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6B315-E49E-486E-9427-34731046F68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12559-42E8-4813-B9DE-A5C4B57E6E4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E9342-E495-4B76-A76D-D24316DBE13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EF3D7-EF17-4443-B390-272F140FB95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B2DC4-74E1-46C1-90B5-8EAA55ED4A1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55C14-5B05-4C67-959D-B1A8916F8B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E82A5-9893-47C7-B696-013C2BD0D25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74CA1-2F5D-4208-9DC4-DEC20D0E122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3CED0-46DE-4C1F-8A8C-980B5438B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FAEA9-1304-4E41-8624-44BFEF6BB81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25F2C-28A9-4071-9012-DB2A5B11F0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A1F46-C688-454C-8B6D-5D9DC3DE10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69617-948E-4A9D-A784-AFEE67C3D43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845FA3-7FC7-4AD5-8170-8CA1D5CD09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AA2520-1060-4FCB-8302-327888D5E40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BA2147-997D-42E8-BBF9-7E60235A9FE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D8CC27-9688-4F6D-90BE-10A2A1DEBF6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700174-B3CB-44E0-A4B4-A359AFBD61A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54F28B-86AD-4137-9042-005EFF4FF59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A83274-9D10-45D7-8B3C-CD1C0372F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185F-B906-423C-BBF6-864869DA2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3208B-41BE-4E43-83CB-80F26D83AFB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A7BAF8-FD10-4AE9-9EB9-7CB0F342560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4D7BC0-084B-46E8-8824-3BAB6A8282B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4E520-6971-4737-9A64-B760018B161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FE035C-A98B-412C-8211-220D28620C1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23B97C-4180-4104-9A34-7914CBAF086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17556-8187-48C9-8C39-0C2FAA13EBA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6861F-67C6-4953-AD82-48E8960F301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F92C3-53EC-47CB-A84B-29646B331CF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573AC-B011-4717-809F-70426A4749A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36BD4-5CBA-42E4-AAA9-D5EC4CE094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1132A-6935-4D8A-AF04-BD43CC9AA2A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E6481-82E5-48F2-8329-AF8E3FAF6D6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B28F7-F271-4C62-B16E-673D143B566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2222D-3B4F-45DA-B835-8984731D69B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EA8F9-C4D9-4CAB-870E-E11FC3F1DE2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64EFA-4990-4C81-AC2F-C78CFE40E2C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B79F6-48FB-473E-BC46-17A44F7DB40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4E59D-2552-4546-ACE2-D7453851199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AB7BE-B485-419E-AD78-2F34DD708B3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1D477-1985-44E2-B5BC-4B1A03BD868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D774C-B8BB-4C30-A74C-EF714CC990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37BA4-6019-434D-BDF0-1F8704164EB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AAA56-2CAB-4857-9E0E-E2982C870F8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2F229-C20E-4986-9EB5-59CB19685CD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1F6C-D6ED-47F4-995F-BD37441A16F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7F2CB-BBFD-4772-98EE-0029412C1AE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3A800-3B5C-4872-AB28-5DAD27233E3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BE89D-CEEB-4BD8-AE93-7BABEA1AAFD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05656-73AF-4C72-B51D-36A811D532C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20A52-ECBA-47E2-BF50-704F5A82222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58BAD-EB09-4979-A83C-30F36F496AA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4B3E30-37DA-4E74-8E3D-69E246FF48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5578B-A1BE-4452-919A-00A28F0CEB7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AF0FB7-04AF-4B0E-8215-68FA1517CB2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D26F07-FF90-4DEB-80BC-6B78B53CEF3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F42F01-EBE8-40DD-BD9C-26F99F820AD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4C1AF2-274D-4BBC-901F-063EA4C45D4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BC8E7-089B-4F18-93DC-E395876D06D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F21275-62A6-4111-B91D-A37AB7355C8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BAC9E5-610A-42F5-B9F8-FC2F20A1EC4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B7594B-E494-4F9F-B42C-C84F9959029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4FEE1-8418-4031-BA8F-8645BBFC583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183783-0F8A-4910-A7AE-25E0F023C8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A30B-6B78-4E88-99B7-587F72AAC26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FC63B5-0AF7-4D4B-848E-6AF6A1181C8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773856-B406-4053-A4CB-13EB708E75A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AF61F9-9AAB-4E35-9E98-314FC5975EC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EE5D31-7E45-4125-B1C8-5C136B07714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CDA312-CAFA-47F5-B29A-21ABF0F0BEC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71F0E5-B4C8-4DA5-861E-EC66B948750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0BE182-9CB5-4463-B4E6-9E00E4480D6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7AB48C-E797-4AE1-9348-6A57DA357D5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67B1C1-C2C9-41E4-BD18-CDBED7AE6D4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337770-4012-46A1-97D6-FCBEF43F75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75F747-9434-4544-B63C-3E4727487F1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C12BC5-F4C9-4059-8583-F958978E9FC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8C7D6D-C1CC-4DD7-8A09-F321E60780B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5F21C-3F26-4FDC-B6C3-2B0541E6AD1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9E6B8-396A-414D-AB87-31249215CA9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D9192-D9F7-497E-B66A-5DE8BE76E59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90553-B7ED-4F3D-AF13-65CF8A707E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3DC30-04FA-42FB-A06E-575746C012A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377C5-8E95-4EC5-AB61-62D3DF3EAFD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41942-3185-4670-A335-ECBAD14AD8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B3944-A8A3-40FE-8AF5-0BF1F4BE66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3CD74-F91B-4424-8227-63C6FF5BEE7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D6EE1-C874-49D1-906D-C94F64D6DF9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751A5-E315-40FB-B125-4736BBCD5E8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BB9C6-99AF-4C12-8F8F-6AB7B3A9C3A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A15E02-F6BE-4B7D-9184-DEEB97AE6A8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CA8105-1D82-4714-A3B3-DD9EB8FC107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0B5A10-FE0A-4A58-AA72-5E990484151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5C63A5-C3B9-40E1-A756-47C8CAD03F9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82CDE7-230A-48CF-9DA6-CAC404CDA9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E005C8-14E4-4F36-9D7B-B3AABEE86E7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82C8B4-8C51-484C-A5BF-16D1935E1D5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742447-30FB-4653-BFDC-2EDA2CE3FB5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396634-5F65-43A7-8C7B-AD67E8B3D20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075CD6-EFD0-4481-8FEE-94494083F8C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142B62-5350-45B4-8B8A-BD545CB7855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96A0E2-0BCD-4E27-AA70-3AE9CC92154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61D3D4-424F-40D1-8BF5-2576F436AF1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80B72F-2CEE-4D64-9FCA-A10FE0D6130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725E3C-C0DB-4F5F-B22B-506725C30A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AC45E3-0E3A-4F1A-8A08-51E8D9243F4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BD2F52-CE92-48E0-90A8-6AAE0B3BFCF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EC2009-D4DF-4D37-80CA-ED63D87217A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B328D2-3DBD-4EFA-A171-F5EF6FDE662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55CCCE-725E-4B2A-8E9A-8B1DBA66F8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6EE0F0-8B6B-4C9D-9068-835A6706C34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B27FC0-2DDA-445D-BA23-35EEFF99B7C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58133F-8446-427E-AAA8-44DD4318B30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EAE185-3283-44DD-A545-B4465260FD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DF69-4020-4B2A-B2B4-5BA99B42DA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EFF0F-1DA1-4754-8421-A1D0D8C712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80848-DD39-434E-9075-737CD98C6D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9EF78-4A9D-408F-86DA-BC137013F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9D53-EFEE-4FC6-8C9F-49CBB10EDF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7C081-5F8D-40CC-8F0E-D8F1823CC7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F4689-3DC5-47ED-89ED-44F4D301C5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6D501-D604-4218-AB73-D2B2C2DC70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1E5CE-62DE-428C-A297-0C1A348484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45412-0369-4DF8-86B1-BC05F480C0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CE1A10-EC2A-4576-A25D-DD793CAF28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42513-897C-4FC2-B32A-5B0B3A81EB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B0675-C946-433D-AF18-62D7105B4A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702E8-316A-46E1-8A70-34EF7B77DB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4CE1-F383-455D-97B1-E41FDA2D6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844B-CF5A-436E-9B36-4C36658488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725C-B0C7-405B-BB4E-FEBDAE3A07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3401-1178-4839-BDAA-50EE2DB9A7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5C4C-A7A3-4B05-B11B-5DF1BE6870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8F93-F7C1-40CB-9FEC-D315339D31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9F22-0F52-47F7-8C83-6D7C901914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28DF-36BF-4046-B176-13C3414A32C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81D5-C915-4FE8-B83A-313E5BFCA0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57EF-2345-4498-91C9-3C0A563B4B4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C43F-2C51-461E-89EF-D6C071E010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4056-0F76-4AEB-97B6-EB33DB40C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CDEA-87F1-4C2C-BC7F-C9A2E68BD0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1E93-6FBF-41BD-8B88-1046F58A652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2D04C-C962-4190-8BA5-6ABFD6EDA9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FE93A-226A-4312-A906-C5FD4984AA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95692-8E09-475E-AFAB-0AF158CB73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C3F14-5870-4F66-8461-7A9563BD8E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28B8F-27DC-4D09-805B-42008D6FBB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15611-D1CE-4897-B6C5-A132EB4F3A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37ED0-1965-4CBD-806A-BF2427B7629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2159C-B8D2-44D4-94F9-4C873DB6E3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FECC6-3B02-4E28-960B-F35AB41E4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02FB-6515-4F30-9300-7AA7E332C7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B3383-008F-425F-8114-62D84DAEF6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EE2B7-728C-4EE4-BB8E-B0F6E331B4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BF9CD-5E76-4581-9915-62491C3651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EBAAD-0462-409C-A015-6A67C08E2C1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FCC600-FCC5-4EE9-B28A-6C4E92F19A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FB8DF-480E-4A8F-9758-42E4BA5A91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3961A-423D-414D-B5C0-9FF212C6F7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BB673A-BE2F-4AF4-830B-3BC2ECD56A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0B225-0033-4754-89A4-2E65BAE70D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E5373E-119E-49B4-A5C8-190D50612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B480-87FC-4559-9397-8F22D60644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2F9E8-0BB5-452A-AC86-6AAC765822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34C58-BF67-41F8-A055-E82A24A6DF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5C39F-1FB5-4927-BFC7-D0D63A787C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1D4D88-CCF6-41C7-8870-36D411B458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18AA0-A6BE-4649-943A-2B1164AD76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549C-1909-4A6F-8665-4F30E44A23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675D-C8A8-4D74-AB58-CCEBFAF090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A8866-C80D-4134-B19E-9E2981267B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5673-BB69-455D-890C-9877AA90BE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8B58-DE1A-4FE5-B2B1-3C8C5302E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60EC-1483-4092-AE9B-575A257AC6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86F20-3CCE-4A66-82B3-757265887C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9CFC-F99A-456D-AFEF-BAAA758D46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62A7-42DD-4888-A6BC-A1079FEA73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7B7E-EEAF-4D3A-AEBC-47B27E7052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41D5-2363-4D95-948D-28F36DD5B1E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DD0C5-B003-4814-9834-309BE4C400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96C8-6E68-41C7-AE5E-F2197B0BF6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8F3B4-0FE4-4E9A-8D10-E4410C280F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5F669-8C8F-425B-BC22-462AD0A0AC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965AC-2CAE-48C7-8BC6-77387DD9B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23FD-D154-4271-837F-4689C0AFE6A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A21-8B03-44A2-BC58-9E115AC90D8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5184-D11B-451B-92B1-0610F538D70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2BEB-2DFB-47A9-A16A-1A46236AA69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9F56-CE82-4677-93EB-EB7A2FCE8C8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7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28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F1C0-B436-4123-9C26-7093F246C10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9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4B79-090F-405A-9854-79967679E89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ftr" idx="3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sldNum" idx="3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EDEC-DB11-4F5C-AEB2-CF0D2DFAC53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4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DE90-2C1A-4FF2-8161-2660EBDE81C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3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3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EFD8-2ED5-421D-9FCB-68E2CF06A8A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A47A-1DBF-4E52-9FD2-9C7132C2187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37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38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AF6-5DC7-4BFD-B4F2-082875DC906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9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40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45E-CD69-4CCB-93C5-3D7A3765D27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4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4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732D-3C88-4B83-8C98-9D8C572FC5A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4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4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D18-3C64-4013-BF6B-2617925FE63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4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4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0D19-72D5-4CA4-9CB8-5D92F4C28C5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448C-C073-476A-8A47-DC0C0D4636F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6D0-2CD2-42EC-A764-5DDA3A15F83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0D06-0D2A-4077-84BE-08A614163F0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86CB-3CFD-4A62-AF51-6CF95C5A817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D25-E98E-4A03-AF91-F6EBFABD403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E624-4729-4F41-A354-018C6B5C426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067"/>
          <p:cNvSpPr/>
          <p:nvPr/>
        </p:nvSpPr>
        <p:spPr>
          <a:xfrm>
            <a:off x="1116000" y="2133720"/>
            <a:ext cx="741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PREVENÇÃO DE ÚLCERAS POR PRESSÃO: MEDIDAS DE PREVENÇÃO, ORIENTAÇÕES AOS UTENTES E FAMILIARES, EPI E REGISTOS DE ENFERM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65"/>
          <p:cNvSpPr/>
          <p:nvPr/>
        </p:nvSpPr>
        <p:spPr>
          <a:xfrm>
            <a:off x="533520" y="472428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228600" y="1295280"/>
          <a:ext cx="8763120" cy="5351760"/>
        </p:xfrm>
        <a:graphic>
          <a:graphicData uri="http://schemas.openxmlformats.org/drawingml/2006/table">
            <a:tbl>
              <a:tblPr/>
              <a:tblGrid>
                <a:gridCol w="1407960"/>
                <a:gridCol w="2478240"/>
                <a:gridCol w="2666880"/>
                <a:gridCol w="221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o de u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em o leito da ferida húmido e acelera o processo de granulaç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ões abertas não infectadas e profilaxia de úlceras por pr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licar utilizando uma compressa embebida. Trocar a cada 12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me transpa-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ém o leito da ferida húmido e apresenta permeabilidade seletiv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ertura de incisões cirúrgicas; prevenção de úlceras por pressão e fixação de catéter vascu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em média a cada sete dias ou quando s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droco-ló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reira protetora, isolamento térmico, meio húmido, promove desbridamento autolítico, granulação e epite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idas limpas, prevenção de úlcera por pressão,</a:t>
                      </a:r>
                      <a:br>
                        <a:rPr sz="1800"/>
                      </a:b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imadura de segundo grau, suturas cirúrgicas e feridas cavitár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com a saturação do produto em média no 5º ou 6º 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22860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esões da pele devido a fricção e força de cisalhamento (arrastão) devem ser minimizadas através do posicionamento adequado para transferência e mudança de decúbi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menda-se que os utentes não sejam "arrastados" durante a movimentação, mas que sejam "erguidos" utilizando-se o lençol móvel 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2" descr="http://3.bp.blogspot.com/_ovvF2ZTWNI8/S6ZQk1U3khI/AAAAAAAAAN0/pFGwh9uZXsQ/s320/tracado+para+mudar+de+decubito.jpg"/>
          <p:cNvPicPr/>
          <p:nvPr/>
        </p:nvPicPr>
        <p:blipFill>
          <a:blip r:embed="rId1"/>
          <a:stretch/>
        </p:blipFill>
        <p:spPr>
          <a:xfrm>
            <a:off x="4842000" y="1828800"/>
            <a:ext cx="4157640" cy="373392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80880" y="1523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minuir os fatores ambientais que levam ao ressecamento da pele, como a exposição ao frio, pois leva ao ressecamento e descamação. A pele deve ser hidratada com crem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vitar massagens nas proeminências ósseas. Acreditava-se que a massagem em regiões com hiperemia auxiliavam a melhorar o fluxo sanguíneo. As evidências atuais sugerem que massagem pode causar mais danos 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456840" y="15998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nitorar as condições predisponentes controlávei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nutrição ou obes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o de esterói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nsão na fer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ível glicêmico em utentes diabé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ível tensional em utentes hiperten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indivíduos aparentemente bem nutridos desenvolvem uma ingestão inadequada de proteínas ou calorias, os profissionais devem tentar descobrir os fatores que estão comprometendo a ingestão e então oferecer uma ajuda na alimentação. Às vezes outros suplementos nutricionais podem ser necessários. 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a ingestão dietética continuar inadequada, intervenções nutricionais como alimentação parenteral ou enteral devem ser consider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indivíduos comprometidos nutricionalmente um plano de suplementação nutricional deve ser implemen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45684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colchões para o alívio d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0" name="Espaço Reservado para Rodapé 3"/>
          <p:cNvSpPr/>
          <p:nvPr/>
        </p:nvSpPr>
        <p:spPr>
          <a:xfrm>
            <a:off x="2514600" y="62485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AutoShape 4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6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8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12" descr="http://www.fisiomed.com.br/images/product/938_g.jpg"/>
          <p:cNvPicPr/>
          <p:nvPr/>
        </p:nvPicPr>
        <p:blipFill>
          <a:blip r:embed="rId1"/>
          <a:stretch/>
        </p:blipFill>
        <p:spPr>
          <a:xfrm>
            <a:off x="5791320" y="1752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4" descr="http://www.souzalins.com.br/images/colchao%20D%20agua.jpg"/>
          <p:cNvPicPr/>
          <p:nvPr/>
        </p:nvPicPr>
        <p:blipFill>
          <a:blip r:embed="rId2"/>
          <a:stretch/>
        </p:blipFill>
        <p:spPr>
          <a:xfrm>
            <a:off x="5257800" y="3886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057" name="AutoShape 16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18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20" descr="http://www.lenilson.com.br/wp-content/uploads/2010/10/casca.jpg"/>
          <p:cNvPicPr/>
          <p:nvPr/>
        </p:nvPicPr>
        <p:blipFill>
          <a:blip r:embed="rId3"/>
          <a:stretch/>
        </p:blipFill>
        <p:spPr>
          <a:xfrm>
            <a:off x="380880" y="205740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1060" name="CaixaDeTexto 16"/>
          <p:cNvSpPr/>
          <p:nvPr/>
        </p:nvSpPr>
        <p:spPr>
          <a:xfrm>
            <a:off x="68580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caixa de 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CaixaDeTexto 18"/>
          <p:cNvSpPr/>
          <p:nvPr/>
        </p:nvSpPr>
        <p:spPr>
          <a:xfrm>
            <a:off x="5334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d’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CaixaDeTexto 19"/>
          <p:cNvSpPr/>
          <p:nvPr/>
        </p:nvSpPr>
        <p:spPr>
          <a:xfrm>
            <a:off x="55627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infl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456840" y="11430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almofadas anti-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http://2.bp.blogspot.com/_HopVoRhiIBk/SoXx-AUq5cI/AAAAAAAAAL0/Z2_SGPUKFPs/s320/zz+almofadas+AE.jpg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68648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456840" y="11426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o de protector para o calcanhar e cotovelos. Podem ser improvisados com luva de procedimento cheia de água ou uma almofada feita com algodão e compres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http://4.bp.blogspot.com/_HopVoRhiIBk/SoX0km0aGEI/AAAAAAAAAMM/7qws1Il7pKk/s320/zz+calcanheiras.bmp"/>
          <p:cNvPicPr/>
          <p:nvPr/>
        </p:nvPicPr>
        <p:blipFill>
          <a:blip r:embed="rId1"/>
          <a:stretch/>
        </p:blipFill>
        <p:spPr>
          <a:xfrm>
            <a:off x="762120" y="2895480"/>
            <a:ext cx="3446280" cy="34290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AutoShape 4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8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10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2" descr="http://www.fisiostore.com.br/images/product/SALV-09402_298.jpg"/>
          <p:cNvPicPr/>
          <p:nvPr/>
        </p:nvPicPr>
        <p:blipFill>
          <a:blip r:embed="rId2"/>
          <a:stretch/>
        </p:blipFill>
        <p:spPr>
          <a:xfrm>
            <a:off x="4896000" y="28195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684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do serviço que admite utente com risco para formação de úlcera por pressão deve ter um programa de educação do utente, acompanhante e familiar  voltado para prevenção deste agrav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É bem mais fácil prevenir do que tratar a úlcera por pressão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Quando há o envolvimento de todos a prevenção é mais eficaz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bservar diariamente a pele do utente para detectar possíveis áreas comprometidas (áreas de coloração esbranquiçada, manchas roxas ou bolhas) e comunicar a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das no início, o problema é resolvido eliminando-se a pressão exercida na pele provocada pelo peso do corpo ao nível da saliência óssea; 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dratar a pele com creme hidratante: região glútea, face posterior das coxas, pés e artelh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vitar massagens nas áreas comprometidas ou com sinais iniciais de úlcera, pois vai causar mais danos que benefícios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0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28400" y="10000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Úlcera por pressão é uma lesão localizada na pele ou tecidos subjacentes, normalmente sobre uma proeminência óssea, secundárias a um aumento de pressão externa, ou pressão em combinação com cisalhamento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A pressão sobre a proeminência óssea prejudica a circulação sanguínea favorecendo a morte celular e o conseqüente aparecimento da úlcera</a:t>
            </a: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2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protetores nas áreas de maior risco (proeminências ósse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joelhos devem ser mantidos afastados de contato direto um com o out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calcanhares também devem ser protegidos com almofadas. Essas almofadas são necessárias não somente na fase preventiva como também no tratamento das escaras já existentes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colchão anti-úlcera que apóiam o corpo de forma suave e uniforme, sem causar pressão excessiva nas áreas mais vulneráveis.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3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deitado, o utente deve mudar de posição a, pelo menos, cada duas horas, sendo conveniente registar o horário para evitar esquec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utores preconizam mudanças de decúbitos de 4 em 4 horas desde que o utente seja mantido em colchão anti-úlcera e haja observação cuidadosa da pele para identificar alterações precoc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omenda-se evitar o lado que esteja com áreas comprometidas, ou seja, se o utente tiver uma mancha roxa na região coxofemoral direita, não deve permanecer em decúbito lateral direito; 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6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 txBox="1"/>
          <p:nvPr/>
        </p:nvSpPr>
        <p:spPr>
          <a:xfrm>
            <a:off x="456840" y="175248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sentado em cadeira de rodas ou poltrona o utente deve usar almofadas para aliviar 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nter o utente fora do leito sempre que possí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nter a cama sempre limpa com os lençóis bem esticados, sem dob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vitar cruzar os membros do utente para não obstruir o fluxo sanguíneo desses seg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rcitar o utente, fazendo movimentos passivos nas articulações das mãos, braços, pés e pern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arrastar o utente na cama ou cad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utente deve ingerir em torno de dois litros de líquidos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limentação deve ser diversificada (colorida), cinco a seis vêzes ao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possível proporcionar banho de sol nas primeiras horas da manhã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bater o cigarro, caso o utente fum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var as mãos com água e sabão ou fricção com álcool glicerinado antes e depois de realizar qualquer cuidado com 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533160" y="19047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m geral, o enfermeiro irá precisar de luvas de procedimento e máscar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os casos em que o utente represente risco de contato com secreções, cabe ao enfermeiro o bom senso e adotar outros EPI como  óculos, avental de plástico e barre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ferecer EPI ao acompanhante ou familiar que participe do cuid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1447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PI necessários durante os cuidados de prevenção de úlcer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medidas de prevenção de úlceras por pressão realizadas devem ser registadas no processo do ut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ucação ou orientação do utente, acompanhante ou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speção de pele com enfoque nas proeminências ósseas e descrição da condição encont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dança de decúb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giene e hidratação d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licação de almofadas de alív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gestão hídrica di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dução do tabagismo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Pessoas com sensibilidade diminuída, imobilidade prolongada, ou acamadas com idade avançada são mais susceptíveis para aquisição de úlceras por pressão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 u="sng">
                <a:solidFill>
                  <a:srgbClr val="ff0000"/>
                </a:solidFill>
                <a:uFillTx/>
                <a:latin typeface="Verdana"/>
              </a:rPr>
              <a:t>Locais de maior risco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Os locais de maior risco das úlceras são: </a:t>
            </a: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as regiões mentoniana, occipital, escapular, cotovelo, sacral, ísqueo, trocanter, crista ilíaca, joelho, maléolo e calcâ</a:t>
            </a: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ne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Os seguintes fatores aumentam o risco de desenvolver 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Pessoas com perda da sensibilidade (lesado medular)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doso incapacitad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Pessoa incapaz ou com dificuldade de mobilidade do corp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Doenças degenerativ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Tolerância tecidual reduzida (pele frágil)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continência urinária ou intesti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Desnutrição ou obesidade Em suas diretrizes internacionais de pr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 escala de Braden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Percepção Sensorial - capacidade de responder de forma significativa a um desconforto relacionado com pressão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Humidade - grau em que a pele é exposta à umidade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Actividade - grau de actividade física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Mobilidade - capacidade de mudar e controlar a posição do corpo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Nutrição - padrão habitual de consumo de alimentos 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Fricção e Cisalhamento - quantidade de assistência necessária para se mover, grau de deslizamento em camas ou cadeiras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: Pele intacta com hiperemia de uma área localizada que não embranquec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I:Perda parcial da espessura dérmic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II:Perda de tecido em sua espessura tota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V:Perda total de tecido com exposição óssea, de músculo ou tendã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4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ele deve ser limpa no momento que sujar para minimizar a exposição da pele à humidade devido a incontinência urinária, fecal, perspiração ou drenagem de fer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essas fontes de humidade não podem ser controladas, usar fraldas descartáveis ou forros feitos de materiais que absorvam a humidade e que mantenham seca a superfície em contato com a pele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gentes tópicos que agem como barreira para humidade como cremes, películas protetoras ou óleos também podem ser usados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freqüência de limpeza da pele deve ser individualizada de acordo com a necessidade do utente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7" name="Espaço Reservado para Rodapé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45684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anos causados pela fricção também podem ser reduzidos pelo uso de lubrificantes (como cremes e óleos), películas protetoras (como curativos transparentes e selantes para a pele ) e curativos protetores (como hidrocolóides extra-fin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1" name="Picture 2" descr="http://t2.gstatic.com/images?q=tbn:ANd9GcRY49AjP2cvklzwgYvglqWjtUVss-wppfAEU1AhasHJs9FLeiv01Q"/>
          <p:cNvPicPr/>
          <p:nvPr/>
        </p:nvPicPr>
        <p:blipFill>
          <a:blip r:embed="rId1"/>
          <a:stretch/>
        </p:blipFill>
        <p:spPr>
          <a:xfrm>
            <a:off x="457200" y="328608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022" name="CaixaDeTexto 7"/>
          <p:cNvSpPr/>
          <p:nvPr/>
        </p:nvSpPr>
        <p:spPr>
          <a:xfrm>
            <a:off x="457200" y="54100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mes e óleos a base de Ácido Graxo Essencial (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4" descr="http://t0.gstatic.com/images?q=tbn:ANd9GcRhVZqJKN8X396VusR3SML0_RwSr8-1hUFys4wXTRM5ayGyjeiP"/>
          <p:cNvPicPr/>
          <p:nvPr/>
        </p:nvPicPr>
        <p:blipFill>
          <a:blip r:embed="rId2"/>
          <a:stretch/>
        </p:blipFill>
        <p:spPr>
          <a:xfrm>
            <a:off x="320040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24" name="CaixaDeTexto 9"/>
          <p:cNvSpPr/>
          <p:nvPr/>
        </p:nvSpPr>
        <p:spPr>
          <a:xfrm>
            <a:off x="3276720" y="5638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ilm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CaixaDeTexto 10"/>
          <p:cNvSpPr/>
          <p:nvPr/>
        </p:nvSpPr>
        <p:spPr>
          <a:xfrm>
            <a:off x="6477120" y="5257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idrocoló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6" descr="http://www.lojadocurativo.com.br/produtos/foto1/pequena/797.jpg"/>
          <p:cNvPicPr/>
          <p:nvPr/>
        </p:nvPicPr>
        <p:blipFill>
          <a:blip r:embed="rId3"/>
          <a:stretch/>
        </p:blipFill>
        <p:spPr>
          <a:xfrm>
            <a:off x="6324480" y="3276720"/>
            <a:ext cx="19306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457200" y="11426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Utente em uso de filme transparente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2" descr="http://www.proac.uff.br/esai2/sites/default/files/enfermagem_5.jpg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444840"/>
          </a:xfrm>
          <a:prstGeom prst="rect">
            <a:avLst/>
          </a:prstGeom>
          <a:ln w="0">
            <a:noFill/>
          </a:ln>
        </p:spPr>
      </p:pic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1" name="Picture 4" descr="http://www.proac.uff.br/esai2/sites/default/files/enfermagem_6.jpg"/>
          <p:cNvPicPr/>
          <p:nvPr/>
        </p:nvPicPr>
        <p:blipFill>
          <a:blip r:embed="rId2"/>
          <a:stretch/>
        </p:blipFill>
        <p:spPr>
          <a:xfrm>
            <a:off x="4495680" y="2971800"/>
            <a:ext cx="4484880" cy="2895480"/>
          </a:xfrm>
          <a:prstGeom prst="rect">
            <a:avLst/>
          </a:prstGeom>
          <a:ln w="0">
            <a:noFill/>
          </a:ln>
        </p:spPr>
      </p:pic>
      <p:sp>
        <p:nvSpPr>
          <p:cNvPr id="1032" name="Espaço Reservado para Conteúdo 2"/>
          <p:cNvSpPr/>
          <p:nvPr/>
        </p:nvSpPr>
        <p:spPr>
          <a:xfrm>
            <a:off x="4876920" y="22096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  <a:ea typeface="Arial"/>
              </a:rPr>
              <a:t>Utente em uso de hidrocoló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7:43:01Z</dcterms:created>
  <dc:creator>Escolastica</dc:creator>
  <dc:description/>
  <dc:language>en-US</dc:language>
  <cp:lastModifiedBy>INSTRUMENTACAO</cp:lastModifiedBy>
  <dcterms:modified xsi:type="dcterms:W3CDTF">2019-07-17T13:09:23Z</dcterms:modified>
  <cp:revision>9</cp:revision>
  <dc:subject/>
  <dc:title>Slide 1</dc:title>
</cp:coreProperties>
</file>