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10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EF18BA-14D7-4BF7-A665-0A77376980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40C889-37B6-48EA-B0C9-F7D111B3FC1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9A396E-3841-461A-A4D8-376EB162A65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CF94-6423-4B83-8BC5-452EC1FC6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E4A3-F827-4392-A693-75C56A665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ABC1-7049-494D-846E-8483C88AD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1CB2-EEA3-49C2-8416-B5705108B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ADFF-453C-4919-BFEB-9DB98D15A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3C9D-F06B-4AE4-9A5F-B9FA1C44B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D50B-EB9E-465F-9453-C53DCA8E3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6C59-9CCB-489B-A583-743D5B1AB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74AE-0137-454C-A0FF-4F34CDC01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101B-520B-4DD9-B6A9-02A49C03B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56A8-372B-426E-8500-605FF23DC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CA25-A494-4B40-9272-87DA61A91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9921-03BE-4B88-B84D-774C249A6E31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16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pidemiologia d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920" y="4581000"/>
            <a:ext cx="777744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primeiro Seminário Nacional de Saúde Mental ocorreu no país, dias 15 e 16 de outubro de1984, já no período pós-independênc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rticiparam representantes de instituições da saúde e ONG que operavam no país na área psicossocial, identificando os seguintes problemas na área da saúde mental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entralização das estrutur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ificuldades na planificação de ações de enfrentamento pela ausência de dados sobre prevalência dos transtornos mentais no paí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5BE5-AA1C-48AA-8AC8-B7E3F060674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000" y="162828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ência de recursos humanos, materiais e financ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sência de sensibilidade para a saúde mental, por parte do pessoal de saúde e comun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dos quadros técnicos, na sua maioria, cooperantes estrang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sência de colaboração multisectori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67D8-4F12-4A4B-8953-AC1ED2A339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aquele seminário foram também feitas recomendações, com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ceder à criação de uma estrutura que organizasse, dinamizasse, coordenasse e supervisionasse as acções em saúde mental em âmbito nac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apacitar na área da saúde mental, os diferentes quadros a operar na saúde, e/ou ainda em form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mover a investigação epidemiológica em saúde mental; 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dequar a legislação à realidade sócio-cultural de Moçambiqu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BBD6-3D1B-4280-905A-782BCEC4E55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rograma Nacional de Saúde Mental de Moçambique (PNSM) foi aprovado em 1990, no XVI Conselho Coordenador do MISA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stratégia aprovada no Conselho salientava a necessidade de integração da saúde mental com os cuidados de saúde em geral e enfatizava a importância da promoção e da prevenção, da humanização dos cuidados, do treino formal e contínuo de profissionais de saúde mental, da investigação, da colaboração intersectorial, da implementação de legislação e da supervisão e avaliação dos processos inici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A11C-C11A-46B8-AE65-2F314B6A43E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560" y="981000"/>
            <a:ext cx="505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seu lançamento, o PNSM contava com 1 psiquiatra nacional e 4 infra-estruturas, ainda datadas do período colonial e em condições muito precár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. Psiq. do Infulene, em Mapu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. Psiq. de Nampul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fermaria de Psiquiatria no Hosp. Central da Bei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ital Asilar de Chissuio, em Man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72C8-16C0-43E4-9680-855E1020378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http://noticias.sinfic.pt/pls/notimz2/docs/oficiais/s2/inful1.jpg"/>
          <p:cNvPicPr/>
          <p:nvPr/>
        </p:nvPicPr>
        <p:blipFill>
          <a:blip r:embed="rId1"/>
          <a:stretch/>
        </p:blipFill>
        <p:spPr>
          <a:xfrm>
            <a:off x="5219640" y="2205000"/>
            <a:ext cx="3781440" cy="2519280"/>
          </a:xfrm>
          <a:prstGeom prst="rect">
            <a:avLst/>
          </a:prstGeom>
          <a:ln w="0">
            <a:noFill/>
          </a:ln>
        </p:spPr>
      </p:pic>
      <p:sp>
        <p:nvSpPr>
          <p:cNvPr id="150" name="Espaço Reservado para Conteúdo 2"/>
          <p:cNvSpPr/>
          <p:nvPr/>
        </p:nvSpPr>
        <p:spPr>
          <a:xfrm>
            <a:off x="5435640" y="4653000"/>
            <a:ext cx="3529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Hospital Psiquiátrico do Infulene-Mapu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1700280"/>
            <a:ext cx="838188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primeira tarefa do PNSM foi promover curso de formação de quadros médios para actuar na saúde mental, cujas competências os habilitavam a fazer diagnóstico psiquiátrico e prescrever psicotrópicos no formulário nacional de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1996, formaram-se 34 técnicos de psiquiatria que, até hoje, assumem a bandeira da saúde mental nas 11 províncias do país, e estão a ser integrados neste momento os 31 técnicos de psiquiatria formados nos últimos 3 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DABD-AB95-4CA4-B1BA-01DD6D04AC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º de Unidades Sanitárias com Serviço de Saúde Mental, Moçambiqu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E682-7EEE-49C1-856D-8965F4A3688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11280" y="1393920"/>
          <a:ext cx="8281800" cy="4829040"/>
        </p:xfrm>
        <a:graphic>
          <a:graphicData uri="http://schemas.openxmlformats.org/drawingml/2006/table">
            <a:tbl>
              <a:tblPr/>
              <a:tblGrid>
                <a:gridCol w="2592360"/>
                <a:gridCol w="1944720"/>
                <a:gridCol w="1871640"/>
                <a:gridCol w="1873080"/>
              </a:tblGrid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íncias/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744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uto cida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63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uto Provínc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z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hambane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al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ic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te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ambéz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pu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ass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63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bo Delgad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cursos Humanos em Saúde Mental – Moçambique, 2005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78D-6212-4FBE-8340-F4A86334E08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1484280"/>
          <a:ext cx="8609040" cy="3645000"/>
        </p:xfrm>
        <a:graphic>
          <a:graphicData uri="http://schemas.openxmlformats.org/drawingml/2006/table">
            <a:tbl>
              <a:tblPr/>
              <a:tblGrid>
                <a:gridCol w="2376360"/>
                <a:gridCol w="934920"/>
                <a:gridCol w="505080"/>
                <a:gridCol w="576000"/>
                <a:gridCol w="647640"/>
                <a:gridCol w="576360"/>
                <a:gridCol w="576360"/>
                <a:gridCol w="503280"/>
                <a:gridCol w="720720"/>
                <a:gridCol w="760320"/>
                <a:gridCol w="432000"/>
              </a:tblGrid>
              <a:tr h="14468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íncias/No. profiss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81000" rIns="81000" tIns="40680" bIns="40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1000" marR="81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6440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quiat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3**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*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*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912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ólog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6440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quiatr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*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57096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</a:tbl>
          </a:graphicData>
        </a:graphic>
      </p:graphicFrame>
      <p:sp>
        <p:nvSpPr>
          <p:cNvPr id="163" name="Retângulo 6"/>
          <p:cNvSpPr/>
          <p:nvPr/>
        </p:nvSpPr>
        <p:spPr>
          <a:xfrm rot="16200000">
            <a:off x="2685600" y="1877760"/>
            <a:ext cx="11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uto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ângulo 7"/>
          <p:cNvSpPr/>
          <p:nvPr/>
        </p:nvSpPr>
        <p:spPr>
          <a:xfrm rot="16200000">
            <a:off x="3537000" y="21132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ângulo 8"/>
          <p:cNvSpPr/>
          <p:nvPr/>
        </p:nvSpPr>
        <p:spPr>
          <a:xfrm rot="16200000">
            <a:off x="3684240" y="1979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hamb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tângulo 9"/>
          <p:cNvSpPr/>
          <p:nvPr/>
        </p:nvSpPr>
        <p:spPr>
          <a:xfrm rot="16200000">
            <a:off x="4623840" y="2040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of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tângulo 11"/>
          <p:cNvSpPr/>
          <p:nvPr/>
        </p:nvSpPr>
        <p:spPr>
          <a:xfrm rot="16200000">
            <a:off x="5142240" y="2009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n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tângulo 12"/>
          <p:cNvSpPr/>
          <p:nvPr/>
        </p:nvSpPr>
        <p:spPr>
          <a:xfrm rot="16200000">
            <a:off x="5871600" y="20667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tângulo 13"/>
          <p:cNvSpPr/>
          <p:nvPr/>
        </p:nvSpPr>
        <p:spPr>
          <a:xfrm rot="16200000">
            <a:off x="6162840" y="2025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mbéz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ângulo 14"/>
          <p:cNvSpPr/>
          <p:nvPr/>
        </p:nvSpPr>
        <p:spPr>
          <a:xfrm rot="16200000">
            <a:off x="6837480" y="20505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pu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ângulo 15"/>
          <p:cNvSpPr/>
          <p:nvPr/>
        </p:nvSpPr>
        <p:spPr>
          <a:xfrm rot="16200000">
            <a:off x="7590960" y="19440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b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g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tângulo 16"/>
          <p:cNvSpPr/>
          <p:nvPr/>
        </p:nvSpPr>
        <p:spPr>
          <a:xfrm rot="16200000">
            <a:off x="8272080" y="21297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as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tângulo 17"/>
          <p:cNvSpPr/>
          <p:nvPr/>
        </p:nvSpPr>
        <p:spPr>
          <a:xfrm>
            <a:off x="1258920" y="5516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*) Maputo Província; (**) Quadros Estrangeir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921800" cy="936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Mentais em Moçambique, 200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Object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070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ortância da Epidemiologia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000" y="1484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m havido um aumento dramático na incidência de transtornos mentais, no mundo, fazendo com que a importância deste sector da saúde tenha crescido na agenda dos planeadores e polít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tanto, o registo dos casos, da contextualização destes e de seus desdobramentos é fundamental à compreensão técnico-científica dos profissionais e da Ciência, bem como à gestão dos serviços de saúde mental (tomada de decisão, priorização de acçõe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5DC3-519B-42C9-B23B-2C738C374E6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pidemiologia d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197000"/>
            <a:ext cx="83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Concei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 Saúde Mental em Moçambiqu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spectos éticos na prestação de cuidados ao utente com transtorno menta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quipa que trabalha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m Saúde Mental e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tribuiçõ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A16-3343-403B-BDA4-32C4A6C3D6E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2" descr="http://t3.gstatic.com/images?q=tbn:ANd9GcQltXYPMfdJLRMf58_4C3cf3lhu4Uf0nmaaup8sGWRt166vroERAAbKagkj"/>
          <p:cNvPicPr/>
          <p:nvPr/>
        </p:nvPicPr>
        <p:blipFill>
          <a:blip r:embed="rId1"/>
          <a:stretch/>
        </p:blipFill>
        <p:spPr>
          <a:xfrm>
            <a:off x="5003640" y="3068640"/>
            <a:ext cx="354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epidemiológicos da 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conjuntura socioeconômica de Moçambique concorre para o elevado número de casos, bem como o contexto político de pós-independência (pobreza extrema, reflexos psicológicos da guerr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rupos sociais que, pelas suas características de desenvolvimento e/ou situacionais, se encontram em maior risco para os transtornos mentai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rianças órfãs (pela guerra e HIV/sida, principalmente), vítimas de abuso sexual e violência, portadoras de deficiência fís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osos, mulheres vítimas de violência sexual e domést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ilhos de mães com deficiência de io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8348-B8F2-462B-A101-F1BD776D34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iclo vicioso da pobreza e perturbaçã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3FF1-EB31-4817-9D6D-05E2486416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http://www.misau.gov.mz/var/corporate/storage/images/media/images/ciclo_vicioso_da_pobreza_e_perturbacao_mental/3125-2-por-MZ/ciclo_vicioso_da_pobreza_e_perturbacao_mental.gif"/>
          <p:cNvPicPr/>
          <p:nvPr/>
        </p:nvPicPr>
        <p:blipFill>
          <a:blip r:embed="rId1"/>
          <a:stretch/>
        </p:blipFill>
        <p:spPr>
          <a:xfrm>
            <a:off x="1116000" y="1341360"/>
            <a:ext cx="66834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5759-7451-46C7-A744-A02C250B0E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tângulo 5"/>
          <p:cNvSpPr/>
          <p:nvPr/>
        </p:nvSpPr>
        <p:spPr>
          <a:xfrm>
            <a:off x="4284720" y="1341360"/>
            <a:ext cx="4572000" cy="44830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comum que algumas pessoas achem “graça” do indivíduo desorientado, muitas vezes ironizando falas e comportamentos 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e apresente. Esta, obviamente, não deve ser a atitude do enfermeiro geral, pois por mais desorientado que esteja, o paciente percebe esse tipo de reacção e sente-se bastante desampar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AF4-6680-4D73-8B0E-0B5458EC182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o Explicativo 3 (Ênfase) 5"/>
          <p:cNvSpPr/>
          <p:nvPr/>
        </p:nvSpPr>
        <p:spPr>
          <a:xfrm>
            <a:off x="2627280" y="1268280"/>
            <a:ext cx="6265800" cy="374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262" y="3073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comum pensarem que um paciente nunca se lembra do que fez durante um surto. No entanto, isso não é verdade. Após uma crise, apresentando-se mais controlada, uma paciente passou a recusar a atenção de uma enfermeira. Quando se perguntou a razão disso, ela explico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a estava zombando de mim quando eu estava falando bobagens..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ctualmente, existe pouca actividade de advocacia e legislação levada a efeito pelo governo de Moçambique no âmbito da saúde ment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á déficit de reconhecimento da importância da saúde mental pela sociedade civil e pelos responsáveis das instituições da saúd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lacionado com isto, estão as questões ligadas ao reconhecimento dos direitos humanos dos doentes mentais, à discriminação e ao estigm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9ED5-9077-4469-8C09-A6B72383080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esmo no sector formal de cuidados, a falta de suporte psicossocial conduz ao fenómeno denominado “porta giratória”, em que as recaídas dos pacientes são frequentes e este entra no circuito internamento-alta-descompensação-internament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e fenómeno reforça as crenças acerca da natureza incurável das doenças mentais e dos fracos resultados terapêuticos do sistema psiquiátrico convencional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9712-7D30-496C-A468-0E85DDB9086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000" y="1143000"/>
            <a:ext cx="849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Moçambique, não existe legislação neste âmbito, e também há desconhecimento das linhas de orientação universais da defesa dos direitos humanos dos doentes 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entanto, o PNSM desenvolveu um draft de uma lei de saúde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e draft representa oportunidade única de assegurar que seu desenvolvimento esteja conforme os 10 princípios básicos dos cuidados em saúde mental e os princípios internacionais de regulamentação dos direitos das pessoas com transtornos ment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42B1-7E0E-4E5A-A046-E87B7CB0BC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incípios internacionais de regulamentação dos direitos das pessoas com transtornos mentai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1991, os Princípios das Nações Unidas para a Proteção de Pessoas com Enfermidade Mental e a Melhoria da Atenção à Saúde Mental (Princípios ASM) estabeleceram padrões mínimos de direitos humanos para a prática no campo da saúde mental.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Princípios ASM têm funcionado como um marco referencial para a definição de legislação de saúde mental em muitos país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plicam-se, genericamente, a pessoas com transtornos mentais, estejam elas ou não em hospitais psiquiátr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FEB6-59B1-4DD0-942F-ADBEE5C881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268280"/>
            <a:ext cx="838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z Princípios Básic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. Promoção da saúde mental e prevenção dos transtornos menta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. Acesso à atenção básica em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3. Avaliações de saúde mental em conformidade com princípios internacionalmente acei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4. Cláusula de tipo menos restritivo de atenção à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5. Autodeterminação:O tratamento sem autorização de um corpo legalmente constituído só deve ser instituído, estritamente, em emergências, e somente enquanto durar a emer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19CC-C39F-45E7-83FC-0C22543B77D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 10 Princípios Básic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6. Direito a ser assistido no exercício da autodetermin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7. Disponibilidade de procedimento de revisão: as entidades de revisão de saúde mental devem ter poderes estatutários para obrigar o cumprimento das disposições da legislação de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8. Mecanismo automático de revisão periód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9. Tomador de decisão qualificado (tomar suas próprias decisões, baseado no direito à inform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0. Respeito a lei em vigor no paí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                         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(WHO, 199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DB34-AA01-4378-93B5-0C66E16232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1557360"/>
            <a:ext cx="70149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ceituar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onhecer a importância da epidemiologia na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a atenção a saúde mental em Moçambique (serviços, recursos humanos, epidemiologia, polític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99AB-2055-4D93-9F46-7B641CC0E5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stigma, a discriminação e a marginalização que ainda impregnam a área da saúde mental, aumentam a probabilidade de atropelo aos direitos humanos dos portadores de doença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 outro lado, a fraca capacidade de afirmação por parte desta população agrava ainda mais este problema, conduzindo a situações gritantes de violação de direitos humanos e civ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por esta razão que se torna imperioso que exista um quadro legal que proteja os direitos destas pesso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EA2F-576E-4164-8B80-CC2DFEB0EF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quipa que trabalha em Saúde Mental e atribuiçõ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1125360"/>
            <a:ext cx="858672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acordo com a Estratégia e Plano de Acção para a Saúde Mental – 2015, o MISAU estabeleceu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 reformulação da carreira de “Técnicos de Psiquiatria e Saúde Mental” torna-se imperiosa e deveria contemplar a seguinte estrutura: um nível médio de entrada na carreira, vocacionado para os cuidados primários, secundários e terciários; e um nível superior, correspondendo à especialização dos Clínicos Gerais em Psiquiatria e Saúde Mental em Programas de Pós-Graduação, Psicólogos Clínicos, Terapeutas Ocupacionais e Enfermeiros Especializados em Psiquiatria e Saúde Mental no Instituto Superior de Ciências da Saúde, vocacionados para a prestação de cuidados nas unidades sanitárias de nível terciário e quaternário”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F3CA-B3E3-4FF0-81AC-FB2D63109E4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É preciso defender 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5009-FBEA-4109-9248-3AACFE6087C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http://www2.portalminassaude.com.br/javascript/tiny_mce/plugins/uploaded/Sanatorio-%C3%A0-reforma---foto.jpg"/>
          <p:cNvPicPr/>
          <p:nvPr/>
        </p:nvPicPr>
        <p:blipFill>
          <a:blip r:embed="rId1"/>
          <a:stretch/>
        </p:blipFill>
        <p:spPr>
          <a:xfrm>
            <a:off x="2470320" y="1384200"/>
            <a:ext cx="4046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980640"/>
            <a:ext cx="8381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Organização Mundial de Saúde (OMS) afirma que não existe definição "oficial" para saúde mental. Porém, afirm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iferenças culturais, julgamentos subjetivos e teorias relacionadas afetam o modo como a "saúde mental" é defin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aúde mental é um termo usado para descrever o nível de qualidade de vida cognitiva ou emocional dos indivídu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saúde mental pode incluir a capacidade de um indivíduo de apreciar a vida e procurar um equilíbrio entre as atividades e os esforços para atingir a resiliência psicológica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A78-29CD-4E75-A8C4-7AD4D5A658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 o que é Resiliênci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205000"/>
            <a:ext cx="8381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a habilidade de persistir nos momentos difíceis, mantendo a esperança e a saúde mental. Pessoas resilientes se tornam mais fortes após situações difíce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r que isso acontece?  Porque essas pessoas desenvolvem confiança em si, aprendendo novas formas de lidar com os conflit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A8E6-509E-4330-A7A9-50C4618EF47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81000"/>
            <a:ext cx="792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ili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geral, a resiliência depende de condições psicológicas internas e extern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nível interno são favorecidas as pessoas optimistas, que assumem a responsabilidade pelas próprias escolhas, que prezam a autonomia, que estabelecem vínculos sociais e familiares positivos e que são flexíveis no que diz respeito à mudança de posicionamentos, sentimentos e pens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nível das condições externas estão as relações positivas, àquelas que promovem suporte afetivo/material, acolhimento e cumplic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314B-F1DE-4F2E-A664-5E9B0F7AFBB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dmite-se, entretanto, que o conceito de Saúde Mental é mais amplo que a ausência de transtornos mentais“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úde Mental é o equilíbrio emocional entre o patrimônio interno e as exigências ou vivências externas. É a capacidade de administrar a própria vida e as suas emoções dentro de um amplo espectro de variações, sem contudo perder o valor do real e do precioso. É ser capaz de ser sujeito de suas próprias ações sem perder a noção de tempo e espaço. É buscar viver a vida na sua plenitude máxima, respeitando o legal e o outro” (Dr. Loruss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7157-7636-4B8B-A4F8-4441CF6E04C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000" y="198864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291600" indent="-2916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úde Mental é estar de bem consigo e com os outros. É aceitar as exigências da vida. Saber lidar com as boas emoções e também com as desagradáveis: alegria/tristeza; coragem/medo; amor/ódio; serenidade/raiva; ciúmes; culpa; frustrações. É reconhecer seus limites e buscar ajuda quando necessário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44E6-3C04-4B0E-AC54-0672C914671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052640"/>
            <a:ext cx="511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Seis aspectos foram identificados como critérios para se ter saúde mental: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Atitudes positivas de si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Crescimento, desenvolvimento e auto-realização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Integração e resposta emocional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Autonomia e autodeterminação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Percepção da realidade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Domínio ambiental e competência social; 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DE45-99D6-470E-93A9-4ABE749DD16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2" descr="http://www.solidario.blog.br/wp-content/uploads/2011/10/sa%C3%BAde-mental.jpg"/>
          <p:cNvPicPr/>
          <p:nvPr/>
        </p:nvPicPr>
        <p:blipFill>
          <a:blip r:embed="rId1"/>
          <a:srcRect l="5584" t="0" r="5584" b="0"/>
          <a:stretch/>
        </p:blipFill>
        <p:spPr>
          <a:xfrm>
            <a:off x="4932360" y="2060640"/>
            <a:ext cx="404352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0:37Z</dcterms:created>
  <dc:creator>Escolastica</dc:creator>
  <dc:description/>
  <dc:language>en-US</dc:language>
  <cp:lastModifiedBy>Maputo</cp:lastModifiedBy>
  <dcterms:modified xsi:type="dcterms:W3CDTF">2012-05-30T12:42:01Z</dcterms:modified>
  <cp:revision>101</cp:revision>
  <dc:subject/>
  <dc:title>Epidemiologia da Saúde Mental</dc:title>
</cp:coreProperties>
</file>