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2989-7433-4501-AF2C-D2DD01871A9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2398-BD08-4800-90B0-58531C3241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4FDB-7B93-46CB-AF62-7A15545A857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55AFD-3434-4490-AB5A-ADCE078EB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C292-5E5C-4428-9CAD-A5477E59A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D744-9C21-4E25-B11C-0B16451FF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140FC-336C-43E4-A267-63E569B77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0CE2-586E-4658-8907-14A6F282D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60E3-75F2-4965-BC80-E71FC705D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C4F3-5021-4C47-B9CE-48486EDD1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5935B-24AA-4CDA-9621-F979D056F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40A0-F165-4994-A91B-BFA740012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1E10-2BBD-4387-B238-3C543D691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C125-CE6D-4F47-AAF7-6A35A65CB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872BA-B398-428A-923C-FB49B1B58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DD0D-B221-46AA-B38D-E77F8F68E71B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484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ratamentoalcoolismo.org/105-clinica-de-alcoolismo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6265800" cy="23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ormas de tratamento para os transtornos mentais mais frequent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edicamentoso e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social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560" y="4076280"/>
            <a:ext cx="77058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000" y="981000"/>
            <a:ext cx="8165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sicoterapia envolve um encontro regular entre o paciente e um profissional de saúde mental, geralmente um psicólogo ou psiquiat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es encontros, ou sessões, podem abordar problemas atuais ou passados, pensamentos, idéias, sentimentos, relações e vivênci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meio do compartilhamento destas experiências com o terapeuta – de falar sobre seu mundo com alguém de fora – as pessoas com esquizofrenia podem gradualmente entender mais sobre si próprias e seus problemas. Também podem aprender a discernir aquilo que é real do que não é re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4C6B-93C3-4172-AC1A-A492443435A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360" y="1143000"/>
            <a:ext cx="815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udos recentes indicam que a psicoterapia de suporte e as abordagens cognitivo-comportamentais que ajudam o paciente a conviver melhor com a doença e a desenvolver recursos para a resolução de problemas e dificuldades, podem trazer benefícios para as pessoas com esquizofren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sicoterapia não substitui a medicação. É uma abordagem coadjuvante, que funciona melhor se os sintomas psicóticos estiverem controlados pela medicaçã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9F03-4D95-4969-91C7-AC00C814B3E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1052640"/>
            <a:ext cx="83818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medicamentos utilizados para tratar a esquizofrenia pertencem a dois grandes grup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tipsicóticos convencionais (chamados de neuroléptico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tipsicóticos novos (também denominados antipsicóticos de segunda geração ou "atípicos"); Estes são capazes de ajudar a controlar os sintomas do transtorno sem causar tantos efeitos adversos estigmatiz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411C-2107-4F7E-B9F4-4ED4DE0CB0E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tângulo 5"/>
          <p:cNvSpPr/>
          <p:nvPr/>
        </p:nvSpPr>
        <p:spPr>
          <a:xfrm>
            <a:off x="826920" y="4869000"/>
            <a:ext cx="777744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s nomes dos produtos variam de país para país e mais de um nome de produto pode ser usado para a mesma droga dentro de um paí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ixaDeTexto 6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3640" y="980640"/>
            <a:ext cx="85978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recomendações atuais para tratamento do alcoolismo, envolvem duas etap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intoxicação: realizada por alguns dias sob supervisão médica, permite combater os efeitos agudos da retirada do álcoo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ido aos altos índices de recaídas, o alcoolismo não é tratada somente pela medicina tradi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bilitação (Alcoólicos Anônimos-AA): Depois de controlados os sintomas agudos da crise de abstinência, os pacientes devem ser encaminhados para programas de reabilitação, cujo objetivo é ajudá-los a viver sem álcool na circulação sanguíne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C815-890F-4DF5-B097-EEF30470FD4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140360" y="1143000"/>
            <a:ext cx="469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m-se hoje já comprovadas, ou em fase avançada de testes, três substâncias eficazes na supressão do desejo pelo álcool: naltrexona, acamprosato e ondansetro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tamento do alcoolismo não deve ser confundido com o tratamento da abstinência alcoólica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310A-75F8-42F3-8410-9FF4B0E8A6E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2" descr="Clínica de alcoolismo, funcionamen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52640"/>
            <a:ext cx="3672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o organismo incorpora literalmente o álcool ao seu metabolismo, a interrupção da ingestão de álcool faz com que o corpo se ressinta: a isto chamamos de abstinência que, dependendo, do tempo e da quantidade de álcool consumidos pode causar sérios problemas e até a morte nos casos não trat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edicações citadas na projecção anterior não têm finalidade de atuar nessa fas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bstinência já tem suas alternativas de tratamento bem estabelecidas e relativamente satisfatór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71C5-0D79-4675-A6FE-841206F969E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xplosão 1 5"/>
          <p:cNvSpPr/>
          <p:nvPr/>
        </p:nvSpPr>
        <p:spPr>
          <a:xfrm>
            <a:off x="4284720" y="5373720"/>
            <a:ext cx="3024000" cy="1079640"/>
          </a:xfrm>
          <a:prstGeom prst="irregularSeal1">
            <a:avLst/>
          </a:pr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JAMOS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abstin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Dissulfiran é uma substância que força o paciente a não beber sob a pena de intenso mal est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os alcoólatras morreram por não conseguirem conter o desejo pelo álcool enquanto estavam sob efeito do Dissulfira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smo sabendo o que poderia acontecer, não conseguiram evitar a combinação do álcool com o Dissulfiram, não conseguiram sequer esperar a eliminação do Dissulfira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A469-20CB-474A-A148-AEA0568DD0E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abstin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naltrexona possui um efeito bloqueador do prazer proporcionado pelo álcool, cortando o ciclo de reforço positivo que leva e mantém o alcooli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a primeira substância a atingir a essência do alcoolismo: o desejo pelo consumo de álcoo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era uma medicação conhecida quanto aos efeitos benéficos e colaterais, sua utilização para o alcoolismo foi relativamente rápida, pois já se encontrava no mercado há muitos anos: bastou que se acrescentasse na bula uma nova indicação, o tratamento do alcooli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A51B-3D87-475D-AD3A-8A47FA84B08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abstin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000" y="1268280"/>
            <a:ext cx="83818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principais efeitos colaterais da naltrexona (enjôo e vômito), são leve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s principais acções da naltrexona s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ibir o desejo pelo álcool e mesmo que se beba, o prazer da sensação de estar "alto" é abolido. Assim, a bebida para o alcoólatra em uso de naltrexona se torna sem gra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o não há uma interação danosa entre álcool e naltrexona, esta exerce uma real atividade terapêutica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65AD-A86A-474E-AF19-54948506E6D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abstin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492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acamprosato, ao contrário da naltrexona, é novo e foi criado especificamente para o tratamento do alcoolism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á sendo introduzido no mercado brasileiro pela Merck, mas já é usado na Europa há alguns an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mecanismo do acamprosato é distinto da naltrexona embora também diminua o desejo pelo álcool. Atua mais na abstinência, reduzindo o reforço negativo deixado pela supressão do álcool naqueles que se tornaram dependente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E6ED-B91D-4924-8542-545C97CADFD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tamento das principais psicos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Formas de tratamento para as principais psicose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edicamentoso: actuação e efeitos secund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sicos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84C9-E61C-47BF-BC51-8A5695D95FD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aspectos gerais dos tratamentos indicados para os principais tipos de psicos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plicar as duas principais form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9292-8557-4502-A5A2-A46376B7883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708280"/>
            <a:ext cx="198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s Psicos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8D7A-E4B0-4AA0-BB15-A30837CC75C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2" descr="http://t2.gstatic.com/images?q=tbn:ANd9GcQ8N9nDq3fueJSMz1t4dDhTkjRMeQsa2WPyMsDf9Y1BHa30ztmO"/>
          <p:cNvPicPr/>
          <p:nvPr/>
        </p:nvPicPr>
        <p:blipFill>
          <a:blip r:embed="rId1"/>
          <a:stretch/>
        </p:blipFill>
        <p:spPr>
          <a:xfrm>
            <a:off x="3203640" y="1052640"/>
            <a:ext cx="340992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6920" y="1413000"/>
            <a:ext cx="8012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inda não há um tratamento único que cure esse distúrbi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eficaz requer um esforço multidisciplinar abrangente, incluindo a psicoterapia e diversos tipos de cuidado psicossocial, como o treinamento de capacidades de vida e sociais, reabilitação e terapia de família e comunitári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0C8E-39D1-405B-9FA9-E3004DB2D1F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920" y="1143000"/>
            <a:ext cx="7796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É muito importante que o tratamento comece o mais rápido possíve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Às vezes não é possível tratar em casa, porque o paciente não aceita que esteja doente nem aceita ser medica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é sempre medicamentoso, mas a Psicoterapia pode ser importante para a recuperaçã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ratar uma Psicose sem medicação tem entre outros riscos, o de cronificaçã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8B4B-9140-4EB3-915E-CDAC2BB206B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00000" y="1483920"/>
            <a:ext cx="8064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Às vezes o primeiro tratamento não produz melhora e tem que ser mud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esmo que já esteja se sentindo bem, o paciente não deve interromper a medica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ma psicose pode ser benigna e rapidamente curável, mas também pode ser longa, difícil de tratar, ter recaídas, ter fases de depressões e de trocas de medica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8449-BC33-4D89-9BE9-12462BB65F1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16000" y="1916280"/>
            <a:ext cx="7794720" cy="28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cientes jovens (14 a 24 anos), o tratamento não pode esperar. As conseqüências da cronificação podem ser catastróf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 pais arrependidos por não terem tratado a tempo, mas nunca por terem forçado o tratamento mesmo que contra a vontade do paci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B6F6-3E71-44B0-80AA-F6A4EF1AA0D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ângulo 5"/>
          <p:cNvSpPr/>
          <p:nvPr/>
        </p:nvSpPr>
        <p:spPr>
          <a:xfrm rot="16200000">
            <a:off x="18720" y="34041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63280" y="981000"/>
            <a:ext cx="828036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bilit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termos gerais, a reabilitação inclui uma ampla gama de intervenções não-méd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gramas de reabilitação enfatizam o treinamento social, vocacional e ocupacional para ajudar as pessoas a superarem as dificuldad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alguns países esses programas incluem o desenvolvimento de habilidades, como: lidar com dinheiro, usar transporte público, treinamento de hábitos sociais para que o paciente se relacione melhor socialmente, técnicas de resolução de problemas e aconselhamento voca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CFF7-83CF-41C0-BD34-DA8B6CDF5E2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8:04:53Z</dcterms:created>
  <dc:creator>Escolastica</dc:creator>
  <dc:description/>
  <dc:language>en-US</dc:language>
  <cp:lastModifiedBy>Mendoza</cp:lastModifiedBy>
  <dcterms:modified xsi:type="dcterms:W3CDTF">2012-02-02T09:37:14Z</dcterms:modified>
  <cp:revision>4</cp:revision>
  <dc:subject/>
  <dc:title>Tratamento das Psicoses</dc:title>
</cp:coreProperties>
</file>