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4061-54F1-40BD-8CD3-4D13045A7D8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F31C-DD8A-45FE-98DB-1551845288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C0DB-E72D-403A-9968-24296F637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D358-2919-43B9-AAF0-3DFEB27C5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5041-853D-45C2-978D-07989E92D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A6A0-0F25-406A-BBC3-DB7A28605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415D-5B19-4B61-919D-341C0C149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F67A-B056-4B51-B91C-49571BD78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8C48-D9C6-4BFB-B352-6D0EB00D4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C8FD-34DC-476D-9266-3B492EF09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8EA9-988B-4BAC-B3FB-17B687391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A6C2-021C-4A5C-9855-E28D22BB8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7BB1-E790-4245-951E-C98E00C2F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AEF1-D317-4C69-8363-7F0734E29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D054-8DAA-47C6-9ED3-370F715CEBD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alimentares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292280"/>
            <a:ext cx="7705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vidade física intensa e exager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ressão, síndrome do pânico, comportamentos obsessivo-compuls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ão distorcida do próprio corpo. Apesar de extremamente magras, essas pessoas julgam-se com excesso de pe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le extremamente seca e coberta por lanugo (pelos parecidos com a barba de milh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EDBE-CBEC-4462-B375-CF5CC8F669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a 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atores que favorecem o aparecimento da doença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disposição genética; e a existência de alterações neuroquímicas cerebrais, especialmente nas concentrações de serotonina e de noradrenalin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ceito atual de moda que determina a magreza absoluta como símbolo de beleza e elegâ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são da família, de conjuge e do grupo soci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64DD-014E-40E4-BF63-D0D6D47B43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li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981000"/>
            <a:ext cx="446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 transtorno alimentar comum é a bulimia, que se caracteriza pela ingestão de grande quantidade de alimentos, seguida por uma acção compensatória (a pessoa provoca o vômito após a ingestão de comida) pelo medo de ganhar peso, sendo comum entre as modelos e as atle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FD8C-3D72-4528-81F4-FD5DAAA210E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http://t0.gstatic.com/images?q=tbn:ANd9GcTI-sRM1NuG40C0JbmO7SAZNaLCSv-rpI1eCgUXj47WsNnF26Rs"/>
          <p:cNvPicPr/>
          <p:nvPr/>
        </p:nvPicPr>
        <p:blipFill>
          <a:blip r:embed="rId1"/>
          <a:stretch/>
        </p:blipFill>
        <p:spPr>
          <a:xfrm>
            <a:off x="4932360" y="1484280"/>
            <a:ext cx="39783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li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essoas com bulimia têm vergonha de seus sintomas, portanto, evitam comer em público e evitam lugares como praias e piscinas onde precisam mostrar o corp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À medida que a doença se desenvolve, essas pessoas só se interessam por assuntos relacionados à comida, peso e forma corpor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6B8E-DFD0-43CB-96CB-422CFC0144D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e buli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m como na anorexia, a bulimia nervosa é uma síndrome multideterminada por uma mescla de fatores biológicos, psicológicos, familiares e cultur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ênfase cultural na aparência física pode ter um papel super importa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mples desejo de emagrecer e se manter de acordo com os preceitos sociais e da moda – escravatura da belez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blemas familia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auto-estima e conflitos de identidade também são fatores envolvidos no desfecho desses quad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5BF4-A64E-4580-9977-FEF1F31F4C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vençã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ma diminuição na ênfase da aparência física, tanto no aspecto cultural quanto familiar, pode eventualmente reduzir a incidência desses quadr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É importante fornecer informações a respeito dos riscos de regimes rigorosos para obtenção de uma silhueta "ideal", já que os mesmos desempenham papel fundamental no desencadeamento dos transtornos alimentare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B28B-B8FE-46B6-8F63-DD5610E70F7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perfag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000" y="981000"/>
            <a:ext cx="8381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 fome insaciável, fazendo com que a pessoa coma compulsivamente. A única diferença da bulimia é que o indivíduo não pensa em vomit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hiperfagia têm causas múltiplas: predisposições genéticas e constitucionais, influências socioculturais e vulnerabilidades psicológicas pesso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5FEE-E52E-4FCF-A74D-A846AEFC726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2" descr="http://t1.gstatic.com/images?q=tbn:ANd9GcQNRBEZl-taE4oLL2oRBcv4Tsx5RA3sZ8L2XYcskiwHpmcDLvDS"/>
          <p:cNvPicPr/>
          <p:nvPr/>
        </p:nvPicPr>
        <p:blipFill>
          <a:blip r:embed="rId1"/>
          <a:stretch/>
        </p:blipFill>
        <p:spPr>
          <a:xfrm>
            <a:off x="2916360" y="3429000"/>
            <a:ext cx="47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perfag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000" y="1628640"/>
            <a:ext cx="83818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brança exagerada do controle alimentar por familiares, vigilância insistente sobre a dieta, críticas pretensamente construtivas, comparações maldosas com pessoas “esbeltas e elegantes” acabam, muitas vezes,  causando efeito contrário do que esperavam esses familiares, ou seja, a pessoa vigiada acaba desenvolvendo algum transtorno alimentar e, entre eles, com muita freqüência a hiperfag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0112-3F1A-418D-982F-34767AB594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581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SOMATOFORMES OU HIPOCONDRIA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C3B4-5CC2-43F2-9B2F-761702444E6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http://t3.gstatic.com/images?q=tbn:ANd9GcQz8eS9hY4I8Zk4EiUONLAYMo6NUm5AMsGq8tUunlvUSO5FkKfI"/>
          <p:cNvPicPr/>
          <p:nvPr/>
        </p:nvPicPr>
        <p:blipFill>
          <a:blip r:embed="rId1"/>
          <a:srcRect l="0" t="3178" r="0" b="317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nstornos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acientes com esse tipo de transtorno são aqueles que vão repetidamente à clínica geral, com queixas de problemas físicos que não são identificados como de causa orgânica, o que não lhes satisfaz, fazendo com que solicitem continuamente novas investigações, mudando de um médico para outr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ó conseguem identificar seu “mal estar” como tendo origem no corpo, o que faz com que, geralmente, resistam a um encaminhamento para o setor de Saúde Mental, ou se sintam, até mesmo, ofendi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9D64-FC3C-4D02-9F85-3B1259E9271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nstornos alimentares e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Transtornos alimentar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Transtornos somatoformes/hipocondrías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6051-C93A-4FEF-AB4E-842C3755876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nstornos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43000"/>
            <a:ext cx="837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aciente pode apresentar queixas de dores que não passam, problemas gastrintestinais, cardiovasculares, respiratórios, sexuais, menstruais e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uitos casos, podem aparecer problemas na pel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grupo de transtornos, um dos mais graves é o transtorno hipocondríaco, de difícil tratamento, no qual a pessoa se encontra “convencida” de estar portando grave doença (câncer, Sida), buscando todos os recursos para confirmá-la. Em muitos casos, estes pacientes chegam ao cúmulo de serem submetidos à cirurgia, sem necess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E2FC-96AE-4DCD-ACCD-3B38A681CC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e hipocondr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hipocondria pode surgir subitamente sem nenhum desencadeante identificado, e ser estável ao longo do tempo, ou manifestar-se em sequência de um período mais vulnerá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rge muitas vezes em pessoas que sofreram uma doença orgânica durante a infância ou que contactaram durante muito tempo com familiares doentes, sobretudo, se houve um desfecho fa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s factores são os desapontamentos, as rejeições, as perdas, o stress, a ansiedade, e a própria personalidade do utente, com traços de baixa auto-estima, introversão e obstin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DAC3-000C-417D-B796-E56E0641889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339640" y="1413000"/>
            <a:ext cx="64990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umerar os principais transtornos alimentares e somatoform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sinais e sintomas desses transtorn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621-76B7-4E8B-8DE2-963534A6E0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611280" y="2781360"/>
            <a:ext cx="2119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14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ALIMENT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597A-455A-49B4-A0B4-44D6713E263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t3.gstatic.com/images?q=tbn:ANd9GcS1uY0PDT3lTbOkXajKYvTgMZVzoRrZ298kuTaKhfTinbugS7hStQ"/>
          <p:cNvPicPr/>
          <p:nvPr/>
        </p:nvPicPr>
        <p:blipFill>
          <a:blip r:embed="rId1"/>
          <a:srcRect l="0" t="24268" r="0" b="2426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aliment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s transtornos mentais que levam a dificuldades na alimentação, talvez o mais freqüente e grave seja a anorexia nervo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transtorno, a pessoa não consegue comer, emagrece exageradamente e entra, muitas vezes, em estado de desnutrição grav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os casos necessitam de internação para um tratamento adequ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831-E785-4055-BC09-965AE1F3E63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http://www.caltabianoelupopsicologia.com/wp-content/themes/Caltabiano-theme/timthumb.php?src=http://www.caltabianoelupopsicologia.com/wp-content/uploads/2010/09/img-transtornos_alimentares.jpg&amp;h=190&amp;w=595&amp;zc=1"/>
          <p:cNvPicPr/>
          <p:nvPr/>
        </p:nvPicPr>
        <p:blipFill>
          <a:blip r:embed="rId1"/>
          <a:stretch/>
        </p:blipFill>
        <p:spPr>
          <a:xfrm>
            <a:off x="1258920" y="4292640"/>
            <a:ext cx="6345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pessoa se olha no espelho e, embora extremamente magra, se vê obes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 medo de engordar, exagera na atividade física, jejua, vomita, toma laxantes e diurét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D651-7ADE-42CA-86E6-257C1D845B7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" descr="http://t2.gstatic.com/images?q=tbn:ANd9GcRv_2AXA7oBYQ3Ut9qM2F7uvWI1fCOKnzuPObWhEqkjigUV7NkSHQ"/>
          <p:cNvPicPr/>
          <p:nvPr/>
        </p:nvPicPr>
        <p:blipFill>
          <a:blip r:embed="rId1"/>
          <a:stretch/>
        </p:blipFill>
        <p:spPr>
          <a:xfrm>
            <a:off x="4551480" y="1916280"/>
            <a:ext cx="43099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980640"/>
            <a:ext cx="8381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transtorno que se manifesta principalmente em mulheres jovens, embora sua incidência esteja aumentando também em homen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5892-85E2-472A-AE7A-1A39F14DD38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http://t0.gstatic.com/images?q=tbn:ANd9GcRJDDk4eNF_B2HXsgrGtqJo_iXmZqgyoewtCJ_fM0HALZCkKnUX"/>
          <p:cNvPicPr/>
          <p:nvPr/>
        </p:nvPicPr>
        <p:blipFill>
          <a:blip r:embed="rId1"/>
          <a:stretch/>
        </p:blipFill>
        <p:spPr>
          <a:xfrm>
            <a:off x="5364000" y="2421000"/>
            <a:ext cx="3645000" cy="3522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2.gstatic.com/images?q=tbn:ANd9GcRJEK9D69kzQfCFZE6rr-DL7bm-UtO30PbDmm521fHG4cdtrlg"/>
          <p:cNvPicPr/>
          <p:nvPr/>
        </p:nvPicPr>
        <p:blipFill>
          <a:blip r:embed="rId2"/>
          <a:stretch/>
        </p:blipFill>
        <p:spPr>
          <a:xfrm>
            <a:off x="382680" y="2133720"/>
            <a:ext cx="442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Às vezes, os pacientes anoréxicos chegam rapidamente à caquexia, um grau extremo da desnutrição e o índice de mortalidade chega a atingir 15% a 20% dos cas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7809-20EE-4E69-A6D9-FB015F248FA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2" descr="http://t0.gstatic.com/images?q=tbn:ANd9GcRjbc6gMWb07PlwG6xUAxmDVmZrVeFGZ9v7BJIBb617TTXKx7_I"/>
          <p:cNvPicPr/>
          <p:nvPr/>
        </p:nvPicPr>
        <p:blipFill>
          <a:blip r:embed="rId1"/>
          <a:stretch/>
        </p:blipFill>
        <p:spPr>
          <a:xfrm>
            <a:off x="2843280" y="299736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exagerada de peso em curto espaço de tempo sem nenhuma justificativa. Nos casos mais graves, o Índice de Massa Corpórea (IMC) chega a ser inferior a 17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usa em participar das refeições familiares. Os anoréxicos alegam que já comeram e que não estão mais com fom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ocupação exagerada com o valor calórico dos alimentos. Esses pacientes chegam a ingerir apenas 200kcal por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rupção do ciclo menstrual (amenorréia) e regressão das características feminin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8645-B01E-41C7-987B-CC67714B38A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0:03:12Z</dcterms:created>
  <dc:creator>Escolastica</dc:creator>
  <dc:description/>
  <dc:language>en-US</dc:language>
  <cp:lastModifiedBy>Mendoza</cp:lastModifiedBy>
  <dcterms:modified xsi:type="dcterms:W3CDTF">2012-02-02T08:27:47Z</dcterms:modified>
  <cp:revision>27</cp:revision>
  <dc:subject/>
  <dc:title>Transtornos alimentares Transtornos somatoformes, hipocondriase</dc:title>
</cp:coreProperties>
</file>