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DE2F-2F84-41AE-8E4E-874A30B77C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ED44-8CD4-4D1E-89B1-C6DCC69CF6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B019-1CBA-4BF4-94E7-0078C11A5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2557-D263-4AC4-A6BA-C0CD98AEC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7E8C-82CA-4314-9BD9-3B138BB3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F533-CC00-477B-A336-74887B1F9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84B4-B3B5-4F59-8748-1423911E8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61BB-A7A4-4245-9CAB-E21CEB13B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924C-C7BA-47F5-AE5B-53DD76023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22D7-41F8-4D86-994B-1C80E3282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0FBC-E155-4221-8E68-9FD69F689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E59F-0065-4507-B39E-87B30B781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D8A0-5580-43BC-A3FF-EADAFBFC5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B0C9-5AF2-4610-A9FC-735D89B61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207-5BD1-4FE4-A7E6-A81B0A592B6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4292280"/>
            <a:ext cx="770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demên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492-AC01-413F-A2BA-618CAF60AC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" descr="http://3.bp.blogspot.com/_gRlHC1QvTv8/TSzfXTnvrPI/AAAAAAAABto/jPaNzLGE_oQ/s1600/Dona_Miguelina-felipehenriquegavioli.jpg"/>
          <p:cNvPicPr/>
          <p:nvPr/>
        </p:nvPicPr>
        <p:blipFill>
          <a:blip r:embed="rId1"/>
          <a:stretch/>
        </p:blipFill>
        <p:spPr>
          <a:xfrm>
            <a:off x="3276720" y="1125360"/>
            <a:ext cx="345600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412640"/>
            <a:ext cx="82375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cura para a DA. Assim, o tratamento é para minimizar os danos e a progressão da doença e 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proteger o sistema nerv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DA se manifesta por alterações do comportamento e afeta o cérebro, as especialidades médicas que tratam de indivíduos com DA são a Psiquiatria, a Neurologia e a Geriatr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FF8-3041-466C-B2EC-B388209867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97000"/>
            <a:ext cx="7940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cuidadores são fundamentais para o tratamento da DA no ambiente domiciliar, mas nem todos os familiares estão preparados física e psicologicamente para conviver e cuidar de alguém que não os reconhece nem valoriza seus esforç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 isso é importante o acesso às informações sobre a patologia e o apoio psicosocial a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cuidador de paciente com Doença de Alzheimer frequentemente tem que lidar com irritabilidade, agressividade, mudanças de humor e de compor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0757-70FF-4AEC-9A66-A10025F626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1341000"/>
            <a:ext cx="808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uidadores devem ser treinados sobre como lidar com a DA e sobre mudanças ambientais de protecção que devem ou não ser fei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balho do cuidador é muito cansativo, pois há um grande esforço físico e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eal é que mais de um profissional, ou familiar, assumam esta responsabilidade, para o estabelecimento de turnos de repou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ções ao cuidador buscam proporcionar o máximo de segurança e a melhor qualidade de vida possível para os utentes e seu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818A-CFDD-474C-8921-CBF6C06725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280" y="162828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duas classes principai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edicamentos para o tratamento da D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colinesterás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agonista dependente de voltagem dos receptores N-metil-D-aspartato (NMD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uas classes de medicamentos agem de forma totalmente diferenciada no cérebro e podem ser usadas isoladamente ou associ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63A-CE32-4637-8814-6143967E1B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341360"/>
            <a:ext cx="55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pectos do tratamento da D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específico: consiste em tratar as alterações de comportamento (agitação e agressividade), do humor ( depressão), que não deve ser feito apenas com medicação, mas com orientação e acção de equipe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cífico: consiste no uso de uma ou das duas drogas específicas, anteriormente most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71C-4D0F-4EB7-A38B-C2B31F1C77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2" descr="http://t3.gstatic.com/images?q=tbn:ANd9GcT5bWsV2GSsNQ-TAPfe6yloLrjWlUFrky6C_dfKkaui_rDAuywF"/>
          <p:cNvPicPr/>
          <p:nvPr/>
        </p:nvPicPr>
        <p:blipFill>
          <a:blip r:embed="rId1"/>
          <a:stretch/>
        </p:blipFill>
        <p:spPr>
          <a:xfrm>
            <a:off x="5940360" y="1484280"/>
            <a:ext cx="302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Os efeitos colaterais comuns desses medicamentos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epatotoxicida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rré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áuse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Vômit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Tontu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dig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sôn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lta de apeti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ialg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AD7-F96C-47ED-9CCF-E0F3DF18C85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4284720" y="3068640"/>
            <a:ext cx="4608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Vários desses efeitos colaterais tendem a desaparecer nas primeiras seman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1125360"/>
            <a:ext cx="815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eficaz da DV deve inclui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revenção de novas lesões cerebrovasculares pelo uso de anti-hipertensivos e antitrombótic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tervenções farmacológicas para neuroproteção, ativação cerebral, transtorno psiquiátrico e retirar medicamentos que causem mais prejuízos que benéficos (hipotensores e os que causem declínio cognitiv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dequação do ambiente às dificuldades do idoso, a evitar traumas e ac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obilização da família e d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6AE-A84F-41E7-BDBA-322B4CC928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55640" y="1413000"/>
            <a:ext cx="8083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medicamentoso pode diminuir e estabilizar a deterioração cognitiva dos utentes com DV. Em acompanhamento de 5 anos, 6% dos utentes tiveram déficit cognitivo e alterações do humor revertidos e 40% se mantiveram independ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o existe alta frequência de depressão, pertubações comportamentais e ansiedade associada as demências, a psicoterapia para utentes e familiares pode ajudar muito a melhorar 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60F8-B5EC-43BD-9E98-C97E70DE60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280" y="2349000"/>
            <a:ext cx="8155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Inclui os exercícios cognitivos, grupos de apoio, instrução para as principais dificuldades e acompanhamento regular do comprometimento cognitivo através de testes psic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433-3EE5-4B22-BA24-622619DDB4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quadros de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FE8-2A43-4337-8307-C439C397B4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quadros de dem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9B2-022A-41E1-9B91-D00BF9D649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3640" y="1267920"/>
            <a:ext cx="5472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á tratamentos adequados para cada tipo de transtorno, o que não é só feito com medic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tratamento medicamentoso é um valioso instrumento da Psiquiatria para o controle dos sintomas e, com o avanço das pesquisas, muito se tem conseguido em melhora da qualidade de vida da pessoa com transtorno men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656-08A9-4E5C-84EC-69B33F3231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TGd4n3U5TPozPkqpEVRBHNmLusXrq007ObkB58jbXHyC9OAIP69g"/>
          <p:cNvPicPr/>
          <p:nvPr/>
        </p:nvPicPr>
        <p:blipFill>
          <a:blip r:embed="rId1"/>
          <a:stretch/>
        </p:blipFill>
        <p:spPr>
          <a:xfrm>
            <a:off x="468360" y="3429000"/>
            <a:ext cx="237492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6"/>
          <p:cNvSpPr/>
          <p:nvPr/>
        </p:nvSpPr>
        <p:spPr>
          <a:xfrm rot="20500800">
            <a:off x="688320" y="52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ff"/>
                </a:solidFill>
                <a:latin typeface="Verdana"/>
              </a:rPr>
              <a:t>Psicotr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j0296847"/>
          <p:cNvPicPr/>
          <p:nvPr/>
        </p:nvPicPr>
        <p:blipFill>
          <a:blip r:embed="rId2"/>
          <a:stretch/>
        </p:blipFill>
        <p:spPr>
          <a:xfrm>
            <a:off x="250920" y="1052640"/>
            <a:ext cx="11523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1268280"/>
            <a:ext cx="72914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vez mais, a abordagem ampla na qual se ofereçam outras possibilidades terapêuticas, mostra ser mais adequada e eficaz no tratamento de pessoas com transtorno mental, afinal apenas o controle não ensina o paciente a lidar com seus problemas cotidianos e emoci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tividade e a dedicação dos profissionais neste campo permite conhecer e perceber a cada momento diferentes facetas da mente humana, o que resulta em novas possibilidades n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2D4-5197-4A8C-B73E-6E9042178A2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j0296847"/>
          <p:cNvPicPr/>
          <p:nvPr/>
        </p:nvPicPr>
        <p:blipFill>
          <a:blip r:embed="rId1"/>
          <a:stretch/>
        </p:blipFill>
        <p:spPr>
          <a:xfrm>
            <a:off x="250920" y="907920"/>
            <a:ext cx="12254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7640" y="1143000"/>
            <a:ext cx="7291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você está com dor de cabeça, toma um analgésico, não é? Mesmo que a dor passe, você sabe que a medicação apenas atuou na redução de um sintoma, e não na sua cau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sicotrópicos são drogas cujo principal uso é modificar as funções psíquicas, normais ou alteradas. Portanto, não curam o doente mental, apenas diminuem seu sofr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88CA-D0A3-48B1-AD18-7C1DB6EFFA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1108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ipo de psicofármaco, assim como o tempo de utilização e as dosagens, vão depender do tipo de sintoma que se deseja combater e da maneira como reage o organismo do usuário. Algumas pessoas necessitam de doses mais altas ou de utilizá-los por um tempo mais long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outras, se consegue o mesmo efeito com doses menores e emprazos menores. Os efeitos colaterais também são variáveis de pessoa para pesso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36D-C6BA-47B2-862B-5C7FC212548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5640" y="2133720"/>
            <a:ext cx="7805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idade, sexo, peso, metabolismo individual, hábitos e dieta são fatores que devem se levar em conta quando se pensa em ação medicamentosa, e a coleta destes dados pelo enfermeiro geral é indispensável para que o psiquiatra possa fazer a prescrição adequ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434-FB84-421D-864B-5EEA7235EAE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muito importante que o enfermeiro geral conheça os efeitos das drogas utilizadas neste sector, pois é comum ouvir-se entre os usuários frases do tip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remédio dele acabou, eu posso dar o meu?”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inha vizinha estava como eu fiquei e eu dei meu remédio para ela”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tipo de dúvida ou afirmação chega com maior freqüência para o enfermeiro do que para outros profissionais do sector, e este precisa ter segurança ao afirmar que esta prescrição só pode ser feita pelo médico e que o uso indevido destas medicações pode ser perig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287B-1855-45DA-9969-D56FCCECBE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7:57:27Z</dcterms:created>
  <dc:creator>Escolastica</dc:creator>
  <dc:description/>
  <dc:language>en-US</dc:language>
  <cp:lastModifiedBy>Mendoza</cp:lastModifiedBy>
  <dcterms:modified xsi:type="dcterms:W3CDTF">2012-02-02T08:36:35Z</dcterms:modified>
  <cp:revision>33</cp:revision>
  <dc:subject/>
  <dc:title>Formas de tratamento para os transtornos mentais mais frequentes: Medicamentoso e Psicossocial.</dc:title>
</cp:coreProperties>
</file>