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6AF7-3922-4718-BF21-B4EACEC8AF6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3D92-8683-4729-8498-90239D636E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16C38-78E1-4E6C-8EAA-9E26A9EEF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0EE2F-17DC-4842-B302-CFC327B12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FB73B-97CB-4387-B4F2-B66A294D5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1CC5-47AF-41E8-8048-BDCB4AF62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D018-0BC4-4284-8635-B49240EF1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23BB-FC83-4A60-A4AE-07258946D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2ABF0-19CF-4BD2-B496-B14D863F8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4F43-375E-4FAC-A78D-AB2E5683E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7F26-4F8A-4DF2-91EC-F2511985A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61251-F199-4617-8E5F-64A32C14C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D4F5-BCB6-4962-B2E1-49175ADD1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1472C-8DCB-4230-8728-6E63AC28E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02DC-FA5E-4E7E-B052-2E7910AB1549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55736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fobia&amp;um=1&amp;hl=pt-BR&amp;rlz=1R2RNQN_pt-BRBR458&amp;biw=1024&amp;bih=302&amp;tbm=isch&amp;tbnid=B9IPDE9PPnh46M:&amp;imgrefurl=http://fobias-ap.freehostia.com/projecto/tratamentos2.htm&amp;docid=r-1gtNwEgH6SIM&amp;imgurl=http://www.farofananeve.blogger.com.br/grito.gif&amp;w=384&amp;h=343&amp;ei=IBnlTqntIoqWtweQrszrAw&amp;zoom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fobia&amp;um=1&amp;hl=pt-BR&amp;rlz=1R2RNQN_pt-BRBR458&amp;biw=1024&amp;bih=302&amp;tbm=isch&amp;tbnid=WxkZJirYeV4QuM:&amp;imgrefurl=http://www.poderdasmaos.com/site/?p=Fobia_(e_Ansiedade)_Social04142&amp;docid=idD-djcaQFwB4M&amp;imgurl=http://www.poderdasmaos.com/site/pub/bancoimg/bancodeimagens/Depress&#227;o/voltando-a-ter-crises-de-fobia-social-2112762-770[1].jpg&amp;w=570&amp;h=570&amp;ei=IBnlTqntIoqWtweQrszrAw&amp;zoom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8920" y="1700280"/>
            <a:ext cx="6265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do humor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ania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640" y="4149720"/>
            <a:ext cx="770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 endóge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00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É de origem interna, indefinida. Embora o primeiro episódio possa se dar após alguma perda ou crise, os outros geralmente não apresentam causas observávei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ralmente é uma forma grave de depressão, apresentando grande risco de suicídio (10 a 15% dos casos)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ntigamente era chamada de depressão psicótica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Responde melhor a tratamento medicamentos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A705-A0B0-4580-9242-158BD52327C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pressão psicogênic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em suas causas mais facilmente localizadas na história de vida do indivíduo, que apresenta fatos que o levaram aos sintomas. Tanto que já foi chamada de depressão reativa ou situaciona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s sintomas são menos graves que na depressão endógena, e o risco de suicídio, embora existente, é menor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Responde melhor à psicoterapia do que ao tratamento medicamentos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B0B6-7982-425C-9BF6-CA8B3C6EE4B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pressão somatogênic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640" y="1844280"/>
            <a:ext cx="83822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É aquela causada por algum fator de alteração principalmente orgânico, com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uso de algumas medicações: alguns tipos de anti-hipertensivos, anti-inflamatórios e contraceptivos orai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nterrupção do uso de psicoestimul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FE16-EE8A-4F5C-930C-F65ABC5A769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716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E871-1D95-4349-96B9-BA31FBA4AD0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Espaço Reservado para Imagem 7" descr="http://t3.gstatic.com/images?q=tbn:ANd9GcQp74rlMgYnoWwbjL-GcyZ0iE0ydZSqiG-n1VU1P1FPqiNHMoXe">
            <a:hlinkClick r:id="rId1"/>
          </p:cNvPr>
          <p:cNvPicPr/>
          <p:nvPr/>
        </p:nvPicPr>
        <p:blipFill>
          <a:blip r:embed="rId2"/>
          <a:srcRect l="0" t="7898" r="0" b="789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4000" y="981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s episódios de mania caracterizam-se como o oposto da depressã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ndivíduo apresenta ritmo acelerado, fala muito e alto, troca constantemente de assunto (fuga de idéias), movimenta-se amplamente, tem muita energia, tanto que, muitas vezes não consegue dormir (hiperatividade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ostra-se eufórico, com auto-estima exagerada (achando que pode tudo), a sexualidade também pode estar exacerbada, gosta de atrair atençõ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acha que tenha problema algum, o que muitas vezes prejudica a aceitação do trat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60F6-16D7-44AE-9B62-C7F8CC58354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Às vezes, evolui para um episódio claramente psicótico e a pessoa passa a apresentar delírios, alucinações e comportamento estranh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o na depressão, também há uma variedade de graus de gravidade, sendo o mais leve a chamada hipomania, caracterizada por euforia, hiperatividade e desinibição mais leve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5570-3DD2-4DB6-9686-6481E13F7EA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1076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8247-046B-4B7A-937F-D0F5E457CA0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Espaço Reservado para Imagem 7" descr="http://t3.gstatic.com/images?q=tbn:ANd9GcQp74rlMgYnoWwbjL-GcyZ0iE0ydZSqiG-n1VU1P1FPqiNHMoXe"/>
          <p:cNvPicPr/>
          <p:nvPr/>
        </p:nvPicPr>
        <p:blipFill>
          <a:blip r:embed="rId1"/>
          <a:srcRect l="0" t="7898" r="0" b="7898"/>
          <a:stretch/>
        </p:blipFill>
        <p:spPr>
          <a:xfrm>
            <a:off x="1619280" y="1341360"/>
            <a:ext cx="3902040" cy="3456000"/>
          </a:xfrm>
          <a:prstGeom prst="rect">
            <a:avLst/>
          </a:prstGeom>
          <a:ln w="0">
            <a:noFill/>
          </a:ln>
        </p:spPr>
      </p:pic>
      <p:pic>
        <p:nvPicPr>
          <p:cNvPr id="155" name="Espaço Reservado para Imagem 7" descr="http://t1.gstatic.com/images?q=tbn:ANd9GcTrUDZdlGI5xN2m_SE8yFQP9q3MPAoBb3S8XxEruwq78N3wkgIipA"/>
          <p:cNvPicPr/>
          <p:nvPr/>
        </p:nvPicPr>
        <p:blipFill>
          <a:blip r:embed="rId2"/>
          <a:srcRect l="0" t="12498" r="0" b="12498"/>
          <a:stretch/>
        </p:blipFill>
        <p:spPr>
          <a:xfrm>
            <a:off x="4211640" y="1341360"/>
            <a:ext cx="360036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000" y="1628640"/>
            <a:ext cx="838188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essoa com transtorno bipolar geralmente apresenta uma variação de estados de humor, ora apresentando mania, ora apresentando depressã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ssas variações podem se dar em intervalos de dias, semanas ou meses, e é comum falarmos em “fase de mania” e “fase depressiva”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151D-ECA7-4757-9A18-DCCF404A512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Na verdade, uma pessoa muito raramente apresenta apenas mania, como descrito no item anterior, o mais comum é que ela intercale episódios maníacos com episódios depressiv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nstorno bipolar também pode se apresentar de forma mais grave ou mais leve, quando é chamado de ciclotim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3E85-F1DE-4FF0-A898-BFED17F2482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640" y="1628640"/>
            <a:ext cx="83822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nstorno bipolar afeta homens e mulheres igualment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em início, geralmente, entre os 15 e 25 an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causa exata ainda é desconhecida, mas ocorre com mais frequência em familiares de pessoas com transtorno bipolar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FA3C-00B6-482B-84D0-EE31C9AAFB3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do hum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Depressã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Mani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Transtorno bipolar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4C14-B4B9-4707-9161-74836DE0FF0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ara a maioria das pessoas com transtorno bipolar, não existe uma causa evidente para os episódios maníacos ou depressivos, contudo fatores podem desencadear um episódio maníaco nas pessoas vulneráveis à doença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danças na vida, como o nascimento de um bebê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dicamentos, como antidepressivos ou esteróide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íodos de insôn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o de drogas recreativ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A672-10FB-466E-93A1-AD272E24668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e sintomas da fase manía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95280" y="1268280"/>
            <a:ext cx="4248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gitação ou irritaç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to-estima exagerada (ilusões de grandeza, de habilidades especiai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dução do son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umor visivelmente elevad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iperatividade, aumento de energia, falta de autocontrole, pensamentos aceler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716000" y="1268280"/>
            <a:ext cx="42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nvolvimento excessivo em actividad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ouco controle do temper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portamento imprud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pulsão alimentar, por álcool, outras drogas, sexo; incapacidade de tomar decisões consciente; e gastos excessiv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52AD-1350-4F34-ACCE-46467A25DC0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e sintomas da fase depressiv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1430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ânimo diário, com dificuldade de lembrar, concentrar, e tomar decis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ranstornos alimentares: perda de apetite e de peso; ou comer em excesso e ganho de pe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adiga ou apatia, sentir-se inútil, sem esperança e/ou culp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723920" y="1143000"/>
            <a:ext cx="4240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aixa auto-estim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isteza constant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nsamentos recorrentes sobre morte e suicídi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onolência excessiva ou insôn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da de interesse nas atividades que antes eram prazeros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fastamento dos amig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04A2-9C61-44B6-B307-8A6F1964177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 risco de tentativas de suicídio em pessoas com transtorno bipolar é muito elevado. Em qualquer uma das fases, os pacientes podem abusar do álcool ou de outras substâncias, piorando os sintoma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m alguns casos, ocorre uma sobreposição entre as duas fases. Os sintomas maníacos e depressivos podem ocorrer juntos ou rapidamente um após o outro. Isso recebe o nome de estado mist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7A95-0AF0-4FA6-ADC4-4EC255DF81F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50920" y="1413000"/>
            <a:ext cx="6788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itar os principais transtornos de humo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star os principais sinais e sintomas desses transtorn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crever em que consiste a depressão, a mania e o transtorno bipol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E544-5044-4205-9FDE-3386E54B34C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250920" y="2708280"/>
            <a:ext cx="2160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s do hum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981000"/>
            <a:ext cx="856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eralmente oscilamos entre um estado de ânimo mais elevado (elação) e um mais baix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em nunca acordou indisposto para uma atividade, ou nunca se sentiu “eufórico” com alguma boa notícia? No entanto, isso não costuma prejudicar as atividades diári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o indivíduo se fixa em uma destas polaridades ou varia entre elas intensamente, a prejudicar sua vida habitual, pode-se pensar em transtornos do humo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também chamados de transtornos afetivos, pois se caracterizam por dificuldades na área do afeto, principalmente, que é a capacidade de vivenciar internamente os sentimen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C175-72DC-4474-B511-DE31930D131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716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43D5-D66B-4FDD-B490-AAAF110599F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Espaço Reservado para Imagem 7" descr="http://t1.gstatic.com/images?q=tbn:ANd9GcTrUDZdlGI5xN2m_SE8yFQP9q3MPAoBb3S8XxEruwq78N3wkgIipA">
            <a:hlinkClick r:id="rId1"/>
          </p:cNvPr>
          <p:cNvPicPr/>
          <p:nvPr/>
        </p:nvPicPr>
        <p:blipFill>
          <a:blip r:embed="rId2"/>
          <a:srcRect l="0" t="12498" r="0" b="1249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possível que a depressão seja devido a variações na responsividade dos circuitos neurais (Berke e Hyman, 2000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epressão não é o mesmo que “baixo astral”, por mais que esteja incluída na gíria como “fulano está na maior “deprê”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contrário da tristeza comum, a depressão caracteriza-se por um estágio mais prolongado e grave de abatimento do humo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essoa com depressão apresenta tristeza patológica com perda da auto-estima, normalmente reclama de falta de ânimo, cansaço fácil e de não sentir interesse por n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0B6C-DE2C-4C4B-8B1F-81B266B872B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os sintomas identificados na depressão sã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centração e atenção reduzid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toconfiança reduzi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éias de culpa e inutil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sões desoladas e pessimistas do futur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éias ou atos autodestrutivos ou lesivos ou suicídio (dependendo da gravidade do episódi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ficuldades em relação ao sono e apeti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e é um transtorno muito freqüente (em torno de 20% dos pacientes em geral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E1B3-FD35-4825-9548-4997572F82F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ode apresentar-se em diferentes graus, podendo ser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eve, moderada ou grave, mais incapacitante em alguns casos, menos incapacitante em out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lgumas pessoas, embora se sentindo todo o tempo mal e deprimidas, continuam desempenhando suas atividades cotidiana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Quando este humor permanece um tempo igual ou superior a dois anos, denomina-se distim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80D7-B14E-4E2A-AB5B-9315DB86DEF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Quanto à causa, a depressão pode ser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AD0F-BE02-4ABF-A8D3-5543C8E02B7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Elipse 5"/>
          <p:cNvSpPr/>
          <p:nvPr/>
        </p:nvSpPr>
        <p:spPr>
          <a:xfrm>
            <a:off x="900000" y="2492280"/>
            <a:ext cx="3456000" cy="172872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óg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lipse 6"/>
          <p:cNvSpPr/>
          <p:nvPr/>
        </p:nvSpPr>
        <p:spPr>
          <a:xfrm>
            <a:off x="2843280" y="4437000"/>
            <a:ext cx="3457440" cy="172872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omatogên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lipse 7"/>
          <p:cNvSpPr/>
          <p:nvPr/>
        </p:nvSpPr>
        <p:spPr>
          <a:xfrm>
            <a:off x="5003640" y="2492280"/>
            <a:ext cx="3456000" cy="172872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sicogên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9:54:47Z</dcterms:created>
  <dc:creator>Escolastica</dc:creator>
  <dc:description/>
  <dc:language>en-US</dc:language>
  <cp:lastModifiedBy>Mendoza</cp:lastModifiedBy>
  <dcterms:modified xsi:type="dcterms:W3CDTF">2012-02-02T08:17:25Z</dcterms:modified>
  <cp:revision>19</cp:revision>
  <dc:subject/>
  <dc:title>Transtornos do humor: Depressão Mania Transtorno bipolar</dc:title>
</cp:coreProperties>
</file>