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A79A-5678-453A-BF29-6537F597B1A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C93E-B38D-4AAA-9F40-DFAF2279C0A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3DFE-04D2-4335-849B-B56F5200A8B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25E3-531D-475B-803A-FBB69D94D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D42A0-D76F-4F8A-AE0C-EA8A37C79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5094D-3281-4678-B65B-6A31C1034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832EC-56C2-4107-8D49-0F85C49FE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8D2D0-3FFE-4B5A-8AB0-589DC8FB6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EF0D-292D-4EC1-ACE7-0237F9CE2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1A91B-DEE0-48FC-B8B6-FE0B4C625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2777-3242-4F77-8A14-A8EFD8C4A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BC9C-A16C-4696-89D5-1118479D0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CFBFF-12FF-4A3D-B454-75319C588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E45C-A606-4BB8-810E-2791B020A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83BA-6369-4A63-A3F4-C6E27774B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1E03-6F45-491C-A780-F129E5E229E8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413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1557360"/>
            <a:ext cx="62661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ormas de tratamento para os transtornos mentais mais frequentes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edicamentoso e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social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640" y="4005360"/>
            <a:ext cx="770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s Fob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3D8C-F7F1-4BDF-8885-FC9441409C8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2" descr="http://t1.gstatic.com/images?q=tbn:ANd9GcTPhETCWyW1QdBD01fgBn-b2wkawOd0ksEQHhMGlUqPnGN1zX2KLw"/>
          <p:cNvPicPr/>
          <p:nvPr/>
        </p:nvPicPr>
        <p:blipFill>
          <a:blip r:embed="rId1"/>
          <a:stretch/>
        </p:blipFill>
        <p:spPr>
          <a:xfrm>
            <a:off x="2484360" y="1268280"/>
            <a:ext cx="487836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Fobia Soci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920" y="1143000"/>
            <a:ext cx="8012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tamento é realizado com medicação e psicoterapia cognitivo-comportamental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edicação ajudará na diminuição da ansieda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sicoterapia capacita o paciente a desenvolver habilidades sociais e como enfrentar as situações sociais, levando a modificação da avaliação das mesmas, tornando-as menos ameaçadoras e, portanto, diminuindo a ansiedade em situações semelhantes no futuro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02ED-5FC1-43AC-B0BF-68127141869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Fobia Específ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4360" y="1143000"/>
            <a:ext cx="815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tamento é realizado com medicação e psicoterapia cognitivo-comportamental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edicação ajudará na diminuição da ansie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erapia comportamental é o tipo de intervenção psicológica que tem demonstrado maior eficácia no tratamento de todos os tipos de fobias, capacitando o paciente a enfrentar e diminuir o medo principalmente através de técnicas baseadas na exposição gradual e sistemática ao objeto temido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5511-243B-4A8D-AF72-A64A612F8F7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Pân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4360" y="907920"/>
            <a:ext cx="815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que haja mudança do comportamento de esquiva é necessário que o terapeuta elabore um plano de tratamento a partir da análise funcional do comportament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erapeuta baseado numa entrevista detalhada deverá identificar os estímulos que antecedem e, portanto, desencadeiam o comportamento patológico e as prováveis conseqüências que o mantêm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lquer estímulo pode desencadear uma avaliação inicial de perigo, principalmente, as sensações corporais e suas conseqüências, normalmente estão relacionadas à diminuição da ansiedade e seus sintomas físic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8E56-0387-4728-9863-35283654C83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Pân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5640" y="1413000"/>
            <a:ext cx="808344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écnica comportamental mais utilizada no tratamento do pânico é a exposição. Esta técnica consiste em ensinar o paciente a enfrentar as situações temidas, lidar com os sintomas físicos causados pela ansiedade durante um ataque de pânico e comportar-se diferentemente diante destas situações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pera-se uma redução da resposta de ansiedade quando o indivíduo entra em contato várias vezes com o estímulo que lhe causa o medo e os respectivos sintomas desagradáveis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6414-9BE4-47E4-BD48-27D837BDA07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Pân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26920" y="1268280"/>
            <a:ext cx="80949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onfronto sistemático do paciente com o estímulo do pânico faz com que este desconfirme a idéia de uma conseqüência negativa, promovendo a redução do seu desconforto e a segurança para parar de evitar as situaçõ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erapeuta deve orientar o paciente a se expor progressivamente aos estímul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necessário que o paciente esteja em estado de relaxamento durante os exercícios de exposição. Neste caso, o terapeuta deverá ensinar o paciente a relax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1749-DF60-4567-A634-758B9BCFFA3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Pân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55640" y="1143000"/>
            <a:ext cx="8083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importante que o paciente aprenda a respiração abdominal, que contribui no relaxamento e, consequentemente, na diminuição da ansiedade e seus sintomas físic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tratamentos de exposição funcionam por permitirem aos pacientes experimentarem a situação temida e, desse modo, perceber que seus temores são infund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a vez iniciado o tratamento, é importante que se faça uma monitoração contínua dos exercícios de exposição para verificar os progressos obti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8D95-AD3E-4306-B8C6-502338B3C6F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Pân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640" y="1143000"/>
            <a:ext cx="8083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 o acompanhamento o terapeuta deverá identificar as variáveis que estão interferindo no sucesso do tratamento e que podem estar relacionadas com as dificuldades ou resistências do pacient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procedimento mais comum de monitoração é o diário, onde o paciente registra as situações de exposição, as sensações experimentadas e atribui uma nota para sua ansiedad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B172-67CF-4727-A4FD-7E2B59B877E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Obsessivo Compulsivo (TOC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55640" y="1773000"/>
            <a:ext cx="808344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tamento comportamental tem como ingredientes fundamentais a exposição às obsessões e a prevenção dos rituai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Não é indicado o uso de ansiolíticos, álcool e barbitúricos concomitante ao tratamento comportamental, pois estes interferem com o processo de habituação, objetivo principal da terap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064C-C005-4A00-B677-40320B0E48A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 Transtorno de Estresse Pós-Traumático (TEPT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4360" y="1341000"/>
            <a:ext cx="8154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atamento do TEPT com melhores resultados é a associação entre medicação e psicoterapia cognitivo-comportament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edicação vai ajudar a diminuir a ansiedade e a psicoterapia vai ensinar o paciente a lidar com os sintomas decorrentes do quadro, como por exemplo: pesadelos, flashbacks, esquiva, além de capacitá-lo a como se expor às situações ou lembranças traumáticas porventura evit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 a ocorrência dos sintomas apresentados acima, perdurarem por duas a quatro semanas o diagnóstico é de Transtorno de Estresse Agudo e, portanto, desaparecendo após certo período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3A06-5794-47E1-AA32-C53BD49E36F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tamento para os transtornos de ans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Formas de tratamento para os quadros de demência mais frequentes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edicamentoso: actuação e efeitos secundár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sicos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40DD-F6A8-4F5A-B69E-16FFE8F4741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050920" y="1413000"/>
            <a:ext cx="6788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crever aspectos gerais dos tratamentos indicados para os principais transtornos de ansie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xplicar as duas principais formas de trat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62E0-C5CF-4B1E-B654-C196783A4AB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708280"/>
            <a:ext cx="1985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s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de Ans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38B2-2AD6-408D-9F6B-E15F431FA72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2" descr="http://loucosporciencia.com.br/blog/imagens/fobiab.jpg"/>
          <p:cNvPicPr/>
          <p:nvPr/>
        </p:nvPicPr>
        <p:blipFill>
          <a:blip r:embed="rId1"/>
          <a:stretch/>
        </p:blipFill>
        <p:spPr>
          <a:xfrm>
            <a:off x="2484360" y="126828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s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de Ans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000" y="1125000"/>
            <a:ext cx="82803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No tratamento medicamentoso, geralmente são prescritos antidepressivos e benzodiazepíncos (calmantes/ansiolíticos), quando o psiquiatra ou o clínico julga necessário usá-l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antidepressivos são as drogas de escolha para o tratamento dos transtornos ansiosos. Inibidores Seletivos da Recaptação da Serotonina (ISRS) e os tricíclicos são os mais utiliz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siolíticos como os benzodiazepínicos devem ser prescritos com cautela, pois medicamentos dessa classe podem causar distúrbios da memória e levar à dependência fís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12B5-5DF9-4518-A4AF-DF90466C672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ixaDeTexto 6"/>
          <p:cNvSpPr/>
          <p:nvPr/>
        </p:nvSpPr>
        <p:spPr>
          <a:xfrm>
            <a:off x="900000" y="5732640"/>
            <a:ext cx="7848720" cy="6426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ses aspectos do tratamento medicamentoso são válidos para todos os transtornos de ansieda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s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de Ans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4046-DE82-43C8-8362-4AF71BC5FFA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2" descr="http://t1.gstatic.com/images?q=tbn:ANd9GcS4WmqySRZnrWWu9uNiR7XURIhWYasayqdQACZ776H0S7N2rkcd8A"/>
          <p:cNvPicPr/>
          <p:nvPr/>
        </p:nvPicPr>
        <p:blipFill>
          <a:blip r:embed="rId1"/>
          <a:stretch/>
        </p:blipFill>
        <p:spPr>
          <a:xfrm>
            <a:off x="2195640" y="1197000"/>
            <a:ext cx="4824360" cy="2421000"/>
          </a:xfrm>
          <a:prstGeom prst="rect">
            <a:avLst/>
          </a:prstGeom>
          <a:ln w="0">
            <a:noFill/>
          </a:ln>
        </p:spPr>
      </p:pic>
      <p:sp>
        <p:nvSpPr>
          <p:cNvPr id="120" name="CaixaDeTexto 6"/>
          <p:cNvSpPr/>
          <p:nvPr/>
        </p:nvSpPr>
        <p:spPr>
          <a:xfrm>
            <a:off x="324000" y="3429000"/>
            <a:ext cx="864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pesar do forte controle na venda de calmantes, sabe-se que boa parte das mulheres faz uso por conta própria, problema que ocorre no mundo inteir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mulher está mais vulnerável aos transtornos de ansiedade devido a sobrecargas, como: cuidado dos filhos, do esposo, do lar, trabalho fora de casa e as graves; a violência e a desigualdade de gêner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Tratamento do</a:t>
            </a: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Transtorno de Ansiedade Generalizado (TAG)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5640" y="1125360"/>
            <a:ext cx="8083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Há várias formas de tratamentos para o TAG, algumas com evidência científica definida e outras n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ara a ansiedade leve usam-se técnicas de relaxamento, yoga, acupuntura, caminhada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ara a ansiedade patológica pode ser necessário o uso de medic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09C5-CBB1-4B8D-A4DE-F47929C3EF0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http://t1.gstatic.com/images?q=tbn:ANd9GcQUPbX2jUpUO2B_x2WQpwLaOotWCzZx0cClhbkLHDjN2mfj9lHELA"/>
          <p:cNvPicPr/>
          <p:nvPr/>
        </p:nvPicPr>
        <p:blipFill>
          <a:blip r:embed="rId1"/>
          <a:stretch/>
        </p:blipFill>
        <p:spPr>
          <a:xfrm>
            <a:off x="3780000" y="3844800"/>
            <a:ext cx="2520720" cy="2509920"/>
          </a:xfrm>
          <a:prstGeom prst="rect">
            <a:avLst/>
          </a:prstGeom>
          <a:ln w="0">
            <a:noFill/>
          </a:ln>
        </p:spPr>
      </p:pic>
      <p:sp>
        <p:nvSpPr>
          <p:cNvPr id="126" name="CaixaDeTexto 7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 de Ansiedade Generalizado (TAG)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55640" y="1052640"/>
            <a:ext cx="8083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Na psicoterapia é fundamental saber a origem da ansiedade e como lidar com a mesma; a associação medicação + psicoterapia tem ótimos result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aioria dos utentes experimenta uma acentuada redução da ansiedade quando lhes é oferecida a oportunidade de discutir suas dificuldades com um profissional experient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udança de hábitos de vida: exercícios físicos, acupuntura, yoga, otimização dos horários de trabalho, higiene do sono, criação de "áreas de lazer" no cronograma semanal são fundamentais para auxiliar o indivíduo a ficar menos ansioso</a:t>
            </a: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9B90-F8C2-472A-8E7A-BCAA6083CF7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 de Ansiedade Generalizado (TAG)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1484280"/>
            <a:ext cx="80834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medicação ajudará na diminuição da ansiedad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psicoterapia ajudará a pessoa a identificar os sintomas de ansiedade associados à preocupação excessiva, praticar técnicas para controlá-los e auxiliar no desenvolvimento de habilidades e capacidades para enfrentar e lidar melhor com os estressores da vid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B823-F46B-41D4-8733-FDA937BD904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8:00:55Z</dcterms:created>
  <dc:creator>Escolastica</dc:creator>
  <dc:description/>
  <dc:language>en-US</dc:language>
  <cp:lastModifiedBy>Mendoza</cp:lastModifiedBy>
  <dcterms:modified xsi:type="dcterms:W3CDTF">2012-02-02T09:34:53Z</dcterms:modified>
  <cp:revision>7</cp:revision>
  <dc:subject/>
  <dc:title>Tratamento dos Transtornos de Ansiedade</dc:title>
</cp:coreProperties>
</file>