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568-983E-4CFA-A93D-1B90245085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0B57-C211-4624-BA95-8451E197AF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9A56-C031-4928-9AC7-59B99DFD6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EAD7-6E87-4475-8EAA-D0C12871E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3EAB-B374-4997-B586-BF5CB7619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D0A5-DEA0-4748-B0F2-02E84D9A5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9FEF-F9C8-4CEB-8F5D-E209875F7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1FE3-3A4B-4FEB-84DA-F71BD3509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A3A3-F585-4A25-A07D-23AF83CF8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B871-9AEA-4D92-B0EE-21851AB9A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36FD-5AB1-4010-A4B8-62EE3EFFC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B963-FD8B-4979-A4BB-352C1B7A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3CFC-3D1A-4CE9-BE67-01882C7A2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F90D-C04A-478E-AB53-4CA4BD227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391-1045-4FBC-BB1E-209B7EA19D62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483920"/>
            <a:ext cx="62658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05000"/>
            <a:ext cx="7705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nutricional busca a determinação de quais são as alterações metabólicas de cada paciente, e deve suprir todas as suas necessidades a fim de restabelecer 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ravés de um plano alimentar discutido e pactuado entre o profissional e o paciente, se estabelece uma alimentação adequ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se sinta interessado e veja os benefícios que a alimentação adequada irá lhe proporcionar, e também que tenha confiança no profissional para a adesão ao tratamento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ção de possíveis alterações metabólicas e um plano alimentar bem definido são fundamentais para restabelecimento d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309B-7726-455B-B952-B042F27690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dos primeiros passos para o tratamento dos pacientes deve ser conscientizá-los sobre a importante participação dos fatores emocionais na sintomatologia de suas queixas, tentar uma mudança no significado cultural de suas doenças e incentivar maior honestidade pessoal sobre sua natureza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fator capaz de atenuar as queixas é a capacidade da pessoa expressar melhor seus sentimentos, verbalm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74A-A72A-4B2E-AF91-3DEBC62F51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le lembrar que entre os médicos, muitas vezes, ocorre a sensação de que o paciente somatizador tenta enganá-lo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timamente o médico se aborrece porque as queixas somatoformes não seguem as descrições clínicas clássicas, representando um desafio a mais para seus conhecimentos científicos e fisiopat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10A-CFFD-4893-8A2C-FB9BC8072B2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os 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transtornos alimentares e somatoformes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705C-7D09-47FD-A40D-07BBD5AEB0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796-38CE-4A3C-B981-574C7BCA85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D48-ACAC-4E64-AC6E-9A66CB5823C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0.gstatic.com/images?q=tbn:ANd9GcTKXgYyZqqxphBtq8ivMCe_nBhgafmAPJbm3fCsqHLzRumTtT_X"/>
          <p:cNvPicPr/>
          <p:nvPr/>
        </p:nvPicPr>
        <p:blipFill>
          <a:blip r:embed="rId1"/>
          <a:stretch/>
        </p:blipFill>
        <p:spPr>
          <a:xfrm>
            <a:off x="2195640" y="1197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557000"/>
            <a:ext cx="83822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orexia nervosa, por ser uma doença com raízes psicológicas, é difícil de ser trat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diagnosticada, o anoréxico passa por terapia individual, terapia em grupo e terapia familiar, em casos leves e moder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a é aumentar gradualmente a quantidade de alimento ingerido, estabelecendo três refeições e dois lanch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a família é determinante na mudança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242F-F90A-4DC9-A85E-AD1840CA23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negação do problema é freqüente, médicos, terapeutas, enfermeiros e familiares precisam de tranquilidade e equilíbrio enquanto motivam o anoréxico em sua recupera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sos de reincidências (recaídas) são comuns em pessoas anoréx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casos mais graves, o tratamento hospitalar é in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1FA-1A8E-4E08-99E1-47E65934AB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988640"/>
            <a:ext cx="8381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a bulimia exige o acompanhamento de equipe multidisciplinar composta por médicos, psicólogos, enfermeiros e nutricionis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 antidepressivos podem ser úteis, especialmente se ocorrerem distúrbios como depressão e ans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DCD8-939E-453E-9080-3338EFC21D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55700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diagnóstico da bulimia é complexo, porque os sintomas não são evidentes como os da anorex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nfelizmente, não se conhecem métodos eficazes para prevenir patologias como a bulimia e a anorexia. Seria necessário um empenho da sociedade na mudança de certos valores estéticos ligados ao culto do corpo e à magrez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761-E7FD-4DBF-8F44-1AAFCA925D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stes são transtornos que envolvem tanto componentes psicológicos, fisiológicos quanto sociais, o tratamento precisa de uma abordagem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rincipais pontos são o tratamento medicamentoso, a terapia psicológica e a orientação nutri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contecer recaídas, por isso é importante que seja um acompanhamento por longo período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BBE3-529E-4BFF-AFCA-474A1E76D0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50:41Z</dcterms:created>
  <dc:creator>Escolastica</dc:creator>
  <dc:description/>
  <dc:language>en-US</dc:language>
  <cp:lastModifiedBy>Mendoza</cp:lastModifiedBy>
  <dcterms:modified xsi:type="dcterms:W3CDTF">2012-02-02T09:40:33Z</dcterms:modified>
  <cp:revision>142</cp:revision>
  <dc:subject/>
  <dc:title>Slide 1</dc:title>
</cp:coreProperties>
</file>