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2.gif" ContentType="image/gif"/>
  <Override PartName="/ppt/media/image13.png" ContentType="image/png"/>
  <Override PartName="/ppt/media/image12.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F99A-022E-4CD4-A7AA-5CCDFE1522AD}"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6382-892B-4C58-B514-B6CB66BC6720}"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FBB595-A750-46C6-926B-5BC94CEA8B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CB55FC-CDE9-4E50-8DF8-88C5C75F7E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8AB3E5-55A7-4401-8D4F-531F4945B6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820A37-6DF7-41A3-A6B0-F149D1C8B8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28FED7-EDA4-45B4-95C5-6CBACBFCF9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EAD74D-A9B3-421A-AB8D-4E7EFD0276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6D9D6A-78F8-4639-BEF2-D9F82FB2AE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7A8679-B656-445C-A215-B0CF15BD60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9AB1C5-36C3-447F-94C4-9DC6879C69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359143-93B0-4014-85F9-8E61238A20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1E651B-2A12-421F-ACE2-0E589CB9BD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7D8F6F-049E-4A42-BCA4-7321FDA4F5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F1D5-C234-421A-8DC6-DC94498A65E1}"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826920" y="177336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2400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porta.org.br/site/ampliar_foto.asp?retorno=pagina_extra_5.asp&amp;cod_pagina=89&amp;codigo_foto=38&amp;cod_ev=&amp;cod_idioma=1" TargetMode="External"/><Relationship Id="rId2" Type="http://schemas.openxmlformats.org/officeDocument/2006/relationships/image" Target="../media/image3.jpeg"/><Relationship Id="rId3" Type="http://schemas.openxmlformats.org/officeDocument/2006/relationships/hyperlink" Target="http://www.aporta.org.br/site/ampliar_foto.asp?retorno=pagina_extra_5.asp&amp;cod_pagina=89&amp;codigo_foto=53&amp;cod_ev=&amp;cod_idioma=1" TargetMode="External"/><Relationship Id="rId4" Type="http://schemas.openxmlformats.org/officeDocument/2006/relationships/image" Target="../media/image4.jpeg"/><Relationship Id="rId5" Type="http://schemas.openxmlformats.org/officeDocument/2006/relationships/hyperlink" Target="http://www.aporta.org.br/site/ampliar_foto.asp?retorno=pagina_extra_5.asp&amp;cod_pagina=89&amp;codigo_foto=80&amp;cod_ev=&amp;mes=&amp;ano=&amp;cod_idioma=1" TargetMode="External"/><Relationship Id="rId6" Type="http://schemas.openxmlformats.org/officeDocument/2006/relationships/image" Target="../media/image5.jpeg"/><Relationship Id="rId7" Type="http://schemas.openxmlformats.org/officeDocument/2006/relationships/hyperlink" Target="http://www.aporta.org.br/site/ampliar_foto.asp?retorno=pagina_extra_5.asp&amp;cod_pagina=89&amp;codigo_foto=39&amp;cod_ev=&amp;mes=&amp;ano=&amp;cod_idioma=1" TargetMode="External"/><Relationship Id="rId8" Type="http://schemas.openxmlformats.org/officeDocument/2006/relationships/image" Target="../media/image6.jpeg"/><Relationship Id="rId9" Type="http://schemas.openxmlformats.org/officeDocument/2006/relationships/hyperlink" Target="http://www.aporta.org.br/site/ampliar_foto.asp?retorno=pagina_extra_5.asp&amp;cod_pagina=89&amp;codigo_foto=40&amp;cod_ev=&amp;cod_idioma=1" TargetMode="External"/><Relationship Id="rId10" Type="http://schemas.openxmlformats.org/officeDocument/2006/relationships/image" Target="../media/image7.jpeg"/><Relationship Id="rId11" Type="http://schemas.openxmlformats.org/officeDocument/2006/relationships/image" Target="../media/image8.jpe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18920" y="1916280"/>
            <a:ext cx="6481800" cy="2209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s de Ansiedade:</a:t>
            </a:r>
            <a:br>
              <a:rPr sz="3200"/>
            </a:br>
            <a:r>
              <a:rPr b="1" lang="pt-PT" sz="2400" spc="-1" strike="noStrike">
                <a:solidFill>
                  <a:srgbClr val="ffffff"/>
                </a:solidFill>
                <a:latin typeface="Verdana"/>
              </a:rPr>
              <a:t>Transtorno de Ansiedade Generalizada (TAG)</a:t>
            </a:r>
            <a:br>
              <a:rPr sz="2400"/>
            </a:br>
            <a:r>
              <a:rPr b="1" lang="pt-PT" sz="2400" spc="-1" strike="noStrike">
                <a:solidFill>
                  <a:srgbClr val="ffffff"/>
                </a:solidFill>
                <a:latin typeface="Verdana"/>
              </a:rPr>
              <a:t>Fobias</a:t>
            </a:r>
            <a:br>
              <a:rPr sz="2400"/>
            </a:br>
            <a:r>
              <a:rPr b="1" lang="pt-PT" sz="2400" spc="-1" strike="noStrike">
                <a:solidFill>
                  <a:srgbClr val="ffffff"/>
                </a:solidFill>
                <a:latin typeface="Verdana"/>
              </a:rPr>
              <a:t>Transtorno Obsessivo Compulsivo (TOC)</a:t>
            </a:r>
            <a:endParaRPr b="1" lang="en-US" sz="2400" spc="-1" strike="noStrike">
              <a:solidFill>
                <a:srgbClr val="ffffff"/>
              </a:solidFill>
              <a:latin typeface="Verdana"/>
            </a:endParaRPr>
          </a:p>
        </p:txBody>
      </p:sp>
      <p:sp>
        <p:nvSpPr>
          <p:cNvPr id="91" name="PlaceHolder 2"/>
          <p:cNvSpPr>
            <a:spLocks noGrp="1"/>
          </p:cNvSpPr>
          <p:nvPr>
            <p:ph type="subTitle"/>
          </p:nvPr>
        </p:nvSpPr>
        <p:spPr>
          <a:xfrm>
            <a:off x="826920" y="4365720"/>
            <a:ext cx="7777440" cy="129528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4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intensidade, duração ou freqüência da ansiedade ou preocupação são claramente desproporcionais ao evento temid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em sempre há a percepção da inadequação, apesar de existir a dificuldade em parar de se preocupa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 a excessiva preocupação com circunstâncias cotidianas e rotineiras, como responsabilidades no emprego, finanças, saúde da família, ou com questões menores, como tarefas domésticas, consertos no automóve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focos das preocupações podem mudar ao longo do temp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4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7F5A-8C08-4EB6-9F45-DF80F52B265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45" name=""/>
          <p:cNvSpPr txBox="1"/>
          <p:nvPr/>
        </p:nvSpPr>
        <p:spPr>
          <a:xfrm>
            <a:off x="456840" y="1412640"/>
            <a:ext cx="8381880" cy="3384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ansiedade e/ou o nervosismo começam na infância ou adolescência em mais da metade dos pacientes que buscam tratament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evolução da doença é crônica, mas oscila muito e freqüentemente piora durante os períodos de muitas mudanças e exigência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ECA8-67FA-4B78-9419-DD4AA1CC119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49" name=""/>
          <p:cNvSpPr txBox="1"/>
          <p:nvPr/>
        </p:nvSpPr>
        <p:spPr>
          <a:xfrm>
            <a:off x="468000" y="1484280"/>
            <a:ext cx="835164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lgumas vezes dizemos que tal pessoa é “hipocondríaca” por acharmos que vive com mania de doença. Estamos, nesse caso, cometendo dois graves erros: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primeiro é que a pessoa com TAG não tem mania de doença e sim sintomas físicos de ansiedade (que também se expressa por essa vi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segundo é que hipocondria é um transtorno totalmente diferente e específico, que será visto mais tarde. </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35DA-C749-4378-ADC1-4C7FE21BE2B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53" name=""/>
          <p:cNvSpPr txBox="1"/>
          <p:nvPr/>
        </p:nvSpPr>
        <p:spPr>
          <a:xfrm>
            <a:off x="456840" y="1484280"/>
            <a:ext cx="8381880" cy="4687920"/>
          </a:xfrm>
          <a:prstGeom prst="rect">
            <a:avLst/>
          </a:prstGeom>
          <a:noFill/>
          <a:ln w="0">
            <a:noFill/>
          </a:ln>
        </p:spPr>
        <p:txBody>
          <a:bodyPr anchor="t">
            <a:normAutofit/>
          </a:bodyPr>
          <a:p>
            <a:pPr lvl="1"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 a pessoa que faz tal comentário for um enfermeiro geral deverá ficar atento para seus sentimentos e sua conduta com tais pacientes, a fim de não cometer um terceiro erro, que seria desvalorizar seus sintomas, demonstrando impaciência com esse tipo de pacient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6537-E806-460D-A5C6-72B4C305819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92440" y="4800240"/>
            <a:ext cx="5486400" cy="71604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S</a:t>
            </a:r>
            <a:endParaRPr b="1" lang="en-US" sz="3200" spc="-1" strike="noStrike">
              <a:solidFill>
                <a:srgbClr val="ffffff"/>
              </a:solidFill>
              <a:latin typeface="Verdana"/>
            </a:endParaRPr>
          </a:p>
        </p:txBody>
      </p:sp>
      <p:sp>
        <p:nvSpPr>
          <p:cNvPr id="15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683F-1694-4DDB-BC12-BFDFEF919D7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59" name="AutoShape 8"/>
          <p:cNvSpPr/>
          <p:nvPr/>
        </p:nvSpPr>
        <p:spPr>
          <a:xfrm>
            <a:off x="155520" y="-1766880"/>
            <a:ext cx="3029040" cy="3695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60" name="Espaço Reservado para Imagem 7" descr="http://blog.opovo.com.br/cartasdetododia/files/2010/04/ANSIEDADE.gif"/>
          <p:cNvPicPr/>
          <p:nvPr/>
        </p:nvPicPr>
        <p:blipFill>
          <a:blip r:embed="rId1"/>
          <a:srcRect l="0" t="8598" r="0" b="8598"/>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s</a:t>
            </a:r>
            <a:endParaRPr b="1" lang="en-US" sz="3200" spc="-1" strike="noStrike">
              <a:solidFill>
                <a:srgbClr val="ffffff"/>
              </a:solidFill>
              <a:latin typeface="Verdana"/>
            </a:endParaRPr>
          </a:p>
        </p:txBody>
      </p:sp>
      <p:sp>
        <p:nvSpPr>
          <p:cNvPr id="162"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Nos transtornos fóbico-ansiosos, os sintomas de ansiedade ocorrem diante de objetos ou situações bem definidos, que, em geral, não costumam causar temor nas pessoas.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Geralmente os sintomas pioram, a um nível insuportável, diante de tais objetos e situações, o que faz as pessoas evitá-los a qualquer preço, desenvolvendo, muitas vezes, comportamentos estranhos - de evitação, que passam a fazer parte do quadr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2F77-88BB-4E6E-B669-32587D1B85E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s</a:t>
            </a:r>
            <a:endParaRPr b="1" lang="en-US" sz="3200" spc="-1" strike="noStrike">
              <a:solidFill>
                <a:srgbClr val="ffffff"/>
              </a:solidFill>
              <a:latin typeface="Verdana"/>
            </a:endParaRPr>
          </a:p>
        </p:txBody>
      </p:sp>
      <p:sp>
        <p:nvSpPr>
          <p:cNvPr id="166" name=""/>
          <p:cNvSpPr txBox="1"/>
          <p:nvPr/>
        </p:nvSpPr>
        <p:spPr>
          <a:xfrm>
            <a:off x="468000" y="2204640"/>
            <a:ext cx="8381880" cy="21416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s fobias estão organizadas em dois grupo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obia social; 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obia específica /agorafobia.</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6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9400-185A-4772-B7E5-231F627D452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social</a:t>
            </a:r>
            <a:endParaRPr b="1" lang="en-US" sz="3200" spc="-1" strike="noStrike">
              <a:solidFill>
                <a:srgbClr val="ffffff"/>
              </a:solidFill>
              <a:latin typeface="Verdana"/>
            </a:endParaRPr>
          </a:p>
        </p:txBody>
      </p:sp>
      <p:sp>
        <p:nvSpPr>
          <p:cNvPr id="170" name=""/>
          <p:cNvSpPr txBox="1"/>
          <p:nvPr/>
        </p:nvSpPr>
        <p:spPr>
          <a:xfrm>
            <a:off x="468000" y="981000"/>
            <a:ext cx="838188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fobia social, muitas vezes, é confundida com timidez. Atualmente, 3 a 13% da população pode apresentar este transtorno, sendo comum aparecer na adolescência, afetando igualmente ambos os sexos.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fobia social é o medo de expor-se mesmo para grupos pequenos e situações informais.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essoa geralmente tem baixa auto-estima, sendo comum que procure o isolamento como forma de evitação do medo.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stuma comprometer muito a vida da pessoa, visto que esta passa a perder boas oportunidades, muitas vezes até no trabalho, pela necessidade de “passar despercebida”.</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7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00EF-D5AC-4CF3-9DFE-24A30522FAB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social</a:t>
            </a:r>
            <a:endParaRPr b="1" lang="en-US" sz="3200" spc="-1" strike="noStrike">
              <a:solidFill>
                <a:srgbClr val="ffffff"/>
              </a:solidFill>
              <a:latin typeface="Verdana"/>
            </a:endParaRPr>
          </a:p>
        </p:txBody>
      </p:sp>
      <p:sp>
        <p:nvSpPr>
          <p:cNvPr id="174"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ranstorno caracteriza-se por um medo acentuado e persistente de situações sociais ou uma situação social e de desempenho, nas quais o indivíduo sente intenso constrangimento.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situação social provoca sintomas de ansiedade, podendo desencadear ataques de pânico. A mesma é vivenciada com intenso desconforto ou evitada, interferindo significativamente na rotina diária e no funcionamento ocupacional e social do indivíduo.</a:t>
            </a:r>
            <a:br>
              <a:rPr sz="2400"/>
            </a:br>
            <a:r>
              <a:rPr b="0" lang="pt-BR" sz="2800" spc="-1" strike="noStrike">
                <a:solidFill>
                  <a:srgbClr val="000066"/>
                </a:solidFill>
                <a:latin typeface="Verdana"/>
              </a:rPr>
              <a:t> </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p:txBody>
      </p:sp>
      <p:sp>
        <p:nvSpPr>
          <p:cNvPr id="17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980A-6A21-4C65-9901-F517231E04D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social</a:t>
            </a:r>
            <a:endParaRPr b="1" lang="en-US" sz="3200" spc="-1" strike="noStrike">
              <a:solidFill>
                <a:srgbClr val="ffffff"/>
              </a:solidFill>
              <a:latin typeface="Verdana"/>
            </a:endParaRPr>
          </a:p>
        </p:txBody>
      </p:sp>
      <p:sp>
        <p:nvSpPr>
          <p:cNvPr id="178"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s portadores de fobia social, têm uma preocupação extrema com a avaliação dos outros, temendo que os avaliem como estranhos, estúpidos e inadequado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lém do medo de falar em público pode existir um temor de comer, beber ou escrever, conversar com autoridade, iniciar ou manter uma conversa de qualquer espécie (paquera ou um simples bate papo) e ser observado por outros.</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C7A0-EE45-477E-AC90-43C347ACD30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s de ansiedade</a:t>
            </a:r>
            <a:endParaRPr b="1" lang="en-US" sz="3200" spc="-1" strike="noStrike">
              <a:solidFill>
                <a:srgbClr val="ffffff"/>
              </a:solidFill>
              <a:latin typeface="Verdana"/>
            </a:endParaRPr>
          </a:p>
        </p:txBody>
      </p:sp>
      <p:sp>
        <p:nvSpPr>
          <p:cNvPr id="94"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c3c77"/>
                </a:solidFill>
                <a:latin typeface="Verdana"/>
              </a:rPr>
              <a:t>Transtorno de Ansiedade Generalizado (TAG);</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c3c77"/>
                </a:solidFill>
                <a:latin typeface="Verdana"/>
              </a:rPr>
              <a:t>Fobias;</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c3c77"/>
                </a:solidFill>
                <a:latin typeface="Verdana"/>
              </a:rPr>
              <a:t>Transtorno Obsessivo Compulsivo (TOC).</a:t>
            </a:r>
            <a:endParaRPr b="1" lang="en-US" sz="28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D8F7-DF26-4F4C-B50B-2AF62972A64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social</a:t>
            </a:r>
            <a:endParaRPr b="1" lang="en-US" sz="3200" spc="-1" strike="noStrike">
              <a:solidFill>
                <a:srgbClr val="ffffff"/>
              </a:solidFill>
              <a:latin typeface="Verdana"/>
            </a:endParaRPr>
          </a:p>
        </p:txBody>
      </p:sp>
      <p:sp>
        <p:nvSpPr>
          <p:cNvPr id="182" name=""/>
          <p:cNvSpPr txBox="1"/>
          <p:nvPr/>
        </p:nvSpPr>
        <p:spPr>
          <a:xfrm>
            <a:off x="456840" y="1143000"/>
            <a:ext cx="8381880" cy="5029200"/>
          </a:xfrm>
          <a:prstGeom prst="rect">
            <a:avLst/>
          </a:prstGeom>
          <a:noFill/>
          <a:ln w="0">
            <a:noFill/>
          </a:ln>
        </p:spPr>
        <p:txBody>
          <a:bodyPr anchor="t">
            <a:normAutofit fontScale="95000"/>
          </a:bodyPr>
          <a:p>
            <a:pPr marL="325800" indent="-325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importante perceber como o medo é exagerado e desproporcional, podendo se apresentar em uma única ou quaisquer situações sociais;</a:t>
            </a:r>
            <a:endParaRPr b="1" lang="en-US" sz="2800" spc="-1" strike="noStrike">
              <a:solidFill>
                <a:srgbClr val="000066"/>
              </a:solidFill>
              <a:latin typeface="Verdana"/>
            </a:endParaRPr>
          </a:p>
          <a:p>
            <a:pPr marL="325800" indent="-325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ambém é muito importante avaliar o contexto social e a cultura em que o indivíduo está inserido para classificarmos como um transtorno.</a:t>
            </a:r>
            <a:br>
              <a:rPr sz="2800"/>
            </a:br>
            <a:r>
              <a:rPr b="0" lang="pt-BR" sz="2800" spc="-1" strike="noStrike">
                <a:solidFill>
                  <a:srgbClr val="000066"/>
                </a:solidFill>
                <a:latin typeface="Verdana"/>
              </a:rPr>
              <a:t>A causa não é conhecida, mas estudos apontam para uma somatória de fatores genéticos e ambientais.</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a:p>
            <a:pPr marL="325800" indent="-325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62C8-3E23-415C-8E28-B51D77991A7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específica</a:t>
            </a:r>
            <a:endParaRPr b="1" lang="en-US" sz="3200" spc="-1" strike="noStrike">
              <a:solidFill>
                <a:srgbClr val="ffffff"/>
              </a:solidFill>
              <a:latin typeface="Verdana"/>
            </a:endParaRPr>
          </a:p>
        </p:txBody>
      </p:sp>
      <p:sp>
        <p:nvSpPr>
          <p:cNvPr id="186" name=""/>
          <p:cNvSpPr txBox="1"/>
          <p:nvPr/>
        </p:nvSpPr>
        <p:spPr>
          <a:xfrm>
            <a:off x="468000" y="980640"/>
            <a:ext cx="8381880" cy="4759560"/>
          </a:xfrm>
          <a:prstGeom prst="rect">
            <a:avLst/>
          </a:prstGeom>
          <a:noFill/>
          <a:ln w="0">
            <a:noFill/>
          </a:ln>
        </p:spPr>
        <p:txBody>
          <a:bodyPr anchor="t">
            <a:normAutofit fontScale="98000"/>
          </a:bodyPr>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fobias específicas referem-se ao medo de objetos ou situações específicas, tais como avião, altura, animais. </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racteriza-se por ansiedade clinicamente relevante provocada pela exposição a objeto ou situação específica e temida (estímulo fóbico), freqüentemente levando a pessoa a evitá-lo. </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ima-se que até 23% da população apresentará fobia a algum tipo de objeto ao longo da vida.</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Às vezes passa despercebida durante um tempo, pois a pessoa vai procurando evitar o estímulo temido, até um ponto em que o próprio comportamento de evitação passa a se tornar um problema.</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655B-4AE6-4F26-A80D-ED78A82BC8B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específica</a:t>
            </a:r>
            <a:endParaRPr b="1" lang="en-US" sz="3200" spc="-1" strike="noStrike">
              <a:solidFill>
                <a:srgbClr val="ffffff"/>
              </a:solidFill>
              <a:latin typeface="Verdana"/>
            </a:endParaRPr>
          </a:p>
        </p:txBody>
      </p:sp>
      <p:sp>
        <p:nvSpPr>
          <p:cNvPr id="190"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individuo com fobia apresenta medo persistente de objetos ou situações que normalmente não incomodam a maioria das pessoas. É consciente de que seus receios são desnecessários, mas não consegue controlá-los, privando-se de situações muito positivas para si por não conseguir entrar em contato com aquilo que teme.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diagnóstico só é apropriado se os sintomas interferirem na rotina diária, no funcionamento ocupacional ou na vida social da pessoa.</a:t>
            </a:r>
            <a:br>
              <a:rPr sz="2400"/>
            </a:br>
            <a:r>
              <a:rPr b="0" lang="pt-BR" sz="2800" spc="-1" strike="noStrike">
                <a:solidFill>
                  <a:srgbClr val="000066"/>
                </a:solidFill>
                <a:latin typeface="Verdana"/>
              </a:rPr>
              <a:t> </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p:txBody>
      </p:sp>
      <p:sp>
        <p:nvSpPr>
          <p:cNvPr id="19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1579-499E-44E2-B052-962F0065A31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específica</a:t>
            </a:r>
            <a:endParaRPr b="1" lang="en-US" sz="3200" spc="-1" strike="noStrike">
              <a:solidFill>
                <a:srgbClr val="ffffff"/>
              </a:solidFill>
              <a:latin typeface="Verdana"/>
            </a:endParaRPr>
          </a:p>
        </p:txBody>
      </p:sp>
      <p:sp>
        <p:nvSpPr>
          <p:cNvPr id="194" name=""/>
          <p:cNvSpPr txBox="1"/>
          <p:nvPr/>
        </p:nvSpPr>
        <p:spPr>
          <a:xfrm>
            <a:off x="250560" y="981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tipos mais freqüentes de fobia específica sã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nimal: medo de animais ou insetos, tais como barata, cachorro, cobra e outr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mbiente natural: altura, tempestades, água; ambiente hospitalar (sangue, injeção, feriment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ituacional: transportes coletivos, túneis, pontes, elevadores, aviões, </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dirigir ou permanecer em</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locais fechados. </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0066"/>
              </a:solidFill>
              <a:latin typeface="Verdana"/>
            </a:endParaRPr>
          </a:p>
        </p:txBody>
      </p:sp>
      <p:sp>
        <p:nvSpPr>
          <p:cNvPr id="1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9836-2AA7-4326-8541-0923C2F55D6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7" name="Picture 6" descr="http://t2.gstatic.com/images?q=tbn:ANd9GcRbt3TdV3WjRl_GOyzKofKO_4JXTmEVAf8xY_dGlX6hUD9wm9rOcA"/>
          <p:cNvPicPr/>
          <p:nvPr/>
        </p:nvPicPr>
        <p:blipFill>
          <a:blip r:embed="rId1"/>
          <a:stretch/>
        </p:blipFill>
        <p:spPr>
          <a:xfrm>
            <a:off x="5940360" y="3753000"/>
            <a:ext cx="2990880" cy="2492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gorafobia</a:t>
            </a:r>
            <a:endParaRPr b="1" lang="en-US" sz="3200" spc="-1" strike="noStrike">
              <a:solidFill>
                <a:srgbClr val="ffffff"/>
              </a:solidFill>
              <a:latin typeface="Verdana"/>
            </a:endParaRPr>
          </a:p>
        </p:txBody>
      </p:sp>
      <p:sp>
        <p:nvSpPr>
          <p:cNvPr id="199" name=""/>
          <p:cNvSpPr txBox="1"/>
          <p:nvPr/>
        </p:nvSpPr>
        <p:spPr>
          <a:xfrm>
            <a:off x="456840" y="1413000"/>
            <a:ext cx="838188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agorafobia constitui-se em medo excessivo de espaços abertos, multidões e situações em que haja dificuldade de fuga (lojas, supermercados, teatros, transportes coletivos, túneis, elevadores) e de ficar sozinho, mesmo que seja em sua própria casa.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ansiedade pode chegar ao pânico. Esta é a mais incapacitante de todas as fobia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BBAA-AB45-496C-BD0F-095C80F1D51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440" y="4800240"/>
            <a:ext cx="5486400" cy="114948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O PÂNICO</a:t>
            </a:r>
            <a:endParaRPr b="1" lang="en-US" sz="3200" spc="-1" strike="noStrike">
              <a:solidFill>
                <a:srgbClr val="ffffff"/>
              </a:solidFill>
              <a:latin typeface="Verdana"/>
            </a:endParaRPr>
          </a:p>
        </p:txBody>
      </p:sp>
      <p:sp>
        <p:nvSpPr>
          <p:cNvPr id="2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B9F6-32AD-4313-8889-1CCB27CF2B2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05" name="Espaço Reservado para Imagem 7" descr="http://t1.gstatic.com/images?q=tbn:ANd9GcSbwM7IhAm4W9rj74LQrmfKHcJx_Kx40GAbUzEqrvaLzO4bdShUzA"/>
          <p:cNvPicPr/>
          <p:nvPr/>
        </p:nvPicPr>
        <p:blipFill>
          <a:blip r:embed="rId1"/>
          <a:srcRect l="0" t="3178" r="0" b="3178"/>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440" y="4800240"/>
            <a:ext cx="5486400" cy="1436760"/>
          </a:xfrm>
          <a:prstGeom prst="rect">
            <a:avLst/>
          </a:prstGeom>
          <a:solidFill>
            <a:srgbClr val="0000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Quem conhece alguém com pânico de voar? De elevador? De altura? Tiveram curiosidade de perguntar o que elas sentem?</a:t>
            </a:r>
            <a:endParaRPr b="1" lang="en-US" sz="2000" spc="-1" strike="noStrike">
              <a:solidFill>
                <a:srgbClr val="ffffff"/>
              </a:solidFill>
              <a:latin typeface="Verdana"/>
            </a:endParaRPr>
          </a:p>
        </p:txBody>
      </p:sp>
      <p:sp>
        <p:nvSpPr>
          <p:cNvPr id="207"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8" name="Espaço Reservado para Número de Slide 5"/>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9B37-720E-4CFD-A94B-EAFF718B317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09" name="Picture 2" descr="http://www.aerospaceweb.org/aircraft/jetliner/a380/a380_16.jpg"/>
          <p:cNvPicPr/>
          <p:nvPr/>
        </p:nvPicPr>
        <p:blipFill>
          <a:blip r:embed="rId1"/>
          <a:srcRect l="5881" t="0" r="5881" b="0"/>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o Pânico</a:t>
            </a:r>
            <a:endParaRPr b="1" lang="en-US" sz="3200" spc="-1" strike="noStrike">
              <a:solidFill>
                <a:srgbClr val="ffffff"/>
              </a:solidFill>
              <a:latin typeface="Verdana"/>
            </a:endParaRPr>
          </a:p>
        </p:txBody>
      </p:sp>
      <p:sp>
        <p:nvSpPr>
          <p:cNvPr id="211" name=""/>
          <p:cNvSpPr txBox="1"/>
          <p:nvPr/>
        </p:nvSpPr>
        <p:spPr>
          <a:xfrm>
            <a:off x="394920" y="1125000"/>
            <a:ext cx="8381880" cy="49676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Muito divulgado por vários meios de comunicação, o transtorno do pânico parece uma nova doença, embora isso não seja verdade, pois vem sendo descrita na literatura psiquiátrica há muito temp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Caracteriza-se por ataques de pânico recorrentes e sem motivo inicial aparent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um dos transtornos de ansiedade mais freqüentes, atingindo 1,5 a 2% da população, na maioria dos casos mulheres entre 18 e 35 anos.</a:t>
            </a:r>
            <a:endParaRPr b="1" lang="en-US" sz="2800" spc="-1" strike="noStrike">
              <a:solidFill>
                <a:srgbClr val="000066"/>
              </a:solidFill>
              <a:latin typeface="Verdana"/>
            </a:endParaRPr>
          </a:p>
        </p:txBody>
      </p:sp>
      <p:sp>
        <p:nvSpPr>
          <p:cNvPr id="2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6E22-B057-4FAE-B139-E9026E68979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o Pânico</a:t>
            </a:r>
            <a:endParaRPr b="1" lang="en-US" sz="3200" spc="-1" strike="noStrike">
              <a:solidFill>
                <a:srgbClr val="ffffff"/>
              </a:solidFill>
              <a:latin typeface="Verdana"/>
            </a:endParaRPr>
          </a:p>
        </p:txBody>
      </p:sp>
      <p:sp>
        <p:nvSpPr>
          <p:cNvPr id="215"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m pânico, a pessoa experimenta diversos sintomas característicos de alteração do sistema nervoso autônomo, como: taquicardia, taquipnéia, dor precordial ou no estômago, suores, tremores, dormências, tonturas, náuseas e outro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Mas o principal desses sintomas é a sensação de terror que a pessoa experimenta diante da nítida sensação de que vai morrer ou perder totalmente o controle (ter um desmaio ou ter uma amnésia irreversível). </a:t>
            </a:r>
            <a:endParaRPr b="1" lang="en-US" sz="2800" spc="-1" strike="noStrike">
              <a:solidFill>
                <a:srgbClr val="000066"/>
              </a:solidFill>
              <a:latin typeface="Verdana"/>
            </a:endParaRPr>
          </a:p>
        </p:txBody>
      </p:sp>
      <p:sp>
        <p:nvSpPr>
          <p:cNvPr id="21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63E7-63A0-461D-8194-D4DF74DD8BA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o Pânico</a:t>
            </a:r>
            <a:endParaRPr b="1" lang="en-US" sz="3200" spc="-1" strike="noStrike">
              <a:solidFill>
                <a:srgbClr val="ffffff"/>
              </a:solidFill>
              <a:latin typeface="Verdana"/>
            </a:endParaRPr>
          </a:p>
        </p:txBody>
      </p:sp>
      <p:sp>
        <p:nvSpPr>
          <p:cNvPr id="219" name=""/>
          <p:cNvSpPr txBox="1"/>
          <p:nvPr/>
        </p:nvSpPr>
        <p:spPr>
          <a:xfrm>
            <a:off x="456840" y="1700280"/>
            <a:ext cx="8381880" cy="4471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Na verdade, essa sensação é tão real que a pessoa passa a temer outro ataque de pânico, passa a ter medo de ter medo.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sim, passa a desenvolver comportamentos evitativos em relação às situações em que se encontrava em cada ataque de pânico, desenvolvendo uma agorafobia correlat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642A-15AF-4D8A-A36F-2152D2B522D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1907640" y="1413000"/>
            <a:ext cx="693108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o final desta sessão os estudantes deverão ser capazes 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itar os principais sinais e sintomas do Transtorno de Ansiedade Generalizado (TAG), da Fobia e do </a:t>
            </a:r>
            <a:r>
              <a:rPr b="0" lang="pt-PT" sz="2400" spc="-1" strike="noStrike">
                <a:solidFill>
                  <a:srgbClr val="3c3c77"/>
                </a:solidFill>
                <a:latin typeface="Verdana"/>
              </a:rPr>
              <a:t>Transtorno Obsessivo Compulsivo (TOC);</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11FC-B391-4ED5-A018-BAD93895DD3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468360" y="2276640"/>
            <a:ext cx="1985760" cy="2160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92440" y="4800240"/>
            <a:ext cx="5486400" cy="150804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OBSESSIVO COMPULSIVO</a:t>
            </a:r>
            <a:endParaRPr b="1" lang="en-US" sz="3200" spc="-1" strike="noStrike">
              <a:solidFill>
                <a:srgbClr val="ffffff"/>
              </a:solidFill>
              <a:latin typeface="Verdana"/>
            </a:endParaRPr>
          </a:p>
        </p:txBody>
      </p:sp>
      <p:sp>
        <p:nvSpPr>
          <p:cNvPr id="2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D856-7638-4ED0-A4EC-43EB8D0080D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25" name="Espaço Reservado para Imagem 7" descr="http://t3.gstatic.com/images?q=tbn:ANd9GcScIBLrTF-C-GcZft-QN8fo96b8fK6jEBpuev-SyGCN953RLCzw"/>
          <p:cNvPicPr/>
          <p:nvPr/>
        </p:nvPicPr>
        <p:blipFill>
          <a:blip r:embed="rId1"/>
          <a:srcRect l="5635" t="0" r="5635" b="0"/>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Obsessivo Compulsivo (TOC)</a:t>
            </a:r>
            <a:endParaRPr b="1" lang="en-US" sz="3200" spc="-1" strike="noStrike">
              <a:solidFill>
                <a:srgbClr val="ffffff"/>
              </a:solidFill>
              <a:latin typeface="Verdana"/>
            </a:endParaRPr>
          </a:p>
        </p:txBody>
      </p:sp>
      <p:sp>
        <p:nvSpPr>
          <p:cNvPr id="227"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OC é um transtorno de ansiedade no qual o indivíduo desenvolve pensamentos ou ações repetitivas que ele próprio considera na maioria das vezes como inapropriadas, mas que não consegue controlar, muitas vezes porque acredita que algo trágico ocorrerá a si ou a outros, caso ele não as execute. </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Exemplo: Diante de um pensamento obsessivo de que há doenças espalhadas no ar e que poderá contraí-las através da pele, o indivíduo com TOC poderá desenvolver o ato compulsivo de tomar longos e repetidos banhos, o que na verdade é um comportamento evitativo da ansiedade que pode causar-lhe imaginar-se doente.</a:t>
            </a:r>
            <a:endParaRPr b="1" lang="en-US" sz="2000" spc="-1" strike="noStrike">
              <a:solidFill>
                <a:srgbClr val="000066"/>
              </a:solidFill>
              <a:latin typeface="Verdan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2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9247-407E-4882-8E33-937DEB025C3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240" y="228240"/>
            <a:ext cx="7467480" cy="608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OC</a:t>
            </a:r>
            <a:endParaRPr b="1" lang="en-US" sz="3200" spc="-1" strike="noStrike">
              <a:solidFill>
                <a:srgbClr val="ffffff"/>
              </a:solidFill>
              <a:latin typeface="Verdana"/>
            </a:endParaRPr>
          </a:p>
        </p:txBody>
      </p:sp>
      <p:sp>
        <p:nvSpPr>
          <p:cNvPr id="231" name=""/>
          <p:cNvSpPr txBox="1"/>
          <p:nvPr/>
        </p:nvSpPr>
        <p:spPr>
          <a:xfrm>
            <a:off x="468000" y="836640"/>
            <a:ext cx="8381880" cy="4687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esar de o TOC não ser dos transtornos ansiosos mais comuns, estima-se afetar 3% da populaçã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de ser incapacitante, pois, dependendo do grau em que se encontra, o indivíduo fica preso em rituais, não conseguindo realizar nem mesmo as atividades da vida  diária a content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pendendo do ato compulsivo, a pessoa pode provocar lesões em si mesma, como por exemplo na lavagem quase contínua das mã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3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ED87-F97C-4F41-BC15-A54F340E60C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34" name="Picture 18" descr="http://t3.gstatic.com/images?q=tbn:ANd9GcQDLD0oI7Xfa956uIEjoGZlb4rPUdD0Wf8fdaP7fv2I4wOfcSTE"/>
          <p:cNvPicPr/>
          <p:nvPr/>
        </p:nvPicPr>
        <p:blipFill>
          <a:blip r:embed="rId1"/>
          <a:stretch/>
        </p:blipFill>
        <p:spPr>
          <a:xfrm>
            <a:off x="2050920" y="4508640"/>
            <a:ext cx="5053320" cy="1881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sessões mais comuns</a:t>
            </a:r>
            <a:endParaRPr b="1" lang="en-US" sz="3200" spc="-1" strike="noStrike">
              <a:solidFill>
                <a:srgbClr val="ffffff"/>
              </a:solidFill>
              <a:latin typeface="Verdana"/>
            </a:endParaRPr>
          </a:p>
        </p:txBody>
      </p:sp>
      <p:sp>
        <p:nvSpPr>
          <p:cNvPr id="236" name=""/>
          <p:cNvSpPr txBox="1"/>
          <p:nvPr/>
        </p:nvSpPr>
        <p:spPr>
          <a:xfrm>
            <a:off x="539640" y="1267920"/>
            <a:ext cx="8382240" cy="48135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nsamentos repetidos acerca de contaminação (por exemplo, ser contaminado em aperto de mãos, ao usar transportes coletivos, pegar em dinheir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úvida (por exemplo, imaginar se foram executados certos atos, como ter deixado uma porta aberta, não ter desligado o gás do fogã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ecessidade de organizar as coisas em determinada ordem (intenso sofrimento quando os objetos estão desordenados ou dispostos de forma assimétrica, quadros tortos, móveis desalinhados).</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23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315D-0636-401D-B58F-0AAEA8D6097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sessões mais comuns</a:t>
            </a:r>
            <a:endParaRPr b="1" lang="en-US" sz="3200" spc="-1" strike="noStrike">
              <a:solidFill>
                <a:srgbClr val="ffffff"/>
              </a:solidFill>
              <a:latin typeface="Verdana"/>
            </a:endParaRPr>
          </a:p>
        </p:txBody>
      </p:sp>
      <p:sp>
        <p:nvSpPr>
          <p:cNvPr id="240" name=""/>
          <p:cNvSpPr txBox="1"/>
          <p:nvPr/>
        </p:nvSpPr>
        <p:spPr>
          <a:xfrm>
            <a:off x="456840" y="1700280"/>
            <a:ext cx="8381880" cy="4471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mpulsos agressivos ou horrorizantes (por exemplo, machucar o próprio filho ou gritar uma obscenidade na igrej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magens sexuais (por exemplo, uma imagem pornográfica recorrente).</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E1C3-25C7-4F67-9A8E-47C6FD5209A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pulsão</a:t>
            </a:r>
            <a:endParaRPr b="1" lang="en-US" sz="3200" spc="-1" strike="noStrike">
              <a:solidFill>
                <a:srgbClr val="ffffff"/>
              </a:solidFill>
              <a:latin typeface="Verdana"/>
            </a:endParaRPr>
          </a:p>
        </p:txBody>
      </p:sp>
      <p:sp>
        <p:nvSpPr>
          <p:cNvPr id="244" name=""/>
          <p:cNvSpPr txBox="1"/>
          <p:nvPr/>
        </p:nvSpPr>
        <p:spPr>
          <a:xfrm>
            <a:off x="468000" y="1125000"/>
            <a:ext cx="8381880" cy="488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modo como o indivíduo consegue se livrar temporariamente das obsessões é através de comportamentos compulsivos ou compulsõ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compulsões, também chamadas de rituais, são comportamentos repetitivos e estereotipados (por exemplo, lavar as mãos, ordenar, verificar) ou atos mentais (por exemplo, rezar, contar, repetir palavras em silêncio) cujo objetivo é reduzir a ansiedade ou sofrimento, ao invés de oferecer prazer ou gratificação.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66"/>
              </a:solidFill>
              <a:latin typeface="Verdana"/>
            </a:endParaRPr>
          </a:p>
        </p:txBody>
      </p:sp>
      <p:sp>
        <p:nvSpPr>
          <p:cNvPr id="24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04B9-8251-423C-A22B-5121040A7E9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pulsões mais frequentes</a:t>
            </a:r>
            <a:endParaRPr b="1" lang="en-US" sz="3200" spc="-1" strike="noStrike">
              <a:solidFill>
                <a:srgbClr val="ffffff"/>
              </a:solidFill>
              <a:latin typeface="Verdana"/>
            </a:endParaRPr>
          </a:p>
        </p:txBody>
      </p:sp>
      <p:sp>
        <p:nvSpPr>
          <p:cNvPr id="248" name=""/>
          <p:cNvSpPr txBox="1"/>
          <p:nvPr/>
        </p:nvSpPr>
        <p:spPr>
          <a:xfrm>
            <a:off x="324000" y="980640"/>
            <a:ext cx="4752720" cy="532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avar compulsivo: pessoas com obsessões de contaminação e sujeira costumam lavar repetidamente as mãos, tomar banhos demorados ou despender exagerado tempo na limpeza de cas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erificar  ou checar compulsivo: a pessoa com dúvida obsessiva pode checar diversas vezes (às vezes mais de 100) se trancou a porta de casa. </a:t>
            </a:r>
            <a:endParaRPr b="1" lang="en-US" sz="2400" spc="-1" strike="noStrike">
              <a:solidFill>
                <a:srgbClr val="000066"/>
              </a:solidFill>
              <a:latin typeface="Verdana"/>
            </a:endParaRPr>
          </a:p>
        </p:txBody>
      </p:sp>
      <p:sp>
        <p:nvSpPr>
          <p:cNvPr id="24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BCA4-EB13-4414-B508-07C6B61FE6E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51" name="Picture 16" descr="http://t1.gstatic.com/images?q=tbn:ANd9GcRBmql08fJggZ2qMERnzTiL8Zr1gC-lu1-UxC2QD4hN5iL59oUm"/>
          <p:cNvPicPr/>
          <p:nvPr/>
        </p:nvPicPr>
        <p:blipFill>
          <a:blip r:embed="rId1"/>
          <a:stretch/>
        </p:blipFill>
        <p:spPr>
          <a:xfrm>
            <a:off x="5003640" y="2060640"/>
            <a:ext cx="3919680" cy="28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pulsões mais frequentes</a:t>
            </a:r>
            <a:endParaRPr b="1" lang="en-US" sz="3200" spc="-1" strike="noStrike">
              <a:solidFill>
                <a:srgbClr val="ffffff"/>
              </a:solidFill>
              <a:latin typeface="Verdana"/>
            </a:endParaRPr>
          </a:p>
        </p:txBody>
      </p:sp>
      <p:sp>
        <p:nvSpPr>
          <p:cNvPr id="253"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entificação: os atos são realizados muito lentamente sem rituais identificáveis. A pessoa chega a levar horas para realizar uma ação que normalmente levaria poucos minuto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lecionismo: colecionadores podem não conseguir jogar fora objetos inúteis, como jornais velhos, correspondências e objetos quebrados. Algumas vezes, os colecionadores chegam ao ponto de encher armários e quartos inteiros com objetos desnecessários.</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5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05EF-223E-4A04-9074-23E2037B581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OC</a:t>
            </a:r>
            <a:endParaRPr b="1" lang="en-US" sz="3200" spc="-1" strike="noStrike">
              <a:solidFill>
                <a:srgbClr val="ffffff"/>
              </a:solidFill>
              <a:latin typeface="Verdana"/>
            </a:endParaRPr>
          </a:p>
        </p:txBody>
      </p:sp>
      <p:sp>
        <p:nvSpPr>
          <p:cNvPr id="257" name=""/>
          <p:cNvSpPr txBox="1"/>
          <p:nvPr/>
        </p:nvSpPr>
        <p:spPr>
          <a:xfrm>
            <a:off x="468000" y="907560"/>
            <a:ext cx="8381880" cy="33670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ara que a pessoa receba o diagnóstico de TOC as obsessões ou compulsões devem: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usar acentuado sofr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sumir mais de 1 hora por dia ou interferirem significativamente na rotina normal, funcionamento ocupacional, atividades sociais habituais ou relacionamentos do indivíduo.</a:t>
            </a:r>
            <a:endParaRPr b="1" lang="en-US" sz="2400" spc="-1" strike="noStrike">
              <a:solidFill>
                <a:srgbClr val="000066"/>
              </a:solidFill>
              <a:latin typeface="Verdana"/>
            </a:endParaRPr>
          </a:p>
        </p:txBody>
      </p:sp>
      <p:sp>
        <p:nvSpPr>
          <p:cNvPr id="25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EA68-7E8F-4E1E-B01C-6AC134FE1EE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60" name="Picture 14" descr="http://t3.gstatic.com/images?q=tbn:ANd9GcTb9jKPXqPzsn3OmH83cgW0QCBkN2TzzQmweH_NUVvSWAWgnqbprw"/>
          <p:cNvPicPr/>
          <p:nvPr/>
        </p:nvPicPr>
        <p:blipFill>
          <a:blip r:embed="rId1"/>
          <a:stretch/>
        </p:blipFill>
        <p:spPr>
          <a:xfrm>
            <a:off x="2916360" y="4005360"/>
            <a:ext cx="4294080" cy="2382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Transtorno de Estresse Pós-Traumático (TEPT)</a:t>
            </a:r>
            <a:endParaRPr b="1" lang="en-US" sz="3200" spc="-1" strike="noStrike">
              <a:solidFill>
                <a:srgbClr val="ffffff"/>
              </a:solidFill>
              <a:latin typeface="Verdana"/>
            </a:endParaRPr>
          </a:p>
        </p:txBody>
      </p:sp>
      <p:sp>
        <p:nvSpPr>
          <p:cNvPr id="262"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paciente refere, geralmente, um evento fortemente traumático (estupro, catástrofes, seqüestros), muito gerador de estresse e a partir do qual passou a desenvolver repetidos episódios nos quais, mediante a lembrança do evento, desenvolve uma série de reacções, com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torpecimento; Sonolência excessiv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sência de respostas aos estímulos do ambi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dução da memória ou de concentraçã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6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7CBD-E4E3-482C-846F-D1B1B53912B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65" name="CaixaDeTexto 5"/>
          <p:cNvSpPr/>
          <p:nvPr/>
        </p:nvSpPr>
        <p:spPr>
          <a:xfrm>
            <a:off x="5867280" y="5229360"/>
            <a:ext cx="2881440" cy="82548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stema de defesa pela fuga</a:t>
            </a:r>
            <a:endParaRPr b="0" lang="en-US" sz="2400" spc="-1" strike="noStrike">
              <a:solidFill>
                <a:srgbClr val="000000"/>
              </a:solidFill>
              <a:latin typeface="Verdana"/>
            </a:endParaRPr>
          </a:p>
        </p:txBody>
      </p:sp>
      <p:cxnSp>
        <p:nvCxnSpPr>
          <p:cNvPr id="266" name="Conector angulado 7"/>
          <p:cNvCxnSpPr/>
          <p:nvPr/>
        </p:nvCxnSpPr>
        <p:spPr>
          <a:xfrm>
            <a:off x="4932000" y="5157360"/>
            <a:ext cx="864360" cy="575640"/>
          </a:xfrm>
          <a:prstGeom prst="bentConnector3">
            <a:avLst>
              <a:gd name="adj1" fmla="val 50000"/>
            </a:avLst>
          </a:prstGeom>
          <a:ln w="1260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s de ansiedade</a:t>
            </a:r>
            <a:endParaRPr b="1" lang="en-US" sz="3200" spc="-1" strike="noStrike">
              <a:solidFill>
                <a:srgbClr val="ffffff"/>
              </a:solidFill>
              <a:latin typeface="Verdana"/>
            </a:endParaRPr>
          </a:p>
        </p:txBody>
      </p:sp>
      <p:sp>
        <p:nvSpPr>
          <p:cNvPr id="103" name=""/>
          <p:cNvSpPr txBox="1"/>
          <p:nvPr/>
        </p:nvSpPr>
        <p:spPr>
          <a:xfrm>
            <a:off x="468000" y="1052640"/>
            <a:ext cx="8381880" cy="540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nsiedade faz parte de todos nós, e como um sintoma pode aparecer em vários transtornos mentai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s transtornos de ansiedade, entretanto, esta aparece como sintoma centr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nsiedade tem a função de diminuir o desconforto, pois propicia um impulso para resolução das situações ansiógenas; aumenta o grau de vigília o que amplia a capacidade de agir em situações de estress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rtanto, sentir ansiedade é normal e adaptativo para os seres humanos. Mas, a ansiedade é também um sintoma predominante de um grupo de transtornos, os transtornos de ansiedad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0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A34B-E26C-4597-A88E-79BF96AC47F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EPT</a:t>
            </a:r>
            <a:endParaRPr b="1" lang="en-US" sz="3200" spc="-1" strike="noStrike">
              <a:solidFill>
                <a:srgbClr val="ffffff"/>
              </a:solidFill>
              <a:latin typeface="Verdana"/>
            </a:endParaRPr>
          </a:p>
        </p:txBody>
      </p:sp>
      <p:sp>
        <p:nvSpPr>
          <p:cNvPr id="268" name=""/>
          <p:cNvSpPr txBox="1"/>
          <p:nvPr/>
        </p:nvSpPr>
        <p:spPr>
          <a:xfrm>
            <a:off x="456840" y="1143000"/>
            <a:ext cx="8381880" cy="5029200"/>
          </a:xfrm>
          <a:prstGeom prst="rect">
            <a:avLst/>
          </a:prstGeom>
          <a:noFill/>
          <a:ln w="0">
            <a:noFill/>
          </a:ln>
        </p:spPr>
        <p:txBody>
          <a:bodyPr anchor="t">
            <a:normAutofit fontScale="93000"/>
          </a:bodyPr>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Este transtorno atinge cerca de 1 a 2% da população desenvolvendo-se em qualquer período da vida, principalmente em condições onde a pessoa é exposta a situações de risco;</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omo nos demais transtornos de ansiedade, ocorre mais no sexo feminino. </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Não é muito difundido nos meios de comunicação, mas traz prejuízos importantes aos seus portadores, levando a abuso de álcool, depressão e suicídio.</a:t>
            </a:r>
            <a:br>
              <a:rPr sz="2800"/>
            </a:br>
            <a:br>
              <a:rPr sz="2800"/>
            </a:br>
            <a:r>
              <a:rPr b="0" lang="en-US" sz="2800" spc="-1" strike="noStrike">
                <a:solidFill>
                  <a:srgbClr val="000066"/>
                </a:solidFill>
                <a:latin typeface="Verdana"/>
              </a:rPr>
              <a:t> </a:t>
            </a:r>
            <a:endParaRPr b="1" lang="en-US" sz="2800" spc="-1" strike="noStrike">
              <a:solidFill>
                <a:srgbClr val="000066"/>
              </a:solidFill>
              <a:latin typeface="Verdana"/>
            </a:endParaRPr>
          </a:p>
        </p:txBody>
      </p:sp>
      <p:sp>
        <p:nvSpPr>
          <p:cNvPr id="26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8E0E-71E8-4526-9E9A-FDDE4E32971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EPT</a:t>
            </a:r>
            <a:endParaRPr b="1" lang="en-US" sz="3200" spc="-1" strike="noStrike">
              <a:solidFill>
                <a:srgbClr val="ffffff"/>
              </a:solidFill>
              <a:latin typeface="Verdana"/>
            </a:endParaRPr>
          </a:p>
        </p:txBody>
      </p:sp>
      <p:sp>
        <p:nvSpPr>
          <p:cNvPr id="272" name=""/>
          <p:cNvSpPr txBox="1"/>
          <p:nvPr/>
        </p:nvSpPr>
        <p:spPr>
          <a:xfrm>
            <a:off x="456840" y="1143000"/>
            <a:ext cx="8381880" cy="5029200"/>
          </a:xfrm>
          <a:prstGeom prst="rect">
            <a:avLst/>
          </a:prstGeom>
          <a:noFill/>
          <a:ln w="0">
            <a:noFill/>
          </a:ln>
        </p:spPr>
        <p:txBody>
          <a:bodyPr anchor="t">
            <a:normAutofit fontScale="93000"/>
          </a:bodyPr>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ara se caracterizar um transtorno como TEPT, a duração dos sintomas deverá ser superior a um mês.</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Diante do evento traumático o individuo comporta-se de maneira imprevisível: para alguns indivíduos as reações são passageiras, para outros são de longa duração e de consequências sérias. </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ituações traumáticas são carregadas de intensidade, podendo afetar uma pessoa ou comunidades inteiras. </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ADA5-04EC-423C-9146-922D559280A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EPT</a:t>
            </a:r>
            <a:endParaRPr b="1" lang="en-US" sz="3200" spc="-1" strike="noStrike">
              <a:solidFill>
                <a:srgbClr val="ffffff"/>
              </a:solidFill>
              <a:latin typeface="Verdana"/>
            </a:endParaRPr>
          </a:p>
        </p:txBody>
      </p:sp>
      <p:sp>
        <p:nvSpPr>
          <p:cNvPr id="276"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ituações traumáticas são definidas por: tortura, terrorismo, rapto, guerra, acidentes naturais, seqüestros, incêndios, assaltos, agressões, conhecimento de doença com risco de morte em filhos, diagnósticos de doenças que levem à morte, desastres automobilísticos e aéreos, contato com crianças mortas ou gravemente feridas, morte ou lesão grave de um colega de trabalho, suicídio de um colega ou qualquer evento de impacto importante e não habitual em um grup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62E5-4EF4-4332-9B97-5EF38504428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s de ansiedade</a:t>
            </a:r>
            <a:endParaRPr b="1" lang="en-US" sz="3200" spc="-1" strike="noStrike">
              <a:solidFill>
                <a:srgbClr val="ffffff"/>
              </a:solidFill>
              <a:latin typeface="Verdana"/>
            </a:endParaRPr>
          </a:p>
        </p:txBody>
      </p:sp>
      <p:sp>
        <p:nvSpPr>
          <p:cNvPr id="10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5611-9022-43F9-A275-BC0572BA5A9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9" name="Picture 2" descr="Transtorno de Ansiedade Generalizada">
            <a:hlinkClick r:id="rId1"/>
          </p:cNvPr>
          <p:cNvPicPr/>
          <p:nvPr/>
        </p:nvPicPr>
        <p:blipFill>
          <a:blip r:embed="rId2"/>
          <a:stretch/>
        </p:blipFill>
        <p:spPr>
          <a:xfrm>
            <a:off x="539640" y="1052640"/>
            <a:ext cx="2232000" cy="2232000"/>
          </a:xfrm>
          <a:prstGeom prst="rect">
            <a:avLst/>
          </a:prstGeom>
          <a:ln w="0">
            <a:noFill/>
          </a:ln>
        </p:spPr>
      </p:pic>
      <p:pic>
        <p:nvPicPr>
          <p:cNvPr id="110" name="Picture 4" descr="Fobia Social">
            <a:hlinkClick r:id="rId3"/>
          </p:cNvPr>
          <p:cNvPicPr/>
          <p:nvPr/>
        </p:nvPicPr>
        <p:blipFill>
          <a:blip r:embed="rId4"/>
          <a:stretch/>
        </p:blipFill>
        <p:spPr>
          <a:xfrm>
            <a:off x="6443640" y="1052640"/>
            <a:ext cx="2305080" cy="2305080"/>
          </a:xfrm>
          <a:prstGeom prst="rect">
            <a:avLst/>
          </a:prstGeom>
          <a:ln w="0">
            <a:noFill/>
          </a:ln>
        </p:spPr>
      </p:pic>
      <p:sp>
        <p:nvSpPr>
          <p:cNvPr id="111" name="CaixaDeTexto 7"/>
          <p:cNvSpPr/>
          <p:nvPr/>
        </p:nvSpPr>
        <p:spPr>
          <a:xfrm>
            <a:off x="395280" y="3284640"/>
            <a:ext cx="244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torno de Ansiedade Generalizado</a:t>
            </a:r>
            <a:endParaRPr b="0" lang="en-US" sz="2000" spc="-1" strike="noStrike">
              <a:solidFill>
                <a:srgbClr val="000000"/>
              </a:solidFill>
              <a:latin typeface="Verdana"/>
            </a:endParaRPr>
          </a:p>
        </p:txBody>
      </p:sp>
      <p:sp>
        <p:nvSpPr>
          <p:cNvPr id="112" name="CaixaDeTexto 10"/>
          <p:cNvSpPr/>
          <p:nvPr/>
        </p:nvSpPr>
        <p:spPr>
          <a:xfrm>
            <a:off x="6156360" y="5661000"/>
            <a:ext cx="273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Estresse Pós-traumático</a:t>
            </a:r>
            <a:endParaRPr b="0" lang="en-US" sz="2000" spc="-1" strike="noStrike">
              <a:solidFill>
                <a:srgbClr val="000000"/>
              </a:solidFill>
              <a:latin typeface="Verdana"/>
            </a:endParaRPr>
          </a:p>
        </p:txBody>
      </p:sp>
      <p:sp>
        <p:nvSpPr>
          <p:cNvPr id="113" name="CaixaDeTexto 11"/>
          <p:cNvSpPr/>
          <p:nvPr/>
        </p:nvSpPr>
        <p:spPr>
          <a:xfrm>
            <a:off x="2916360" y="5661000"/>
            <a:ext cx="302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torno Obsessivo Compulsivo</a:t>
            </a:r>
            <a:endParaRPr b="0" lang="en-US" sz="2000" spc="-1" strike="noStrike">
              <a:solidFill>
                <a:srgbClr val="000000"/>
              </a:solidFill>
              <a:latin typeface="Verdana"/>
            </a:endParaRPr>
          </a:p>
        </p:txBody>
      </p:sp>
      <p:sp>
        <p:nvSpPr>
          <p:cNvPr id="114" name="CaixaDeTexto 12"/>
          <p:cNvSpPr/>
          <p:nvPr/>
        </p:nvSpPr>
        <p:spPr>
          <a:xfrm>
            <a:off x="250920" y="5950080"/>
            <a:ext cx="280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índrome do Pânico</a:t>
            </a:r>
            <a:endParaRPr b="0" lang="en-US" sz="2000" spc="-1" strike="noStrike">
              <a:solidFill>
                <a:srgbClr val="000000"/>
              </a:solidFill>
              <a:latin typeface="Verdana"/>
            </a:endParaRPr>
          </a:p>
        </p:txBody>
      </p:sp>
      <p:sp>
        <p:nvSpPr>
          <p:cNvPr id="115" name="CaixaDeTexto 13"/>
          <p:cNvSpPr/>
          <p:nvPr/>
        </p:nvSpPr>
        <p:spPr>
          <a:xfrm>
            <a:off x="6372360" y="3357720"/>
            <a:ext cx="2447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bia específica</a:t>
            </a:r>
            <a:endParaRPr b="0" lang="en-US" sz="2000" spc="-1" strike="noStrike">
              <a:solidFill>
                <a:srgbClr val="000000"/>
              </a:solidFill>
              <a:latin typeface="Verdana"/>
            </a:endParaRPr>
          </a:p>
        </p:txBody>
      </p:sp>
      <p:sp>
        <p:nvSpPr>
          <p:cNvPr id="116" name="CaixaDeTexto 14"/>
          <p:cNvSpPr/>
          <p:nvPr/>
        </p:nvSpPr>
        <p:spPr>
          <a:xfrm>
            <a:off x="3419640" y="3357720"/>
            <a:ext cx="2447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bia Social</a:t>
            </a:r>
            <a:endParaRPr b="0" lang="en-US" sz="2000" spc="-1" strike="noStrike">
              <a:solidFill>
                <a:srgbClr val="000000"/>
              </a:solidFill>
              <a:latin typeface="Verdana"/>
            </a:endParaRPr>
          </a:p>
        </p:txBody>
      </p:sp>
      <p:pic>
        <p:nvPicPr>
          <p:cNvPr id="117" name="Picture 8" descr="Fobias Específicas">
            <a:hlinkClick r:id="rId5"/>
          </p:cNvPr>
          <p:cNvPicPr/>
          <p:nvPr/>
        </p:nvPicPr>
        <p:blipFill>
          <a:blip r:embed="rId6"/>
          <a:stretch/>
        </p:blipFill>
        <p:spPr>
          <a:xfrm>
            <a:off x="3492360" y="1052640"/>
            <a:ext cx="2303640" cy="2305080"/>
          </a:xfrm>
          <a:prstGeom prst="rect">
            <a:avLst/>
          </a:prstGeom>
          <a:ln w="0">
            <a:noFill/>
          </a:ln>
        </p:spPr>
      </p:pic>
      <p:pic>
        <p:nvPicPr>
          <p:cNvPr id="118" name="Picture 10" descr="Transtorno do Pânico">
            <a:hlinkClick r:id="rId7"/>
          </p:cNvPr>
          <p:cNvPicPr/>
          <p:nvPr/>
        </p:nvPicPr>
        <p:blipFill>
          <a:blip r:embed="rId8"/>
          <a:stretch/>
        </p:blipFill>
        <p:spPr>
          <a:xfrm>
            <a:off x="684360" y="4292640"/>
            <a:ext cx="1741320" cy="1743120"/>
          </a:xfrm>
          <a:prstGeom prst="rect">
            <a:avLst/>
          </a:prstGeom>
          <a:ln w="0">
            <a:noFill/>
          </a:ln>
        </p:spPr>
      </p:pic>
      <p:pic>
        <p:nvPicPr>
          <p:cNvPr id="119" name="Picture 12" descr="Transtorno Obsessivo Compulsivo - TOC">
            <a:hlinkClick r:id="rId9"/>
          </p:cNvPr>
          <p:cNvPicPr/>
          <p:nvPr/>
        </p:nvPicPr>
        <p:blipFill>
          <a:blip r:embed="rId10"/>
          <a:stretch/>
        </p:blipFill>
        <p:spPr>
          <a:xfrm>
            <a:off x="3635280" y="3933720"/>
            <a:ext cx="1800360" cy="1798920"/>
          </a:xfrm>
          <a:prstGeom prst="rect">
            <a:avLst/>
          </a:prstGeom>
          <a:ln w="0">
            <a:noFill/>
          </a:ln>
        </p:spPr>
      </p:pic>
      <p:pic>
        <p:nvPicPr>
          <p:cNvPr id="120" name="Picture 14" descr="Estresse Pós Traumatico"/>
          <p:cNvPicPr/>
          <p:nvPr/>
        </p:nvPicPr>
        <p:blipFill>
          <a:blip r:embed="rId11"/>
          <a:stretch/>
        </p:blipFill>
        <p:spPr>
          <a:xfrm>
            <a:off x="6732720" y="3860640"/>
            <a:ext cx="1871640" cy="18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440" y="4800600"/>
            <a:ext cx="5486400" cy="158112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E ANSIEDADE GENERALIZADO</a:t>
            </a:r>
            <a:endParaRPr b="1" lang="en-US" sz="3200" spc="-1" strike="noStrike">
              <a:solidFill>
                <a:srgbClr val="ffffff"/>
              </a:solidFill>
              <a:latin typeface="Verdana"/>
            </a:endParaRPr>
          </a:p>
        </p:txBody>
      </p:sp>
      <p:sp>
        <p:nvSpPr>
          <p:cNvPr id="12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A716-AD3E-4776-B1B0-3352EE2612B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24" name="Espaço Reservado para Imagem 7" descr="http://cdn.mundodastribos.com/wp-admin/uploads/2010/12/como-diminuir-a-ansiedade.jpg"/>
          <p:cNvPicPr/>
          <p:nvPr/>
        </p:nvPicPr>
        <p:blipFill>
          <a:blip r:embed="rId1"/>
          <a:srcRect l="0" t="20704" r="0" b="20704"/>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a (TAG)</a:t>
            </a:r>
            <a:endParaRPr b="1" lang="en-US" sz="3200" spc="-1" strike="noStrike">
              <a:solidFill>
                <a:srgbClr val="ffffff"/>
              </a:solidFill>
              <a:latin typeface="Verdana"/>
            </a:endParaRPr>
          </a:p>
        </p:txBody>
      </p:sp>
      <p:sp>
        <p:nvSpPr>
          <p:cNvPr id="126" name=""/>
          <p:cNvSpPr txBox="1"/>
          <p:nvPr/>
        </p:nvSpPr>
        <p:spPr>
          <a:xfrm>
            <a:off x="468000" y="1341000"/>
            <a:ext cx="7272360" cy="4759560"/>
          </a:xfrm>
          <a:prstGeom prst="rect">
            <a:avLst/>
          </a:prstGeom>
          <a:noFill/>
          <a:ln w="0">
            <a:noFill/>
          </a:ln>
        </p:spPr>
        <p:txBody>
          <a:bodyPr anchor="t">
            <a:normAutofit fontScale="94000"/>
          </a:bodyPr>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 paciente com TAG é, normalmente, considerado um paciente difícil, pois permanece </a:t>
            </a:r>
            <a:endParaRPr b="1" lang="en-US" sz="2800" spc="-1" strike="noStrike">
              <a:solidFill>
                <a:srgbClr val="000066"/>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	</a:t>
            </a:r>
            <a:r>
              <a:rPr b="0" lang="pt-BR" sz="2800" spc="-1" strike="noStrike">
                <a:solidFill>
                  <a:srgbClr val="000066"/>
                </a:solidFill>
                <a:latin typeface="Verdana"/>
              </a:rPr>
              <a:t>em constante estado de irritabilidade, impaciência e apreensão. </a:t>
            </a:r>
            <a:endParaRPr b="1" lang="en-US" sz="2800" spc="-1" strike="noStrike">
              <a:solidFill>
                <a:srgbClr val="000066"/>
              </a:solidFill>
              <a:latin typeface="Verdana"/>
            </a:endParaRPr>
          </a:p>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Geralmente reclama de tensão, suores constantes (frios ou não), sensação de “cabeça leve”, tonteiras, mal-estar gastrintestinal, palpitações e dificuldade para dormir. </a:t>
            </a:r>
            <a:endParaRPr b="1" lang="en-US" sz="2800" spc="-1" strike="noStrike">
              <a:solidFill>
                <a:srgbClr val="000066"/>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Verdana"/>
              </a:rPr>
              <a:t>	</a:t>
            </a:r>
            <a:endParaRPr b="1" lang="en-US" sz="2800" spc="-1" strike="noStrike">
              <a:solidFill>
                <a:srgbClr val="000066"/>
              </a:solidFill>
              <a:latin typeface="Verdana"/>
            </a:endParaRPr>
          </a:p>
        </p:txBody>
      </p:sp>
      <p:sp>
        <p:nvSpPr>
          <p:cNvPr id="12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2FB3-3C2A-4B3F-9B12-30389BDABC3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29" name="Picture 2" descr="http://1.bp.blogspot.com/-pPtsFSOWqJ4/TeOszBhsKFI/AAAAAAAABxY/JZBD_Gqud3E/s1600/ansiedade5.jpg"/>
          <p:cNvPicPr/>
          <p:nvPr/>
        </p:nvPicPr>
        <p:blipFill>
          <a:blip r:embed="rId1"/>
          <a:stretch/>
        </p:blipFill>
        <p:spPr>
          <a:xfrm>
            <a:off x="6478560" y="1197000"/>
            <a:ext cx="2479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920" y="228240"/>
            <a:ext cx="779616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ortanto...</a:t>
            </a:r>
            <a:endParaRPr b="1" lang="en-US" sz="3200" spc="-1" strike="noStrike">
              <a:solidFill>
                <a:srgbClr val="ffffff"/>
              </a:solidFill>
              <a:latin typeface="Verdana"/>
            </a:endParaRPr>
          </a:p>
        </p:txBody>
      </p:sp>
      <p:sp>
        <p:nvSpPr>
          <p:cNvPr id="1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FA08-E43B-44C1-89FF-CCD790FA9F9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3" name="Picture 2" descr="http://4.bp.blogspot.com/-nnbUOTpdB-I/TePGr_qK0FI/AAAAAAAABzA/qwh5v1nE5Ro/s1600/corpo.jpg"/>
          <p:cNvPicPr/>
          <p:nvPr/>
        </p:nvPicPr>
        <p:blipFill>
          <a:blip r:embed="rId1"/>
          <a:stretch/>
        </p:blipFill>
        <p:spPr>
          <a:xfrm>
            <a:off x="395280" y="1052640"/>
            <a:ext cx="5923080" cy="5376600"/>
          </a:xfrm>
          <a:prstGeom prst="rect">
            <a:avLst/>
          </a:prstGeom>
          <a:ln w="0">
            <a:noFill/>
          </a:ln>
        </p:spPr>
      </p:pic>
      <p:sp>
        <p:nvSpPr>
          <p:cNvPr id="134" name="Retângulo 6"/>
          <p:cNvSpPr/>
          <p:nvPr/>
        </p:nvSpPr>
        <p:spPr>
          <a:xfrm>
            <a:off x="5796000" y="1557360"/>
            <a:ext cx="2952720" cy="302004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nsiedade é o grande sintoma de características psicológicas que mostra a intersecção entre o físico e psíquico. </a:t>
            </a:r>
            <a:br>
              <a:rPr sz="24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36" name=""/>
          <p:cNvSpPr txBox="1"/>
          <p:nvPr/>
        </p:nvSpPr>
        <p:spPr>
          <a:xfrm>
            <a:off x="468000" y="1341000"/>
            <a:ext cx="5111640" cy="5040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essoa com TAG costuma mostrar-se constantemente preocupad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fato é que se trata de uma ansiedade “impossível de controlar” sem o tratamento adequado, fazendo com que a pessoa tenha suas atividades limitada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AG pode ocorrer ao mesmo tempo que outras doenças. É mais comum em mulheres (55-60%).</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3C6D-8A75-45E8-8E9E-5F2F678469B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9" name="Picture 2" descr="http://mananciaisdeamor.zip.net/images/ansiedade5.jpg"/>
          <p:cNvPicPr/>
          <p:nvPr/>
        </p:nvPicPr>
        <p:blipFill>
          <a:blip r:embed="rId1"/>
          <a:stretch/>
        </p:blipFill>
        <p:spPr>
          <a:xfrm>
            <a:off x="5435640" y="2205000"/>
            <a:ext cx="3529080" cy="33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09:57:01Z</dcterms:created>
  <dc:creator>Escolastica</dc:creator>
  <dc:description/>
  <dc:language>en-US</dc:language>
  <cp:lastModifiedBy>Mendoza</cp:lastModifiedBy>
  <dcterms:modified xsi:type="dcterms:W3CDTF">2012-02-02T08:21:28Z</dcterms:modified>
  <cp:revision>45</cp:revision>
  <dc:subject/>
  <dc:title>Transtornos de ansiedade: Transtorno de Ansiedade Generalizada (TAG) Fobias Transtorno Obsessivo Compulsivo (TOC)</dc:title>
</cp:coreProperties>
</file>