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gif" ContentType="image/gif"/>
  <Override PartName="/ppt/media/image7.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move the slide</a:t>
            </a:r>
            <a:endParaRPr b="1" lang="en-US" sz="3200" spc="-1" strike="noStrike">
              <a:solidFill>
                <a:srgbClr val="ffffff"/>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9E47C-3583-48E3-A799-14EE9645CA51}" type="slidenum">
              <a:rPr b="0" lang="pt-B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E400B-3D0B-4640-A141-D71209DFBA6F}" type="slidenum">
              <a:rPr b="0" lang="en-US" sz="1200" spc="-1" strike="noStrike">
                <a:solidFill>
                  <a:srgbClr val="000000"/>
                </a:solidFill>
                <a:latin typeface="Calibri"/>
                <a:ea typeface="Arial"/>
              </a:rPr>
              <a:t>&lt;number&gt;</a:t>
            </a:fld>
            <a:endParaRPr b="0" lang="en-US" sz="1200" spc="-1" strike="noStrike">
              <a:solidFill>
                <a:srgbClr val="000000"/>
              </a:solidFill>
              <a:latin typeface="Verdan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Calibri"/>
            </a:endParaRPr>
          </a:p>
        </p:txBody>
      </p:sp>
      <p:sp>
        <p:nvSpPr>
          <p:cNvPr id="205"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6F00C-3B91-4958-B96A-9DCC3D18C5A3}" type="slidenum">
              <a:rPr b="0" lang="pt-BR"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DB46918-0417-40EA-9654-BBB7F56594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5CB5AA-B3F8-4223-AD79-E4ED69AE75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3"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F17FC0C-61C1-499A-A836-6D400BCC3C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8"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9"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8EB17A4-FEA7-43C6-854A-EA3C4F85F1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3"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7"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8"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9"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64B35D-144D-4BFB-B609-47EA921CC4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1"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2"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3"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5"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6"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7"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9"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0"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2"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3"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5"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7"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8"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1"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2"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096823-1DC3-4F28-B7BB-566D09DB29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1"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BBF782-A1AE-45FC-9402-7A2548853D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F0149E-936D-4A50-896A-0C3726E7A5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BC18B2-F559-4806-B2B5-80A6107493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6"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F7627C-3C3B-4E18-9F1B-3164E3FCD8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53EC86-3270-4CCE-A93D-154356738A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924234-7873-4D86-8F11-33269C90D6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8120" y="6400440"/>
            <a:ext cx="365760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9999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Times New Roman"/>
                <a:ea typeface="Arial"/>
              </a:rPr>
              <a:t>Curso de Enfermagem Geral</a:t>
            </a:r>
            <a:endParaRPr b="0" lang="en-US" sz="1200" spc="-1" strike="noStrike">
              <a:solidFill>
                <a:srgbClr val="000000"/>
              </a:solidFill>
              <a:latin typeface="Times New Roman"/>
            </a:endParaRPr>
          </a:p>
        </p:txBody>
      </p:sp>
      <p:sp>
        <p:nvSpPr>
          <p:cNvPr id="1" name="PlaceHolder 2"/>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 name="PlaceHolder 3"/>
          <p:cNvSpPr>
            <a:spLocks noGrp="1"/>
          </p:cNvSpPr>
          <p:nvPr>
            <p:ph type="body"/>
          </p:nvPr>
        </p:nvSpPr>
        <p:spPr>
          <a:xfrm>
            <a:off x="456840" y="1143000"/>
            <a:ext cx="8381880" cy="50292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ff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ff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pic>
        <p:nvPicPr>
          <p:cNvPr id="3" name="Picture 1" descr=""/>
          <p:cNvPicPr/>
          <p:nvPr/>
        </p:nvPicPr>
        <p:blipFill>
          <a:blip r:embed="rId2"/>
          <a:stretch/>
        </p:blipFill>
        <p:spPr>
          <a:xfrm>
            <a:off x="380880" y="228600"/>
            <a:ext cx="628920" cy="622440"/>
          </a:xfrm>
          <a:prstGeom prst="rect">
            <a:avLst/>
          </a:prstGeom>
          <a:ln w="0">
            <a:noFill/>
          </a:ln>
        </p:spPr>
      </p:pic>
      <p:sp>
        <p:nvSpPr>
          <p:cNvPr id="4" name="PlaceHolder 4"/>
          <p:cNvSpPr>
            <a:spLocks noGrp="1"/>
          </p:cNvSpPr>
          <p:nvPr>
            <p:ph type="sldNum" idx="2"/>
          </p:nvPr>
        </p:nvSpPr>
        <p:spPr>
          <a:xfrm>
            <a:off x="380520" y="6324120"/>
            <a:ext cx="2133720" cy="3654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9999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FD37C-B69C-4457-B572-32AB1B2FB2D3}" type="slidenum">
              <a:rPr b="0" lang="pt-PT" sz="1200" spc="-1" strike="noStrike">
                <a:solidFill>
                  <a:srgbClr val="9999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3"/>
          <p:cNvSpPr/>
          <p:nvPr/>
        </p:nvSpPr>
        <p:spPr>
          <a:xfrm>
            <a:off x="826920" y="1700280"/>
            <a:ext cx="7772400" cy="251460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Rectangle 33"/>
          <p:cNvSpPr/>
          <p:nvPr/>
        </p:nvSpPr>
        <p:spPr>
          <a:xfrm>
            <a:off x="2971800" y="1447920"/>
            <a:ext cx="548640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43" name="Picture 1" descr=""/>
          <p:cNvPicPr/>
          <p:nvPr/>
        </p:nvPicPr>
        <p:blipFill>
          <a:blip r:embed="rId2"/>
          <a:stretch/>
        </p:blipFill>
        <p:spPr>
          <a:xfrm>
            <a:off x="395280" y="333360"/>
            <a:ext cx="628560" cy="622440"/>
          </a:xfrm>
          <a:prstGeom prst="rect">
            <a:avLst/>
          </a:prstGeom>
          <a:ln w="0">
            <a:noFill/>
          </a:ln>
        </p:spPr>
      </p:pic>
      <p:sp>
        <p:nvSpPr>
          <p:cNvPr id="44" name="Text Box 37"/>
          <p:cNvSpPr/>
          <p:nvPr/>
        </p:nvSpPr>
        <p:spPr>
          <a:xfrm>
            <a:off x="2971800" y="1676520"/>
            <a:ext cx="5029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Rectangle 38"/>
          <p:cNvSpPr/>
          <p:nvPr/>
        </p:nvSpPr>
        <p:spPr>
          <a:xfrm>
            <a:off x="2971800" y="1600200"/>
            <a:ext cx="548640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1"/>
          <p:cNvSpPr>
            <a:spLocks noGrp="1"/>
          </p:cNvSpPr>
          <p:nvPr>
            <p:ph type="ftr" idx="3"/>
          </p:nvPr>
        </p:nvSpPr>
        <p:spPr>
          <a:xfrm>
            <a:off x="3048120" y="6400440"/>
            <a:ext cx="365760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Times New Roman"/>
              </a:rPr>
              <a:t>Curso de Enfermagem Ger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47640" y="1844640"/>
            <a:ext cx="6266160" cy="220968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Transtornos orgânicos:</a:t>
            </a:r>
            <a:br>
              <a:rPr sz="3200"/>
            </a:br>
            <a:r>
              <a:rPr b="1" lang="pt-PT" sz="3200" spc="-1" strike="noStrike">
                <a:solidFill>
                  <a:srgbClr val="ffffff"/>
                </a:solidFill>
                <a:latin typeface="Verdana"/>
              </a:rPr>
              <a:t>Demência, </a:t>
            </a:r>
            <a:br>
              <a:rPr sz="3200"/>
            </a:br>
            <a:r>
              <a:rPr b="1" lang="pt-PT" sz="3200" spc="-1" strike="noStrike">
                <a:solidFill>
                  <a:srgbClr val="ffffff"/>
                </a:solidFill>
                <a:latin typeface="Verdana"/>
              </a:rPr>
              <a:t>Demências vasculares e</a:t>
            </a:r>
            <a:br>
              <a:rPr sz="3200"/>
            </a:br>
            <a:r>
              <a:rPr b="1" lang="pt-BR" sz="3200" spc="-1" strike="noStrike">
                <a:solidFill>
                  <a:srgbClr val="ffffff"/>
                </a:solidFill>
                <a:latin typeface="Verdana"/>
              </a:rPr>
              <a:t>Doença de </a:t>
            </a:r>
            <a:r>
              <a:rPr b="1" lang="pt-PT" sz="3200" spc="-1" strike="noStrike">
                <a:solidFill>
                  <a:srgbClr val="ffffff"/>
                </a:solidFill>
                <a:latin typeface="Verdana"/>
              </a:rPr>
              <a:t>Alzheimer </a:t>
            </a:r>
            <a:endParaRPr b="1" lang="en-US" sz="3200" spc="-1" strike="noStrike">
              <a:solidFill>
                <a:srgbClr val="ffffff"/>
              </a:solidFill>
              <a:latin typeface="Verdana"/>
            </a:endParaRPr>
          </a:p>
        </p:txBody>
      </p:sp>
      <p:sp>
        <p:nvSpPr>
          <p:cNvPr id="91" name="PlaceHolder 2"/>
          <p:cNvSpPr>
            <a:spLocks noGrp="1"/>
          </p:cNvSpPr>
          <p:nvPr>
            <p:ph type="subTitle"/>
          </p:nvPr>
        </p:nvSpPr>
        <p:spPr>
          <a:xfrm>
            <a:off x="826560" y="4292280"/>
            <a:ext cx="7705800" cy="1297080"/>
          </a:xfrm>
          <a:prstGeom prst="rect">
            <a:avLst/>
          </a:prstGeom>
          <a:solidFill>
            <a:srgbClr val="ffffff"/>
          </a:solidFill>
          <a:ln w="9360">
            <a:solidFill>
              <a:srgbClr val="000000"/>
            </a:solidFill>
            <a:miter/>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Verdana"/>
              </a:rPr>
              <a:t>Módulo 11: Prática de Enfermagem IV -</a:t>
            </a:r>
            <a:endParaRPr b="1" lang="en-US" sz="2400" spc="-1" strike="noStrike">
              <a:solidFill>
                <a:srgbClr val="000066"/>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Verdana"/>
              </a:rPr>
              <a:t>Enfermagem em Saúde Mental e Enfermagem Geriátrica</a:t>
            </a:r>
            <a:endParaRPr b="1" lang="en-US" sz="2400" spc="-1" strike="noStrike">
              <a:solidFill>
                <a:srgbClr val="000066"/>
              </a:solidFill>
              <a:latin typeface="Verdana"/>
            </a:endParaRPr>
          </a:p>
        </p:txBody>
      </p:sp>
      <p:sp>
        <p:nvSpPr>
          <p:cNvPr id="92" name="Espaço Reservado para Rodapé 4"/>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ipos de demências</a:t>
            </a:r>
            <a:endParaRPr b="1" lang="en-US" sz="3200" spc="-1" strike="noStrike">
              <a:solidFill>
                <a:srgbClr val="ffffff"/>
              </a:solidFill>
              <a:latin typeface="Verdana"/>
            </a:endParaRPr>
          </a:p>
        </p:txBody>
      </p:sp>
      <p:sp>
        <p:nvSpPr>
          <p:cNvPr id="127"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Tipos de Demência</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Uma das maneiras de classificar as Demências é quanto à causa.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egundo Galton (1999) as freqüências relativas das causas de demência diferem com a idade, mas, de qualquer forma, a Doença de Alzheimer é a causa mais comum, tanto em menores quanto em maiores de 65 anos.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causa genética das demências, como por exemplo, a Doença de Alzheimer, juntamente com outras causas mais raras, é mais freqüente no grupo etário mais jovem. </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2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2F62E-0636-4C64-A080-E489C6C95BE2}"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incipais tipos de demências</a:t>
            </a:r>
            <a:endParaRPr b="1" lang="en-US" sz="3200" spc="-1" strike="noStrike">
              <a:solidFill>
                <a:srgbClr val="ffffff"/>
              </a:solidFill>
              <a:latin typeface="Verdana"/>
            </a:endParaRPr>
          </a:p>
        </p:txBody>
      </p:sp>
      <p:sp>
        <p:nvSpPr>
          <p:cNvPr id="13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3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FBCCD-598B-4A2F-8005-9B9228FD23AC}"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graphicFrame>
        <p:nvGraphicFramePr>
          <p:cNvPr id="133" name=""/>
          <p:cNvGraphicFramePr/>
          <p:nvPr/>
        </p:nvGraphicFramePr>
        <p:xfrm>
          <a:off x="826920" y="1197000"/>
          <a:ext cx="7417080" cy="5037120"/>
        </p:xfrm>
        <a:graphic>
          <a:graphicData uri="http://schemas.openxmlformats.org/drawingml/2006/table">
            <a:tbl>
              <a:tblPr/>
              <a:tblGrid>
                <a:gridCol w="3942000"/>
                <a:gridCol w="1622520"/>
                <a:gridCol w="1852560"/>
              </a:tblGrid>
              <a:tr h="561960">
                <a:tc gridSpan="3">
                  <a:txBody>
                    <a:bodyPr lIns="0" rIns="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Calibri"/>
                        </a:rPr>
                        <a:t>Tabela 1 - Freqüência dos tipos de demência*</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1098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Calibri"/>
                        </a:rPr>
                        <a:t>Menos de 65 anos</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Calibri"/>
                        </a:rPr>
                        <a:t>Mais de 65 anos</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61960">
                <a:tc>
                  <a:txBody>
                    <a:bodyPr lIns="0" rIns="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Calibri"/>
                        </a:rPr>
                        <a:t>Doença de Alzheimer</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34%</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55%</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63400">
                <a:tc>
                  <a:txBody>
                    <a:bodyPr lIns="0" rIns="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Demência Vascular</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18%</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20%</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61960">
                <a:tc>
                  <a:txBody>
                    <a:bodyPr lIns="0" rIns="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Calibri"/>
                        </a:rPr>
                        <a:t>Demência Fronto-Temporal</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12%</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63400">
                <a:tc>
                  <a:txBody>
                    <a:bodyPr lIns="0" rIns="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Calibri"/>
                        </a:rPr>
                        <a:t>Demência corpos de Lewy</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7%</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20%</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62320">
                <a:tc>
                  <a:txBody>
                    <a:bodyPr lIns="0" rIns="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Outros</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29%</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5%</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63400">
                <a:tc gridSpan="3">
                  <a:txBody>
                    <a:bodyPr lIns="0" rIns="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 (HENRY BRODATY, 2004)</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92440" y="4800240"/>
            <a:ext cx="5486400" cy="1149480"/>
          </a:xfrm>
          <a:prstGeom prst="rect">
            <a:avLst/>
          </a:prstGeom>
          <a:solidFill>
            <a:srgbClr val="000099"/>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OENÇA DE ALZHEIMER</a:t>
            </a:r>
            <a:endParaRPr b="1" lang="en-US" sz="3200" spc="-1" strike="noStrike">
              <a:solidFill>
                <a:srgbClr val="ffffff"/>
              </a:solidFill>
              <a:latin typeface="Verdana"/>
            </a:endParaRPr>
          </a:p>
        </p:txBody>
      </p:sp>
      <p:sp>
        <p:nvSpPr>
          <p:cNvPr id="13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3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D4307-DF63-4CFA-96BB-1284F9B025CC}"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37" name="Picture 2" descr="papel de parede de paisagem"/>
          <p:cNvPicPr/>
          <p:nvPr/>
        </p:nvPicPr>
        <p:blipFill>
          <a:blip r:embed="rId1"/>
          <a:stretch/>
        </p:blipFill>
        <p:spPr>
          <a:xfrm>
            <a:off x="1792440" y="61272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Doença de Alzheimer</a:t>
            </a:r>
            <a:endParaRPr b="1" lang="en-US" sz="3200" spc="-1" strike="noStrike">
              <a:solidFill>
                <a:srgbClr val="ffffff"/>
              </a:solidFill>
              <a:latin typeface="Verdana"/>
            </a:endParaRPr>
          </a:p>
        </p:txBody>
      </p:sp>
      <p:sp>
        <p:nvSpPr>
          <p:cNvPr id="139" name=""/>
          <p:cNvSpPr txBox="1"/>
          <p:nvPr/>
        </p:nvSpPr>
        <p:spPr>
          <a:xfrm>
            <a:off x="324000" y="981000"/>
            <a:ext cx="576072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É o tipo mais comum de demência. As pessoas com algum tipo de prejuízo cognitivo representam 5-10% da população com 65 anos ou mais e, entre essas, mais de 50% dos casos são devidos à DA (JELLINGER, 1990).</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levada incidência, avanços terapêuticos e perspectivas otimistas com relação às novas drogas ativas no SNC tem levado a grande interesse no diagnóstico precoce dessa patologia.</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4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4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5C7E2-D6E1-432A-8FC8-016EAC1DEBBA}"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42" name="Picture 1" descr="http://www.ghente.org/imagens/ciencia/alois_alzheimer.jpg"/>
          <p:cNvPicPr/>
          <p:nvPr/>
        </p:nvPicPr>
        <p:blipFill>
          <a:blip r:embed="rId1"/>
          <a:stretch/>
        </p:blipFill>
        <p:spPr>
          <a:xfrm>
            <a:off x="6227640" y="1268280"/>
            <a:ext cx="2592360" cy="3703680"/>
          </a:xfrm>
          <a:prstGeom prst="rect">
            <a:avLst/>
          </a:prstGeom>
          <a:ln w="0">
            <a:noFill/>
          </a:ln>
        </p:spPr>
      </p:pic>
      <p:sp>
        <p:nvSpPr>
          <p:cNvPr id="143" name="Retângulo 6"/>
          <p:cNvSpPr/>
          <p:nvPr/>
        </p:nvSpPr>
        <p:spPr>
          <a:xfrm>
            <a:off x="6191280" y="5013360"/>
            <a:ext cx="2952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rPr>
              <a:t>Alemão, Psiquiatra e Neuropatologista descreveu a DA em 1906.</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920" y="228600"/>
            <a:ext cx="779616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Doença de Alzheimer</a:t>
            </a:r>
            <a:endParaRPr b="1" lang="en-US" sz="3200" spc="-1" strike="noStrike">
              <a:solidFill>
                <a:srgbClr val="ffffff"/>
              </a:solidFill>
              <a:latin typeface="Verdana"/>
            </a:endParaRPr>
          </a:p>
        </p:txBody>
      </p:sp>
      <p:sp>
        <p:nvSpPr>
          <p:cNvPr id="145" name=""/>
          <p:cNvSpPr txBox="1"/>
          <p:nvPr/>
        </p:nvSpPr>
        <p:spPr>
          <a:xfrm>
            <a:off x="250560" y="1268280"/>
            <a:ext cx="4392360" cy="388944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Na Doença de Alzheimer pôde-se localizar um grupo de genes responsáveis, porém ainda não explica a doença, completamente</a:t>
            </a:r>
            <a:r>
              <a:rPr b="0" lang="pt-PT" sz="2800" spc="-1" strike="noStrike">
                <a:solidFill>
                  <a:srgbClr val="000066"/>
                </a:solidFill>
                <a:latin typeface="Verdana"/>
              </a:rPr>
              <a:t>.</a:t>
            </a:r>
            <a:endParaRPr b="1" lang="en-US" sz="28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1º. diagnóstico foi dado em 1906 pelo psiquiatra alemão Alois Alzheimer.</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4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FA615-5C12-4285-8550-7F5499069450}"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48" name="Picture 2" descr="http://3.bp.blogspot.com/-0KgoA-zs_s0/TkFwgnouvpI/AAAAAAAAAOM/36FTOGRxmzE/s1600/alzheimer1.jpg2.jpg"/>
          <p:cNvPicPr/>
          <p:nvPr/>
        </p:nvPicPr>
        <p:blipFill>
          <a:blip r:embed="rId1"/>
          <a:stretch/>
        </p:blipFill>
        <p:spPr>
          <a:xfrm>
            <a:off x="4859280" y="1844640"/>
            <a:ext cx="4114800" cy="3191040"/>
          </a:xfrm>
          <a:prstGeom prst="rect">
            <a:avLst/>
          </a:prstGeom>
          <a:ln w="0">
            <a:noFill/>
          </a:ln>
        </p:spPr>
      </p:pic>
      <p:sp>
        <p:nvSpPr>
          <p:cNvPr id="149" name="Retângulo 6"/>
          <p:cNvSpPr/>
          <p:nvPr/>
        </p:nvSpPr>
        <p:spPr>
          <a:xfrm>
            <a:off x="324000" y="5300640"/>
            <a:ext cx="8640720" cy="1008720"/>
          </a:xfrm>
          <a:prstGeom prst="rect">
            <a:avLst/>
          </a:prstGeom>
          <a:gradFill rotWithShape="0">
            <a:gsLst>
              <a:gs pos="0">
                <a:srgbClr val="c1c1fb"/>
              </a:gs>
              <a:gs pos="100000">
                <a:srgbClr val="ededff"/>
              </a:gs>
            </a:gsLst>
            <a:lin ang="16200000"/>
          </a:gradFill>
          <a:ln w="9360">
            <a:solidFill>
              <a:srgbClr val="9494c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O sintoma primário é a perda da memória. Com o avançar da doença vão surgindo sinais como confusão mental, irritabilidade e agressividade, alteração do humor, falhas na linguagem.</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Doença de Alzheimer</a:t>
            </a:r>
            <a:endParaRPr b="1" lang="en-US" sz="3200" spc="-1" strike="noStrike">
              <a:solidFill>
                <a:srgbClr val="ffffff"/>
              </a:solidFill>
              <a:latin typeface="Verdana"/>
            </a:endParaRPr>
          </a:p>
        </p:txBody>
      </p:sp>
      <p:sp>
        <p:nvSpPr>
          <p:cNvPr id="151"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causa da DA de maior evidência até o momento diz respeito à mutações nos genes da presenilina I e II e no gene da proteína precursora do amilóide (Amyloid Precursor Protein-APP), confirmando, assim, a hipótese do depósito da substância amilóide para o surgimento da D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esquisa sugere que o acúmulo do peptídeo beta-amilóide, por superprodução ou por incapacidade de degradação, levaria ao acúmulo de substância amilóide, causando as chamadas placas amilóides no tecido cerebral, causando a morte celular (PLASSMAN, 2000).</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5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5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8247C-7698-45B0-B71A-2A28FCB508E4}"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Doença de Alzheimer</a:t>
            </a:r>
            <a:endParaRPr b="1" lang="en-US" sz="3200" spc="-1" strike="noStrike">
              <a:solidFill>
                <a:srgbClr val="ffffff"/>
              </a:solidFill>
              <a:latin typeface="Verdana"/>
            </a:endParaRPr>
          </a:p>
        </p:txBody>
      </p:sp>
      <p:sp>
        <p:nvSpPr>
          <p:cNvPr id="155"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ela dificuldade de se obter evidências patológicas diretas da presença da DA procura-se, no afã de ter um diagnóstico precoce, avaliar cuidadosamente o Comprometimento Cognitivo Leve (CCL), que representa um déficit nas tarefas de memória episódica (do dia-a-dia), mas que é ainda insuficiente para preencher os critérios de diagnóstico para demênci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É cada vez mais evidente que muitas das pessoas com CCL podem se encontrar em um estágio pré-clínico da DA e que essa progressão até a demência plena poderá levar vários anos (PETERSEN, 1999).</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5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5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F81CE-C496-489F-B597-81011CDDAA40}"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Doença de Alzheimer</a:t>
            </a:r>
            <a:endParaRPr b="1" lang="en-US" sz="3200" spc="-1" strike="noStrike">
              <a:solidFill>
                <a:srgbClr val="ffffff"/>
              </a:solidFill>
              <a:latin typeface="Verdana"/>
            </a:endParaRPr>
          </a:p>
        </p:txBody>
      </p:sp>
      <p:sp>
        <p:nvSpPr>
          <p:cNvPr id="159"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Outro esforço de diagnóstico tem sido feito com as imagens de Ressonância Magnética (RM).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Tudo leva a crer que pacientes com a DA nos estágios mais precoces e com CCL, podem revelar evidências de atrofia do hipocampo e da região medial do lobo, porém, até o momento, tais anormalidades não são específicas o bastante para terem valor de diagnóstico definitivo.</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6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6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C2D18-9D32-4B77-9A2A-0C8154CDA396}"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Doença de Alzheimer</a:t>
            </a:r>
            <a:endParaRPr b="1" lang="en-US" sz="3200" spc="-1" strike="noStrike">
              <a:solidFill>
                <a:srgbClr val="ffffff"/>
              </a:solidFill>
              <a:latin typeface="Verdana"/>
            </a:endParaRPr>
          </a:p>
        </p:txBody>
      </p:sp>
      <p:sp>
        <p:nvSpPr>
          <p:cNvPr id="163"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Mais recentemente, pós Ressonância Magnética, recorre-se à Tomografia Computadorizada de Perfusão por Emissão de Fóton (SPECT) e Ressonância Magnética Funcional (FMR), além da Espectroscopia de Ressonância Magnética (MRE) e Tomografia por Emissão de Pósitron (PET).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Todos esses exames podem melhorar a exatidão diagnóstica, embora ainda não sejam específicos para DA e nem tenham validade absoluta</a:t>
            </a:r>
            <a:endParaRPr b="1" lang="en-US" sz="2800" spc="-1" strike="noStrike">
              <a:solidFill>
                <a:srgbClr val="000066"/>
              </a:solidFill>
              <a:latin typeface="Verdana"/>
            </a:endParaRPr>
          </a:p>
        </p:txBody>
      </p:sp>
      <p:sp>
        <p:nvSpPr>
          <p:cNvPr id="16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6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79734-F7F1-4D78-A111-9BDDD161FF13}"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792440" y="4800240"/>
            <a:ext cx="5486400" cy="716040"/>
          </a:xfrm>
          <a:prstGeom prst="rect">
            <a:avLst/>
          </a:prstGeom>
          <a:solidFill>
            <a:srgbClr val="000099"/>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EMÊNCIA VASCULAR</a:t>
            </a:r>
            <a:endParaRPr b="1" lang="en-US" sz="3200" spc="-1" strike="noStrike">
              <a:solidFill>
                <a:srgbClr val="ffffff"/>
              </a:solidFill>
              <a:latin typeface="Verdana"/>
            </a:endParaRPr>
          </a:p>
        </p:txBody>
      </p:sp>
      <p:sp>
        <p:nvSpPr>
          <p:cNvPr id="16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6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B5C01-EB65-4AA5-B5D3-2DF1BA39CAEC}"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69" name="Picture 2" descr="Imagens de paisagens em papel de parede"/>
          <p:cNvPicPr/>
          <p:nvPr/>
        </p:nvPicPr>
        <p:blipFill>
          <a:blip r:embed="rId1"/>
          <a:stretch/>
        </p:blipFill>
        <p:spPr>
          <a:xfrm>
            <a:off x="1792440" y="61272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Transtornos orgânicos</a:t>
            </a:r>
            <a:endParaRPr b="1" lang="en-US" sz="3200" spc="-1" strike="noStrike">
              <a:solidFill>
                <a:srgbClr val="ffffff"/>
              </a:solidFill>
              <a:latin typeface="Verdana"/>
            </a:endParaRPr>
          </a:p>
        </p:txBody>
      </p:sp>
      <p:sp>
        <p:nvSpPr>
          <p:cNvPr id="94" name=""/>
          <p:cNvSpPr txBox="1"/>
          <p:nvPr/>
        </p:nvSpPr>
        <p:spPr>
          <a:xfrm>
            <a:off x="456840" y="1484280"/>
            <a:ext cx="8381880" cy="468792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66"/>
                </a:solidFill>
                <a:latin typeface="Verdana"/>
              </a:rPr>
              <a:t>Demência;</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66"/>
                </a:solidFill>
                <a:latin typeface="Verdana"/>
              </a:rPr>
              <a:t>Doença de Alzheimer;</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66"/>
                </a:solidFill>
                <a:latin typeface="Verdana"/>
              </a:rPr>
              <a:t>Demências vasculares;</a:t>
            </a:r>
            <a:endParaRPr b="1" lang="en-US" sz="2800" spc="-1" strike="noStrike">
              <a:solidFill>
                <a:srgbClr val="000066"/>
              </a:solidFill>
              <a:latin typeface="Verdana"/>
            </a:endParaRPr>
          </a:p>
        </p:txBody>
      </p:sp>
      <p:sp>
        <p:nvSpPr>
          <p:cNvPr id="9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9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57F09-1ED6-4E95-BDE8-A2B722CE4CBA}"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emência vascular</a:t>
            </a:r>
            <a:endParaRPr b="1" lang="en-US" sz="3200" spc="-1" strike="noStrike">
              <a:solidFill>
                <a:srgbClr val="ffffff"/>
              </a:solidFill>
              <a:latin typeface="Verdana"/>
            </a:endParaRPr>
          </a:p>
        </p:txBody>
      </p:sp>
      <p:sp>
        <p:nvSpPr>
          <p:cNvPr id="171" name=""/>
          <p:cNvSpPr txBox="1"/>
          <p:nvPr/>
        </p:nvSpPr>
        <p:spPr>
          <a:xfrm>
            <a:off x="456840" y="1143000"/>
            <a:ext cx="8381880" cy="5029200"/>
          </a:xfrm>
          <a:prstGeom prst="rect">
            <a:avLst/>
          </a:prstGeom>
          <a:noFill/>
          <a:ln w="0">
            <a:noFill/>
          </a:ln>
        </p:spPr>
        <p:txBody>
          <a:bodyPr anchor="t">
            <a:normAutofit fontScale="99000"/>
          </a:bodyPr>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Demência Vascular é a segunda causa mais comum de demência. </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Tende a apresentar início um tanto mais precoce que a Doença de Alzheimer e, ao contrário desta, os homens são mais freqüentemente afetados que as mulheres.</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início da Demência vascular é tipicamente súbito, seguido por um curso flutuante e gradativo, caracterizado por rápidas alterações no funcionamento, ao invés de uma progressão lenta. </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curso, entretanto, pode ser altamente variável, e um início insidioso com declínio gradual também é encontrado.</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7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7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9FBB8-7F9C-48B0-98F7-986C0BE5E2D6}"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emência vascular</a:t>
            </a:r>
            <a:endParaRPr b="1" lang="en-US" sz="3200" spc="-1" strike="noStrike">
              <a:solidFill>
                <a:srgbClr val="ffffff"/>
              </a:solidFill>
              <a:latin typeface="Verdana"/>
            </a:endParaRPr>
          </a:p>
        </p:txBody>
      </p:sp>
      <p:sp>
        <p:nvSpPr>
          <p:cNvPr id="175"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Para o diagnóstico de Demência vascular deve haver evidências laboratoriais de doença cerebrovascular consideradas relacionadas com a demência.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Os sinais neurológicos focais na Demência vascular incluem resposta extensora plantar, paralisia pseudobulbar, anormalidades da marcha, exagero dos reflexos tendinosos profundos ou fraqueza de uma das extremidades.</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7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CC174-0664-4A2E-B472-E0D073DA4637}"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emência vascular</a:t>
            </a:r>
            <a:endParaRPr b="1" lang="en-US" sz="3200" spc="-1" strike="noStrike">
              <a:solidFill>
                <a:srgbClr val="ffffff"/>
              </a:solidFill>
              <a:latin typeface="Verdana"/>
            </a:endParaRPr>
          </a:p>
        </p:txBody>
      </p:sp>
      <p:sp>
        <p:nvSpPr>
          <p:cNvPr id="179"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 tomografia computadorizada do crânio e a imagem por ressonância magnética evidenciam, geralmente, múltiplas lesões vasculares do córtex cerebral e estruturas subcorticais.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Existem cada vez mais evidências de que a Demência Vascular possa coexistir com a DA, levando a uma confusão diagnóstica. Nesse caso as lesões vasculares contribuiriam para a gravidade da DA (SNOWDON, 1997).</a:t>
            </a:r>
            <a:endParaRPr b="1" lang="en-US" sz="28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8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8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90B9A-E1EF-4134-B1F0-098C292B6660}"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emência vascular</a:t>
            </a:r>
            <a:endParaRPr b="1" lang="en-US" sz="3200" spc="-1" strike="noStrike">
              <a:solidFill>
                <a:srgbClr val="ffffff"/>
              </a:solidFill>
              <a:latin typeface="Verdana"/>
            </a:endParaRPr>
          </a:p>
        </p:txBody>
      </p:sp>
      <p:sp>
        <p:nvSpPr>
          <p:cNvPr id="183"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Portanto, a diferenciação entre DA e Demência Vascular costuma ser difícil e muitos tipos de doenças vasculares do cérebro podem levar a um comprometimento da cognição suficiente para originar um quadro demencial.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Essas doenças vasculares incluem: Infartos grandes, lacunares e fronteiriços e Doença de pequeno vaso (doença de Binswanger).</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8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8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933F5-AE3A-4795-B881-A2E5CC23CC72}"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emência vascular</a:t>
            </a:r>
            <a:endParaRPr b="1" lang="en-US" sz="3200" spc="-1" strike="noStrike">
              <a:solidFill>
                <a:srgbClr val="ffffff"/>
              </a:solidFill>
              <a:latin typeface="Verdana"/>
            </a:endParaRPr>
          </a:p>
        </p:txBody>
      </p:sp>
      <p:sp>
        <p:nvSpPr>
          <p:cNvPr id="187"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Ressonância Magnética ampliou o conhecimento do padrão de lesões na demência vascular, proporcionando ainda indícios para a causa de base da demência vascular.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or exemplo, múltiplos infartos grandes sugerem embolia repetida e, portanto, as investigações cardíacas devem ser direcionadas para a detecção de uma fonte de embolia.</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s infartos lacunares sugerem hipertensão mal controlada, ao passo que alterações isquêmicas sugerem doença de pequeno vaso, que pode produzir um quadro clínico de declínio gradual semelhante ao da Doença de Alzheimer.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8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8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330D4-388F-4033-9908-750F1CB16C47}"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Observação</a:t>
            </a:r>
            <a:endParaRPr b="1" lang="en-US" sz="3200" spc="-1" strike="noStrike">
              <a:solidFill>
                <a:srgbClr val="ffffff"/>
              </a:solidFill>
              <a:latin typeface="Verdana"/>
            </a:endParaRPr>
          </a:p>
        </p:txBody>
      </p:sp>
      <p:sp>
        <p:nvSpPr>
          <p:cNvPr id="191" name=""/>
          <p:cNvSpPr txBox="1"/>
          <p:nvPr/>
        </p:nvSpPr>
        <p:spPr>
          <a:xfrm>
            <a:off x="539640" y="1700280"/>
            <a:ext cx="8382240" cy="40860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pesar de a Demência Fronto-Temporal e a Demência por corpos de Lewy não fazerem parte do conteúdo deste Módulo, tomou-se a decisão de acrescentá-los no texto de apoio para que a classificação dos tipos de demência fosse apresentada de forma completa.</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ssim, propomos a leitura em pequenos grupos destes dois tipos de demência.</a:t>
            </a:r>
            <a:endParaRPr b="1" lang="en-US" sz="28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9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9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3D2D1-8EFA-4762-B30B-8DA1CA5632C8}"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228600"/>
            <a:ext cx="777240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vidade em pequenos grupos</a:t>
            </a:r>
            <a:endParaRPr b="1" lang="en-US" sz="3200" spc="-1" strike="noStrike">
              <a:solidFill>
                <a:srgbClr val="ffffff"/>
              </a:solidFill>
              <a:latin typeface="Verdana"/>
            </a:endParaRPr>
          </a:p>
        </p:txBody>
      </p:sp>
      <p:sp>
        <p:nvSpPr>
          <p:cNvPr id="195" name=""/>
          <p:cNvSpPr txBox="1"/>
          <p:nvPr/>
        </p:nvSpPr>
        <p:spPr>
          <a:xfrm>
            <a:off x="3886200" y="1828800"/>
            <a:ext cx="5029200" cy="2463840"/>
          </a:xfrm>
          <a:prstGeom prst="rect">
            <a:avLst/>
          </a:prstGeom>
          <a:noFill/>
          <a:ln w="9360">
            <a:solidFill>
              <a:srgbClr val="0000cc"/>
            </a:solidFill>
            <a:miter/>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Verdana"/>
              </a:rPr>
              <a:t>Leitura do Texto de apoio – Transtornos mentais mais frequentes (p. 11 e 12).</a:t>
            </a:r>
            <a:endParaRPr b="1" lang="en-US" sz="2800" spc="-1" strike="noStrike">
              <a:solidFill>
                <a:srgbClr val="000066"/>
              </a:solidFill>
              <a:latin typeface="Verdana"/>
            </a:endParaRPr>
          </a:p>
        </p:txBody>
      </p:sp>
      <p:sp>
        <p:nvSpPr>
          <p:cNvPr id="19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9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45E5D-B8A0-47CD-A7FF-595D4B8B2003}"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98" name="Picture 2" descr="http://t3.gstatic.com/images?q=tbn:ANd9GcSmVOdWeBqvsftn7Ib3XggusoTYRgRGpp1ANB8sFO6emGYqU1xw"/>
          <p:cNvPicPr/>
          <p:nvPr/>
        </p:nvPicPr>
        <p:blipFill>
          <a:blip r:embed="rId1"/>
          <a:stretch/>
        </p:blipFill>
        <p:spPr>
          <a:xfrm>
            <a:off x="457200" y="2514600"/>
            <a:ext cx="3200400" cy="3625920"/>
          </a:xfrm>
          <a:prstGeom prst="rect">
            <a:avLst/>
          </a:prstGeom>
          <a:ln w="0">
            <a:noFill/>
          </a:ln>
        </p:spPr>
      </p:pic>
      <p:sp>
        <p:nvSpPr>
          <p:cNvPr id="199" name="Retângulo 6"/>
          <p:cNvSpPr/>
          <p:nvPr/>
        </p:nvSpPr>
        <p:spPr>
          <a:xfrm>
            <a:off x="4211640" y="4365720"/>
            <a:ext cx="4572000" cy="1557000"/>
          </a:xfrm>
          <a:prstGeom prst="rect">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cluída a leitura, dois grupos serão sorteados para explicar, resumidamente, os dois tipos de demênci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Objectivos de aprendizagem</a:t>
            </a:r>
            <a:endParaRPr b="1" lang="en-US" sz="3200" spc="-1" strike="noStrike">
              <a:solidFill>
                <a:srgbClr val="ffffff"/>
              </a:solidFill>
              <a:latin typeface="Verdana"/>
            </a:endParaRPr>
          </a:p>
        </p:txBody>
      </p:sp>
      <p:sp>
        <p:nvSpPr>
          <p:cNvPr id="98" name=""/>
          <p:cNvSpPr txBox="1"/>
          <p:nvPr/>
        </p:nvSpPr>
        <p:spPr>
          <a:xfrm>
            <a:off x="2050920" y="1413000"/>
            <a:ext cx="6788160" cy="475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Ao final desta sessão os estudantes deverão ser capazes de:</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Explicar em que consiste um quadro de demênci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itar os principais tipos de demênci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Listar sinais e sintomas de demência.</a:t>
            </a:r>
            <a:endParaRPr b="1" lang="en-US" sz="2400" spc="-1" strike="noStrike">
              <a:solidFill>
                <a:srgbClr val="000066"/>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9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448C9-777C-4A32-B658-E80E6E2B9D1F}"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01" name="Picture 15" descr="http://www.estudiantes.info/images/estudiantes/maripo.gif"/>
          <p:cNvPicPr/>
          <p:nvPr/>
        </p:nvPicPr>
        <p:blipFill>
          <a:blip r:embed="rId1"/>
          <a:stretch/>
        </p:blipFill>
        <p:spPr>
          <a:xfrm>
            <a:off x="468360" y="2708280"/>
            <a:ext cx="2158920" cy="2349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440" y="4800240"/>
            <a:ext cx="5486400" cy="716040"/>
          </a:xfrm>
          <a:prstGeom prst="rect">
            <a:avLst/>
          </a:prstGeom>
          <a:solidFill>
            <a:srgbClr val="000099"/>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EMÊNCIA</a:t>
            </a:r>
            <a:endParaRPr b="1" lang="en-US" sz="3200" spc="-1" strike="noStrike">
              <a:solidFill>
                <a:srgbClr val="ffffff"/>
              </a:solidFill>
              <a:latin typeface="Verdana"/>
            </a:endParaRPr>
          </a:p>
        </p:txBody>
      </p:sp>
      <p:sp>
        <p:nvSpPr>
          <p:cNvPr id="10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16257-50F6-4675-8BEF-466D5F3BEC7F}"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05" name="Picture 4" descr="http://www.papeldeparede.etc.br/wallpapers/paisagem-dos-sonhos_2402_1024x768.jpg"/>
          <p:cNvPicPr/>
          <p:nvPr/>
        </p:nvPicPr>
        <p:blipFill>
          <a:blip r:embed="rId1"/>
          <a:stretch/>
        </p:blipFill>
        <p:spPr>
          <a:xfrm>
            <a:off x="1792440" y="61272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emência</a:t>
            </a:r>
            <a:endParaRPr b="1" lang="en-US" sz="3200" spc="-1" strike="noStrike">
              <a:solidFill>
                <a:srgbClr val="ffffff"/>
              </a:solidFill>
              <a:latin typeface="Verdana"/>
            </a:endParaRPr>
          </a:p>
        </p:txBody>
      </p:sp>
      <p:sp>
        <p:nvSpPr>
          <p:cNvPr id="107" name=""/>
          <p:cNvSpPr txBox="1"/>
          <p:nvPr/>
        </p:nvSpPr>
        <p:spPr>
          <a:xfrm>
            <a:off x="324000" y="1143000"/>
            <a:ext cx="864072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 demência pode ser caracterizada como um conjunto de sinais e sintomas, isto é, uma síndrome causada por alguma doença cerebral, na qual encontraremos:</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erturbações de vários aspectos do funcionamento mental, como memória, pensamento, compreensão, cálculos, capacidade de aprendizagem, orientação, linguagem e julgament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ão há, no entanto, obnubilação (</a:t>
            </a:r>
            <a:r>
              <a:rPr b="0" lang="pt-PT" sz="2400" spc="-1" strike="noStrike">
                <a:solidFill>
                  <a:srgbClr val="000066"/>
                </a:solidFill>
                <a:latin typeface="Verdana"/>
              </a:rPr>
              <a:t>estado de perturbação da consciência, caracterizado por ofuscação da vista e obscurecimento do pensamento)</a:t>
            </a:r>
            <a:r>
              <a:rPr b="0" lang="pt-BR" sz="2400" spc="-1" strike="noStrike">
                <a:solidFill>
                  <a:srgbClr val="000066"/>
                </a:solidFill>
                <a:latin typeface="Verdana"/>
              </a:rPr>
              <a:t>.</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134C3-5678-4BD1-8A30-A4F69F1A18CA}"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emência</a:t>
            </a:r>
            <a:endParaRPr b="1" lang="en-US" sz="3200" spc="-1" strike="noStrike">
              <a:solidFill>
                <a:srgbClr val="ffffff"/>
              </a:solidFill>
              <a:latin typeface="Verdana"/>
            </a:endParaRPr>
          </a:p>
        </p:txBody>
      </p:sp>
      <p:sp>
        <p:nvSpPr>
          <p:cNvPr id="111"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Nos quadros de demência pode-se observar, ainda:</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iminuição progressiva de comportamentos de adaptação, como o controle de esfíncteres, hábitos de higiene e alimentação e do próprio controle emocional, o que leva a maioria das pessoas a dizer que o paciente está “voltando a ser criança”.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ão exemplos de patologias que desenvolvem quadros de demência: a Doença de Alzheimer e as demências vasculares.</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1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1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47D97-7ED1-4E1B-BF80-3377029EFE86}"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emência</a:t>
            </a:r>
            <a:endParaRPr b="1" lang="en-US" sz="3200" spc="-1" strike="noStrike">
              <a:solidFill>
                <a:srgbClr val="ffffff"/>
              </a:solidFill>
              <a:latin typeface="Verdana"/>
            </a:endParaRPr>
          </a:p>
        </p:txBody>
      </p:sp>
      <p:sp>
        <p:nvSpPr>
          <p:cNvPr id="115" name=""/>
          <p:cNvSpPr txBox="1"/>
          <p:nvPr/>
        </p:nvSpPr>
        <p:spPr>
          <a:xfrm>
            <a:off x="394920" y="981000"/>
            <a:ext cx="8381880" cy="54007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Três principais características dos quadros de demência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rejuízo da memória: Varia de um esquecimento leve até o prejuízo severo a ponto de não se recordar da própria identi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roblemas de comportamento: Normalmente se caracteriza por agitação, insônia, choro fácil, comportamentos inadequados, perda da inibição social normal e alterações de personali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erda das habilidades: São as habilidades adquiridas durante a vida, como organizar os compromissos, dirigir, vestir a roupa, cuidar da vida financeira, cozinhar.</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1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1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F47B4-784A-40A7-91A5-56599AE264ED}"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emência</a:t>
            </a:r>
            <a:endParaRPr b="1" lang="en-US" sz="3200" spc="-1" strike="noStrike">
              <a:solidFill>
                <a:srgbClr val="ffffff"/>
              </a:solidFill>
              <a:latin typeface="Verdana"/>
            </a:endParaRPr>
          </a:p>
        </p:txBody>
      </p:sp>
      <p:sp>
        <p:nvSpPr>
          <p:cNvPr id="119"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10 sintomas mais comuns nas demências:</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éficit de memóri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ificuldades de executar tarefas doméstica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roblema com o vocabulári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esorientação no tempo e espaç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Incapacidade de julgar situaçõe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roblemas com o raciocínio abstrat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locar objetos em lugares equivocad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lterações de humor de comportament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lterações de personali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erda da iniciativa – passividade.</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2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C5084-2BFD-403E-A541-693CDC259C51}"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emência</a:t>
            </a:r>
            <a:endParaRPr b="1" lang="en-US" sz="3200" spc="-1" strike="noStrike">
              <a:solidFill>
                <a:srgbClr val="ffffff"/>
              </a:solidFill>
              <a:latin typeface="Verdana"/>
            </a:endParaRPr>
          </a:p>
        </p:txBody>
      </p:sp>
      <p:sp>
        <p:nvSpPr>
          <p:cNvPr id="123" name=""/>
          <p:cNvSpPr txBox="1"/>
          <p:nvPr/>
        </p:nvSpPr>
        <p:spPr>
          <a:xfrm>
            <a:off x="468000" y="981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Os sintomas iniciais de demência variam, mas a perda de memória em curto prazo costuma ser a característica principal ou única a ser trazida à atenção do profissional.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Ainda assim, nem todos os problemas cognitivos nos idosos são devidos à demência.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Perguntas cuidadosas aos pacientes e aos familiares podem ajudar a determinar a natureza do comprometimento cognitivo e a estreitar o diagnóstico.</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2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4963A-967B-41B9-9DC8-B8D6C6D87764}"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6T08:41:34Z</dcterms:created>
  <dc:creator>Escolastica</dc:creator>
  <dc:description/>
  <dc:language>en-US</dc:language>
  <cp:lastModifiedBy>Mendoza</cp:lastModifiedBy>
  <dcterms:modified xsi:type="dcterms:W3CDTF">2012-02-02T08:05:12Z</dcterms:modified>
  <cp:revision>29</cp:revision>
  <dc:subject/>
  <dc:title>Transtornos orgânicos: Demência,  Demências vasculares e Doença de Alzheimer </dc:title>
</cp:coreProperties>
</file>