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wmf" ContentType="image/x-wmf"/>
  <Override PartName="/ppt/media/image1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B20D9-3F8D-41AD-B4FA-BEEF51AFC13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C3339-AC50-43FE-B34D-C55DB257ACA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1D7E2-3511-4557-A877-E10D1374089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560CA-FD5A-4D0B-9C85-10E8270A0B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806AC-2A82-4978-9E20-275B4A45EB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34D9A-F752-4729-B567-CF8DE9C796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5018E-5CBE-4CDE-B5F2-F0530461BB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0AA77-6231-47AB-A69B-27BEFD8521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E1710-3932-4BF6-B255-6BC22C2C96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3C971-E3D5-4BFD-8EEF-755873476D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AC53B-3BCA-4865-A26F-C3E4A355AA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4A368-28B8-49B9-95FF-4E2B27DC43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923D0-F63B-41FD-A7EF-7F1B60CB9F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8012A-A503-498A-B99A-DD690A8FFC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FBB24-322C-489E-AACB-1B47ED959F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38B1E-9626-4BD8-B29E-2853BF77568D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900000" y="170028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7"/>
          <p:cNvSpPr/>
          <p:nvPr/>
        </p:nvSpPr>
        <p:spPr>
          <a:xfrm>
            <a:off x="2971800" y="16765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oogle.com.br/imgres?q=alcoolismo&amp;um=1&amp;hl=pt-BR&amp;rlz=1R2RNQN_pt-BRBR458&amp;biw=1024&amp;bih=302&amp;tbm=isch&amp;tbnid=71tJtTj0QZHeiM:&amp;imgrefurl=http://www.acessojovem.com.br/alcoolismo.html&amp;docid=Y6h3fU-BiMbSkM&amp;imgurl=http://www.acessojovem.com.br/images/Alcoolismo.jpg&amp;w=964&amp;h=963&amp;ei=QizlTrD8OI2ItwfC-smIBA&amp;zoom=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92000" y="1773360"/>
            <a:ext cx="6265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Psicoses:</a:t>
            </a: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Esquizofrenia</a:t>
            </a: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Alcoolism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99640" y="4292280"/>
            <a:ext cx="7704360" cy="12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Módulo 11: Prática de Enfermagem IV -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Enfermagem em Saúde Mental e Enfermagem Geriátric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2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Comportamento do utent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6840" y="134100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indivíduo com transtorno esquizofrênico está com suas funções perceptivas alteradas, vê, ouve e sente coisas que não são reais (as chamadas alucinações)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eleciona estímulos do ambiente que normalmente passam despercebidos, estando frequentemente alheio ao que se passa à sua frent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eu pensamento encontra-se invariavelmente esvaziado, sem sentid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F02C3-C71C-476E-82C5-D451A029B3DC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mportamento do utent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Ás vezes, sente que alguém lhe “rouba os pensamentos da cabeça”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Seu comportamento é geralmente identificado como estranho e sua aparência também pode causar estranheza, pois, estando imerso em percepções distorcidas do mundo e de si mesmo, acaba deixando de cuidar de si (inclusive dos hábitos de higiene) ou pode vestir-se de acordo com os pensamentos delirantes, que comumente apresenta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06E1E-85BE-42ED-A72D-1BFD8879C16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mportamento do utent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143000"/>
            <a:ext cx="8507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O indivíduo também apresenta actividade psicomotora anormal, como ficar se balançando, fazendo movimentos estranhos ou permanecer totalmente imóvel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A comunicação fica prejudicada, seja pelo mutismo, por expressão incoerente de idéias ou por uso inadequado da linguagem como frases incoerentes e neologismos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Tal como outros transtornos, pode apresentar-se em diferentes graus, podendo ser confundida com outros quadros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A39A2-C419-4FDA-8126-7CE978FE62EF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LCOOLISM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69183-5CDE-442C-AE9D-379084E625C1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Espaço Reservado para Imagem 7" descr="http://t1.gstatic.com/images?q=tbn:ANd9GcRH9QINRKH93z89isNsskQ5-1dJ0x6RObQjxT0kvvN0ZKrCeXZk">
            <a:hlinkClick r:id="rId1"/>
          </p:cNvPr>
          <p:cNvPicPr/>
          <p:nvPr/>
        </p:nvPicPr>
        <p:blipFill>
          <a:blip r:embed="rId2"/>
          <a:srcRect l="0" t="12333" r="0" b="12333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istória do álcoo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O álcool foi mencionado como medicamento na Mesopotâmia em 2.200 anos a.C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Há registos de uso de vinho no Antigo Testamento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800 anos d.C na Arábia deu-se a descoberta do processo de destilação do álcool, gerando enorme incremento ao seu uso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s destilados foram usados em princípio como medicament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4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Espaço Reservado para Número de Slide 5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F8F8D-21EA-403B-8D9D-1E84CB6A3001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istória do álcoo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6840" y="134100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Problemas gerados pelo consumo de álcool e de outras drogas são conhecidos há muitos séculos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Hipócrates descreveu em 385 a.C fatores que predispunham às doenças pelo consumo de álcool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No Séc. XVIII começa o processo de industrialização  do álcool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D5EBE-41D0-47AA-B62F-EF3EB5244ED9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istória do álcoo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6840" y="134100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uso de drogas adquire estatuto médico no fim do séc. XIX e início do séc. XX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Magnus Huss (alcoolismo), Thomas Trotter (embriaguez – doença da mente)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pós a 2ª Guerra Mundial, com a responsabilidade da OMS em organizar definições e conceitos, estes termos são disseminad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epercussão das concepções do médico inglês Adams (1920) sobre os conceitos de Tolerância, Dependência, Síndrome de Abstinência e Recaída relacionados ao uso de álcool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47B35-1A0B-463B-A0E9-ADCC520FA71C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lcoolism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68000" y="105264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nceit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alcoolismo é o conjunto de problemas relacionados ao consumo excessivo e prolongado do álcool e todas as conseqüências decorrente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o alcoolismo existe a tolerância, a dependência, a abstinência, o abuso (uso excessivo, porém não continuado), intoxicação por álcool (embriaguez). Síndromes amnéstica (perdas restritas de memória), demencial, alucinatória, delirante, de humor. Distúrbios de ansiedade, sexuais, do sono e distúrbios inespecíficos. Por fim o </a:t>
            </a:r>
            <a:r>
              <a:rPr b="0" i="1" lang="pt-BR" sz="2400" spc="-1" strike="noStrike">
                <a:solidFill>
                  <a:srgbClr val="000066"/>
                </a:solidFill>
                <a:latin typeface="Verdana"/>
              </a:rPr>
              <a:t>delirium tremens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, que pode ser fatal. </a:t>
            </a:r>
            <a:br>
              <a:rPr sz="2400"/>
            </a:b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82ACD-1FBD-4A51-B412-46154F345A2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ceit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 tolerância e a dependência ao álcool são dois eventos distintos e indissociávei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Tolerância: é a necessidade de doses maiores de álcool para alcançar os mesmos efeit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Dependência: é simultânea à tolerância e será tanto mais intensa quanto mais intenso for o grau de tolerância ao álcool. Dizemos que a pessoa tornou-se dependente do álcool quando ela não tem mais forças por si própria de interromper ou diminuir o uso do mesmo.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8DD36-D675-42F8-A7CB-F6D493AEF173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ceit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índrome de Abstinência: É um conjunto de sinais e sintomas apresentados pelo utente ao parar de beber subitament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álcool é uma droga depressora do Sistema Nervoso Central. Para equilibrar esse efeito, o usuário crônico aumenta a actividade de certos circuitos de neurônios que se opõem à ação depressiva. Quando a droga é suspensa abruptamente, esses circuitos estimulatórios não encontram mais a ação depressora para equilibrá-los e surge, então, a síndrome de hiperexcitabilidade ou de abstinênci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ecaída: o usuário volta a beber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DDCF1-D45F-41EF-BA80-C37F8A25B5DC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66" name="Conector angulado 6"/>
          <p:cNvCxnSpPr/>
          <p:nvPr/>
        </p:nvCxnSpPr>
        <p:spPr>
          <a:xfrm flipV="1" rot="10800000">
            <a:off x="6658920" y="5516280"/>
            <a:ext cx="1008720" cy="505440"/>
          </a:xfrm>
          <a:prstGeom prst="bentConnector3">
            <a:avLst>
              <a:gd name="adj1" fmla="val 49982"/>
            </a:avLst>
          </a:prstGeom>
          <a:ln w="12600">
            <a:solidFill>
              <a:srgbClr val="00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Psicos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6840" y="1484280"/>
            <a:ext cx="83818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Verdana"/>
              </a:rPr>
              <a:t>Esquizofrenia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Verdana"/>
              </a:rPr>
              <a:t>Alcoolismo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5249C-6D71-442D-9321-94949718FE60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ceit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94920" y="980640"/>
            <a:ext cx="8381880" cy="47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intoxicação aguda é a alteração do estado mental pelo aumento dos níveis da substância no organismo, como por exemplo a embriaguez, o coma alcóolico, as convulsões pelo uso de substância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Quando o uso contínuo de alguma substância está causando algum dano à saúde física ou mental do paciente diz-se que a mesma é de uso nocivo como exemplo, o </a:t>
            </a:r>
            <a:r>
              <a:rPr b="0" i="1" lang="pt-BR" sz="2400" spc="-1" strike="noStrike">
                <a:solidFill>
                  <a:srgbClr val="000066"/>
                </a:solidFill>
                <a:latin typeface="Verdana"/>
              </a:rPr>
              <a:t>Delliriuns tremen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B2A84-948F-4373-B010-C767A75627D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1" name="Picture 2" descr="http://t2.gstatic.com/images?q=tbn:ANd9GcREo5uGHh1vZqMJnMXOWMeu5xnu3OrR7fHoprIYXK0QIyHgiMzM"/>
          <p:cNvPicPr/>
          <p:nvPr/>
        </p:nvPicPr>
        <p:blipFill>
          <a:blip r:embed="rId1"/>
          <a:stretch/>
        </p:blipFill>
        <p:spPr>
          <a:xfrm>
            <a:off x="5003640" y="4437000"/>
            <a:ext cx="27464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Fatores relacionados ao alcoolism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39640" y="119700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em desprezar a importância do ambiente no alcoolismo, há evidências de que alguns fatores genéticos aumentam o risco de contrair a doenç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alcoolismo tende a ocorrer com mais frequência em certas famílias, entre gêmeos idênticos (univitelinos), e mesmo em filhos biológicos de pais alcoólicos adotados por famílias de pessoas que não bebem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studos mostram que adolescentes abstêmios, filhos de pais alcoólicos, têm mais resistência aos efeitos do álcool do que jovens da mesma idade, cujos pais não abusam da drog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2951B-7758-4EC1-92C8-CA50839C3BB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Fatores relacionados ao alcoolism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Muitos desses filhos de alcoólicos se recusam a beber para não seguir o exemplo de casa. Quando acompanhados por vários anos, porém, esses adolescentes apresentam maior probabilidade de abandonar a abstinência e tornarem-se dependentes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Filhos biológicos de pais alcoólicos criados por famílias adotivas têm mais dificuldade de abandonar a bebida do que alcoólicos que não têm história familiar de abuso da droga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BB33F-629B-4DF4-8ED2-510D4CF85E9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bservaç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94920" y="1197000"/>
            <a:ext cx="8381880" cy="1727280"/>
          </a:xfrm>
          <a:prstGeom prst="rect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esar de a aula ter como foco principal o alcoolismo, vamos tratar de forma abrangente à outros tipos de drogas em diversos tópicos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C6E1-E842-4722-91A6-2C331B2179E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4" name="Picture 2" descr="http://1.bp.blogspot.com/-FQT-NcaIw3I/TazSNrprGiI/AAAAAAAAAEA/xHZgXcA76zw/s1600/o-que-as-drogas-causam.jpg"/>
          <p:cNvPicPr/>
          <p:nvPr/>
        </p:nvPicPr>
        <p:blipFill>
          <a:blip r:embed="rId1"/>
          <a:stretch/>
        </p:blipFill>
        <p:spPr>
          <a:xfrm>
            <a:off x="2627280" y="3141720"/>
            <a:ext cx="445608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rog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Conceito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egundo a Organização Mundial de Saúde, Droga é qualquer substância, que, não sendo produzida pelo organismo, tem a propriedade de atuar sobre um ou mais de seus sistemas, produzindo alterações no funcionamento cerebral, na mente, no corpo e no comportamento das pessoa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odem ser lícitas ou ilícit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79E77-DFCF-4FFD-8809-B82E44AE09F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rogas 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nsideram-se como psicoativas as substâncias que provocam um estado de alteração no funcionamento mental, aumentando, diminuindo ou distorcendo sua atividade, e que causam dependênci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odemos citar vários exemplos de substância psicoativa, desde o álcool, o cigarro e as substâncias ilegais (cocaína, maconha, LSD), até aquelas prescritas pelo médico, como os ansiolíticos e hipnótic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1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Espaço Reservado para Número de Slide 5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09CBA-60A5-46C9-AB32-577A84785893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roga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O uso abusivo de substâncias psicoativas envolve complicadas causas e conseqüências em nível físico, social e emocional e uma pessoa pode desenvolver um transtorno mental a partir deste uso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O enfermeiro geral muitas vezes terá informação de que o transtorno mental de algum paciente é conseqüência do uso de alguma droga ou presenciará reações mais agudas; por isso, é importante que conheça as mais comuns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7054C-39F8-492D-97D7-21A67068F260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rogas mais comun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4A203-2F34-4788-9274-F249167EF83C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2733840" y="2205000"/>
            <a:ext cx="3676320" cy="2448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"/>
          <p:cNvPicPr/>
          <p:nvPr/>
        </p:nvPicPr>
        <p:blipFill>
          <a:blip r:embed="rId2"/>
          <a:stretch/>
        </p:blipFill>
        <p:spPr>
          <a:xfrm>
            <a:off x="755640" y="887400"/>
            <a:ext cx="7926480" cy="52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assificação das droga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nforme as ações das drogas sobre o Sistema Nervoso Central (SNC) e as modificações observáveis na atividade mental, podem ser classificadas como: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pressoras da atividade mental: causam diminuição da atividade global ou de certos subsistemas do SNC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stimulantes da atividade mental: causam o aumento da atividade de determinados sistemas neuronais, o que traz como conseqüências estado de alerta exagerado, insônia e aceleração dos processos psíquicos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D8736-1D74-4AC0-AB5C-26D2AD745F0C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xempl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9B7CC-DEBA-47D7-9AE4-F6482F41B188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826920" y="1268280"/>
          <a:ext cx="8066160" cy="2776680"/>
        </p:xfrm>
        <a:graphic>
          <a:graphicData uri="http://schemas.openxmlformats.org/drawingml/2006/table">
            <a:tbl>
              <a:tblPr/>
              <a:tblGrid>
                <a:gridCol w="2521080"/>
                <a:gridCol w="2855880"/>
                <a:gridCol w="26892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rogas estimulant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rogas depressora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rogas perturbadoras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58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caí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Álco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conh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ack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nzodiazepin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S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bjectivos de aprendiz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834920" y="1413000"/>
            <a:ext cx="70038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Ao final desta sessão os estudantes deverão ser capazes de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screver sinais e sintomas de um quadro esquizofrênic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elatar a etiologia da esquizofreni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econhecer o alcoolismo como doenç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itar sinais e sintomas de síndrome de abstinênci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dentificar prejuízos do alcoolismo para o utente e para a sociedad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AC4F0-9627-488E-9CE1-E9DD589C2741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15" descr="http://www.estudiantes.info/images/estudiantes/maripo.gif"/>
          <p:cNvPicPr/>
          <p:nvPr/>
        </p:nvPicPr>
        <p:blipFill>
          <a:blip r:embed="rId1"/>
          <a:stretch/>
        </p:blipFill>
        <p:spPr>
          <a:xfrm>
            <a:off x="250920" y="2708280"/>
            <a:ext cx="19875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feitos no organism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Drogas estimulantes: causam alterações no funcionamento do organismo, como: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umento dos batimentos cardíacos, respiração, pressão sanguínea, temperatura corporal, perda de apetite e do son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Drogas depressoras: um exemplo é o efeito psíquico do álcool; Distúrbio de personalidade, atitudes impulsivas e desinibição social. Efeitos físicos: Cirrose hepática, perda da consciência (coma alcoólica) e outras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5F2BE-BC53-45B5-B459-309F82655AD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feitos no organism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Drogas pertubadoras: provocam alterações na percepção, alucinações, dificuldade para concentração, convulsão, síndrome motivacional, prejuízo de memória e atenção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lterações visuais e táteis, despersonalização, assemelhando-se a reações esquizofrênicas aguda, alucinações profunda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ão comuns suicídios involuntários (o individuo pensa que pode voar)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11D0C-3AEF-4D13-B35C-B520E78898D1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aconh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Os efeitos podem ser: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Tremor corporal, vertigem, náuseas, vômitos, taquicardia, excitação psíquica, diarréia, alterações sensoriais, lentidão do raciocínio, oscilação involuntária dos olhos, zumbidos, desorientação, medo de morrer, depressão, alucinações, amnésia temporária, pânico, idéias paranóid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7E99E-C595-4511-8F33-F9E88A211E43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2" descr="http://t1.gstatic.com/images?q=tbn:ANd9GcQKYR9l-6zs7IrzvTFALe92ikyJLa_q_ulyqVqkde6O2Nluko__"/>
          <p:cNvPicPr/>
          <p:nvPr/>
        </p:nvPicPr>
        <p:blipFill>
          <a:blip r:embed="rId1"/>
          <a:stretch/>
        </p:blipFill>
        <p:spPr>
          <a:xfrm>
            <a:off x="1042920" y="4365720"/>
            <a:ext cx="3457800" cy="17272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http://t1.gstatic.com/images?q=tbn:ANd9GcQkWExoojgHOHwym4Z3EcRW8YsryoyC5d76ImqHOwkYLX7wDOSZ9g"/>
          <p:cNvPicPr/>
          <p:nvPr/>
        </p:nvPicPr>
        <p:blipFill>
          <a:blip r:embed="rId2"/>
          <a:stretch/>
        </p:blipFill>
        <p:spPr>
          <a:xfrm>
            <a:off x="4788000" y="4365720"/>
            <a:ext cx="263844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caín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Eleva a pressão arterial, provoca taquicardia e leva à parada cardíaca, o que em geral acontece nos casos de overdose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O uso crônico lesa o septo nasal e causa degeneração dos músculos esqueléticos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9CF95-DFAD-4360-A625-99F621A9339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8" name="Picture 2" descr="http://t3.gstatic.com/images?q=tbn:ANd9GcQBvfR3GshE7eADyPWb0-Ui-QeKh2aPbmWgWDoPYq-tPzwzR-Xf"/>
          <p:cNvPicPr/>
          <p:nvPr/>
        </p:nvPicPr>
        <p:blipFill>
          <a:blip r:embed="rId1"/>
          <a:stretch/>
        </p:blipFill>
        <p:spPr>
          <a:xfrm>
            <a:off x="971640" y="3716280"/>
            <a:ext cx="3538440" cy="23050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http://t3.gstatic.com/images?q=tbn:ANd9GcQlmf6ajtlXcmao-GYaFcexHvKlq0TZOvDL-jp5szljZMpp5C5p"/>
          <p:cNvPicPr/>
          <p:nvPr/>
        </p:nvPicPr>
        <p:blipFill>
          <a:blip r:embed="rId2"/>
          <a:stretch/>
        </p:blipFill>
        <p:spPr>
          <a:xfrm>
            <a:off x="4788000" y="3716280"/>
            <a:ext cx="327168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Crack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Pode produzir dilatação das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pupilas, taquicardia, degeneração muscular, ansiedade, pânico, pensamentos paranóicos, agressividade, irritabilidade, crises convulsivas, podendo ocorrer morte por overdose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638EB-68D1-4E79-B550-020D06B7B9B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4" name="Picture 2" descr="http://t1.gstatic.com/images?q=tbn:ANd9GcTBogTrvD7W8mze-r2HHU6EknKsEsbrp3-flFtdwELatypwKF3abg"/>
          <p:cNvPicPr/>
          <p:nvPr/>
        </p:nvPicPr>
        <p:blipFill>
          <a:blip r:embed="rId1"/>
          <a:stretch/>
        </p:blipFill>
        <p:spPr>
          <a:xfrm>
            <a:off x="1042920" y="3860640"/>
            <a:ext cx="4165560" cy="23115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http://t1.gstatic.com/images?q=tbn:ANd9GcQIyhxGitc1lfUUvJFwyHBhypuAKZ7dxuM4cACatUUaq_h6Haj7"/>
          <p:cNvPicPr/>
          <p:nvPr/>
        </p:nvPicPr>
        <p:blipFill>
          <a:blip r:embed="rId2"/>
          <a:stretch/>
        </p:blipFill>
        <p:spPr>
          <a:xfrm>
            <a:off x="6804000" y="620640"/>
            <a:ext cx="2147760" cy="11988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http://t3.gstatic.com/images?q=tbn:ANd9GcRu8cELifQFrHPqAZIuvn1_t_HQ6JEkYbFH_OP7rDkMRCMGIUwH"/>
          <p:cNvPicPr/>
          <p:nvPr/>
        </p:nvPicPr>
        <p:blipFill>
          <a:blip r:embed="rId3"/>
          <a:stretch/>
        </p:blipFill>
        <p:spPr>
          <a:xfrm>
            <a:off x="5435640" y="3860640"/>
            <a:ext cx="30765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42920" y="228600"/>
            <a:ext cx="7796160" cy="1039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Êxtase/Ecstasy (MDMA)</a:t>
            </a:r>
            <a:br>
              <a:rPr sz="2800"/>
            </a:b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 Metileno-Dioxo-Meta-Anfetamina. 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68000" y="1413000"/>
            <a:ext cx="83818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É um alucinógeno sintético, que pode provocar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tensa euforia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lírios, alucinações visuais e auditivas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umento dos batimentos cardíac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tensa desidrataçã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metabolismo acelerado eleva a temperatura do corp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66687-08CC-4D83-9EC8-16A6E62EB415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1" name="Picture 2" descr="http://t0.gstatic.com/images?q=tbn:ANd9GcSbPS4NBjaO5dp_aoCnG3hz0HfRI17q-LDTpDK3vwZz-3rySfDcmg"/>
          <p:cNvPicPr/>
          <p:nvPr/>
        </p:nvPicPr>
        <p:blipFill>
          <a:blip r:embed="rId1"/>
          <a:stretch/>
        </p:blipFill>
        <p:spPr>
          <a:xfrm>
            <a:off x="3132000" y="4076640"/>
            <a:ext cx="285588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Anfetamina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94920" y="981000"/>
            <a:ext cx="838188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ssas drogas estimulantes do SNC são sintéticas e constituem o elemento básico dos medicamentos chamados "moderadores do apetite“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lém do seu uso pelas pessoas que desejam perder peso, têm sido procuradas por apresentar também efeitos como redução do sono e da fadiga e aumento da capacidade de trabalh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las podem ser consumidas via oral, aspiradas na forma de pó ou injetad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9B484-3948-4BBE-98E4-3B0CECAEF109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6" name="Picture 2" descr="http://t1.gstatic.com/images?q=tbn:ANd9GcQ_tjFMxvOE1ETdIRftsuYVrVPNLmNNCV5Z-MVtw0zaX1XiC1pT"/>
          <p:cNvPicPr/>
          <p:nvPr/>
        </p:nvPicPr>
        <p:blipFill>
          <a:blip r:embed="rId1"/>
          <a:stretch/>
        </p:blipFill>
        <p:spPr>
          <a:xfrm>
            <a:off x="5076720" y="4183200"/>
            <a:ext cx="179892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42560" y="228240"/>
            <a:ext cx="792180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sequências das drogas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076F7-FE89-4363-BB93-D77456513BF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0" name="Picture 2" descr="http://t2.gstatic.com/images?q=tbn:ANd9GcTt6JDsPLEIAV7cVAB66rz7qvmZCQ_oZqiNWwpexkq19aGjSgTq"/>
          <p:cNvPicPr/>
          <p:nvPr/>
        </p:nvPicPr>
        <p:blipFill>
          <a:blip r:embed="rId1"/>
          <a:stretch/>
        </p:blipFill>
        <p:spPr>
          <a:xfrm>
            <a:off x="468360" y="1052640"/>
            <a:ext cx="3311640" cy="23670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http://t0.gstatic.com/images?q=tbn:ANd9GcQtRyWVdWxYEs1a8PMr-3aDRkRVLMI80FUP_GC1m0gRktTNCJ7efg"/>
          <p:cNvPicPr/>
          <p:nvPr/>
        </p:nvPicPr>
        <p:blipFill>
          <a:blip r:embed="rId2"/>
          <a:stretch/>
        </p:blipFill>
        <p:spPr>
          <a:xfrm>
            <a:off x="468360" y="4149720"/>
            <a:ext cx="3414600" cy="2448000"/>
          </a:xfrm>
          <a:prstGeom prst="rect">
            <a:avLst/>
          </a:prstGeom>
          <a:ln w="0">
            <a:noFill/>
          </a:ln>
        </p:spPr>
      </p:pic>
      <p:sp>
        <p:nvSpPr>
          <p:cNvPr id="252" name="CaixaDeTexto 8"/>
          <p:cNvSpPr/>
          <p:nvPr/>
        </p:nvSpPr>
        <p:spPr>
          <a:xfrm>
            <a:off x="468360" y="3357720"/>
            <a:ext cx="359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posição a violência e risco de vid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CaixaDeTexto 9"/>
          <p:cNvSpPr/>
          <p:nvPr/>
        </p:nvSpPr>
        <p:spPr>
          <a:xfrm>
            <a:off x="4211640" y="4365720"/>
            <a:ext cx="475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agregação familiar, violência doméstica, maus tratos de crianças, perda de empreg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CaixaDeTexto 12"/>
          <p:cNvSpPr/>
          <p:nvPr/>
        </p:nvSpPr>
        <p:spPr>
          <a:xfrm>
            <a:off x="3924360" y="5661000"/>
            <a:ext cx="521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mento de gastos públicos, em particular com saúd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5" name="Picture 2" descr="http://t2.gstatic.com/images?q=tbn:ANd9GcS6wVRhDXsaUzp063KDf6fBcbRo4zuCLrSCuUE4Jhb8QdYsuDvIFQ"/>
          <p:cNvPicPr/>
          <p:nvPr/>
        </p:nvPicPr>
        <p:blipFill>
          <a:blip r:embed="rId3"/>
          <a:stretch/>
        </p:blipFill>
        <p:spPr>
          <a:xfrm>
            <a:off x="4427640" y="1052640"/>
            <a:ext cx="4032000" cy="33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Vítimas inocent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DA929-4177-443C-9156-EECE5914BEB3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Picture 6" descr="http://t0.gstatic.com/images?q=tbn:ANd9GcTjNOAMW9gCV3EtiuoWfX9AFVYGfmKvZJWvtQeGPwppu52jOGa2"/>
          <p:cNvPicPr/>
          <p:nvPr/>
        </p:nvPicPr>
        <p:blipFill>
          <a:blip r:embed="rId1"/>
          <a:stretch/>
        </p:blipFill>
        <p:spPr>
          <a:xfrm>
            <a:off x="468360" y="1413000"/>
            <a:ext cx="4230720" cy="3033720"/>
          </a:xfrm>
          <a:prstGeom prst="rect">
            <a:avLst/>
          </a:prstGeom>
          <a:ln w="0">
            <a:noFill/>
          </a:ln>
        </p:spPr>
      </p:pic>
      <p:sp>
        <p:nvSpPr>
          <p:cNvPr id="260" name="CaixaDeTexto 7"/>
          <p:cNvSpPr/>
          <p:nvPr/>
        </p:nvSpPr>
        <p:spPr>
          <a:xfrm>
            <a:off x="468360" y="4508640"/>
            <a:ext cx="460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identes de trânsito: vítimas inocentes, aumento de gastos públic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CaixaDeTexto 10"/>
          <p:cNvSpPr/>
          <p:nvPr/>
        </p:nvSpPr>
        <p:spPr>
          <a:xfrm>
            <a:off x="5435640" y="587700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inquência - cri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CaixaDeTexto 11"/>
          <p:cNvSpPr/>
          <p:nvPr/>
        </p:nvSpPr>
        <p:spPr>
          <a:xfrm>
            <a:off x="5292720" y="98100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nstornos menta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2" descr="http://4.bp.blogspot.com/_S5-c9NvS53E/TPbtTNJbk_I/AAAAAAAAB24/6CbSdtHq8FE/s1600/maconha.jpg"/>
          <p:cNvPicPr/>
          <p:nvPr/>
        </p:nvPicPr>
        <p:blipFill>
          <a:blip r:embed="rId2"/>
          <a:stretch/>
        </p:blipFill>
        <p:spPr>
          <a:xfrm>
            <a:off x="4788000" y="2924280"/>
            <a:ext cx="4140000" cy="30369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http://t3.gstatic.com/images?q=tbn:ANd9GcR_-We1gr6Xz6R6eozjKhwzh_GFbTdOFEislaLbLc004Eu3E-P50g"/>
          <p:cNvPicPr/>
          <p:nvPr/>
        </p:nvPicPr>
        <p:blipFill>
          <a:blip r:embed="rId3"/>
          <a:stretch/>
        </p:blipFill>
        <p:spPr>
          <a:xfrm>
            <a:off x="5148360" y="1341360"/>
            <a:ext cx="31716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SQUIZOFREN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D8D84-CA28-47BF-B8F5-A5D52B0CCE0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4" descr="http://1.bp.blogspot.com/_R3nwxscBsCw/TAM-FDuDLhI/AAAAAAAAABo/50HT07nGKE4/s1600/esquizofrenia22.jpg"/>
          <p:cNvPicPr/>
          <p:nvPr/>
        </p:nvPicPr>
        <p:blipFill>
          <a:blip r:embed="rId1"/>
          <a:srcRect l="6188" t="0" r="6188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ceit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É um dos mais graves transtornos mentai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É também o que mais freqüentemente as pessoas identificam como loucura, pois escapa mais claramente a idéia de normalidad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É uma perturbação com duração mínima de 6 meses e inclui, no mínimo, 1 mês da fase ativa, com um ou mais dos seguintes sintomas: delírios, alucinações, discurso desorganizado, comportamento amplamente desorganizado ou catatônico, sintomas negativos (DSM-IV, 2002)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pt-BR" sz="1600" spc="-1" strike="noStrike">
                <a:solidFill>
                  <a:srgbClr val="000066"/>
                </a:solidFill>
                <a:latin typeface="Verdana"/>
              </a:rPr>
              <a:t>DSM-IV-TR – Manual diagnóstico de transtornos mentais. DORNELLES, Cláudia (tradução). 4 ed. Porto Alegre: Artmed, 2002. </a:t>
            </a:r>
            <a:endParaRPr b="1" lang="en-US" sz="16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F27FA-8FA4-4C91-AE54-7A91A117A4D9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tiolog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1557000"/>
            <a:ext cx="838188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A Esquizofrenia é um transtorno crônico e não tem causa única, pois decorre de uma combinação variável de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Predisposição genética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Disfunção bioquímica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Fatores fisiológicos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Estresse psicossocial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48789-C395-4E12-BF80-B03422D7B170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ipos de Esquizofren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Tipo Paranóide: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característica essencial é a presença de delírios e alucinações auditivas proeminentes no contexto de uma relativa preservação do funcionamento cognitivo e do afet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Tipo Desorganizado: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aracteriza-se por discurso e comportamento desorganizados e afeto embotado ou desorganizad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CC572-2728-41A3-AB9F-C1150075D9C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ipos de Esquizofren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Tipo Catatônico: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Tipo de Esquizofrenia em que se fazem presentes pelo menos dois dos seguintes sintomas: imobilidade motora, atividade motora excessiva, negativismo extremo, peculiaridades de movimentos voluntários, ecolalia, ecopraxi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Tipo Indiferenciado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Quando não são satisfeitos os critérios para os Tipos Paranóide, Catatônico ou Desorganizad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5EDBC-E90A-45C7-8840-02C1D11CB291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ipos de Esquizofren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68000" y="1557360"/>
            <a:ext cx="8381880" cy="32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Tipo Residual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Quando houve pelo menos um episódio de Esquizofrenia, mas o quadro clínico atual não apresenta sintomas psicóticos positivos proeminentes (delírios, alucinações, discurso ou comportamento desorganizados)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xistem contínuas evidências da perturbação, indicadas pela presença de sintomas negativ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9EA1A-3562-4682-BAB6-B317D922DCA9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6T10:01:21Z</dcterms:created>
  <dc:creator>Escolastica</dc:creator>
  <dc:description/>
  <dc:language>en-US</dc:language>
  <cp:lastModifiedBy>Mendoza</cp:lastModifiedBy>
  <dcterms:modified xsi:type="dcterms:W3CDTF">2012-02-02T08:24:00Z</dcterms:modified>
  <cp:revision>46</cp:revision>
  <dc:subject/>
  <dc:title>Psicoses: Esquizofrenia Alcoolismo</dc:title>
</cp:coreProperties>
</file>