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82DCE-E586-4E82-9ACC-BC47DA3A6645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0651-95C9-4BAE-9877-58DAA7F3E27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B2843-F79D-4CB3-91C4-30C00F504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7DC8-9E67-42F7-944E-1050210A0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E2392-221D-4651-9DF9-A97FA24EE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3BD2F-E4F6-4065-B1C4-2653AB60DC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F2D4-5490-4C3E-96C5-B4F73A082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ABB30-BC88-4EF5-AD53-AA7D155AE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F14A1-8F5B-47E4-809D-1489DD0602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66C6C-CD90-4353-BF57-C8749DAC9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A6A50-65D2-4FB7-9433-5F7A3AF886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D2C70-384E-4712-AC57-BE7C18ECF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0DA53-4FD5-4783-9E31-C5C7307DE8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3F52E-FC1F-40EE-A30F-9F5FDE334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9B13-99F0-4340-ACAD-481493F52EA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agnosticoenfer.hdfree.com.br/DIAGNOSTICOS%20DE%20ENFERMAGEM/Sindrome/SINDROME%20DO%20%20DESUSO.htm" TargetMode="External"/><Relationship Id="rId2" Type="http://schemas.openxmlformats.org/officeDocument/2006/relationships/hyperlink" Target="http://diagnosticoenfer.hdfree.com.br/DIAGNOSTICOS%20DE%20ENFERMAGEM/Sindrome/SINDROME%20DO%20DEFICIT%20NO%20AUTOCUIDADO.htm" TargetMode="External"/><Relationship Id="rId3" Type="http://schemas.openxmlformats.org/officeDocument/2006/relationships/hyperlink" Target="http://diagnosticoenfer.hdfree.com.br/DIAGNOSTICOS%20DE%20ENFERMAGEM/Risco/RISCO%20PARA%20LESAO.htm" TargetMode="Externa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5560&amp;ST=SE&amp;franq=136426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ODULO 9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ÁTICAS DE ENFERMAGEM II: ENFERMAGEM MÉDICO-CIRÚRG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62120" y="20174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CUIDADOS DE ENFERMAGEM AO DOENTE COM ALTERACÇÕES NEUROLÓGICAS E MOTOR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o Equilíbrio Hídrico e Controlando as Necessidade Nutricionai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estado de hidratação é avaliado examinando-se o turgor tecidual e as membranas mucosa, avaliando-se as tendências de ingestão e excreção e analisando-se os dados laboratoriais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porcionar o cuidado da boc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boca é inspeccionada quanto a ressecamento, inflamação e formação de crostas. Os pacientes inconscientes precisam de um cuidado oral consciencioso, porque há um risco de parotidite se a boca não mantida bem limp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488E-D84C-422E-A999-3B3530B86A9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a integridade da pele e das Articulaçõe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a ruptura da pele exige avaliações contínuas da Enfermagem. Dá-se uma atenção especial aos pacientes inconscientes, porque eles não podem responder a estímulos externos. Uma prescrição inclui virar o paciente a intervalos regulares para evitar a pressão, que pode causar a ruptura e a necrose da pe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servar a Integridade da Córne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guns pacientes inconscientes ficam com os olhos abertos e têm reflexos córneos inadequados ou ausentes. A córnea pode ficar irritada, ressecada ou arranhada, ocasionando ulcera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BF73-1AA0-4EB4-BC73-27FEC9A9056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a Temperatura Corpor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ma febre alta num paciente inconsciente pode ser causada por uma infecção de trato respiratório ou urinário, reacções de drogas ou uma lesão de centro hipotalâmicos para a regulação da temperatura. Uma ligeira elevação de temperatura pode ser causada pela desidrata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vitar a retenção Urinar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com alteração do nível de consciência com frequência apresenta incontinência ou tem retenção urinár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E716-E3BC-4873-99FD-1C7356848E0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bexiga é palpada ou examinada periodicamente por técnicas de aquisição de imagens para determinar se está presente a retenção urinária, porque uma bexiga cheia pode ser uma causa não - percebida de incontinência por transborda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mover o Funcionamento Intestin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dómen é avaliado quanto à distensão auscultando-se os sons intestinais e medindo-se as circunferências do abdómen com uma fita métrica. Há risco de diarreia por infecção, uso de antibióticos e líquidos hiperosmola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CA46-28C8-4A62-8166-5942F4CF255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porcionar Estimulação Sensori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nfermeira toca o paciente e fala com ele encorajando familiares e amigos do paciente a fazer o mesmo. A comunicação é extremamente importante e inclui tocar o paciente e passar tempo suficiente com ele para ficar sensível a sua necess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tender às Necessidades da Famíl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família do paciente com alteração de nível de consciência pode ser lançada num súbito estado de crise e passar pelo processo de ansiedade grave, negação, raiva, remorso, tristeza e reconcili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4E7F-E591-401B-BC65-E2B743D644C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onitorar e Tratar as Complicações Potenciai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neumonia, aspiração e insuficiência respiratória são complicações potenciais em qualquer paciente que tenha um rebaixamento do nível de consciência e que não possa proteger suas vias aéreas ou de virar tossir e respirar fundo. Quanto maior for a duração do período de inconsciência, maior o risco de complicações pulmona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A9CD-1D5C-4ECF-806F-2AA3CCB3B9D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VULSÕ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vulsõe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As convulsões são episódios de actividades motora, sensorial, autonómica ou psíquica anormal (ou uma combinação destas), que decorrem de uma descarga súbita e excessiva de neurónios cerebrais (Hickey) parte do cérebro ou todo ele pode ser envolvi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lassificação internacional de crises convulsivas diferencia dois tipos princip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ses parciais, que se iniciam numa parte de cérebr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ses generalizadas, que envolvem descargas eléctricas no cérebro inter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DE451-9BD7-4BC1-B69A-EFFEF2654A5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IFESTAÇÕES CLÍN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9480" y="1143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uma crise parcial simple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consciência permanece intacta, enquanto, numa crise parcial complexa, a consciência se altera. As crises não classificadas são designadas desse modo devido a dados incomple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ausa subjacente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 distúrbio eléctrico (disritmia) nas células nervosas numa região do cérebro; essas células emitem descargas eléctricas anormais, recorrentes e não controladas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AB98-8FB7-4168-8EC5-5539A02D818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rise convulsiva típic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manifestação dessa descarga neuronal excessiva. Pode haver também uma perda de consciência associada, movimento excessivo, ou perda do tonus muscular ou do movimento e distúrbios do comportamento, humor, sensação e percep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F9A5-21B7-447C-AB67-64976D68177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IFESTAÇÕES CLÍN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causas específicas das crises convulsivas são variad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 podem ser classificadas como idiopáticas (defeit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néticos, defeitos do desenvolvimento) e adquirid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causas das convulsões adquiridas inclue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s Vasculares Cerebr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ipoxémia por qualquer causa, incluindo insuficiência vascul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ebre (na infânci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Crânio-encéfalo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1674-D385-4AFC-BCC1-0728EFEECAA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F8A4-D348-4D96-A7A8-EAE7D3888CD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160" y="2819160"/>
            <a:ext cx="83055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nhecer o estado de inconsciência usando a escala de coma de Glasgow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leccionar os cuidados de enfermagem a prestar ao utente inconsciente, prevenindo as complicações decorrentes do estado clínico do ut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8972-4FB4-4E22-8CD5-AF568EE10A8F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43000" y="1219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pós a discussão desse tema os aluno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657600" y="2286000"/>
            <a:ext cx="1828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2CAD-5912-4A65-8F68-2D5AD76B186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ipertens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ecção do Sistema Nervoso Centr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dições metabólicas e tóxicas (Ex: Insuficiência renal, hiponatrémia; hipoglicémia, insecticida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umor cerebr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bstinência a droga e álcoo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erg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533520" y="1523880"/>
          <a:ext cx="8381880" cy="4800600"/>
        </p:xfrm>
        <a:graphic>
          <a:graphicData uri="http://schemas.openxmlformats.org/drawingml/2006/table">
            <a:tbl>
              <a:tblPr/>
              <a:tblGrid>
                <a:gridCol w="3276360"/>
                <a:gridCol w="510552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(COM INICIO LOCALIZ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INTO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08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simples (com sintomas elementares, geralmente sem alteração de consciênc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mo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sensoriais especiais ou somatossensor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autonóm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rmas compo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1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parciais complexas (com sintomas complexos, geralmente com alteração de consciênc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alteração de consciência tão-so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cogni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afec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psicossensor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psicomotores (automatism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rmas compo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17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1109-ABA3-4301-9A15-15375EE44F1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53352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LASSIFICAÇÃO INTERNACIONAL DAS CRISES CONVUL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3520" y="990720"/>
          <a:ext cx="8305560" cy="3627360"/>
        </p:xfrm>
        <a:graphic>
          <a:graphicData uri="http://schemas.openxmlformats.org/drawingml/2006/table">
            <a:tbl>
              <a:tblPr/>
              <a:tblGrid>
                <a:gridCol w="3352680"/>
                <a:gridCol w="49528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(COM INICIO LOCALIZ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INTO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116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secundariamente generaliz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GENERALIZADAS (CONVULSIVAS OU NÃO-CONVULSIVAS, BILATERALMENTE SIMÉTRICAS SEM INICIO LOCALIZAD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 tónica - clônic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tón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clôn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de ausência (pequeno m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atón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mioclônicas (epilépticas bilateralmente maciças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não-classificad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7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8E57-593A-4486-948A-34127426942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urante uma Convuls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privacidade e proteger o paciente dos curiosos (o paciente que tiver uma aura- aviso de uma convulsão importante-pode ter de procurar um lugar seguro e com privacidade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paciente no chão, se possíve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teger a cabeça com uma almofada para evitar uma lesão (por bater uma superfície dur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36641-F5D5-4710-AA17-E122BF4BC20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33160" y="114264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urante uma Convuls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purrar para longe quaisquer móveis que possam lesar o paciente durante a convuls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o paciente estiver na cama, remover travesseiro e elevar ao gradis later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uma aura preceder a crise, inserir uma vis aérea oral para reduzir a possibilidade de o paciente morder a língua ou a bochech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8586-2C29-4BF9-B7B8-A86F22E3F3F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6840" y="12193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tentar abrir a boca que está cerrada nem inserir objectos. Dentes quebrados e lesão dos lábios e da língua podem ocorrer em consequência dessa ac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se deve fazer nenhuma tentativa de conter o paciente durante a crise, porque as contracções musculares são fortes e a contracção pode produzir lesõ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A447-F57E-4275-AEB1-A08BFB584ED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pois da Cr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o paciente deitado de lado para evitar a broncoaspiração. Certificar-se que a via aérea está permeáve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á geralmente um período de confusão mental após uma crise de grande m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m curto período de apneia pode ocorrer durante uma crise generalizada ou imediatamente após a mes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o despertar, o paciente deve se reorientado quanto ao ambiente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8AC3-138B-45A7-A171-4106B83DDB9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11430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o paciente ficar agitado após uma crise (período pos-ictal), usar persuasão tranquila e uma concentração le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EEB7C-9DE2-4924-85A7-C6580F27EB1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Depois da Cr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4ABE2E0"/>
          <p:cNvPicPr/>
          <p:nvPr/>
        </p:nvPicPr>
        <p:blipFill>
          <a:blip r:embed="rId1"/>
          <a:srcRect l="19086" t="5674" r="9939" b="53748"/>
          <a:stretch/>
        </p:blipFill>
        <p:spPr>
          <a:xfrm>
            <a:off x="533520" y="1981080"/>
            <a:ext cx="82296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rturbações do son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São alterações na conciliação do sono ou durante o mesmo, ou então alterações relativas à duração do sono, ou a comportamentos anormais associados ao sono, como o terror nocturno e o sonambulism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on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algo necessário para sobreviver e gozar de boa saúde, mas ainda não se sabe porque se necessita do sono nem exactamente como nos benefic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B6AD-7799-4697-8618-BA4E893CC65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necessidades individuais de sono variam amplamente 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s adultos saudáveis vão de apenas 4 horas diárias 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no até 9 hor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ralmente, as pessoas dormem de noite, embora muitas 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çam durante o dia devido aos seus horários de trabalh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uação que muitas vezes provoca perturbações do son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8827-0CDE-462B-A372-95FAE98C005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17C0-969B-428B-97D5-22D0F2FE80E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1430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nhecer o utente em estado convulsivo de forma a prestar medidas de enfermagem prevenindo as complicaçõ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nhecer a importância dos cuidados de enfermagem no utente com mobilidade física prejudicad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leccionar os cuidados de enfermagem a prestar ao utente com mobilidade física prejudic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ÊN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uitos factores, como a excitação ou o </a:t>
            </a:r>
            <a:r>
              <a:rPr b="0" i="1" lang="pt-PT" sz="2400" spc="-1" strike="noStrike">
                <a:solidFill>
                  <a:srgbClr val="000066"/>
                </a:solidFill>
                <a:latin typeface="Arial"/>
              </a:rPr>
              <a:t>stress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ocional, podem determinar as horas de sono de uma pessoa e a forma como se sente ao desperta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s medicamentos podem também desempenhar u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pel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guns produzem sonolência enquanto outros dificultam o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clusive certos alimentos ou aditivos, como a cafeína, as especiarias fortes e o glutamato monos sódico, podem afectar o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3C2E-C5F0-49E6-AD88-B5380331D8B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són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a dificuldade em conciliar o sono ou permanecer adormecido, ou uma alteração no padrão do sono que, ao despertar, leva à percepção de que o sono foi insuficiente. A insónia não é uma doença, mas um sintoma. Pode ser consequência de diversas perturbações emocionais e físicas e do uso de medicamen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2E85-F74B-4728-A7F1-6626F3CF0CB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6840" y="11430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dificuldade em conciliar o sono é frequente entre jovens e idosos e muitas vezes manifesta-se no decurso de alterações emocionais, como a ansiedade, o nervosismo, a depressão ou o temor. Há mesmo pessoas que têm dificuldade em conciliar o sono simplesmente porque não experimentam cansaço, nem físico nem men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8E89-1021-47DE-B64D-18640E0659E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094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ipersónia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um aumento das horas absolutas de sono, aproximadamente em 25 % mais do que padrão normal de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bora seja menos frequente que a insónia, a hipersónia é um sintoma que muitas vezes indica a possibilidade de uma doença grave. As pessoas saudáveis podem experimentar uma hipersónia temporária durante algumas noites ou dias como consequência de um período de privação de sono continuado ou devido a um esforço físico pouco habitua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4DBE5-B4A5-4156-AC93-FFFE5A23050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160" y="99036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arcoleps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alteração pouco frequente do sono, que se caracteriza por crises recidivantes de sono durante as horas normais de vigília e também de cataplexia, paralisia do sono e alucina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conhece-se a causa, mas a perturbação costuma apresentar-se em pessoas com antecedentes familiares, o que sugere uma predisposição genétic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bora a narcolepsia não tenha consequências graves para a saúde, pode produzir um sentimento de temor e aumentar o risco de acident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BA48-9A01-48AE-B86A-ABBAEC7FD4F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neia durante o son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 grupo de perturbações graves em que a respiração se suspende repetidamente durante o sono (apneia) um tempo suficientemente prolongado para provocar uma desoxigenação sanguínea e cerebral e aumentar a quantidade de anidrido carbón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pneia obstrutiva deve-se a uma obstrução na garganta ou nas vias respiratórias superio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pneia central é consequência de uma disfunção na zona do cérebro que controla a respir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D1E9-4225-4429-907B-33A4EF445AD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ssónia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ão sonhos e actividades físicas particularmente vividas que se apresentam durante o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síndroma das pernas inquietas (acatisia)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perturbação bastante comum que costuma aparecer exactamente antes de adormecer, particularmente entre os maiores de 50 an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72A4-3BA0-4BEB-BFDA-CE906A7F18E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bretudo em situações de </a:t>
            </a:r>
            <a:r>
              <a:rPr b="0" i="1" lang="pt-PT" sz="2400" spc="-1" strike="noStrike">
                <a:solidFill>
                  <a:srgbClr val="000066"/>
                </a:solidFill>
                <a:latin typeface="Arial"/>
              </a:rPr>
              <a:t>stress,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as pessoas com acatisia experimentam um ligeiro mal-estar nas pernas, juntamente com movimentos espontâneos e incontroláveis das mesm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conhece-se a causa desta perturbação, mas mais de Um terço dos afectados têm antecedentes familiares. Por Vezes, pode prevenir-se tomando benzodiazepinas antes de se deit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1A28-2819-422B-871A-FA06F1BCF91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errores nocturn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ão episódios de medo com gritos e agitação e muitas vezes são acompanhados de sonambulismo. Estes episódios costumam aparecer durante as fases não do ciclo do sono. Pode ser útil o tratamento com benzodiazepinas, como o diazepa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sadel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fectam crianças e adultos e são sonhos particularmente vividos e aterradores, seguidos de um despertar brusco. Os pesadelos verificam-se durante o sono e são mais frequentes em estados febris, situações de cansaço excessivo ou depois da ingestão de bebidas alcoólicas. Não existe um tratamento específico para corrigir a perturb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2491-5472-4AD3-A2C3-E655A7F4051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onambulism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o acto de andar de forma semiconsciente durante o sono sem se aperceber disso e é mais frequente no final da infância e durante a adolescênc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pessoas não sonham durante os estados de sonambulismo; de facto, a actividade cerebral nesse período, embora normal, parece-se mais com a de um indivíduo desperto do que com a de um estado de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s sonâmbulos podem murmurar de forma repetida e alguns magoam-se ao tropeçar em obstáculos. Geralmente, a maioria não recorda o episód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2FE5-A3DF-4099-86F0-6010A4A68AA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ALTERAÇÃO DA CONSCIÊNCIA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CEIT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 de consciênc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dição de responder a estímulos ambientais e perceber esses estímul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 de inconsciênc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dição de responder menos a estímulos ambientais e perceber menos esses estímul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m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 estado de ausência de resposta não possível de activação no qual não há respostas intencionais e estímulos internos e externos, embora possam estar presentes respostas não-intencionais a estímulos dolorosos e reflexos do tronco cerebral. A duração do coma limita-se habitualmente a 2 a 4 seman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116C-1A5F-43DC-8888-1097C63CEA7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obilidade Física Prejudicad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Estado em que um indivíduo apresenta, ou está em ris­co de apresentar, limitação do movimento físico, mas não está imó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associa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obilidade Física Prejudicada descreve um indivíduo com o uso limitado do (s) braço (s) ou perna (s) ou com limitação da força muscular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F963-7764-4E7E-AFB4-FA8B8560C2B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obilidade Física Prejudicada não deve ser usada para descrever a imobilidade completa; nesse caso, é mais aplicável a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índrome do Desus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limitação do movimento físico pode ser também a etiologia de outros diagnósticos de enfermagem, como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eficit no Autocuidad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ou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Risco para Les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2ECE-314D-4CA1-8754-A6D752B7FC4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índrome do Desus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ou está em risco de apresentar deterioração dos sistemas orgânicos ou de alteração no funcionamento, resultante de inactividade musculo esquelética prescrita ou inevitá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índrome do Dificuldade no Autocuidado: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prejuízo função motora ou cognitiva, causando uma diminuição na capacidade de desempenhar cada uma das cinco actividades de autocuidad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E219-45AA-43AE-9564-8B7E990F871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associados à diminuição da força e 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sistência secundária 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neuromuscula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terações auto-imunes (ex: esclerose múltipla, artri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s do sistema nervoso (ex: Parkinsonismo,  miastenia gravi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strofia muscul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lisia total ou parcial (ex: traumatismo  raquimedular, derram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1354-94BA-4B66-93C2-9A907B83A8F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umor no sistema nervoso centr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ssão intracraniana aumenta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ts sensori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músculo esquelé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ractur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 do tecido conectivo (lúpus eritematoso sistémi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lacionados ao edema (líquido sinovial aumentad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E348-8DCB-4D1D-8580-1F9610D333C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ERVENÇÕES GER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as lentes conectivas prescritas ou o aparelho auditiv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independência no vestir por meio da prática contínua e sem auxíl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colher roupas folgadas, com mangas e pernas largas e com fecho anterior. Permitir tempo suficiente para o vestir-se e o despir-se, pois a tarefa pode ser fatigante dolorosa ou difíci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890F-34E8-4760-815A-65F94043A44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lanificar que a pessoa aprenda e demonstre uma parte da actividade antes de progredir para a segui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as roupas na ordem em que devem ser vestid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cuidados de vestir necessário (alguns comummente usados incluem os adesivos de velcro, o puxador de zipe, o gancho para o botões, a calçadeira com o cabo longo, os sapatos com elástico substituindo os cordões; todas as peças de vestuário podem ter o fechamento adaptado para o velcr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49B4-73CE-41D4-95F5-36ADA159E79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roupas comuns ou especiais em lugar de roupas de dormi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privacidade para a rotina de vestir-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s pessoas com deficiência visual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mitir que a pessoa estabeleça o local mais conveniente para colocar as roupas e adaptar o ambiente para a melhor realização da tarefa (ex: remover as barreiras desnecessária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BC4F-5B8A-4A66-9E2A-6132CA456D6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unciar-se verbalmente antes de entrar ou sair da área de vesti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belecer uma rotina adequada para proporcionar um programa estruturado que diminua a confus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s instruções simples e repeti-las frequentemente evitar as distrac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troduzir um artigo de vestuário de cada ve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8A7E-B8DE-42C0-B95F-5C4D4A2DFEB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33160" y="9907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atenção para a tarefa; estar alerta quanto à fadiga, que pode aumentar a confus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vestigar a compreensão e o conhecimento do indivíduo e da família sobr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e as instruções e a justificativa acim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s pessoas com membros amputados ou ausente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Banho cedo pela manhã ou antes de deitar para evitar o vestir-se e despir-se des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A69A-0077-4CF6-9BFE-7820DF1DE6B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A INCONSCI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574640"/>
          <a:ext cx="8153640" cy="4597560"/>
        </p:xfrm>
        <a:graphic>
          <a:graphicData uri="http://schemas.openxmlformats.org/drawingml/2006/table">
            <a:tbl>
              <a:tblPr/>
              <a:tblGrid>
                <a:gridCol w="2590920"/>
                <a:gridCol w="2844720"/>
                <a:gridCol w="2718000"/>
              </a:tblGrid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Â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PO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ONTU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9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sposta de abertura dos olh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spontân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À v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À 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enh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604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lhor resposta verb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rien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fu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lavras inadequ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ons incompreensív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enh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0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B8C5-ED23-451C-8ABD-F2D11948C27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609480" y="990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scala de Coma de Glasg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o espelho durante o banho para inspeccionar a pele das áreas paralisad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submetida à amputação a inspeccionar o coto quanto à integridade da pe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apenas a quantidade de supervisão ou de auxílio necessário para aprendizagem do uso da extremidade ou para a adaptação à defici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F36B-5684-4078-8F2D-8FEA53B69CB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índrome do Deficiência no Autocuidad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prejuízo função motora ou cognitiva, causando uma diminuição na capacidade de desempenhar cada uma das cinco actividades de auto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ciência no Autocuidado Alimentaçã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habilidade prejudicada para realizar ou completar as actividades alimentares por si mesm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9896-BAE2-4A97-A01F-C888BECC5C5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ERVENÇÕES GER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eriguar com a pessoa ou os membros da família que alimentos ela aprecia ou n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com que as refeições sejam feitas sempre no mesmo local: ambiente agradável, sem muitas distrac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temperatura correcta dos alimentos (os alimentos quentes, quentes e os ali­mentos frios, fri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E3C6-1781-4D59-803D-7D3B34C49D1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o alívio da dor, pois ela pode afitar o apetite e a habilidade de alimentar-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uma boa higiene oral antes e depois das refei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dentaduras e ócul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a pessoa na posição mais normal para alimentar-se, de acordo com a sua in­capacidade (a melhor posição é a sentada na cadeira, à mesa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o contacto social durante a refe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F8A7-2198-4215-A05A-11A9309A9DF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 deficiência perceptiva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colher louças de cores diferentes para ajudar a distinção dos itens (ex: bandeja vermelha, pratos branc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os padrões habituais de alimentação da pessoa e proporcionar itens alimentares de acordo com a preferência (ou organizá-los no sentido do relógi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84D8-FFCA-4A83-A68E-6A078D8D7CA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gistar no plano de cuidados a organização utilizada (ex: a carne na posição de 6 horas; as batatas, às 9 horas; os vegetais, às 12 hora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ingestão de alimentos com as mãos (ex: o pão, as frutas, salsichas) para proporcionar independ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2AE8-DC26-413B-A834-A0D9D451FDC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reforçar a independência máxima, proporcionar os equipamentos adaptativos necessári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ato com bordas altas para evitar que o alimento caia para fo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ucção sob o prato ou a tigela para manter a estabil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bos forrados nos talheres para uma prensa mais fir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3185-2B79-4AE7-9ECB-3C4B8CC108A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ala no pulso e na mão, com um prendedor para fixar os talhe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po especial para os líqu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ca arredondada para cort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xiliar a servir, se necessário, abrindo as embalagens, os guardanapos, os condimentos; cortando a carne; passando manteiga no p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3DE1-A0E3-4A9F-99F8-368F1FED3E6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 as pessoas com deficiência cognitiv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um ambiente isolado, quieto até que a pessoa seja capaz de alimentar-se sem distrair-se facilmente da taref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a pessoa quanto à localização e à finalidade do equipamento para a alimentação Colocar a pessoa na posição mais normal que ela fisicamente é capaz de suportar, para alimentar-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7204-1539-4E5C-ACC3-14D54856181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prestar atenção na tarefa, mas ficar alerta quanto à fadiga, frustração ou agitação. Para as pessoas com medo de envenenamento: permitir que ela abra os alimentos enlat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er primeiramente um biscoi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as refeições em estilo famili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vestigar, para garantir que tanto a pessoa quanto a família compreendam a razão e a finalidade de todas as interven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31AE-4F22-4488-90D0-ED40A829654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609480" y="1295280"/>
          <a:ext cx="8229600" cy="274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75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lhor resposta mot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bedece a coma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ocaliza a 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trai-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ctr" pos="930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lexão</a:t>
                      </a: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xten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enh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1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7F33-F982-4ED0-A541-F92ACC681F8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A INCONSCI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4882-2F8C-4971-98CB-1B8881438D6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Tratado de Enfermagem Médico-Cirúrgica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Brunner &amp; Suddarth – Vol. 2 – Guanabara Koogan - 2009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www.manualmerck.net/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ED8C-DF39-4A8A-92BB-FE50AE04BD9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066320"/>
            <a:ext cx="8076960" cy="33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s respostas do paciente são avaliadas numa escala de 3 a 15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m escore de 3 indica uma alteração grave da função neurológ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m escore de 15 indica que o paciente está respondendo plen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A INCONSCI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160" y="1294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sistência de Enfermagem num utente incons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as vias aére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À consideração mais importante de pacientes com alterações do nível de consciência e estabelecer uma via aérea adequada e assegurar a ventil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teger o paciente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 a protecção do paciente, os gradis laterais são acolchoados, dois gradis são mantidos na posição levantada durante o dia e três à noite; entretanto, levantar todos os quatro gradis é considerado uma conten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C3AF-A54E-456F-A0BC-0D049ACFCD2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D5F1-5A55-4400-88CA-FB5D7131AB4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" descr="4ABE2E0"/>
          <p:cNvPicPr/>
          <p:nvPr/>
        </p:nvPicPr>
        <p:blipFill>
          <a:blip r:embed="rId1"/>
          <a:srcRect l="19086" t="5674" r="9939" b="53748"/>
          <a:stretch/>
        </p:blipFill>
        <p:spPr>
          <a:xfrm>
            <a:off x="609480" y="990720"/>
            <a:ext cx="8153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1T13:31:40Z</dcterms:modified>
  <cp:revision>753</cp:revision>
  <dc:subject/>
  <dc:title>ANATOMIA E FISIOLOGIA HUMANA</dc:title>
</cp:coreProperties>
</file>