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42F6-6908-40EB-848A-3EAFA364BD15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402A-53AA-41D5-8991-7CBE714FA4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0F455-CCFD-418E-B961-4266B9548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2DC82-CAEC-4E53-8EE5-FE10D53C2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B07AB-E4C8-4DFE-AC95-E042E50DC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D6493-1C55-4540-BADB-655876650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F1A92-9AB7-4BC7-9C7F-D2C7C697E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6191F-B2F4-4340-844F-03FF20F905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3A1AF-30E3-46CB-B067-AB56ED68D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077BF-CE75-4220-BE19-F66853B048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6ED1-DB86-4445-B5BF-BDA457F05C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A3F8B-0D9F-4EE1-B200-5D38E620C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D72B4-78A4-4EC8-BCF1-88CC3DEA91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8506-8253-4645-8194-F3DE9A7E1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C561-5DFD-4CB1-94AF-354340C117C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93057&amp;ST=SE&amp;franq=136426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067"/>
          <p:cNvSpPr/>
          <p:nvPr/>
        </p:nvSpPr>
        <p:spPr>
          <a:xfrm>
            <a:off x="32004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520" y="1600200"/>
            <a:ext cx="59436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Cuidados de Enfermagem na Alta do Utente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94920" y="45716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ulas 13/16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aterial necessári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rtão de identificação do paci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rtão de operação de for paciente de foro cirúrg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testado de hospitaliz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Guia de transferência para consulta externa de controlo ou seguimento pós alta (  se necessário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testado de doenç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ibo de pagamento de hospitaliz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Guia de alt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eitas médica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36EF-7045-436A-A75B-65FACE3D7BD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914040"/>
            <a:ext cx="83818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Procedimento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Certificar-se da alta no processo clínico do paciente, que deve estar assinada pelo médic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Verificar no processo clínico as medicações ou outros tratamentos a serem feitos antes da saída do paci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Informar ao paciente sobre a alta, discutir com ele sobre a hora de saída e como será transportad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Entregar ao paciente a receita médica e orientá-lo devidam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Auxiliar o paciente a vestir-s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Reunir as roupas e seus pertences e colocá-los na mala ou sacol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6051-1320-4E84-8C73-2D21319F06D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Procedimento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Devolver objectos e medicamentos ao paciente, que foram guardados no hospital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Providenciar cadeira de rodas ou maca para transportar o paciente até o veícul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Transportar 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Preparar a unidade para receber outr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Fazer registos: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Data e horári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Condições de saída (deambulando, de maca ou de cadeira de rodas)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Procedimentos realizados e as orientações dadas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FA6C-DFB8-4D8B-8579-72D7835599E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dimentos para paciente cirúrgic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nformar o paciente sobre a sua alta, com antecedência, sempre que possí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tactar o serviço social quando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plicar o paciente com clareza sobre os cuidados no domicílio: dieta indicada, repouso se necessário, uso correcto de medicamentos, higiene geral e cuidados com a feri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rientar sobre a necessidade de fazer penso no centro de saúde e marcar consulta de controlo, se pertinen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4F47-6743-4472-B624-E1F3FD6BE0B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dimentos para paciente cirúrgic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ntregar ao paciente os seus bens que estavam na posse da enferma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ovidenciar o transporte do paciente em maca ou na cadeira de rodas, quando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ornecer a primeira medicação a ser tomada em casa, se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erificar se existirem dúvidas esclareça o paciente e/ou a familiar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Forneça a primeira medicação a ser tomada em casa, se necessári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peça-se do paciente e seus familiar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34B1-941B-4D96-8F0D-69735525228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Intervenções de Enfermagem -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Procedimentos para paciente cirúrgic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Registe a alta no livro conforme a rotina do hospita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ncaminhe o processo internamento do paciente à secretaria do serviço para procedimentos e arquiv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ovidencie a limpeza da cama ou unidade do paciente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Fazer registos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Data e horári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ondições de saída (deambulando, de maca ou de cadeira de rodas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Procedimentos realizados e as orientações dad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E755-3855-44D8-A95D-3733629AAD9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Conceitos e Habilidades Fundamentais no Atendimento de Enfermagem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–TIMBY K.BARBARA, 6º Ed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666699"/>
                </a:solidFill>
                <a:uFillTx/>
                <a:latin typeface="Arial"/>
                <a:ea typeface="Times New Roman"/>
                <a:hlinkClick r:id="rId1"/>
              </a:rPr>
              <a:t>Enfermagem Fundamental Abordagem Psicofisiológica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 SORENSEN e LUCKMANN, 3º Ed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Fundamentos de Enfermagem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  - POTTER PERRY 7ª ed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MISAU. </a:t>
            </a:r>
            <a:r>
              <a:rPr b="1" i="1" lang="pt-PT" sz="2400" spc="-1" strike="noStrike" u="sng">
                <a:solidFill>
                  <a:srgbClr val="000066"/>
                </a:solidFill>
                <a:uFillTx/>
                <a:latin typeface="Arial"/>
                <a:ea typeface="Times New Roman"/>
              </a:rPr>
              <a:t>Guião de Procedimentos Básicos de Enfermagem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. Maputo – Moçambique, 2009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5D0F-E2B8-4C57-AB80-10D3953016F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pós a discussão deste tema os alunos deverão ser capazes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Descrever os tipos de  alta  hospitalar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onhecer as tarefas do enfermeiro no processo de alta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Prestar os cuidados de enfermagem na alta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&amp;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wn Arrow 4"/>
          <p:cNvSpPr/>
          <p:nvPr/>
        </p:nvSpPr>
        <p:spPr>
          <a:xfrm>
            <a:off x="3962520" y="19810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ceito de Alta Hospita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lta Hospitalar é o encerramento da assistência prestada ao paciente no hospital. O paciente recebe alta quando seu estado de saúde permitir ou quando está em condições de recuperar-se e continuar o tratamento em cas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alta consiste em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Obtenção de uma ordem escrita pelo médico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umprimento de instruções para a alt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Ajuda ao paciente para sair da unidade sanitári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Resumo das condições da paciente no momento da alt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Comunicação ao pessoal para a limpeza e desinfecção do quarto após a saída do paciente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F4599-0EC6-4EE2-A83A-031D844E643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Alta Hospita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99072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curad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melhorad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inalterad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a pedido: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quando é solicitada pelo paciente ou sua família. Para este tipo de alta o paciente e/ou sua família deve proceder assinatura do termo de responsabilidade a ser arquivado no processo clín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Alta condicional ou licença médica: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concedida pelo médico em datas comemorativas, sendo necessário que o cliente assine um termo de responsabilidade antes de sair da unidad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2FE5-6EE5-4FD3-861E-0A7546CE339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Alta Hospital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1818ff"/>
                </a:solidFill>
                <a:latin typeface="Arial"/>
              </a:rPr>
              <a:t>Alta por indisciplina ou compulsiva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mposta pela equipa devido aos comportamentos do paciente incompatíveis com a convivência hospitalar, exemplo: roubos, agressão, etc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1818ff"/>
                </a:solidFill>
                <a:latin typeface="Arial"/>
              </a:rPr>
              <a:t>Transferência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siste na remoção do paciente de uma unidade para outra dentro da própria instituição ou para outras institui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1818ff"/>
                </a:solidFill>
                <a:latin typeface="Arial"/>
              </a:rPr>
              <a:t>Evasão ou Abandono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 paciente abandona as instalações hospitalares. Geralmente para estes casos deve ser comunicada a chefia da enfermaria e autoridades polici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1818ff"/>
                </a:solidFill>
                <a:latin typeface="Arial"/>
              </a:rPr>
              <a:t>Óbito: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quela que ocorre por morte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AB9E-F9BE-4C25-BD65-932221B83BD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O enfermeiro  identifica na admissão do paciente o conhecimento e as habilidades este necessitará para manter um nível seguro de auto cuidado após a alt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Elabora um plano de ensino  durante a hospitalização do paciente na unidade sanitári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Revê o que o foi ensinado, orienta-o sobre os cuidados e aconselha-o a marcar uma consulta na data especificada pelo médic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Faz o resumo no diário de enfermagem, das condições do paciente na alta e das instruções dadas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rientações para a alta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8B7B-EA2C-47BA-A7E4-55E4A0DD0A2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68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ntes do paciente sair do hospital o enfermeiro deve  verificar junto ao sector administrativo se a conta de hospitalização foi pag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uxiliar o paciente na arrumação dos seus pertences, se houver lista de verificar para assegurar que nada ficou esquecid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omunicar os familiares para providenciar o transporte, ou ajuda-lo a chamar um táxi se ele  assim o desejar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oordenar com a Acção Social para providenciar o transporte para o paciente ( se for necessário)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Orientações para a alta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8469-1FAA-4447-B6A2-7901A4673E5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685440" y="11430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Conduzir o paciente em carrinho de rodas ou apoiá–lo a caminhar até a porta(se necessário)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Permanecer com o paciente na porta até que entre na viatura e esteja instalado com seguranç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Acompanhamento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282D-0FF8-4D97-A2A6-74EEA96129F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6840" y="11430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Retirar os lençóis e cobertores da  cam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Desinfectar a cam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Arrumar o quarto, ou a cama e deixar pronto para a recepção de outro paciente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Limpeza Final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27C8-5D41-473D-921D-572BFBDD8E3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INSTRUMENTACAO</cp:lastModifiedBy>
  <dcterms:modified xsi:type="dcterms:W3CDTF">2019-10-03T06:01:30Z</dcterms:modified>
  <cp:revision>675</cp:revision>
  <dc:subject/>
  <dc:title>ANATOMIA E FISIOLOGIA HUMANA</dc:title>
</cp:coreProperties>
</file>