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-36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885840" y="922788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CCB-1242-4CE6-9959-C347C8A5D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2731-1836-4C20-8336-7DFB0CEAD70D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001880" y="728640"/>
            <a:ext cx="4854240" cy="3641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14840"/>
            <a:ext cx="502920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922824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BE30-08F9-41BC-8D3F-09D98E023BB6}" type="slidenum">
              <a:rPr b="1" lang="en-US" sz="12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70F7F-936C-46D1-9809-7CCA378C6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BC9D-3087-438D-B160-942E1E05D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15FA-C1DA-49CF-B12C-1C42A901C0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B0D74-1790-47E7-9EFD-6F155B73FB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1A6AD-2736-4C6F-97E7-764814DD30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5B627-9D1E-4195-8DB6-8A5EA4362C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97C0-3BB6-4EB5-BFE3-F41F884B3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41AFF-789C-469B-9B58-2C0E4A580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EC4E-AE90-432F-8FB8-803DE7FDD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DBD61-88E4-4535-AFEA-E332AB6835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ECD8E-F8A6-40C9-A895-F5BF61401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5CFA2-2B98-4FB8-B1FA-8391065E5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CB44-C109-4B07-BAEE-35EE888080A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867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s alterações mais comun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837720" y="457200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9 – Enfermagem Médico-cirúrg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b módulo 1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http://www.blogbebes.com.pt/wp-content/uploads/convulsion.jpg"/>
          <p:cNvPicPr/>
          <p:nvPr/>
        </p:nvPicPr>
        <p:blipFill>
          <a:blip r:embed="rId1"/>
          <a:stretch/>
        </p:blipFill>
        <p:spPr>
          <a:xfrm>
            <a:off x="5143680" y="1905120"/>
            <a:ext cx="4000320" cy="32004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66"/>
                </a:solidFill>
                <a:latin typeface="Arial"/>
              </a:rPr>
              <a:t>Complicações: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suficiência respirató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suficiência renal agu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suficiência hepá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esão Intestinal Isquêm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ancreat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rombocitope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Hemorragia gastrointestinal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/epistax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agulação intravascular dissemin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esão cerebral (convulsões, rigidez à mor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Cuidados de enfermagem: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Identificar a causa/facto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Reduzir a quantidade de roupa no corp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Ventilar o corpo do </a:t>
            </a:r>
            <a:r>
              <a:rPr b="1" lang="pt-BR" sz="23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Seleccionar e aplicar uma das seguintes medidas de arrefecimento corporal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Aplicar toalha molhada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Aplicar compressas frias entre as virilhas, axilas e pescoço; 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Dar banho com água morna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dministrar líquidos orais fri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dministrar antipirético prescrit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Monitorar os sinais vitai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653760" indent="-2512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Em casos graves fazer lavagem gástrica gelada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0663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osição intensa ao f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posição a chuvas e ventos fr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masiada aplicação da técnica de arrefecimento corpo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toxicação alcoólic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ou medicamentosa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istúrbios metabólicos (hipoglicemia, hipotireoidism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7" name="Picture 4" descr="http://1.bp.blogspot.com/_z9-AMEGTnLY/SR3bFLj56yI/AAAAAAAAANQ/usXrxN-DiuQ/s400/crian%C3%A7a+na+cascata+midi.jpg"/>
          <p:cNvPicPr/>
          <p:nvPr/>
        </p:nvPicPr>
        <p:blipFill>
          <a:blip r:embed="rId1"/>
          <a:srcRect l="13616" t="0" r="11783" b="0"/>
          <a:stretch/>
        </p:blipFill>
        <p:spPr>
          <a:xfrm>
            <a:off x="5181480" y="1612800"/>
            <a:ext cx="3733920" cy="33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0666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Sinais e Sintoma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Tremor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Esfriamento das mãos e pé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Pele palida e fr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Fracasso nos membr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ificuldade em respirar/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(dispneia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bradicard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Edema faci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umento da diures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Nos casos graves: perda de memória, perda de controle dos membros superiores e inferiores, inconsciência, perda da pulsação, pupilas dilatadas e mor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51" name="Picture 2" descr="http://www.anestesiologia.com.br/images/artigos/ANESTESIOLOGIA_55342.jpg"/>
          <p:cNvPicPr/>
          <p:nvPr/>
        </p:nvPicPr>
        <p:blipFill>
          <a:blip r:embed="rId1"/>
          <a:stretch/>
        </p:blipFill>
        <p:spPr>
          <a:xfrm>
            <a:off x="6019920" y="990720"/>
            <a:ext cx="30002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mplicaçõ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rritmias cardía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dema d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 pulm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farto do miocárd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núria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cidente vascular cereb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aragem cárdio-respirató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or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oter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9907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uidado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gasalhar o paciente, fechar as janelas e manter o ambiente aquecid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plicar massagem corpor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quecer  a cama com sacos de água qu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Trocar roupas e curativos húmid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Ingestão de líquidos quent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e5"/>
                </a:solidFill>
                <a:latin typeface="Arial"/>
              </a:rPr>
              <a:t>Não dar bebidas alcoólicas! </a:t>
            </a:r>
            <a:r>
              <a:rPr b="1" lang="pt-BR" sz="2200" spc="-1" strike="noStrike">
                <a:solidFill>
                  <a:srgbClr val="000072"/>
                </a:solidFill>
                <a:latin typeface="Arial"/>
              </a:rPr>
              <a:t>P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is elas dão uma sensação instantânea de aquecimento, porém, reduzem a temperatura do corp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dministrar soluções endovenosas aquecidas (37ºC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dministrar oxigéni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Monitorar a temperatura corpor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xercícios de consolid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Diferencie hipertermia da hipotermi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is são as causas de hipertermia e hipotermia?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is são os sinais e sintomas de hipertermia e hipotermia?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is são as complicações resultantes da hipertermia e hipotermia?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encione os cuidados de enfermagem a prestar ao utente com hipertermia e hipotermi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300" spc="-1" strike="noStrike">
                <a:solidFill>
                  <a:srgbClr val="ffffff"/>
                </a:solidFill>
                <a:latin typeface="Arial"/>
              </a:rPr>
              <a:t>Dor Aguda e Dor Crónica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huva de ide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80920" y="1676520"/>
            <a:ext cx="5257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l a diferença entre a dor aguda e a dor crónica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os prejuízos da dor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66" name="Picture 4" descr="brainstorm.gif"/>
          <p:cNvPicPr/>
          <p:nvPr/>
        </p:nvPicPr>
        <p:blipFill>
          <a:blip r:embed="rId1"/>
          <a:stretch/>
        </p:blipFill>
        <p:spPr>
          <a:xfrm>
            <a:off x="609480" y="2247840"/>
            <a:ext cx="2928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100" spc="-1" strike="noStrike">
                <a:solidFill>
                  <a:srgbClr val="ffffff"/>
                </a:solidFill>
                <a:latin typeface="Arial"/>
              </a:rPr>
              <a:t>Diferença entre a Dor Aguda e Crónica</a:t>
            </a:r>
            <a:endParaRPr b="1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1426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or Agu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 início recente ;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dura de 0 a 1 me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sulta de uma doença, de um trauma ou de uma lesão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causa especifica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senvolvimento rápi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pós o diagnóstico e o tratamento da causa, geralmente ces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16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or Crón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ersiste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/intermitente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por um período longo, em média 3 meses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mais de 1 měs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ltera a qualidade de vida da pessoa (biológica, social, profissional, afectiva, e comportamental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ode ser episód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capacita o indivídu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1440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uar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conceitua)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 identificar as causas de hipertermia/hipotermia, edema e do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o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identificando os principais sinais e sintomas das alterações na temperatura corporal (Hipertermia, Hipotermia) que possibilitem a prestação dos cuidados de enfermagem essen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 material, EPI necessário e prestar os cuidados de enfermagem ao utente com hipertermia/ hipotermia, dor e edema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verbo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886200" y="17524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prejuízos da 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276360" y="990720"/>
            <a:ext cx="5562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epressão, irritação, ansiedade, tristez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Fadiga e desconforto físic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Insóni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Ganho</a:t>
            </a: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 ou perda de pes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iminuição da concentraçã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iminuição da produtividade no trabalh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iminuição do apetite e da ingestão de líquid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Náuseas e vómi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Redução do desejo sexua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74" name="Picture 2" descr="http://4.bp.blogspot.com/_gaKc5Ig9aKI/SZMnq7yP9VI/AAAAAAAAAKg/mVyOKcODqe0/s320/dor_opt.jpg"/>
          <p:cNvPicPr/>
          <p:nvPr/>
        </p:nvPicPr>
        <p:blipFill>
          <a:blip r:embed="rId1"/>
          <a:stretch/>
        </p:blipFill>
        <p:spPr>
          <a:xfrm>
            <a:off x="530280" y="1060560"/>
            <a:ext cx="2676600" cy="1968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" descr="http://www.bibliomed.com.br/images/articlesimg/dor_de_barriga.jpg"/>
          <p:cNvPicPr/>
          <p:nvPr/>
        </p:nvPicPr>
        <p:blipFill>
          <a:blip r:embed="rId2"/>
          <a:stretch/>
        </p:blipFill>
        <p:spPr>
          <a:xfrm>
            <a:off x="530280" y="2968560"/>
            <a:ext cx="2676600" cy="1987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http://1.bp.blogspot.com/-rLZwVNI-zLE/TcnAaVGTX8I/AAAAAAAAAHk/UJ9lsc-6i7U/s1600/depressao2.jpg"/>
          <p:cNvPicPr/>
          <p:nvPr/>
        </p:nvPicPr>
        <p:blipFill>
          <a:blip r:embed="rId3"/>
          <a:stretch/>
        </p:blipFill>
        <p:spPr>
          <a:xfrm>
            <a:off x="530280" y="4857840"/>
            <a:ext cx="267660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actores que influenciam a 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ecanismos neurofisiológicos da do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Transmissão da do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ndorfinas e encefalin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fluências culturai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xperiências prévias com a do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Medicamentos ou drog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Sex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Fonte da escala de avaliacao da dor abaix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scalas da avaliação da do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82" name="Picture 2" descr="http://3.bp.blogspot.com/_fN6jLRmSg8k/SKdTl7we9wI/AAAAAAAAAlc/_nxU0AtPXgg/s400/escala+de+dor+a.jpg"/>
          <p:cNvPicPr/>
          <p:nvPr/>
        </p:nvPicPr>
        <p:blipFill>
          <a:blip r:embed="rId1"/>
          <a:stretch/>
        </p:blipFill>
        <p:spPr>
          <a:xfrm>
            <a:off x="762120" y="9907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de Enfermagem na d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Identificar a causa/factor da do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segurar ao paciente da sua preocupação em ajudá-lo a controlá-l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Usar a escala de avaliação da dor para identificar a intensidade e o desconf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e registar a dor e suas características (</a:t>
            </a:r>
            <a:r>
              <a:rPr b="1" lang="pt-PT" sz="2400" spc="-1" strike="noStrike">
                <a:solidFill>
                  <a:srgbClr val="5858ff"/>
                </a:solidFill>
                <a:latin typeface="Arial"/>
              </a:rPr>
              <a:t>localização, qualidade, frequência, duração e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intensidade)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dministrar os analgésicos prescri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valiar as respostas comportamentais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e incentivar estratégias de alívio da dor </a:t>
            </a: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(ex:posiçāo de conforto)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sinar ao paciente novas estratégias para alívio da dor e do desconf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judar o paciente a planificar e a participar de actividad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de Enfermagem na do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Medidas não-invasivas: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Relação enfermeiro-paciente e orientação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ansiedade e aumenta a confianç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Estimulação cutânea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intensidade da dor. Pode ser aplicada a pressão, vibração, calor, frio, água e creme mentolad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Distracção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intensidade da dor e aumentar a tolerância a e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Relaxamento dos músculos esqueléticos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reduz a intensidade da dor e aumentar a tolerância a e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5858ff"/>
                </a:solidFill>
                <a:latin typeface="Arial"/>
              </a:rPr>
              <a:t>Imagens orientadas </a:t>
            </a:r>
            <a:r>
              <a:rPr b="1" lang="pt-PT" sz="23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 uso de imaginação de alguém especial para conseguir efeito positiv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Confusão mental agu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fusão mental agu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É um distúrbio transitório da cognição e da atenção acompanhada por distúrbios do ciclo vigília-sono e do comportamento psicomoto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óxicas e Infeccios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raumáticas e estados de hipoperfu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Uso de restrições físic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terações metaból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diversas: a privação sensorial, insónia, impactação fecal, retenção urinária e a mudança de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Obnubilação da consciência;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Flutuação do nível de consciência;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Desorientação, ilusões e alucinações;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66"/>
                </a:solidFill>
                <a:latin typeface="Arial"/>
              </a:rPr>
              <a:t>Sintomas neurológicos: 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fas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sartr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rem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terações motor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66"/>
                </a:solidFill>
                <a:latin typeface="Arial"/>
              </a:rPr>
              <a:t>Estado de excitação, alterações psicomotoras, e hipervigilância.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dministrar sedativos prescritos para manter o utente </a:t>
            </a:r>
            <a:r>
              <a:rPr b="1" lang="pt-PT" sz="2600" spc="-1" strike="noStrike">
                <a:solidFill>
                  <a:srgbClr val="ff0000"/>
                </a:solidFill>
                <a:latin typeface="Arial"/>
              </a:rPr>
              <a:t>(paciente)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alm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umentar a ingestão de líquid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dministrar glicose endovenosa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Administrar vitaminas (via oral ou parenteral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odificar o ambiente: reorientação, silêncio, boa iluminaçã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Tranquilizar o paciente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Evitar limitações física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Nunca deixar estes utentes sem acompanhante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533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(Avaliar rigorosamente os sinais vitai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ferenciar a dor aguda da cró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s factores associados com a dor e ed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pecificar as intervenções de enfermagem para o alívio da d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ferenciar a confusão mental aguda da crón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s factores associados a confusão mental agu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specificar as intervenções de enfermagem no utente em confusão mental agu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3" name="Down Arrow 4"/>
          <p:cNvSpPr/>
          <p:nvPr/>
        </p:nvSpPr>
        <p:spPr>
          <a:xfrm>
            <a:off x="3962520" y="1905120"/>
            <a:ext cx="914400" cy="533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600200"/>
            <a:ext cx="58676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Alterações da temperatura corpor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1100160" y="4419720"/>
            <a:ext cx="8043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5858ff"/>
                </a:solidFill>
                <a:latin typeface="Arial"/>
              </a:rPr>
              <a:t>Hipertermia &amp; Hipotermia</a:t>
            </a:r>
            <a:endParaRPr b="1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mperatura corpor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termorregulação é um conjunto de mecanismos desencadeados pelo organismo para manter o corpo à temperatura compatível com a v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 termorregulação gere o calor ganho e o calor perdido pelo corpo afim de manter a temperatura corporal constant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ipertermia </a:t>
            </a:r>
            <a:r>
              <a:rPr b="1" lang="pt-PT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aumento da temperatura corporal (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acima do normal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ipotermia </a:t>
            </a:r>
            <a:r>
              <a:rPr b="1" lang="pt-PT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diminuição da temperatura corporal 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abaixo do normal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lassificação da temperatura corpor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457200" y="1752480"/>
          <a:ext cx="5105520" cy="3275280"/>
        </p:xfrm>
        <a:graphic>
          <a:graphicData uri="http://schemas.openxmlformats.org/drawingml/2006/table">
            <a:tbl>
              <a:tblPr/>
              <a:tblGrid>
                <a:gridCol w="2793960"/>
                <a:gridCol w="231156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cação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es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otermia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lt; 36ºC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rmal (Normotermo)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6 - 37,4ºC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ipertermia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&gt;37.</a:t>
                      </a:r>
                      <a:r>
                        <a:rPr b="1" lang="pt-PT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</a:t>
                      </a:r>
                      <a:r>
                        <a:rPr b="1" lang="pt-PT" sz="2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ºC</a:t>
                      </a:r>
                      <a:endParaRPr b="1" lang="en-US" sz="26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2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3" name="Picture 9" descr="http://i.s8.com.br/images/beautyhealth/cover/img4/21208224_4.jpg"/>
          <p:cNvPicPr/>
          <p:nvPr/>
        </p:nvPicPr>
        <p:blipFill>
          <a:blip r:embed="rId1"/>
          <a:srcRect l="18754" t="0" r="18754" b="0"/>
          <a:stretch/>
        </p:blipFill>
        <p:spPr>
          <a:xfrm>
            <a:off x="5848200" y="1143000"/>
            <a:ext cx="3067200" cy="4906800"/>
          </a:xfrm>
          <a:prstGeom prst="rect">
            <a:avLst/>
          </a:prstGeom>
          <a:ln w="0">
            <a:noFill/>
          </a:ln>
        </p:spPr>
      </p:pic>
      <p:pic>
        <p:nvPicPr>
          <p:cNvPr id="124" name="Rectangle 5" descr=""/>
          <p:cNvPicPr/>
          <p:nvPr/>
        </p:nvPicPr>
        <p:blipFill>
          <a:blip r:embed="rId2"/>
          <a:stretch/>
        </p:blipFill>
        <p:spPr>
          <a:xfrm>
            <a:off x="158760" y="5114880"/>
            <a:ext cx="71992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huva de ide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81280" y="990720"/>
            <a:ext cx="51818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são as causas de  hipertermia e hipotermia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os sinais e sintomas de um paciente com hipertermia ou hipotermia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1199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is as complicações que o paciente com hipertermia ou hipotermia pode apresentar em caso de falta ou atraso no tratamento </a:t>
            </a:r>
            <a:r>
              <a:rPr b="1" lang="pt-PT" sz="2800" spc="-1" strike="noStrike">
                <a:solidFill>
                  <a:srgbClr val="ff0000"/>
                </a:solidFill>
                <a:latin typeface="Arial"/>
              </a:rPr>
              <a:t>(e conduta de enfermagem)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28" name="Picture 4" descr="brainstorm.gif"/>
          <p:cNvPicPr/>
          <p:nvPr/>
        </p:nvPicPr>
        <p:blipFill>
          <a:blip r:embed="rId1"/>
          <a:stretch/>
        </p:blipFill>
        <p:spPr>
          <a:xfrm>
            <a:off x="609480" y="2247840"/>
            <a:ext cx="292896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posição a ambientes com temperatura eleva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Factores que impedem o mecanismo de perda de calor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(ex:algumas patologias, como  a Malária)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ática excessiva de actividade fís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sidrat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toxicações divers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rogas como fenotiazinas, depressores, miocárdicos, barbitúricos, anfetaminas, etc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or agentes patológicos. Ex: Malária, Meningite, pneumonias, 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pertem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43000"/>
            <a:ext cx="5562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dore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fusão Men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âimb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áuseas e Vômi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aquicard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Taquipne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sie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erda de coordenação motor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alafrios/tremores, astenia, alucinações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1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5" name="Picture 2" descr="http://sitedobareta.com/wp-content/uploads/2010/06/febre.jpg"/>
          <p:cNvPicPr/>
          <p:nvPr/>
        </p:nvPicPr>
        <p:blipFill>
          <a:blip r:embed="rId1"/>
          <a:stretch/>
        </p:blipFill>
        <p:spPr>
          <a:xfrm>
            <a:off x="6213600" y="1066680"/>
            <a:ext cx="259056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http://t2.gstatic.com/images?q=tbn:ANd9GcT0ruAb6F6I0JV3OGfd-CCE2XMg9Y6XKjKPwOV7Re4XbBPBCf0&amp;t=1"/>
          <p:cNvPicPr/>
          <p:nvPr/>
        </p:nvPicPr>
        <p:blipFill>
          <a:blip r:embed="rId2"/>
          <a:stretch/>
        </p:blipFill>
        <p:spPr>
          <a:xfrm>
            <a:off x="6213600" y="3689280"/>
            <a:ext cx="26254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2T13:34:32Z</dcterms:created>
  <dc:creator>ajfuray</dc:creator>
  <dc:description/>
  <dc:language>en-US</dc:language>
  <cp:lastModifiedBy>Maputo</cp:lastModifiedBy>
  <dcterms:modified xsi:type="dcterms:W3CDTF">2011-10-13T10:36:44Z</dcterms:modified>
  <cp:revision>159</cp:revision>
  <dc:subject/>
  <dc:title>JHPIEGO PowerPoint Presentation template</dc:title>
</cp:coreProperties>
</file>