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EE3B-429C-43BB-99F5-B6EC57169ED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ED36-73FF-4516-A814-FDC6B8DF8ECC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89BB-3501-42C8-B231-11BBC4BB4F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0E0D-70AE-4C2F-8BC6-81370BE35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4A18C-4AF3-41D4-B070-F03FEAEE98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45AEB-0FB7-4745-A47C-97D71B8A1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0414F-62A4-4AD9-ABC0-93327362AA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62ED8-63BE-4198-B725-83AC23FBA7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34738-BAC0-4D47-91FA-16D54D28C0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92C62-320B-4A8E-9265-B39D6939FF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0DC7B-5A54-43DF-A8C9-83444D4D0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36670-5557-437B-94BA-2F5D626C4A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9F6DF-83A5-4B6E-A031-799452D6AA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AB8AE-07C1-468C-B0F7-71A506504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C39A1-BBB7-42DA-B69B-B9B855244E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87C4C7-746F-4F9A-B3FB-D90BB6651E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D6A54-307E-4EBA-844B-C41FF6321C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C8173-7356-4028-8377-8C4174E32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D1BDF-3846-4333-9BF0-3870390907C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B68DE-34BE-4916-90A8-60AEBC71D7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20319-F7AE-4333-AD35-0FB0CCBE99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9B2FC-0C0C-4B12-8117-0E1FFF71AE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9B97-8FB1-48A2-84B2-67C338637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5F0B-B06F-4356-AFE0-7FF26D444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C89B9-EB60-4FAE-8FB4-A164A79F34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BCDA-02B1-4529-9180-E14C4C322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5731-298D-4ADB-91BE-B5B86AA2A9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6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6B56-0ECF-438E-A5E5-2962531E04C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129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6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 POS-OPERATO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2640" y="472428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17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83808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mover o conforto psicológico e emocion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ncorajar a mobilidade activa e passiva no leit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Humedecer os lábios do paciente com compressas molhad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Mudar de decúbito a cada 2/2 horas, se nao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contra-indicado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videnciar a higiene corporal e mudança de roup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timular a eliminação urinária espontâne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rolar o balanço hídr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Estimular a eliminação intestinal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centivar exercícios respiratóri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omover o ensino para auto-cuidad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52E4-1766-40C7-BA17-DBB62FAE7B1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Pós-operató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914040"/>
            <a:ext cx="8381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s complicações pós-operatórias pioram o quadro clínico do paciente, aumentam o período de recuperação e, nalguns casos levam a mort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É importante e indispensável que a prevenção, identificação e imediata intervenção sejam feitas 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mais precoce possível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s complicações mais comuns s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CB0E-5626-418F-830E-A295133CC2D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Content Placeholder 2"/>
          <p:cNvSpPr/>
          <p:nvPr/>
        </p:nvSpPr>
        <p:spPr>
          <a:xfrm>
            <a:off x="533520" y="3962520"/>
            <a:ext cx="396216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lterações dos sinais vit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lterações neuroló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pulmon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urinár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ontent Placeholder 2"/>
          <p:cNvSpPr/>
          <p:nvPr/>
        </p:nvSpPr>
        <p:spPr>
          <a:xfrm>
            <a:off x="4495680" y="3962520"/>
            <a:ext cx="426744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gastrointesti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vascula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omplicações na ferida operatór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Cho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terações dos Sinais Vit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017360"/>
            <a:ext cx="40402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Manifestações comun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447920"/>
            <a:ext cx="4040280" cy="495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s alterações térmicas comprometem as funções cardiovascular e respiratór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lterações respiratórias por efeito do anestésico ou obstrução das vias aéreas por vómitos ou secreçõ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Instabilidade orgânica pode levar hipertermia ou hipotermi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Queda de TA e pulso por perda de sangue durante a cirurgia, efeito do anestésico ou mudanças bruscas de posiçã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44720" y="1017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uidados de Enfermage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644720" y="1447920"/>
            <a:ext cx="4118040" cy="4952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Controlar os sinais vitais até a estabilização do pacient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Aspirar as vias aére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Na </a:t>
            </a:r>
            <a:r>
              <a:rPr b="1" i="1" lang="pt-PT" sz="1900" spc="-1" strike="noStrike">
                <a:solidFill>
                  <a:srgbClr val="1818ff"/>
                </a:solidFill>
                <a:latin typeface="Arial"/>
              </a:rPr>
              <a:t>hipertermia</a:t>
            </a:r>
            <a:r>
              <a:rPr b="1" lang="pt-PT" sz="1900" spc="-1" strike="noStrike">
                <a:solidFill>
                  <a:srgbClr val="002060"/>
                </a:solidFill>
                <a:latin typeface="Arial"/>
              </a:rPr>
              <a:t>: retirar </a:t>
            </a: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os cobertores, resfriar o ambiente, aplicar compressas frias nas regiões da fronte, axilar e inguinal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Na </a:t>
            </a:r>
            <a:r>
              <a:rPr b="1" i="1" lang="pt-BR" sz="1900" spc="-1" strike="noStrike">
                <a:solidFill>
                  <a:srgbClr val="1818ff"/>
                </a:solidFill>
                <a:latin typeface="Arial"/>
              </a:rPr>
              <a:t>hipotermia</a:t>
            </a: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: agasalhar o pacient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Hidratar rigorosamente o paciente pela via EV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2060"/>
                </a:solidFill>
                <a:latin typeface="Arial"/>
              </a:rPr>
              <a:t>Manter o paciente na posição de Trendelemburg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999E-7EA7-485F-A635-31FB226DF86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lterações Neurológ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or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0520" y="1420920"/>
            <a:ext cx="41166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</a:t>
            </a: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 nível de consciência e as funções motora e sensitiv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dministrar analgésic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licar manobras ou estratégias para o alívio da dor: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700" spc="-1" strike="noStrike">
                <a:solidFill>
                  <a:srgbClr val="000066"/>
                </a:solidFill>
                <a:latin typeface="Arial"/>
              </a:rPr>
              <a:t>Afrouxar e/ou trocar </a:t>
            </a: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os curativo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Aliviar a retenção de urina e feze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Fazer a mudança de Decúbito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Aplicar compressas frias ou quente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Escurecer o ambiente e diminuir os barulhos;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66"/>
                </a:solidFill>
                <a:latin typeface="Arial"/>
              </a:rPr>
              <a:t>Incentivar a distracção e repouso.</a:t>
            </a: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onolênc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644720" y="1420560"/>
            <a:ext cx="4118040" cy="1245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valiar o nível de consciênci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Estimular o paciente com perguntas e estímulos táctei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2DB4-D0F0-42DF-BCFD-0B261E4D6E4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Placeholder 6"/>
          <p:cNvSpPr/>
          <p:nvPr/>
        </p:nvSpPr>
        <p:spPr>
          <a:xfrm>
            <a:off x="4648320" y="2819520"/>
            <a:ext cx="41176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oluç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Content Placeholder 7"/>
          <p:cNvSpPr/>
          <p:nvPr/>
        </p:nvSpPr>
        <p:spPr>
          <a:xfrm>
            <a:off x="4648320" y="3249720"/>
            <a:ext cx="4117680" cy="32274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1818ff"/>
                </a:solidFill>
                <a:latin typeface="Arial"/>
                <a:ea typeface="Arial"/>
              </a:rPr>
              <a:t>Causa a distensão abdominal e a hipotermia no pós-operat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Eliminar as causas pela aspiração ou lavagem gás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Incentivar a deambulação e a mudança frequente de decúb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Aquecer o paciente hipotérm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  <a:ea typeface="Arial"/>
              </a:rPr>
              <a:t>Orientar o paciente para inspirar e expirar em um saco de pap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Pulmon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050480"/>
            <a:ext cx="8305920" cy="7779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ff0000"/>
                </a:solidFill>
                <a:latin typeface="Arial"/>
              </a:rPr>
              <a:t>São as complicações mais sérias e frequentes no pós-operatório, comum em pacientes obesos, fumantes e idoso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182880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Observar precocemente os sinais e sintomas de complicações: cianose, dispneia, tiragem intercostal e agitaçã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ncentivar o movimento e deambulação precoc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Colocar lateralizada a cabeça do paciente com vómit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Remover as secreções brônquica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Hidratar adequadamente o paci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4128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66"/>
                </a:solidFill>
                <a:latin typeface="Arial"/>
              </a:rPr>
              <a:t>Incentivar o paciente a tossir e a realizar exercícios respiratóri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0EF4-347D-4639-BE19-09631FEB91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5867280" y="1960560"/>
            <a:ext cx="2895840" cy="44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licações Urinár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26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a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infecção urinári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 hipertermia, disúria e alterações nas características da uri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Manter a higiene íntima adequada do cli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Obedecer à técnica asséptica quando da passagem da sonda e sempre utilizar extensões, conectores e coletores esterilizados com sistema fechado de drenagem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Na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retenção urinári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liviar a dor com administração de analgésic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mover a privacidade e estimular a eliminação urinári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valiar a presença de dobraduras e grumos nas extensões das sondas e drenos nas proximidades da bexiga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A4CA-F015-454A-AD8F-C080320B2FA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Gastrointestin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Náuseas e Vómit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80520" y="1420920"/>
            <a:ext cx="4116600" cy="5029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lvl="1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ausas: </a:t>
            </a:r>
            <a:r>
              <a:rPr b="1" lang="pt-BR" sz="1900" spc="-1" strike="noStrike">
                <a:solidFill>
                  <a:srgbClr val="1818ff"/>
                </a:solidFill>
                <a:latin typeface="Arial"/>
              </a:rPr>
              <a:t>efeitos colaterais dos anestésicos e diminuição dos peristaltismo levam a acúmulo de líquidos, distensão abdominal, e restos alimentares no trato digestiv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o paciente em decúbito lateral ou a cabeça lateralizad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aciente com SNG: Abrir a sonda e esvaziar o estómag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oceder a higiene oral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dministrar antiemético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Introduzir a dieta gradualmente após o retorno do peristaltism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Sede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644720" y="1420920"/>
            <a:ext cx="4118040" cy="1474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e corrigir sinais de desidrataçã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Manter a hidratação oral ou EV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33444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Humedecer os lábios e a boc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B0B58-915C-4446-8B0B-D08D504E762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Placeholder 6"/>
          <p:cNvSpPr/>
          <p:nvPr/>
        </p:nvSpPr>
        <p:spPr>
          <a:xfrm>
            <a:off x="4648320" y="3048120"/>
            <a:ext cx="411768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onstipação intesti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tent Placeholder 7"/>
          <p:cNvSpPr/>
          <p:nvPr/>
        </p:nvSpPr>
        <p:spPr>
          <a:xfrm>
            <a:off x="4648320" y="3478320"/>
            <a:ext cx="4117680" cy="2998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1818ff"/>
                </a:solidFill>
                <a:latin typeface="Arial"/>
                <a:ea typeface="Arial"/>
              </a:rPr>
              <a:t>Resulta de medo da dor, diminuição do peristaltismo e imobilidade prolongada no leito, exposição e manipulação dos intest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Movimentar o paciente no le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Instituir deambulação precoc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Incentivar a ingestão de líquidos e dieta rica em celul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vascula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990720"/>
            <a:ext cx="6477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A permanência prolongada no leito associada a imobilidade após cirurgia, provoca a estase venosa o que predispõe a ocorrência de trombose, tromboflebite e embol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mover melhoria na circulação periférica, exercitando os MI e das articulaçõ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Apoiar o paciente na mudança de decúbito a cada 2 hor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ncentivar exercícios activos no lei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ncorajar para o início da deambulação o mais precoce possíve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274F-86D2-4649-8ADE-166A4A12B16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rcRect l="0" t="13638" r="49502" b="22730"/>
          <a:stretch/>
        </p:blipFill>
        <p:spPr>
          <a:xfrm>
            <a:off x="7086600" y="990720"/>
            <a:ext cx="1752480" cy="2133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rcRect l="48315" t="0" r="1187" b="0"/>
          <a:stretch/>
        </p:blipFill>
        <p:spPr>
          <a:xfrm>
            <a:off x="7086600" y="3124080"/>
            <a:ext cx="17524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omplicações Gastrointestinai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Hemorra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0520" y="1420560"/>
            <a:ext cx="4116600" cy="277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Observar a presença de sangramento no curativo e/ou roupa e alterações sistémic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Comunicar o médico assistente e tomar medidas para estancar hemorragia e de prevenção ou combate a choq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valiar os sinais vitai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Infecção da feri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4720" y="1420560"/>
            <a:ext cx="4118040" cy="277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Prevenir a infecção usando técnica asséptica na feitura do pens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Instruir o paciente para não molhar o penso durante o banh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rocar o penso diariament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Inspeccionar a ferida e informar o médico em caso de alteraçõ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ACC5-0753-496D-A7A1-884CEAD002B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Placeholder 6"/>
          <p:cNvSpPr/>
          <p:nvPr/>
        </p:nvSpPr>
        <p:spPr>
          <a:xfrm>
            <a:off x="380880" y="4343400"/>
            <a:ext cx="838512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eiscê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ontent Placeholder 7"/>
          <p:cNvSpPr/>
          <p:nvPr/>
        </p:nvSpPr>
        <p:spPr>
          <a:xfrm>
            <a:off x="380880" y="4773600"/>
            <a:ext cx="8385120" cy="1703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1818ff"/>
                </a:solidFill>
                <a:latin typeface="Arial"/>
                <a:ea typeface="Arial"/>
              </a:rPr>
              <a:t>É abertura total ou parcial da incisão cirúrgica provocada por infecção, rompimento da sutura, distensão abdominal, ascite ou desnutri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Fazer a lavagem ou irrigar a com soro fisiológ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  <a:ea typeface="Arial"/>
              </a:rPr>
              <a:t>Avaliar a necessidade de revisão dos pontos cirúrg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467840" cy="63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hoque Hipovolém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411660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Definição e Sintomatolo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0520" y="1420560"/>
            <a:ext cx="4116600" cy="4979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Resulta da perda sanguínea excessiva ou reposição hídrica ou sanguínea inadequada durante ou após a cirurgia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1818ff"/>
                </a:solidFill>
                <a:latin typeface="Arial"/>
              </a:rPr>
              <a:t>É caracterizado por: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Taquicardia e filiform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hipotensão arterial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Dispné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alidez, Sudorese fr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Hipotermia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ianose de extremidade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gitação, oligúria ou anúria,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alores de PVC </a:t>
            </a: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abaixo do normal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44720" y="990360"/>
            <a:ext cx="4118040" cy="43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Cuidados de Enfermagem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644720" y="1420560"/>
            <a:ext cx="4118040" cy="4979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66"/>
                </a:solidFill>
                <a:latin typeface="Arial"/>
              </a:rPr>
              <a:t>Detectar </a:t>
            </a: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 notificar de forma precoce os sinais de choq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onitorar o nível de consciência e controlar a pressão venosa central, bem como os sinais vitai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Observar focos hemorrágicos na ferida cirúrgica e fazer penso compressivo se necessári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nter a venoclise e infusõe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Colocar o paciente na posição  Tredelemburg;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eparar a carrinha de emergência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18C6-D28C-4C3B-8955-6F2062049D5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6349-12B7-41C7-A104-DD5FE223A84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B6A5-0F04-48BC-9FFD-07413658C9D2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143000" y="121932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Após a discussão desse tema os estudante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6"/>
          <p:cNvSpPr/>
          <p:nvPr/>
        </p:nvSpPr>
        <p:spPr>
          <a:xfrm>
            <a:off x="3657600" y="22860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Content Placeholder 2"/>
          <p:cNvSpPr/>
          <p:nvPr/>
        </p:nvSpPr>
        <p:spPr>
          <a:xfrm>
            <a:off x="457200" y="2743200"/>
            <a:ext cx="838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Reconhecer os objectivos dos cuidados de enfermagem no pós-operatório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stinguir os períodos do cuidados pós-operatório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restar os cuidados pós-operatórios imediatos e mediatos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dentificar as anormalidades e complicações pós-operatórias, prestando os cuidados apropriad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Drenos e catete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Drenos: são tubos ou materiais colocados no interior de uma ferida ou cavidade, visando permitir a saída de fluído ou 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ateteres: são tubos de diversos materiais e calibres inseridos no organismo, tendo como função a infusão de líquidos ou a sua retira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AD85-2180-4EF9-AC4B-1856D8EE796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Anotar volume e aspecto da drenagem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ter gaze estéril sob o dren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cluir o orifício de saída do dreno com gaze estéril ou colocar bolsa plástica estéril coleto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Manter curativo sempre limpo e se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s: fixação com ponto ou alfinete pode ser utilizada pelo méd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8A6E-3931-4377-98E3-1C5CC5D92F0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ferências Bibliográfic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ISAU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Guião de Procedimentos Básicos de Enfermagem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puto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- Moçambique, 2009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Instituto de Ciências de Saúde de Maputo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Manual de Enfermagem Cirúrgica.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Maputo – Moçambique, 1995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Smeltzer &amp; Bare; Brunner/Suddarth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Tratado de Enfermagem Médico-Cirúrgica.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 Guanabara Koogan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PROFAE. </a:t>
            </a:r>
            <a:r>
              <a:rPr b="1" i="1" lang="pt-PT" sz="2600" spc="-1" strike="noStrike" u="sng">
                <a:solidFill>
                  <a:srgbClr val="000066"/>
                </a:solidFill>
                <a:uFillTx/>
                <a:latin typeface="Arial"/>
              </a:rPr>
              <a:t>Saúde do Adulto. Assistência Cirúrgica e Atendimento de Emergência.</a:t>
            </a:r>
            <a:r>
              <a:rPr b="1" i="1" lang="pt-PT" sz="2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Brasília - Brasil, 2003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70461-B8A6-4336-A49C-34FEA26FDC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Pós-operatório inicia-se a partir da saída do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liente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1818ff"/>
                </a:solidFill>
                <a:latin typeface="Arial"/>
              </a:rPr>
              <a:t>paciente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 da sala de operação e perdura até sua total recuperaçã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Objectivo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Optimizar a oxigenação e ventilação, mantendo a vigilância as complic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, prevenir e tratar os problemas comuns aos procedimentos anestésicos e cirúrg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stabelecer o equilíbrio e manutenção das funções cardiorrespirató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D8AB-1BF2-4F7B-A36C-2D3C2BDA5E6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ós-operató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0666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Classificação dos cuidados pós-operatóri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Pós-operatório Imediato: 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té às 24 horas posteriores à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1818ff"/>
                </a:solidFill>
                <a:latin typeface="Arial"/>
              </a:rPr>
              <a:t>Pós-operatório Mediat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após as 24 horas e até 7 dias depo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Pos-operatorio Tardi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: após 7 dias do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cebimento da alt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4FD4-BF28-4188-A8FF-CFB680B409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619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É considerado período crítico pois o paciente é bastante vulnerável às complicações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Estende se desde o termino da cirurgia até 24 horas após a cirurg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24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Geralmente, o paciente permanece na sala de recuperação até 6 horas após a cirurgia e os cuidados são continuados na Enfermaria ou na UTI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Os cuidados de enfermagem visam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stabelecer as funções vitai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liviar a dor e os desconfortos pós-operatór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Manter a integridade da p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evenir a ocorrência de infecçõe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1AD8-8216-4B5B-8D49-37E759DD14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0663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Tranquilizar o paciente e perguntar se sente alguma anormalidade e/ou desconfor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e o paciente estiver sonolento ou inconsciente, não devem ser feitos comentários indevi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Verificar e ler atentamente o processo do paciente e atender recomendações especi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ectar os drenos no leito ou outro local adequad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locar no suporte os frascos de solução, sangue e deriv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ontrolar o gotejamento das infusões e dos líquidos infundidos e eliminados pelas sondas, drenos e cateter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9AB1-389B-41D4-BA8F-F681205936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Deitar o paciente em decúbito dorsal horizontal sem travesseiro, com a cabeça lateralizada para evitar aspiração de vômito (caso ocorra)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 o paciente tiver SNG, deitar-lhe na posição semifowler, para prevenir esofagite de reflux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Levantar as grades da cama para evitar a queda dos pacientes sonolentos, confusos e/ou agit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evenir e controlar hipotermi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quecer o paciente com cobertore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Fechar as janelas e ligar o aquecedor de ambiente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valiar com frequência a temperatura corporal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NÃO APLICAR bolsa de água quente com o paciente no leit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652B-8739-4E60-9A52-A659F4C325B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valiar os sinais vitais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Na 1ª hora: 15/15 minutos, se regular, de 30/30 minuto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e os sinais vitais mantidos regulares, o tempo de verificação deve ser espaçado para 1/1h, 2/2h, por dia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bservar o penso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está apertado demais ou esteja a provocar edema no local;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está frouxo demais ou se 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esta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sprendendo da pel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e apresenta-se sujo de sangue (sinal de hemorragia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Se apresentar sinais de hemorragia solicitar avaliação médica, refazer o penso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compressivo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e manter maior vigilância ao utente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797B-B181-4697-BAC9-2D4FF1DF6A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Cuidados Pós-operatórios Imediat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Se o pacientes tiver os reflexos presentes, sinais vitais estabilizados, drenos e sondas funcionantes é transferido do recobro para enfermaria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Enfermar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judar o paciente a manter uma função respiratória excelente: aspirar as secreções e manter o tubo de May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Avaliar o estado cardiovascular e corrigir alterações: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sinais de choque e hemorragi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os sinais vitais 1/1 hora nas 1ªs 6 horas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Vigiar o penso e a funcionalidade dos drenos e sonda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Vigiar a coloração da pele: cianose e palidez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CED2-EBC6-45B3-A531-A74EA6997DE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38:17Z</dcterms:modified>
  <cp:revision>758</cp:revision>
  <dc:subject/>
  <dc:title>ANATOMIA E FISIOLOGIA HUMANA</dc:title>
</cp:coreProperties>
</file>