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5C8E7-BB50-4392-8F35-167F1E67F4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6439C-5761-46DD-A8E6-C6E89EC77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847B7-FF4E-4BDB-969A-DB3319C6C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7E98-443C-4DC7-8339-8AC46B7C0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D0A822-D621-423C-AB21-79869265443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CCF30-58F7-4E67-84E3-0E3E2D4142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586C0B-58BA-4ED4-BE54-0EC7B4096B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65C67-769C-45F4-9BA9-322D9AB203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5FE2F-6DD1-4E0A-98EC-9ED442CDC1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E684F-4883-4B4B-B68F-95A42CDEFD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C1718-61FC-45FD-BE71-215B7847ED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32DE3-0CC6-4D05-8BF0-AF3497703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F9DF9-CB6C-43E2-856C-9CA9DDA4B7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7F434-BFFC-4B32-98E5-CAA345E542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32DB4-52C6-41F4-8EF1-8FBA0CAD5D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795C2-1D09-4471-9190-0E9EF7A865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49683E-A4A5-417E-AF8A-BA72D115A4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0D01C-5DE1-4DE8-84C7-5AE99E22C0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9533C-BBBB-4F78-ACD6-C6060D339CE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3840-9D70-4385-AAC1-FB490C562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E893C-15D8-4639-BF4D-B6BC7DB836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2CDCA-5E33-4241-9D25-E2156F8EE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83976-A606-492C-A4D6-B3C31AEF8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1C091-97A5-403C-89D0-B5EEB623A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E0CD-493A-49BA-8121-57852F040E0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5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4BEC-0815-4DEE-95C2-747476500CB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7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167616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500" spc="-1" strike="noStrike">
                <a:solidFill>
                  <a:srgbClr val="ffffff"/>
                </a:solidFill>
                <a:latin typeface="Arial"/>
              </a:rPr>
              <a:t>CUIDADOS DE ENFERMAGEM NO PRÉ-OPERATORIO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4419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ub-módulo 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Remota ou Afast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Preparação Psicológ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Proporcionar ambiente tranquilo, confortável e agradáve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Proporcionar intercâmbio com pacientes convalescentes de cirurgia com sucesso ou que levam a vida aparentemente normal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judar o paciente a superar situações de ansiedade, medo ou descontrole emocional: </a:t>
            </a:r>
            <a:r>
              <a:rPr b="1" lang="pt-BR" sz="2100" spc="-1" strike="noStrike">
                <a:solidFill>
                  <a:srgbClr val="00b050"/>
                </a:solidFill>
                <a:latin typeface="Arial"/>
              </a:rPr>
              <a:t>anestesia, dor ou morte, afastamento familiar e sócio-profissional, destruição da imagem corporal, prognóstico ou da própria cirurgia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Detectar possíveis transtornos psicopatológicos que contra-indica a cirurg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Promoção e/ou criação de grupos de apoio entre os pacientes pode também ajudar a superar situações de ansiedad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3C89-A23E-48C8-8240-C9DEF1BA291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Remota ou Afast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66320"/>
            <a:ext cx="5486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Terapêutica pré-operatór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Avaliar a capacidade de resistência do paci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Alterações de ordem geral e de cada sistema e corrigi-las. Por exemplo: hipertensão arterial, hiperglicemia, etc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Realização de exames auxiliares de diagnóstico: radiológicos, laboratoriais, entre outr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Cumprimento com a medicação pré-operatória prescri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2060"/>
                </a:solidFill>
                <a:latin typeface="Arial"/>
              </a:rPr>
              <a:t>Cumprimento da dieta especial prescrita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AE5A-330E-4E71-A8E4-ADFD1E1EC40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2" descr="http://www.ideall.com.br/imagens/prod/costaoestefm/image/hipertensao.jpg"/>
          <p:cNvPicPr/>
          <p:nvPr/>
        </p:nvPicPr>
        <p:blipFill>
          <a:blip r:embed="rId1"/>
          <a:stretch/>
        </p:blipFill>
        <p:spPr>
          <a:xfrm>
            <a:off x="5826240" y="3962520"/>
            <a:ext cx="29653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Remota ou Afastada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9144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Arial"/>
              </a:rPr>
              <a:t>Avaliação e preparação física do pacie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valiação dos sinais vitais e exame físico detalhad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valiação do estado respiratório, cardiovascular, renal e metabólico do do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Algumas complicações operatórias e pós-operatórias podem ser evitadas ou melhoradas se os pacientes em alto risco </a:t>
            </a:r>
            <a:r>
              <a:rPr b="1" lang="pt-PT" sz="2000" spc="-1" strike="noStrike">
                <a:solidFill>
                  <a:srgbClr val="7030a0"/>
                </a:solidFill>
                <a:latin typeface="Arial"/>
              </a:rPr>
              <a:t>de</a:t>
            </a: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 forem identificados e tratados precocemente para evitar as complicaçõ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nálise detalhada da historia clínica do paciente, exame pormenorizado;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eparação da pele, do tubo digestivo, com vista a prevenir complicações no pós-operató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valiação e correcção dos estados nutricional e hidrat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Consentimento informado: o paciente deve ser explicado o procedimento, os riscos e consentir a realização da cirurg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9829-4EA9-446E-BB31-DCF5A544EA4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5438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Preparação Imediata ou Próxim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9903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Estende-se ate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ai de 24 horas antes da realização da cirurgia e termina quando o paciente estiver na mesa cirúrgica. Os cuidados de enfermagem incluem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Higiene corpor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odificação da dieta (pobre em resíduos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svaziamento dos intestinos e da bexiga, quando se tratar de cirurgias gastrointestinal, perineais, pélvicas ou perianais 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eparação da pele: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tricotomia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 e anti-sépsia da pel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omoção do sono e repouso para reduzir ansiedad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strição de alimentos e líquidos 8 horas antes da cirurg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dministração da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medicação pré-anestésica 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(se prescrita), 1 a 2 horas antes da indução da anestesi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rganização do processo do paciente e encaminhamento ao bloco cirúrg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7974-F811-4B3F-A06C-B93F7CB4627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6662-853D-4A85-9B71-9CA8438A356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Content Placeholder 2"/>
          <p:cNvSpPr/>
          <p:nvPr/>
        </p:nvSpPr>
        <p:spPr>
          <a:xfrm>
            <a:off x="1066680" y="304920"/>
            <a:ext cx="7772400" cy="594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Tricotom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 remoção de pêlos está associada ao aparecimento de erupções e lesões exsudativas, crescimento de bactérias e aumento da infecção no pós-operató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Recomenda-se a remoção dos pêlos só quando, pela sua espessura, possam interferir no procedimento cirúrg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Se a remoção de pelos for indispensável, ela deve ser feita num intervalo que não exceda 2 horas antes cirurg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A remoção de pelos de preferência deve ser com: depilatório (não químico) ou máquina eléctrica ou lâmi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Se o local da incisão ser tricotomizado com uma lâmina, os pêlos não devem ser removidos com a pele seca. O local deve ser cuidadosamente molhada e ensaboada, para impedir a abrasão da pele. É importante que a pele seja traccionada para o lado oposto da raspagem durante a tricotomia com este tipo de mate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6" descr="imagesCAHKA0AJ.jpg"/>
          <p:cNvPicPr/>
          <p:nvPr/>
        </p:nvPicPr>
        <p:blipFill>
          <a:blip r:embed="rId1"/>
          <a:stretch/>
        </p:blipFill>
        <p:spPr>
          <a:xfrm>
            <a:off x="270000" y="152280"/>
            <a:ext cx="2092320" cy="1828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2438280" y="151920"/>
            <a:ext cx="6400800" cy="2667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bjectivos da </a:t>
            </a: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medicação pré-anestésica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Diminuir a ansieda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oporcionar analgesia, sedação e induzir anestes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Reduzir a secreção de saliva, suco gástrico e as secreções respiratória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Reduzir as náuseas e prevenir os vómit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evenir uma reacção alérgica a anestésico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4EF-202D-4475-8182-C94BE7AB93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tent Placeholder 2"/>
          <p:cNvSpPr/>
          <p:nvPr/>
        </p:nvSpPr>
        <p:spPr>
          <a:xfrm>
            <a:off x="380880" y="2971800"/>
            <a:ext cx="8458200" cy="342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Repouso e S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A cirurgia pode gerar muito stress e pior isso é necessário que o paciente consiga descansar o suficiente para enfrentar a situação de forma mais tranquil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Administrar sedativos prescritos na noite da véspera da cirurgia se, para assegurar um bom descanso nocturn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r  oportunidade ao paciente para colocar questões de última ho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 2" charset="2"/>
              <a:buChar char="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Evitar estímulos indevidos gerados por visitantes antes da cirurgia. A escolha do paciente, de quem ele quer ver, deve ser tida em consider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no dia da Cirurg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ar banho sem cansar o paciente e remover os cosméticos e esmaltes das unhas, retirando os prótese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rganizar o processo clínico do paciente e verificar se foram executados todos os cuidados pré-operatóri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svaziar a bexiga e o sistema gastrointestinal, se indicad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Vestir o paciente com roupa de fácil remo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Verificar os sinais vitais antes e depois da administração da medicação pré-anestésic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judar o paciente a passar para maca e encaminhar ao blo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ntregar o paciente e o seu processo junto do enfermeiro do blo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381D-E074-498E-BF6A-866220F1975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Content Placeholder 2"/>
          <p:cNvSpPr/>
          <p:nvPr/>
        </p:nvSpPr>
        <p:spPr>
          <a:xfrm>
            <a:off x="457200" y="990720"/>
            <a:ext cx="83818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 paciente deve estar no bloco cirúrgico 20 minutos antes da hora marcada. Fazer exame físico geral ao paciente e comunicar ao médico anomalias como: tosse, alteração da temperatura e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s Bibliográf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456840" y="1142640"/>
            <a:ext cx="8381880" cy="52578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292C-97C3-46F5-A44A-E5EAA7C4870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 e caracterizar os tipos de cirurg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nominar os tipos de cirurgia segundo as terminologias cirúrgic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iferenciar as fases dos cuidados pré-operatórios, identificando as actividades de enfermagem prioritárias em cada fas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tar os cuidados de enfermagem pré-operatório, prevenindo complicações anestésicas e pós-operatór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roducao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Cuidados que se prestam ao utente desde a decisão da cirurgia até o transporte para mesa cirúrgi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A4C-EF22-428C-B200-48E3A987CB6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9" descr=""/>
          <p:cNvPicPr/>
          <p:nvPr/>
        </p:nvPicPr>
        <p:blipFill>
          <a:blip r:embed="rId1"/>
          <a:stretch/>
        </p:blipFill>
        <p:spPr>
          <a:xfrm>
            <a:off x="2968560" y="4505400"/>
            <a:ext cx="2676600" cy="20541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8" descr="http://bp2.blogger.com/_frOBsQaMDcE/RlGhVviBQQI/AAAAAAAAAA4/R1h5RQhBISY/s400/mastectomia.jpg"/>
          <p:cNvPicPr/>
          <p:nvPr/>
        </p:nvPicPr>
        <p:blipFill>
          <a:blip r:embed="rId2"/>
          <a:stretch/>
        </p:blipFill>
        <p:spPr>
          <a:xfrm>
            <a:off x="5854680" y="4419720"/>
            <a:ext cx="2832120" cy="20574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cirur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90360"/>
            <a:ext cx="41148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gundo à gravida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aio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Meno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gundo à urgênc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lectiv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Urg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Emergênc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1640" y="990360"/>
            <a:ext cx="4267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gundo à Finalidad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iagnóst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blativ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aliativ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paração ou restaur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btenção para transpla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strutiv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smét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66FF-CF04-4401-B3AC-2EDC37AC837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"/>
          <p:cNvSpPr/>
          <p:nvPr/>
        </p:nvSpPr>
        <p:spPr>
          <a:xfrm>
            <a:off x="777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/>
          <p:cNvSpPr/>
          <p:nvPr/>
        </p:nvSpPr>
        <p:spPr>
          <a:xfrm>
            <a:off x="777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77760" y="-880920"/>
            <a:ext cx="25146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1" descr="http://t3.gstatic.com/images?q=tbn:ANd9GcSUSh88BHR4r78lsW11ylIuj110Fbkfdp9RYAk1aPXi1JfJ0D8U&amp;t=1"/>
          <p:cNvPicPr/>
          <p:nvPr/>
        </p:nvPicPr>
        <p:blipFill>
          <a:blip r:embed="rId3"/>
          <a:stretch/>
        </p:blipFill>
        <p:spPr>
          <a:xfrm>
            <a:off x="208080" y="4492800"/>
            <a:ext cx="2668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e Cirurg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80880" y="990720"/>
          <a:ext cx="8423280" cy="5429160"/>
        </p:xfrm>
        <a:graphic>
          <a:graphicData uri="http://schemas.openxmlformats.org/drawingml/2006/table">
            <a:tbl>
              <a:tblPr/>
              <a:tblGrid>
                <a:gridCol w="1447920"/>
                <a:gridCol w="4537080"/>
                <a:gridCol w="2438280"/>
              </a:tblGrid>
              <a:tr h="353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çã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emplo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Quanto à Gravida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ai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nvolve a reconstrução extensa ou alteração de partes corporais e grandes riscos para o bem-est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cessão do lobo pulmona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Meno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nvolve alterações mínimas de partes corporais, é  concebido para corrigir deformações, envolve riscos menores comparando com  cirurgias maio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tracção de catarat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Quanto à Urgê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lectiv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 </a:t>
                      </a: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É realizada na base da escolha do paciente, não e essencial e pode não ser necessária para a saúd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construção de mam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Urgen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revine o desenvolvimento de problemas adicionai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cálculos biliar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mergênc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eve ser realizado imediatamente, afim de salvar a vida ou preservar a função de uma parte corporal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7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sangue na cavidade torác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AFFF-EF57-4062-B117-264311C547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Cirurg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380880" y="914400"/>
          <a:ext cx="8463240" cy="5529240"/>
        </p:xfrm>
        <a:graphic>
          <a:graphicData uri="http://schemas.openxmlformats.org/drawingml/2006/table">
            <a:tbl>
              <a:tblPr/>
              <a:tblGrid>
                <a:gridCol w="1431000"/>
                <a:gridCol w="216000"/>
                <a:gridCol w="4406760"/>
                <a:gridCol w="24094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escriçã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xemp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1818ff"/>
                          </a:solidFill>
                          <a:latin typeface="Arial"/>
                        </a:rPr>
                        <a:t>Quanto à Finalid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Diagnost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ploração cirúrgica que permite a confirmação de um diagnostico, envolve a remoção de tecido para exames de diagnósticos posterior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aparatomia explorado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bl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xcisão ou remoção de parte do corpo afect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apêndice inflam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Pali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ivia ou reduz a intensidade dos sintomas da doença, não produz c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lostom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constru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staura a função ou aspecto  de tecidos traumatizados ou em mau funcion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Fixação interna de fractur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Obtenção para transpla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moção de órgãos ou tecidos de uma pessoa para ser transplantado em outra pesso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Transplante de r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nstru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staura  a função perdida ou reduzida  resultante de anomalias congéni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rrecção da fenda palati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Cosmetic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ealizado para melhorar aparência pesso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9280" indent="-179280">
                        <a:spcBef>
                          <a:spcPts val="601"/>
                        </a:spcBef>
                        <a:spcAft>
                          <a:spcPts val="601"/>
                        </a:spcAft>
                        <a:buClr>
                          <a:srgbClr val="00206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Rinoplastia para remodelar o nari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9964-8F2B-4812-8A6F-498DB77AA3C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C78F-A2E6-4FFF-94BA-AC91283623F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28600" y="1371600"/>
          <a:ext cx="8642520" cy="4465800"/>
        </p:xfrm>
        <a:graphic>
          <a:graphicData uri="http://schemas.openxmlformats.org/drawingml/2006/table">
            <a:tbl>
              <a:tblPr/>
              <a:tblGrid>
                <a:gridCol w="4321080"/>
                <a:gridCol w="432144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fix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lativ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de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lând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lefa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álpeb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is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bexi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esíc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ól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l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g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nt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testino delg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gast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19969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stôma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rminologia Cirú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itle 1"/>
          <p:cNvSpPr/>
          <p:nvPr/>
        </p:nvSpPr>
        <p:spPr>
          <a:xfrm>
            <a:off x="1523880" y="3808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rminologia Cirú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itle 1"/>
          <p:cNvSpPr/>
          <p:nvPr/>
        </p:nvSpPr>
        <p:spPr>
          <a:xfrm>
            <a:off x="1371600" y="5335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d0d0d"/>
                </a:solidFill>
                <a:latin typeface="Arial"/>
              </a:rPr>
              <a:t>Terminologia Cirúrg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erminologia Cirúrg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99072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fíx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scop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visualização de um órgão. Exame de endoscopia. Exemplo: gastroscopia = exame endoscópico do estómag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tom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incisão, abertura. Ex: colotomia = abertura do cólon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ctom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tirar, excisão, extirpação, ressecção, ablação. Exemplo: Histerectomia = ablação do úter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stom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municação de um órgão com o exterior. Exemplo: Colostomia = derivação do colo para o exterior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rraf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sutura. Exemplo: herniorrafia = sutura da hérn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pex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fixação de órgão deslocado. Exemplo: Nefropexia = fixação do rim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plastia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reparação plástica ou correcção cirúrgica. Exemplo: Rinoplastia = reparação do nariz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-centese: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punção. Exemplo: Paracentese = punção abdominal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A744-1F82-47EB-BE9F-7542D82B1CD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Pré-operató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Cuidados que se prestam ao utente desde a decisão da cirurgia até o transporte para mesa cirúrgica</a:t>
            </a:r>
            <a:r>
              <a:rPr b="1" lang="pt-PT" sz="12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pt-PT" sz="1200" spc="-1" strike="noStrike" u="sng">
                <a:solidFill>
                  <a:srgbClr val="ff0000"/>
                </a:solidFill>
                <a:uFillTx/>
                <a:latin typeface="Arial"/>
              </a:rPr>
              <a:t>Tranferir para introducao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bjec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iminuir o risco de complicações no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trans e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 pós-operató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Apresentar o utente na melhor condição física e psicossocial possível para sua cirurgi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ses de cuidados pré-operatóri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Preparação remota ou afastada, estende-se </a:t>
            </a: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até 24 a 48 horas </a:t>
            </a: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desde a decisao de cirurgia ate 24 horas antes da operacao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. Os cuidados de enfermagem incluem: Preparação psicológica, terapêutica pré-operatória e avaliação e/ou preparação fís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1818ff"/>
                </a:solidFill>
                <a:latin typeface="Arial"/>
              </a:rPr>
              <a:t>Preparação próxima ou imediat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ff0000"/>
                </a:solidFill>
                <a:uFillTx/>
                <a:latin typeface="Arial"/>
              </a:rPr>
              <a:t>A cirurgia de emergência não obedece esta divisão das fases</a:t>
            </a:r>
            <a:r>
              <a:rPr b="1" lang="pt-PT" sz="2000" spc="-1" strike="noStrike">
                <a:solidFill>
                  <a:srgbClr val="00003f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E02E-1000-46A1-974D-E5D1456FF89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3T10:39:34Z</dcterms:modified>
  <cp:revision>832</cp:revision>
  <dc:subject/>
  <dc:title>ANATOMIA E FISIOLOGIA HUMANA</dc:title>
</cp:coreProperties>
</file>