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wmf" ContentType="image/x-wmf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0FF89-3DCC-4393-B392-85E5A2DAC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4CAFB-E291-4EFD-81B9-4BA92B52E6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1E0DC-B620-4303-8B6B-194ACCE1A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6C043-5AD5-4D67-A328-A412D9B67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4638A-640E-4367-901E-7944D80AC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6A7FB-2B6C-4D84-BF67-E96C764EC9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43BB5-13A7-426E-8076-4600D7D56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A9558-02ED-4103-AC63-1BCFCD526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E2976-EB58-44F1-86CE-2CB8604DD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0BE85-4AB6-4C03-AB64-B03553D2A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65E33-31EF-48A1-9659-65EA4945EF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06270-3ED4-4662-AFA6-E6A64372A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7E1D-E295-4343-B36A-590DC92F79F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5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2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56000" y="1600200"/>
            <a:ext cx="6192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500" spc="-1" strike="noStrike">
                <a:solidFill>
                  <a:srgbClr val="ffffff"/>
                </a:solidFill>
                <a:latin typeface="Arial"/>
              </a:rPr>
              <a:t>TRATAMENTO DE FERIDAS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42920" y="4572000"/>
            <a:ext cx="70581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ódulo 6 – Fundament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ula 18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Cicatrizaçã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907920"/>
            <a:ext cx="6121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818ff"/>
                </a:solidFill>
                <a:latin typeface="Arial"/>
              </a:rPr>
              <a:t>Cicatrização por 1ª Inten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Quando não há perda de tecido e as extremidades da pele ficam justapostas uma à outr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818ff"/>
                </a:solidFill>
                <a:latin typeface="Arial"/>
              </a:rPr>
              <a:t>Cicatrização por 2ª Inten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Ocorre nas feridas onde houve perda de tecido e as extremidades da pele ficam distantes umas das outras, sendo necessário formação de tecido de granulação até que a contração e epitelização aconteçam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818ff"/>
                </a:solidFill>
                <a:latin typeface="Arial"/>
              </a:rPr>
              <a:t>Cicatrização por 3ª Inten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2060"/>
                </a:solidFill>
                <a:latin typeface="Arial"/>
              </a:rPr>
              <a:t>A ferida é deixada aberta por um tempo, sendo suturada posteriormente, como cicatrização por 1ª intençã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29DF-17BB-469B-B45C-0A41ACC40B3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rcRect l="0" t="0" r="0" b="13596"/>
          <a:stretch/>
        </p:blipFill>
        <p:spPr>
          <a:xfrm>
            <a:off x="6375240" y="2894040"/>
            <a:ext cx="2444760" cy="1728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tretch/>
        </p:blipFill>
        <p:spPr>
          <a:xfrm>
            <a:off x="6361200" y="1063800"/>
            <a:ext cx="2458800" cy="1755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/>
          <a:srcRect l="0" t="0" r="0" b="19383"/>
          <a:stretch/>
        </p:blipFill>
        <p:spPr>
          <a:xfrm>
            <a:off x="6372360" y="4765680"/>
            <a:ext cx="244764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499520" cy="9223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Factores que influenciam na cicatrizaçã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4040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818ff"/>
                </a:solidFill>
                <a:latin typeface="Arial"/>
              </a:rPr>
              <a:t>Locai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773360"/>
            <a:ext cx="404028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Vascularização (isquemia e estase venosa)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Bordas não adaptada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Deiscência da sutura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Tensão na cicatriz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rpos estranho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Infecção na ferid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Mobilidade excessiva local (articulação)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4720" y="1268280"/>
            <a:ext cx="404172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818ff"/>
                </a:solidFill>
                <a:latin typeface="Arial"/>
              </a:rPr>
              <a:t>Sistémic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644720" y="1773360"/>
            <a:ext cx="4041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Idade: idosos </a:t>
            </a:r>
            <a:r>
              <a:rPr b="1" lang="pt-PT" sz="2300" spc="-1" strike="noStrike">
                <a:solidFill>
                  <a:srgbClr val="ff0000"/>
                </a:solidFill>
                <a:latin typeface="Arial"/>
              </a:rPr>
              <a:t>há atrasos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Obesidad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Imobilidad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Tabagismo e droga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Desnutriçã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âncer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Radioterapi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Diabete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Imunodepressão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1042-A36F-43EE-9C2C-824F9F42B88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ffffff"/>
                </a:solidFill>
                <a:latin typeface="Arial"/>
              </a:rPr>
              <a:t>Assistência de Enfermagem a Utente com Ferida Cirúrgica - Pens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6840" y="1268280"/>
            <a:ext cx="838188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Penso - É um conjunto de acções que visam a prevenção de infecção, cicatrização de feridas e a minimização de lesões cutânea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Objectivos do pens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Promover a cicatrizaçã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Minimizar lesões cutânea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Prevenir infecçã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47FB-DFFB-47BD-9B9A-66B133A6CBE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http://t3.gstatic.com/images?q=tbn:ANd9GcRLk4FW4FD_Y0i5uqrTqzr3M8q2sU8J0yFj1gKm601tv4oQOsNB&amp;t=1"/>
          <p:cNvPicPr/>
          <p:nvPr/>
        </p:nvPicPr>
        <p:blipFill>
          <a:blip r:embed="rId1"/>
          <a:stretch/>
        </p:blipFill>
        <p:spPr>
          <a:xfrm>
            <a:off x="5138640" y="2708280"/>
            <a:ext cx="3556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777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pen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4040280" cy="45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818ff"/>
                </a:solidFill>
                <a:latin typeface="Arial"/>
              </a:rPr>
              <a:t>Se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557360"/>
            <a:ext cx="404028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Asséptic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Antisséptic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mpressiv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Absorvente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ermeável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4720" y="1125000"/>
            <a:ext cx="4041720" cy="45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818ff"/>
                </a:solidFill>
                <a:latin typeface="Arial"/>
              </a:rPr>
              <a:t>Humid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44720" y="1557360"/>
            <a:ext cx="4041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Simples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Quente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Frio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m irrigação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Irrigação contínua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000066"/>
                </a:solidFill>
                <a:latin typeface="Arial"/>
              </a:rPr>
              <a:t>Irrigação intermitente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ED74-A9B3-48F5-85AB-4ED10B7AEF26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ontent Placeholder 9"/>
          <p:cNvSpPr/>
          <p:nvPr/>
        </p:nvSpPr>
        <p:spPr>
          <a:xfrm>
            <a:off x="457200" y="4149720"/>
            <a:ext cx="8381880" cy="2232000"/>
          </a:xfrm>
          <a:prstGeom prst="rect">
            <a:avLst/>
          </a:prstGeom>
          <a:noFill/>
          <a:ln w="28440">
            <a:solidFill>
              <a:srgbClr val="181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100" spc="-1" strike="noStrike">
                <a:solidFill>
                  <a:srgbClr val="1818ff"/>
                </a:solidFill>
                <a:latin typeface="Arial"/>
              </a:rPr>
              <a:t>O</a:t>
            </a:r>
            <a:r>
              <a:rPr b="1" i="1" lang="pt-PT" sz="21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pt-PT" sz="2100" spc="-1" strike="noStrike">
                <a:solidFill>
                  <a:srgbClr val="1818ff"/>
                </a:solidFill>
                <a:latin typeface="Arial"/>
              </a:rPr>
              <a:t>penso com irrigação </a:t>
            </a:r>
            <a:r>
              <a:rPr b="1" i="1" lang="pt-PT" sz="2100" spc="-1" strike="noStrike">
                <a:solidFill>
                  <a:srgbClr val="002060"/>
                </a:solidFill>
                <a:latin typeface="Arial"/>
              </a:rPr>
              <a:t>é feito nas feridas com supuração ou em vias de se infectar. Consiste na instilação duma solução em jacto contínuo ou intermitente, por meio de seringa ou bomba infusora, com a finalidade d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1818ff"/>
                </a:solidFill>
                <a:latin typeface="Arial"/>
              </a:rPr>
              <a:t>Libertar a ferida de pús ou de bactéri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1818ff"/>
                </a:solidFill>
                <a:latin typeface="Arial"/>
              </a:rPr>
              <a:t>Estimular a granulação dos tecidos e acelerar a cicatriz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Tipos de Pen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052280"/>
            <a:ext cx="83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1818ff"/>
                </a:solidFill>
                <a:latin typeface="Arial"/>
              </a:rPr>
              <a:t>Penso asséptico: </a:t>
            </a: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é feito em feridas limpas com finalidade de protegê-las de infecções e promover a cicatrizaçã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1818ff"/>
                </a:solidFill>
                <a:latin typeface="Arial"/>
              </a:rPr>
              <a:t>Penso antisséptico: </a:t>
            </a: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feito em feridas infectadas, deixa-se um antisséptico (líquido ou pomada) para destruir os microrganismos existente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1818ff"/>
                </a:solidFill>
                <a:latin typeface="Arial"/>
              </a:rPr>
              <a:t>Penso compressivo: </a:t>
            </a: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tem a finalidade de estancar hemorragi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1818ff"/>
                </a:solidFill>
                <a:latin typeface="Arial"/>
              </a:rPr>
              <a:t>Penso Absorvente: </a:t>
            </a: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tem a finalidade de absorver exsudato ou produtos de drenagem (colostomia). É feito com compressas amachucadas, celulose ou algodão esterilizado para absorver a secreçã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1818ff"/>
                </a:solidFill>
                <a:latin typeface="Arial"/>
              </a:rPr>
              <a:t>Penso permeável ou poroso: </a:t>
            </a: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feita com 1 ou 2 compressas para permitir o arejamento da ferid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Footer Placeholder 6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7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F331-79D0-48E7-8386-2DA99FEBDBB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042920" y="188640"/>
            <a:ext cx="7796160" cy="6264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Precauções na feitura do penso: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Utilizar técnica asséptica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Informar o médico em caso de: infecção local, 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 deiscência de bordos; necrose e  exsudado.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Manter a ferida e pele circundante sempre limpa e seca, evitando molhar o penso durante a higiene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Os pensos repassados ou molhados devem ser executados imediatamente, excepto se indicação em contrári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Nos pensos de safenectomia colocar ligaduras elásticas de 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contençã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Utilizar adesivos esterilizados, no contacto directo com a ferida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Providenciar uma boa nutrição para facilitar o processo de cicatrizaçã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Os adesivos devem ser colocados sem tensão e do centro para as 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extremidades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847F-BF9A-4F30-873E-F9C3117A917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ooter Placeholder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042560" y="189000"/>
            <a:ext cx="7921800" cy="6192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ff0000"/>
                </a:solidFill>
                <a:latin typeface="Arial"/>
              </a:rPr>
              <a:t>Precauções na feitura do penso: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Se a ferida tiver drenos, colocar penso poroso e reforçar com compressas esterilizadas no local de implantação dos drenos. Fixar drenos sem dobras ou ansas, permitindo a mobilidade do doente;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Se a ferida tem exsudado abundante, colocar compressas secas antes de aplicar o penso;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Evitar contaminar a ferida aberta ou sem protecção, colocando máscara quando indicado;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Evitar procedimentos que dificultem a circulação sanguínea no local da ferida;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Limitar a circulação de pessoas no local onde se está a executar o penso;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Executar no mesmo doente os pensos de feridas limpas, em primeiro lugar, evitando o contacto com feridas infectadas;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Executar os pensos de feridas infectadas na unidade do doente; </a:t>
            </a:r>
            <a:r>
              <a:rPr b="1" lang="pt-BR" sz="1600" spc="-1" strike="noStrike">
                <a:solidFill>
                  <a:srgbClr val="1818ff"/>
                </a:solidFill>
                <a:latin typeface="Arial"/>
              </a:rPr>
              <a:t>(usar sala de pensos para feridas infectadas/ usar a sala de penso apos a realizacao de pensos de feridas nao infectadas/na unidade do paciente se nao existirem outras alternativas)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891A-C6A1-4BB3-935E-558F13D44F4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eitura de Penso – Prática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341000"/>
            <a:ext cx="4114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Tabuleiro com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Tabuleiro de penso simples ou composto de uso únic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Soluto desinfectante (solução iodopovidona ou clorohexidina)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Cloreto de sódio a 0,9% (ampola)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Resguardo absorvente e impermeável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Recipiente para cortantes e perfurantes.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0360" y="1341000"/>
            <a:ext cx="43383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Material  Esteril e EPI: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Compressas esterilizadas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Saco de plástico branc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66"/>
                </a:solidFill>
                <a:latin typeface="Arial"/>
              </a:rPr>
              <a:t>Lâmina de bisturi;</a:t>
            </a: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Máscara cirúrgica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Luvas de procediment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Luvas esterilizadas (2 pares)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Ligaduras elásticas de contenção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Tiras adesivas cutâneas esterilizadas;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900" spc="-1" strike="noStrike">
                <a:solidFill>
                  <a:srgbClr val="000066"/>
                </a:solidFill>
                <a:latin typeface="Arial"/>
              </a:rPr>
              <a:t>Adesivo</a:t>
            </a:r>
            <a:endParaRPr b="1" lang="en-US" sz="1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4D58-4E02-49A5-A4DE-DC8000745F5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611280" y="907920"/>
            <a:ext cx="49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0000"/>
                </a:solidFill>
                <a:latin typeface="Arial"/>
              </a:rPr>
              <a:t>Material e EP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eitura de Penso – Prática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3640" y="1052280"/>
            <a:ext cx="8569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Identificar o doente </a:t>
            </a:r>
            <a:r>
              <a:rPr b="1" lang="pt-PT" sz="2200" spc="-1" strike="noStrike">
                <a:solidFill>
                  <a:srgbClr val="1818ff"/>
                </a:solidFill>
                <a:latin typeface="Arial"/>
              </a:rPr>
              <a:t>e prepara-lo psicologicamente</a:t>
            </a: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Verificar plano de cuidado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Proceder à lavagem higiénica das mão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Preparar o material e transportá-lo para junto do do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Explicar ao doente o procediment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1818ff"/>
                </a:solidFill>
                <a:latin typeface="Arial"/>
              </a:rPr>
              <a:t>Preparação do ambiente </a:t>
            </a: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(Isolar o doente, </a:t>
            </a:r>
            <a:r>
              <a:rPr b="1" lang="pt-PT" sz="2200" spc="-1" strike="noStrike">
                <a:solidFill>
                  <a:srgbClr val="1818ff"/>
                </a:solidFill>
                <a:latin typeface="Arial"/>
              </a:rPr>
              <a:t>fechar as janelas, desligar a ventoinha...</a:t>
            </a: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)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Posicionar correctamente o paci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Colocar resguardo impermeável absorv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0066"/>
                </a:solidFill>
                <a:latin typeface="Arial"/>
              </a:rPr>
              <a:t>Expor unicamente a região necessária à execução do pens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brir o tabuleiro de penso e colocar: Solutos; compressas e outro material necessári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1F98-1CD5-446C-825C-DF152424D79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eitura de Penso – Prática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Retirar o penso com luvas limpas em caso de ferida contaminada, procedendo à remoção do penso da periferia para o centro, humedecendo com cloreto de sódio a 0,9% se este estiver ader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Colocar o penso removido no </a:t>
            </a: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saco para sujos</a:t>
            </a:r>
            <a:r>
              <a:rPr b="1" lang="pt-BR" sz="2200" spc="-1" strike="noStrike">
                <a:solidFill>
                  <a:srgbClr val="1818ff"/>
                </a:solidFill>
                <a:latin typeface="Arial"/>
              </a:rPr>
              <a:t> no balde de lixo infeccioso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Proceder a lavagem higiénica das mãos após retirar o pens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Usar luvas esterilizadas em casos de: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Ferida abert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Doente portador de doença transmissível por via hematogénica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Avaliar a ferida (recorrendo à visão, ao olfacto e ao tacto)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B750-A271-4314-91BA-AA868F3E0F8F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mpetê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9907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1818ff"/>
                </a:solidFill>
                <a:latin typeface="Arial"/>
              </a:rPr>
              <a:t>Após a discussão deste tema os alunos deverão ser capazes de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lassificar as feridas de acordo com: o grau de contaminação,  a evolução e o agente caus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aracterizar os 3 tipos de cicatriz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Identificar os factores que influenciam a cicatrizaçã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xecutar a técnica de feitura de penso, seleccionando o EPI e material necessá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Efectuar os registos de enfermagem após a feitura de penso, incorporando os aspectos fundament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&amp;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Down Arrow 4"/>
          <p:cNvSpPr/>
          <p:nvPr/>
        </p:nvSpPr>
        <p:spPr>
          <a:xfrm>
            <a:off x="3962520" y="1981080"/>
            <a:ext cx="914400" cy="533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eitura de Penso – Prática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Desinfectar e executar penso de acordo com prescrição médica e/ou protocolo de serviço. Com cada compressa, limpar de cima para baixo e, do centro para a periferia </a:t>
            </a:r>
            <a:r>
              <a:rPr b="1" lang="pt-BR" sz="2200" spc="-1" strike="noStrike">
                <a:solidFill>
                  <a:srgbClr val="1818ff"/>
                </a:solidFill>
                <a:latin typeface="Arial"/>
              </a:rPr>
              <a:t>na ferida limpa e da perferia para o centro na infectada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, com uma simples passagem. Substituir a compressa após cada passagem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plicar pomada, se prescrit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1818ff"/>
                </a:solidFill>
                <a:latin typeface="Arial"/>
              </a:rPr>
              <a:t>Utilizar compressas </a:t>
            </a: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Aplicar penso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 esterilizadas. Colocar uma compressa pequena directamente sobre a ferida. Uma vez colocada não a reposicionar. Cobrir com uma compressa maior, se necessári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Fixar o penso com adesivo ou ligaduras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Reposicionar o doent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AE2F-9F4D-4436-8F4D-619F050E3C55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eitura de Penso – Prática L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43000"/>
            <a:ext cx="8515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Recolher e dar o destino adequado ao material e equipament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roceder </a:t>
            </a:r>
            <a:r>
              <a:rPr b="1" lang="pt-BR" sz="2400" spc="-1" strike="noStrike">
                <a:solidFill>
                  <a:srgbClr val="1818ff"/>
                </a:solidFill>
                <a:latin typeface="Arial"/>
              </a:rPr>
              <a:t>a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à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 lavagem higiénica das mã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Proceder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os respectivos registos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Registos de Enfermagem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Procedimento (data e hora)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Reacção do doente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Tipo e características da ferida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Líquidos drenados e suas características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Avaliação / evolução da cicatrização;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Actualização do plano de cuidados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6FF0-C079-4828-AFC5-4AE8750B428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IRCUNCIS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1341000"/>
            <a:ext cx="83818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Circuncisao: e a excisao do prepucio da glande do pen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Indicacoe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Geralmente e realizada no latente com objectivos de higiene. Em adultos e indicada na fimose, parafimose, infeccoes recorrentes da glande e do prepucio e por desejo pessoal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ABC3-5729-48D6-B06F-1048D80F98E7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1039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UIDADOS DE ENFERMAGEM NA CIRCUNCIS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413000"/>
            <a:ext cx="83818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1818ff"/>
                </a:solidFill>
                <a:latin typeface="Arial"/>
              </a:rPr>
              <a:t>Fazer o penso com gaze vaselinada, se necessari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1818ff"/>
                </a:solidFill>
                <a:latin typeface="Arial"/>
              </a:rPr>
              <a:t>Observar o sangramen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1818ff"/>
                </a:solidFill>
                <a:latin typeface="Arial"/>
              </a:rPr>
              <a:t>Observar se apresenta dor considerave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1818ff"/>
                </a:solidFill>
                <a:latin typeface="Arial"/>
              </a:rPr>
              <a:t>Administrar analgesico S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FB42-00C2-40A7-87A6-06124D34C2F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Ferid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981000"/>
            <a:ext cx="5699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Definiçã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Arial"/>
              </a:rPr>
              <a:t>Ferida é toda e qualquer solução de continuidade (perda) de tecido ou órgão, podendo atingir desde a epiderme, músculos e órgãos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66"/>
                </a:solidFill>
                <a:latin typeface="Arial"/>
              </a:rPr>
              <a:t>Causas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Traumas: ferida por faca 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irurgias: ferida resultante de uma intervenção cirúrgica (cesariana)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Isquemia: úlcera da perna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Pressão: úlceras de decúbito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3C4A3-3939-422A-880F-8BD4A5BDDC80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t2.gstatic.com/images?q=tbn:ANd9GcSm2UrxUWghG19hVWpNW_-1XjfI9OgaKzo8spHNGZReOxxXnZ-R&amp;t=1"/>
          <p:cNvPicPr/>
          <p:nvPr/>
        </p:nvPicPr>
        <p:blipFill>
          <a:blip r:embed="rId1"/>
          <a:stretch/>
        </p:blipFill>
        <p:spPr>
          <a:xfrm>
            <a:off x="6227640" y="1076400"/>
            <a:ext cx="2521080" cy="1888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http://www.hemoglobinopatias.com.br/d-falciforme/img41.jpg"/>
          <p:cNvPicPr/>
          <p:nvPr/>
        </p:nvPicPr>
        <p:blipFill>
          <a:blip r:embed="rId2"/>
          <a:stretch/>
        </p:blipFill>
        <p:spPr>
          <a:xfrm>
            <a:off x="6227640" y="2997360"/>
            <a:ext cx="2521080" cy="1655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http://t0.gstatic.com/images?q=tbn:ANd9GcQ9U4D-W3i_tGHB9TI7iHVOGNURfGzrFTCt6XFVu3-0nxbgtf968w&amp;t=1"/>
          <p:cNvPicPr/>
          <p:nvPr/>
        </p:nvPicPr>
        <p:blipFill>
          <a:blip r:embed="rId3"/>
          <a:srcRect l="0" t="0" r="0" b="10756"/>
          <a:stretch/>
        </p:blipFill>
        <p:spPr>
          <a:xfrm>
            <a:off x="6227640" y="4724280"/>
            <a:ext cx="25210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e Ferida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981000"/>
            <a:ext cx="83818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Quanto a evoluçã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066D-56E8-41C0-AED4-462E1FDA287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http://1.bp.blogspot.com/_1Yh7-XkIOg0/SstMOdEOMzI/AAAAAAAAAIU/WYAmQqSevio/s320/feridas_e_curativos_html_198764ad%5B1%5D.png"/>
          <p:cNvPicPr/>
          <p:nvPr/>
        </p:nvPicPr>
        <p:blipFill>
          <a:blip r:embed="rId1"/>
          <a:stretch/>
        </p:blipFill>
        <p:spPr>
          <a:xfrm>
            <a:off x="684360" y="1623960"/>
            <a:ext cx="3000240" cy="225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http://www.angionet.med.br/media/DIR_123/ulcera$20venosa.JPG"/>
          <p:cNvPicPr/>
          <p:nvPr/>
        </p:nvPicPr>
        <p:blipFill>
          <a:blip r:embed="rId2"/>
          <a:stretch/>
        </p:blipFill>
        <p:spPr>
          <a:xfrm>
            <a:off x="5651640" y="400536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3419640" y="1623960"/>
            <a:ext cx="53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818ff"/>
                </a:solidFill>
                <a:latin typeface="Arial"/>
                <a:ea typeface="Arial"/>
              </a:rPr>
              <a:t>Feridas Agudas: </a:t>
            </a:r>
            <a:r>
              <a:rPr b="1" lang="pt-PT" sz="2400" spc="-1" strike="noStrike">
                <a:solidFill>
                  <a:srgbClr val="002060"/>
                </a:solidFill>
                <a:latin typeface="Arial"/>
                <a:ea typeface="Arial"/>
              </a:rPr>
              <a:t>cumpre um processo de reparação tecidual ordenado e adequado, que resulta na reparação sustentada da integridade anatómica e fun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324000" y="4226040"/>
            <a:ext cx="50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1818ff"/>
                </a:solidFill>
                <a:latin typeface="Arial"/>
                <a:ea typeface="Arial"/>
              </a:rPr>
              <a:t>Feridas Crónicas: </a:t>
            </a:r>
            <a:r>
              <a:rPr b="1" lang="pt-PT" sz="2400" spc="-1" strike="noStrike">
                <a:solidFill>
                  <a:srgbClr val="002060"/>
                </a:solidFill>
                <a:latin typeface="Arial"/>
                <a:ea typeface="Arial"/>
              </a:rPr>
              <a:t>não cumprem o processo de reparação tecidual ordenado e adequado para promover a integridade anatómica e fun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e Feridas (cont.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052280"/>
            <a:ext cx="83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Quanto ao grau de contaminaçã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1818ff"/>
                </a:solidFill>
                <a:latin typeface="Arial"/>
              </a:rPr>
              <a:t>Ferida Limpa: </a:t>
            </a:r>
            <a:r>
              <a:rPr b="1" lang="pt-PT" sz="2300" spc="-1" strike="noStrike">
                <a:solidFill>
                  <a:srgbClr val="ff0000"/>
                </a:solidFill>
                <a:latin typeface="Arial"/>
              </a:rPr>
              <a:t>não </a:t>
            </a:r>
            <a:r>
              <a:rPr b="1" lang="pt-PT" sz="2300" spc="-1" strike="noStrike">
                <a:solidFill>
                  <a:srgbClr val="1818ff"/>
                </a:solidFill>
                <a:latin typeface="Arial"/>
              </a:rPr>
              <a:t>e aquela que 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contém  um baixo teor de micro-organismos patogénicos </a:t>
            </a:r>
            <a:r>
              <a:rPr b="1" lang="pt-PT" sz="2300" spc="-1" strike="noStrike">
                <a:solidFill>
                  <a:srgbClr val="1818ff"/>
                </a:solidFill>
                <a:latin typeface="Arial"/>
              </a:rPr>
              <a:t>e existe um baixo risco de infecçã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1818ff"/>
                </a:solidFill>
                <a:latin typeface="Arial"/>
              </a:rPr>
              <a:t>Ferida Limpa-contaminada: 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ocorre em condições assépticas mas envolve cavidades do corpo que normalmente abriga microrganismos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1818ff"/>
                </a:solidFill>
                <a:latin typeface="Arial"/>
              </a:rPr>
              <a:t>Ferida Contaminada: 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surge sob condições prováveis de presença de microrganismos. Ex: feridas traumáticas, acidentais, ..Existe alto risco de infecção;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300" spc="-1" strike="noStrike">
                <a:solidFill>
                  <a:srgbClr val="1818ff"/>
                </a:solidFill>
                <a:latin typeface="Arial"/>
              </a:rPr>
              <a:t>Ferida Infectadas: </a:t>
            </a:r>
            <a:r>
              <a:rPr b="1" lang="pt-PT" sz="2300" spc="-1" strike="noStrike">
                <a:solidFill>
                  <a:srgbClr val="000066"/>
                </a:solidFill>
                <a:latin typeface="Arial"/>
              </a:rPr>
              <a:t>apresenta sinais de infecção (inflamação, drenagem purulenta, separação da pele).</a:t>
            </a: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9DD4-48F2-4753-A0A6-2B4B80B0D4E8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e Feridas (cont.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980640"/>
            <a:ext cx="5699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Quanto ao agente causal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1818ff"/>
                </a:solidFill>
                <a:latin typeface="Arial"/>
              </a:rPr>
              <a:t>Ferida Incisa ou Cortante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são provocadas por agentes cortantes, como faca, bisturi, lâminas, caracteriza-se por ter: bordos regulares e nítidos, geralmente retilíneas, com profundidade igual de um extremo à outro da lesã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1818ff"/>
                </a:solidFill>
                <a:latin typeface="Arial"/>
              </a:rPr>
              <a:t>Ferida Corto-contusa: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o agente não tem corte tão acentuado, sendo que a força do traumatismo é que causa a penetração do instrumento, tendo como exemplo o machad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EFF99-53B3-4D18-A8F9-BFCC53C1FBE4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www.unimes.br/aulas/MEDICINA/Aulas2005/1ano/Procedimentos_basicos_em_medicina/images/feridas_e_curativos_html_198764ad.png"/>
          <p:cNvPicPr/>
          <p:nvPr/>
        </p:nvPicPr>
        <p:blipFill>
          <a:blip r:embed="rId1"/>
          <a:srcRect l="17897" t="0" r="3839" b="0"/>
          <a:stretch/>
        </p:blipFill>
        <p:spPr>
          <a:xfrm>
            <a:off x="6227640" y="1593720"/>
            <a:ext cx="2521080" cy="241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http://www.unimes.br/aulas/MEDICINA/Aulas2005/1ano/Procedimentos_basicos_em_medicina/images/feridas_e_curativos_html_1d08f392.jpg"/>
          <p:cNvPicPr/>
          <p:nvPr/>
        </p:nvPicPr>
        <p:blipFill>
          <a:blip r:embed="rId2"/>
          <a:srcRect l="13636" t="0" r="4656" b="0"/>
          <a:stretch/>
        </p:blipFill>
        <p:spPr>
          <a:xfrm>
            <a:off x="6227640" y="4508640"/>
            <a:ext cx="2521080" cy="16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e Feridas (cont.)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6840" y="980640"/>
            <a:ext cx="5986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Quanto ao agente causal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1818ff"/>
                </a:solidFill>
                <a:latin typeface="Arial"/>
              </a:rPr>
              <a:t>Feridas Perfurantes: </a:t>
            </a: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são ocasionadas por agentes longos e pontiagudos como prego, alfinete. Pode ser transfixante quando atravessa um órgão, estando sua gravidade na importância deste órgão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1818ff"/>
                </a:solidFill>
                <a:latin typeface="Arial"/>
              </a:rPr>
              <a:t>Pérfuro-contusas: </a:t>
            </a: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são as ocasionadas por arma de fogo, podendo existir dois orifícios, o de entrada e o de saída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1818ff"/>
                </a:solidFill>
                <a:latin typeface="Arial"/>
              </a:rPr>
              <a:t>Ferida Lácero-contusas: </a:t>
            </a: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resulta de compressão ou tracção. As bordos são irregulares, com mais de um ângulo. Exemplo clássico as mordidas de cão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266AB-53C9-4F0F-9926-DC82BDE3E0B2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http://www.unimes.br/aulas/MEDICINA/Aulas2005/1ano/Procedimentos_basicos_em_medicina/images/feridas_e_curativos_html_m3c947762.jpg"/>
          <p:cNvPicPr/>
          <p:nvPr/>
        </p:nvPicPr>
        <p:blipFill>
          <a:blip r:embed="rId1"/>
          <a:srcRect l="0" t="0" r="0" b="9557"/>
          <a:stretch/>
        </p:blipFill>
        <p:spPr>
          <a:xfrm>
            <a:off x="6572160" y="1349280"/>
            <a:ext cx="2176560" cy="3087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http://3.bp.blogspot.com/_CSvnSG-9TTg/SYXalQg2NqI/AAAAAAAABBk/Rycna_fWL2M/s400/blog+007.jpg"/>
          <p:cNvPicPr/>
          <p:nvPr/>
        </p:nvPicPr>
        <p:blipFill>
          <a:blip r:embed="rId2"/>
          <a:stretch/>
        </p:blipFill>
        <p:spPr>
          <a:xfrm>
            <a:off x="6564240" y="4599000"/>
            <a:ext cx="21844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e Feridas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23640" y="980640"/>
            <a:ext cx="6119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000066"/>
                </a:solidFill>
                <a:latin typeface="Arial"/>
              </a:rPr>
              <a:t>Quanto ao agente causal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1818ff"/>
                </a:solidFill>
                <a:latin typeface="Arial"/>
              </a:rPr>
              <a:t>Ferida Perfuro-incisas: </a:t>
            </a: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são provocadas por instrumentos pérfuro-cortantes que possuem gume e ponta, por exemplo um punhal. Pode lesar órgãos internos importantes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1818ff"/>
                </a:solidFill>
                <a:latin typeface="Arial"/>
              </a:rPr>
              <a:t>Escoriações: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São caracterizadas pela retirada de células da epiderme por causa da ação de fricção ou esmagamento de instrumento mecânico</a:t>
            </a: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100" spc="-1" strike="noStrike">
                <a:solidFill>
                  <a:srgbClr val="1818ff"/>
                </a:solidFill>
                <a:latin typeface="Arial"/>
              </a:rPr>
              <a:t>Equimoses e hematomas: </a:t>
            </a:r>
            <a:r>
              <a:rPr b="1" lang="pt-BR" sz="2100" spc="-1" strike="noStrike">
                <a:solidFill>
                  <a:srgbClr val="000066"/>
                </a:solidFill>
                <a:latin typeface="Arial"/>
              </a:rPr>
              <a:t>na equimose há rompimento dos capilares, porém sem perda da continuidade da pele, sendo que no hematoma, o sangue extravasado forma uma cavidade.</a:t>
            </a:r>
            <a:endParaRPr b="1" lang="en-US" sz="21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F5B1-A8E8-4FCD-BDA4-62AE3791E6A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9" descr="http://www.unimes.br/aulas/MEDICINA/Aulas2005/1ano/Procedimentos_basicos_em_medicina/images/feridas_e_curativos_html_m7cd248fb.jpg"/>
          <p:cNvPicPr/>
          <p:nvPr/>
        </p:nvPicPr>
        <p:blipFill>
          <a:blip r:embed="rId1"/>
          <a:stretch/>
        </p:blipFill>
        <p:spPr>
          <a:xfrm>
            <a:off x="6529320" y="1413000"/>
            <a:ext cx="2435400" cy="1630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http://ego.globo.com/Entretenimento/Ego/foto/0,,12032993,00.jpg"/>
          <p:cNvPicPr/>
          <p:nvPr/>
        </p:nvPicPr>
        <p:blipFill>
          <a:blip r:embed="rId2"/>
          <a:srcRect l="0" t="28647" r="38910" b="14087"/>
          <a:stretch/>
        </p:blipFill>
        <p:spPr>
          <a:xfrm>
            <a:off x="6516720" y="3068640"/>
            <a:ext cx="2448000" cy="1530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7" descr="http://4.bp.blogspot.com/-vozG0Tnt3M8/TVggjc5bTbI/AAAAAAAAATI/gfh1h9Rqc8s/s1600/hematoma.jpg"/>
          <p:cNvPicPr/>
          <p:nvPr/>
        </p:nvPicPr>
        <p:blipFill>
          <a:blip r:embed="rId3"/>
          <a:stretch/>
        </p:blipFill>
        <p:spPr>
          <a:xfrm>
            <a:off x="6516720" y="4653000"/>
            <a:ext cx="244800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lassificação de Feridas (cont.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66"/>
                </a:solidFill>
                <a:latin typeface="Arial"/>
              </a:rPr>
              <a:t>Quanto a solução de continuidad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200" spc="-1" strike="noStrike">
                <a:solidFill>
                  <a:srgbClr val="9999ff"/>
                </a:solidFill>
                <a:latin typeface="Verdana"/>
              </a:rPr>
              <a:t>Curso de Enfermagem Geral e ESM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380880" y="63244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D133F-C123-4CB0-AB19-8F0322D00541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3T02:19:43Z</dcterms:created>
  <dc:creator>Hamido</dc:creator>
  <dc:description/>
  <dc:language>en-US</dc:language>
  <cp:lastModifiedBy>Maputo</cp:lastModifiedBy>
  <dcterms:modified xsi:type="dcterms:W3CDTF">2011-10-11T13:38:43Z</dcterms:modified>
  <cp:revision>22</cp:revision>
  <dc:subject/>
  <dc:title>TRATAMENTO DE FERIDA</dc:title>
</cp:coreProperties>
</file>