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9E865-9BDE-48A8-8E5E-3EEADE77F3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3CC8B-3488-4793-BA4E-715935CB7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369E8-7769-43AD-9D2F-3C356D6F5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565F2-5AC8-44DE-95F0-892EF6032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3DDEC-1B4A-42F5-B321-C7579B129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02321-843B-4841-A3F6-F67C34D86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5B59D-A4F0-4C01-9C5D-B975755FB3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0AD40-1271-456F-90B7-3DCB4831B7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6F63E-1029-4D78-A05D-86F4650A8B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B6F01-A680-4EB8-94C9-74565AE9A6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E2470-151C-40AD-BC4F-2132A2C532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A2155-D298-4F2C-AB66-229C022455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81EF8-7C9B-4BAE-8632-1CE43B8D13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2DE71-6948-4FFB-B21B-57D65DDF92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DF39C-D352-40D0-8872-B85AC71391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D8F34-EEF3-4D22-A827-8C16F7B126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F8A41-B81B-4966-9181-C32D8C5AFA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48156-92E5-4739-9022-21F9DFCC9B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5"/>
          <p:cNvSpPr/>
          <p:nvPr/>
        </p:nvSpPr>
        <p:spPr>
          <a:xfrm rot="5400000">
            <a:off x="-3227400" y="3227400"/>
            <a:ext cx="6858000" cy="40320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8" descr="Jhpiego_logo"/>
          <p:cNvPicPr/>
          <p:nvPr/>
        </p:nvPicPr>
        <p:blipFill>
          <a:blip r:embed="rId3"/>
          <a:stretch/>
        </p:blipFill>
        <p:spPr>
          <a:xfrm>
            <a:off x="7543800" y="6297480"/>
            <a:ext cx="1143000" cy="4842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CF1DF-C786-46D6-9879-AB769498299E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3"/>
          <p:cNvSpPr/>
          <p:nvPr/>
        </p:nvSpPr>
        <p:spPr>
          <a:xfrm>
            <a:off x="1371600" y="144792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24"/>
          <p:cNvGrpSpPr/>
          <p:nvPr/>
        </p:nvGrpSpPr>
        <p:grpSpPr>
          <a:xfrm>
            <a:off x="0" y="1447920"/>
            <a:ext cx="2742840" cy="2514240"/>
            <a:chOff x="0" y="1447920"/>
            <a:chExt cx="2742840" cy="2514240"/>
          </a:xfrm>
        </p:grpSpPr>
        <p:sp>
          <p:nvSpPr>
            <p:cNvPr id="46" name="Rectangle 25"/>
            <p:cNvSpPr/>
            <p:nvPr/>
          </p:nvSpPr>
          <p:spPr>
            <a:xfrm>
              <a:off x="0" y="3326040"/>
              <a:ext cx="689040" cy="636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26"/>
            <p:cNvSpPr/>
            <p:nvPr/>
          </p:nvSpPr>
          <p:spPr>
            <a:xfrm>
              <a:off x="1366560" y="1447920"/>
              <a:ext cx="686880" cy="6379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27"/>
            <p:cNvSpPr/>
            <p:nvPr/>
          </p:nvSpPr>
          <p:spPr>
            <a:xfrm>
              <a:off x="681120" y="3324240"/>
              <a:ext cx="698400" cy="6364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28"/>
            <p:cNvSpPr/>
            <p:nvPr/>
          </p:nvSpPr>
          <p:spPr>
            <a:xfrm>
              <a:off x="2042640" y="1447920"/>
              <a:ext cx="700200" cy="6379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29"/>
            <p:cNvSpPr/>
            <p:nvPr/>
          </p:nvSpPr>
          <p:spPr>
            <a:xfrm>
              <a:off x="679680" y="2076480"/>
              <a:ext cx="698040" cy="6282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30"/>
            <p:cNvSpPr/>
            <p:nvPr/>
          </p:nvSpPr>
          <p:spPr>
            <a:xfrm>
              <a:off x="1366560" y="2076480"/>
              <a:ext cx="686880" cy="6282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31"/>
            <p:cNvSpPr/>
            <p:nvPr/>
          </p:nvSpPr>
          <p:spPr>
            <a:xfrm>
              <a:off x="0" y="2695680"/>
              <a:ext cx="689040" cy="6393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32"/>
            <p:cNvSpPr/>
            <p:nvPr/>
          </p:nvSpPr>
          <p:spPr>
            <a:xfrm>
              <a:off x="679680" y="2695680"/>
              <a:ext cx="698040" cy="6393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8" descr="Jhpiego_logo"/>
          <p:cNvPicPr/>
          <p:nvPr/>
        </p:nvPicPr>
        <p:blipFill>
          <a:blip r:embed="rId2"/>
          <a:stretch/>
        </p:blipFill>
        <p:spPr>
          <a:xfrm>
            <a:off x="7772400" y="6172200"/>
            <a:ext cx="11430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" descr=""/>
          <p:cNvPicPr/>
          <p:nvPr/>
        </p:nvPicPr>
        <p:blipFill>
          <a:blip r:embed="rId3"/>
          <a:stretch/>
        </p:blipFill>
        <p:spPr>
          <a:xfrm>
            <a:off x="8058240" y="38088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7"/>
          <p:cNvSpPr/>
          <p:nvPr/>
        </p:nvSpPr>
        <p:spPr>
          <a:xfrm>
            <a:off x="2971800" y="1676520"/>
            <a:ext cx="50292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57240" y="1593360"/>
            <a:ext cx="6623280" cy="262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ENFERMAGEM </a:t>
            </a:r>
            <a:br>
              <a:rPr sz="2800"/>
            </a:b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MÉDICO-CIRÚRGIC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186920" y="4572000"/>
            <a:ext cx="6913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SUBMÓDULO  12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UIDADOS DE ENFERMAGEM NAS EMERGENCIAS E URGENCIA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 Black"/>
              </a:rPr>
              <a:t>Curso de Enfermagem Geral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SABILIDADE LEG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O Código Civil normatiza aquele que por ação ou omissão voluntária,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negligência ou imprudência,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violar direito ou causar dano a outrem, ainda que exclusivamente moral, comete acto ilícito, sendo obrigado a reparar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o dan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TENDIMENTO INICI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O objetivo principal deste atendimento é manter a vida do cliente e prevenir seqüelas, estabelecendo prioridades ante cuidados prestado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O atendimento se realiza antes mesmo do estabelecimento do diagnóstico, pois visa minimizar os efeitos dos agravos que colocam o paciente em risco de vid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 regra básica do atendimento, conhecida como o  da assistência de emergência, prioriza três ações a avaliar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O nível de consciência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Manter as vias aéreas desobstruídas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Preservar a respiração e a circulaçã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PARAGEM CARDIORRESPIRATORIA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aragem Cardiorrespiratór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8000" y="2781000"/>
            <a:ext cx="83818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000066"/>
                </a:solidFill>
                <a:latin typeface="Arial"/>
              </a:rPr>
              <a:t>Causas: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cc"/>
                </a:solidFill>
                <a:latin typeface="Arial"/>
              </a:rPr>
              <a:t>Respiratórias: </a:t>
            </a: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obstrução das vias aéreas, falência respiratória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cc"/>
                </a:solidFill>
                <a:latin typeface="Arial"/>
              </a:rPr>
              <a:t>Circulatória: </a:t>
            </a: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arritmias, IAM,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cc"/>
                </a:solidFill>
                <a:latin typeface="Arial"/>
              </a:rPr>
              <a:t>Distúrbios metabólicos: </a:t>
            </a: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acidose, alcalose, desequilíbrio hidreletrolítico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cc"/>
                </a:solidFill>
                <a:latin typeface="Arial"/>
              </a:rPr>
              <a:t>Ação de drogas: </a:t>
            </a: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anestésicos, cloreto de potássio, intoxicação digitálica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entagon 3"/>
          <p:cNvSpPr/>
          <p:nvPr/>
        </p:nvSpPr>
        <p:spPr>
          <a:xfrm>
            <a:off x="826920" y="1341360"/>
            <a:ext cx="2554560" cy="935280"/>
          </a:xfrm>
          <a:custGeom>
            <a:avLst/>
            <a:gdLst>
              <a:gd name="textAreaLeft" fmla="*/ 0 w 2554560"/>
              <a:gd name="textAreaRight" fmla="*/ 2554920 w 2554560"/>
              <a:gd name="textAreaTop" fmla="*/ 0 h 935280"/>
              <a:gd name="textAreaBottom" fmla="*/ 935640 h 9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41" y="0"/>
                </a:lnTo>
                <a:lnTo>
                  <a:pt x="21600" y="10800"/>
                </a:lnTo>
                <a:lnTo>
                  <a:pt x="17641" y="21600"/>
                </a:ln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0000"/>
                </a:solidFill>
                <a:latin typeface="Arial"/>
              </a:rPr>
              <a:t>Paragem Cardiorrespirató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Chevron 4"/>
          <p:cNvSpPr/>
          <p:nvPr/>
        </p:nvSpPr>
        <p:spPr>
          <a:xfrm>
            <a:off x="3059280" y="1341360"/>
            <a:ext cx="2952720" cy="935280"/>
          </a:xfrm>
          <a:custGeom>
            <a:avLst/>
            <a:gdLst>
              <a:gd name="textAreaLeft" fmla="*/ 0 w 2952720"/>
              <a:gd name="textAreaRight" fmla="*/ 2953080 w 2952720"/>
              <a:gd name="textAreaTop" fmla="*/ 0 h 935280"/>
              <a:gd name="textAreaBottom" fmla="*/ 935640 h 9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76" y="0"/>
                </a:lnTo>
                <a:lnTo>
                  <a:pt x="21600" y="10800"/>
                </a:lnTo>
                <a:lnTo>
                  <a:pt x="18176" y="21600"/>
                </a:lnTo>
                <a:lnTo>
                  <a:pt x="0" y="21600"/>
                </a:lnTo>
                <a:lnTo>
                  <a:pt x="3424" y="108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0000"/>
                </a:solidFill>
                <a:latin typeface="Arial"/>
              </a:rPr>
              <a:t>Ausência dos batimentos Cardía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hevron 5"/>
          <p:cNvSpPr/>
          <p:nvPr/>
        </p:nvSpPr>
        <p:spPr>
          <a:xfrm>
            <a:off x="5724360" y="1341360"/>
            <a:ext cx="2951280" cy="935280"/>
          </a:xfrm>
          <a:custGeom>
            <a:avLst/>
            <a:gdLst>
              <a:gd name="textAreaLeft" fmla="*/ 0 w 2951280"/>
              <a:gd name="textAreaRight" fmla="*/ 2951640 w 2951280"/>
              <a:gd name="textAreaTop" fmla="*/ 0 h 935280"/>
              <a:gd name="textAreaBottom" fmla="*/ 935640 h 9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76" y="0"/>
                </a:lnTo>
                <a:lnTo>
                  <a:pt x="21600" y="10800"/>
                </a:lnTo>
                <a:lnTo>
                  <a:pt x="18176" y="21600"/>
                </a:lnTo>
                <a:lnTo>
                  <a:pt x="0" y="21600"/>
                </a:lnTo>
                <a:lnTo>
                  <a:pt x="3424" y="108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0000"/>
                </a:solidFill>
                <a:latin typeface="Arial"/>
              </a:rPr>
              <a:t>Ausência da respir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826920" y="2276640"/>
            <a:ext cx="756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0000"/>
                </a:solidFill>
                <a:latin typeface="Arial"/>
              </a:rPr>
              <a:t>Impossibilidade da oxigenação dos órgãos vit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Sinais e sintomas de PC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6840" y="1341000"/>
            <a:ext cx="425916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66"/>
                </a:solidFill>
                <a:latin typeface="Arial"/>
              </a:rPr>
              <a:t>Dificuldade respiratória </a:t>
            </a:r>
            <a:r>
              <a:rPr b="1" lang="pt-BR" sz="25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pt-BR" sz="2500" spc="-1" strike="noStrike">
                <a:solidFill>
                  <a:srgbClr val="000066"/>
                </a:solidFill>
                <a:latin typeface="Arial"/>
              </a:rPr>
              <a:t> Paragem respiratória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66"/>
                </a:solidFill>
                <a:latin typeface="Arial"/>
              </a:rPr>
              <a:t>Ausência de pulso;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000066"/>
                </a:solidFill>
                <a:latin typeface="Arial"/>
              </a:rPr>
              <a:t>Perda de consciência;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66"/>
                </a:solidFill>
                <a:latin typeface="Arial"/>
              </a:rPr>
              <a:t>Imobilidade;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66"/>
                </a:solidFill>
                <a:latin typeface="Arial"/>
              </a:rPr>
              <a:t>Palidez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66"/>
                </a:solidFill>
                <a:latin typeface="Arial"/>
              </a:rPr>
              <a:t>Cianose de extremidades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66"/>
                </a:solidFill>
                <a:latin typeface="Arial"/>
              </a:rPr>
              <a:t>Midríase.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7" name="Picture 2" descr="http://2.bp.blogspot.com/-LolAgJXegv4/TbrJw7CKuYI/AAAAAAAAAXE/Cp98ku4Rec8/s320/MwKBT0sF_desfibrilador1.jpg"/>
          <p:cNvPicPr/>
          <p:nvPr/>
        </p:nvPicPr>
        <p:blipFill>
          <a:blip r:embed="rId1"/>
          <a:stretch/>
        </p:blipFill>
        <p:spPr>
          <a:xfrm>
            <a:off x="4932360" y="3357720"/>
            <a:ext cx="3768840" cy="2825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http://t0.gstatic.com/images?q=tbn:ANd9GcQhz-JhCsYgtpMVGtV1GngxBnqk_POh2jAiPb-ScizqAkIXJP_jsA"/>
          <p:cNvPicPr/>
          <p:nvPr/>
        </p:nvPicPr>
        <p:blipFill>
          <a:blip r:embed="rId2"/>
          <a:stretch/>
        </p:blipFill>
        <p:spPr>
          <a:xfrm>
            <a:off x="4562640" y="1341360"/>
            <a:ext cx="2746080" cy="1943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http://t3.gstatic.com/images?q=tbn:ANd9GcSDnp4Hx4Xax-GaSwMF6Jw1dZiEQrwqAS3CwGfJSyv8cBNQg8fWTg&amp;t=1"/>
          <p:cNvPicPr/>
          <p:nvPr/>
        </p:nvPicPr>
        <p:blipFill>
          <a:blip r:embed="rId3"/>
          <a:stretch/>
        </p:blipFill>
        <p:spPr>
          <a:xfrm>
            <a:off x="6515280" y="1341360"/>
            <a:ext cx="2628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Material para RC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6840" y="980640"/>
            <a:ext cx="52671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66"/>
                </a:solidFill>
                <a:latin typeface="Arial"/>
              </a:rPr>
              <a:t>Na Sala de Emergência: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Tábua de massagem cardíaca,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Medicamentos de atendimento de paragem cardíaca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Material de entubação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Sondas de aspiração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Ambu e máscara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Soluções endovenosa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Seringas + agulha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Equipos de solução venosa e sangue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Aparelho de desfibrilação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Balao de oxigenio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6012000" y="1096920"/>
            <a:ext cx="2089080" cy="2979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2"/>
          <a:stretch/>
        </p:blipFill>
        <p:spPr>
          <a:xfrm>
            <a:off x="5991120" y="4191120"/>
            <a:ext cx="2252880" cy="19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Ressuscitação Cardiorrespiratór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00000"/>
                </a:solidFill>
                <a:latin typeface="Arial"/>
              </a:rPr>
              <a:t>Conceit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É um conjunto de manobras destinadas a garantir a oxigenacao dos órgãos quando a circulação do sangue de uma pessoa para paragem cardiorrespiratori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Objectiv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Consiste na manutencao da via respiratoria pervia, fornecimento de ventilacao artificial por medidas de urgencia para respiracao e producao de circulacao artificial pela massagem cardiaca extern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ETAPAS DE RC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A- Vias aereas(Airway)- 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manter as vias aereas permeavei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B- Respiracao (Breathing)-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preservar a respiracao ( respiracao boca-boca, boca-mascara, ventilacao artificial)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- Circulacao (Circulation)-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garantir a distribuicao de nutrientes e oxigenio as celulas (pressao intratoraxica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dimento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6840" y="1142640"/>
            <a:ext cx="83818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A RCP inicia-se com os cuidados para a desobstrução das vias aéreas mediante a retirada de próteses, corpos estranhos e secreções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A seguir, são realizados os procedimentos de abertura das vias aéreas superiores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No caso de o utente não apresentar trauma, devemos hiperextender seu pescoço colocando uma das mãos sob sua nuca, levantando-a ligeiramente; com a outra mão posicionada sobre sua testa, traciona-se a cabeça para trás; ou pode-se colocar um coxim sob seus ombros, de forma a provocar a </a:t>
            </a:r>
            <a:r>
              <a:rPr b="0" lang="pt-PT" sz="2600" spc="-1" strike="noStrike">
                <a:solidFill>
                  <a:srgbClr val="c00000"/>
                </a:solidFill>
                <a:latin typeface="Arial"/>
              </a:rPr>
              <a:t>hiperextensão desejada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etenc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No final do modulo o estudante tera adiquirido as seguintes competencias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Diferenciar emergencia de urgenci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tender o paciente e familia de forma humanizada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Identificar os sinais e sintomas das patologias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Seleccionar o material e EPI necessario para execussao das tecnicas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Executar os procedimentos correctamente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Registar corretamente no processo do pacient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assos da RC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755640" y="2494080"/>
            <a:ext cx="2457360" cy="2736720"/>
          </a:xfrm>
          <a:prstGeom prst="rect">
            <a:avLst/>
          </a:prstGeom>
          <a:ln w="0">
            <a:noFill/>
          </a:ln>
        </p:spPr>
      </p:pic>
      <p:sp>
        <p:nvSpPr>
          <p:cNvPr id="152" name="TextBox 4"/>
          <p:cNvSpPr/>
          <p:nvPr/>
        </p:nvSpPr>
        <p:spPr>
          <a:xfrm>
            <a:off x="395280" y="5230800"/>
            <a:ext cx="28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c00000"/>
                </a:solidFill>
                <a:latin typeface="Arial"/>
              </a:rPr>
              <a:t>1. </a:t>
            </a:r>
            <a:r>
              <a:rPr b="1" lang="pt-PT" sz="2200" spc="-1" strike="noStrike">
                <a:solidFill>
                  <a:srgbClr val="002060"/>
                </a:solidFill>
                <a:latin typeface="Arial"/>
              </a:rPr>
              <a:t>Avaliação da víti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2"/>
          <a:stretch/>
        </p:blipFill>
        <p:spPr>
          <a:xfrm>
            <a:off x="4788000" y="1052640"/>
            <a:ext cx="3960720" cy="443844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8"/>
          <p:cNvSpPr/>
          <p:nvPr/>
        </p:nvSpPr>
        <p:spPr>
          <a:xfrm>
            <a:off x="2124000" y="10540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c00000"/>
                </a:solidFill>
                <a:latin typeface="Arial"/>
              </a:rPr>
              <a:t>2. </a:t>
            </a:r>
            <a:r>
              <a:rPr b="1" lang="pt-PT" sz="1800" spc="-1" strike="noStrike">
                <a:solidFill>
                  <a:srgbClr val="00007d"/>
                </a:solidFill>
                <a:latin typeface="Arial"/>
              </a:rPr>
              <a:t>Obstrucao</a:t>
            </a:r>
            <a:r>
              <a:rPr b="1" lang="pt-PT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pt-PT" sz="1800" spc="-1" strike="noStrike">
                <a:solidFill>
                  <a:srgbClr val="002060"/>
                </a:solidFill>
                <a:latin typeface="Arial"/>
              </a:rPr>
              <a:t>da via aé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2060"/>
                </a:solidFill>
                <a:latin typeface="Arial"/>
              </a:rPr>
              <a:t>pela língua e epigl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4788000" y="5445000"/>
            <a:ext cx="39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c00000"/>
                </a:solidFill>
                <a:uFillTx/>
                <a:latin typeface="Arial"/>
              </a:rPr>
              <a:t>3</a:t>
            </a:r>
            <a:r>
              <a:rPr b="1" lang="pt-BR" sz="1800" spc="-1" strike="noStrike" u="sng">
                <a:solidFill>
                  <a:srgbClr val="002060"/>
                </a:solidFill>
                <a:uFillTx/>
                <a:latin typeface="Arial"/>
              </a:rPr>
              <a:t>. Abertura da via aérea </a:t>
            </a:r>
            <a:r>
              <a:rPr b="1" lang="pt-BR" sz="1800" spc="-1" strike="noStrike">
                <a:solidFill>
                  <a:srgbClr val="002060"/>
                </a:solidFill>
                <a:latin typeface="Arial"/>
              </a:rPr>
              <a:t>- o alívio 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2060"/>
                </a:solidFill>
                <a:latin typeface="Arial"/>
              </a:rPr>
              <a:t>obstrução se dá pela inclinação 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2060"/>
                </a:solidFill>
                <a:latin typeface="Arial"/>
              </a:rPr>
              <a:t>cabeça e elevação do queix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assos da RC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7" descr=""/>
          <p:cNvPicPr/>
          <p:nvPr/>
        </p:nvPicPr>
        <p:blipFill>
          <a:blip r:embed="rId1"/>
          <a:stretch/>
        </p:blipFill>
        <p:spPr>
          <a:xfrm>
            <a:off x="4516560" y="1197000"/>
            <a:ext cx="4303440" cy="47466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"/>
          <p:cNvPicPr/>
          <p:nvPr/>
        </p:nvPicPr>
        <p:blipFill>
          <a:blip r:embed="rId2"/>
          <a:stretch/>
        </p:blipFill>
        <p:spPr>
          <a:xfrm>
            <a:off x="611280" y="1268280"/>
            <a:ext cx="3382920" cy="2521080"/>
          </a:xfrm>
          <a:prstGeom prst="rect">
            <a:avLst/>
          </a:prstGeom>
          <a:ln w="0">
            <a:noFill/>
          </a:ln>
        </p:spPr>
      </p:pic>
      <p:sp>
        <p:nvSpPr>
          <p:cNvPr id="159" name="TextBox 5"/>
          <p:cNvSpPr/>
          <p:nvPr/>
        </p:nvSpPr>
        <p:spPr>
          <a:xfrm>
            <a:off x="1042920" y="4292640"/>
            <a:ext cx="288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c00000"/>
                </a:solidFill>
                <a:latin typeface="Arial"/>
              </a:rPr>
              <a:t>4. </a:t>
            </a:r>
            <a:r>
              <a:rPr b="1" lang="pt-PT" sz="2200" spc="-1" strike="noStrike">
                <a:solidFill>
                  <a:srgbClr val="002060"/>
                </a:solidFill>
                <a:latin typeface="Arial"/>
              </a:rPr>
              <a:t>Ventilação artifi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2060"/>
                </a:solidFill>
                <a:latin typeface="Arial"/>
              </a:rPr>
              <a:t>2 insuflaçõ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assos da RC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468360" y="1066680"/>
            <a:ext cx="4032360" cy="1576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"/>
          <p:cNvPicPr/>
          <p:nvPr/>
        </p:nvPicPr>
        <p:blipFill>
          <a:blip r:embed="rId2"/>
          <a:stretch/>
        </p:blipFill>
        <p:spPr>
          <a:xfrm>
            <a:off x="3348000" y="2733840"/>
            <a:ext cx="5516640" cy="349236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5"/>
          <p:cNvSpPr/>
          <p:nvPr/>
        </p:nvSpPr>
        <p:spPr>
          <a:xfrm>
            <a:off x="4500720" y="1413000"/>
            <a:ext cx="4392360" cy="16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c00000"/>
                </a:solidFill>
                <a:latin typeface="Arial"/>
              </a:rPr>
              <a:t>5. </a:t>
            </a: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A relação insuflação:compress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2:15  - Adul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1:5 - Crianç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Manobras RCP em crianç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928800" y="1628640"/>
            <a:ext cx="787860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OBSTRUCAO DAS VIAS AEREAS SUPERIORE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STRUCAO DAS VIAS AEREA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E uma emergencia medica que pode estar ocluida de maneira parcial completa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Sinais e sintomas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Sufocacao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Aparencia apreensiva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Estridor expiratorio e inspiratorio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Uso da musculatura acessoria (retracao supra esternal e intercostal)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Batimento de asas de nariz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Ansiedade crescente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Inquietacao e confusao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752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TAMENTO/CUIDADOS DE ENFERMAG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Manobra de inclinacao da cabeca e levantamento do queixo-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faz-se com o paciente em decubito dorsal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Manobra de golpe mandibular-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sao levantados os angulos da mandibula inferior do paciente e desloca-se a mandibula para diant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Insercao da via aerea orofaringea-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inserido sobre a parte posterior da lingua dentro da faringe posterior inferior em paciente que respira de maneira expontane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Intubacao endotraqueal-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nsiste em estabelecer e manter a via aerea nos pacientes com insuficiencia respiratoria ou hipoxi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poio psicologico ao paciente e famili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HEMORRAGIA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MORRAG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onceit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É a saída de sangue do espaço intravascular (vasos e coração) para o compartimento extravascular ou para fora do organismo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Tipo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 hemorragia pode ser interna ou extern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75920" y="1285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URGENCIAS E EMERGENCIAS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MEDICO- CIRURGICA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MORRAGIA INTERN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Box 3"/>
          <p:cNvSpPr/>
          <p:nvPr/>
        </p:nvSpPr>
        <p:spPr>
          <a:xfrm>
            <a:off x="1332000" y="2276640"/>
            <a:ext cx="2303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4"/>
          <p:cNvSpPr/>
          <p:nvPr/>
        </p:nvSpPr>
        <p:spPr>
          <a:xfrm>
            <a:off x="826920" y="1916280"/>
            <a:ext cx="3816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Alteração do nível de consciência 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Agressividade ou passividad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Tremores e arrepios do corpo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Pulso rápido e fraco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Respiração rápida e artificial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Pele pálida, fria e úmida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Sudorese;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Pupilas dilatad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6"/>
          <p:cNvSpPr/>
          <p:nvPr/>
        </p:nvSpPr>
        <p:spPr>
          <a:xfrm>
            <a:off x="5435640" y="1989000"/>
            <a:ext cx="331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c00000"/>
                </a:solidFill>
                <a:latin typeface="Arial"/>
              </a:rPr>
              <a:t>Fraqueza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c00000"/>
                </a:solidFill>
                <a:latin typeface="Arial"/>
              </a:rPr>
              <a:t>Sed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c00000"/>
                </a:solidFill>
                <a:latin typeface="Arial"/>
              </a:rPr>
              <a:t>Frio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c00000"/>
                </a:solidFill>
                <a:latin typeface="Arial"/>
              </a:rPr>
              <a:t>Ansiedade ou indiferença</a:t>
            </a:r>
            <a:r>
              <a:rPr b="0" i="1" lang="pt-BR" sz="18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7"/>
          <p:cNvSpPr/>
          <p:nvPr/>
        </p:nvSpPr>
        <p:spPr>
          <a:xfrm>
            <a:off x="1042920" y="1268280"/>
            <a:ext cx="266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SIN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8"/>
          <p:cNvSpPr/>
          <p:nvPr/>
        </p:nvSpPr>
        <p:spPr>
          <a:xfrm>
            <a:off x="5724360" y="1268280"/>
            <a:ext cx="194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SINTOM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MORRAGIA EXTERN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Box 4"/>
          <p:cNvSpPr/>
          <p:nvPr/>
        </p:nvSpPr>
        <p:spPr>
          <a:xfrm>
            <a:off x="755640" y="13413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AR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5"/>
          <p:cNvSpPr/>
          <p:nvPr/>
        </p:nvSpPr>
        <p:spPr>
          <a:xfrm>
            <a:off x="3708360" y="134136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VENO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7"/>
          <p:cNvSpPr/>
          <p:nvPr/>
        </p:nvSpPr>
        <p:spPr>
          <a:xfrm>
            <a:off x="6372360" y="134136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CAPI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8"/>
          <p:cNvSpPr/>
          <p:nvPr/>
        </p:nvSpPr>
        <p:spPr>
          <a:xfrm>
            <a:off x="755640" y="2133720"/>
            <a:ext cx="2448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Sangue é vermelho viv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Rico em oxigêni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Perda é pulsátil, obedecendo às contrações sistólicas do coração. </a:t>
            </a:r>
            <a:r>
              <a:rPr b="1" i="1" lang="pt-BR" sz="2400" spc="-1" strike="noStrike">
                <a:solidFill>
                  <a:srgbClr val="c00000"/>
                </a:solidFill>
                <a:latin typeface="Arial"/>
              </a:rPr>
              <a:t>É mais gr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9"/>
          <p:cNvSpPr/>
          <p:nvPr/>
        </p:nvSpPr>
        <p:spPr>
          <a:xfrm>
            <a:off x="3635280" y="2276640"/>
            <a:ext cx="2160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Vermelho esc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Pobre em oxige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Perda continua e com pouca pressao. </a:t>
            </a:r>
            <a:r>
              <a:rPr b="1" i="1" lang="en-US" sz="2400" spc="-1" strike="noStrike">
                <a:solidFill>
                  <a:srgbClr val="c00000"/>
                </a:solidFill>
                <a:latin typeface="Arial"/>
              </a:rPr>
              <a:t>Menos grave que a ar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5"/>
          <p:cNvSpPr/>
          <p:nvPr/>
        </p:nvSpPr>
        <p:spPr>
          <a:xfrm>
            <a:off x="6659640" y="2421000"/>
            <a:ext cx="2305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Pequenas perdas de sangue, em vasos de pequeno calibre que recobrem a superfície do corpo. </a:t>
            </a:r>
            <a:r>
              <a:rPr b="1" i="1" lang="pt-BR" sz="2400" spc="-1" strike="noStrike">
                <a:solidFill>
                  <a:srgbClr val="c00000"/>
                </a:solidFill>
                <a:latin typeface="Arial"/>
              </a:rPr>
              <a:t>Sao as menos gr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SEQUENCIA E COMPLICACO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1. Choque hipovolêmico: perda rápida de grande quantidade de sangue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 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2. Anemia : sangramento crônico e repetido (ex : úlcera gástrica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 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3. Asfixia : quando há hemorragia pulmonar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  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4. Tamponamento cardíaco : especialmente por ruptura ventricular (infarto agudo do miocárdio).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  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5. Hemorragia intracraniana: o sangramento pode causar destruição do tecido nervoso e compressão dos vasos adjacentes, causando isquemi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s hemorragias pequenas em locais vitais podem ser fatais.Por exemplo: a ocorrência de um hemorragia no espaço subaracnóide pode causar vasoconstrição arterial prolongada, que por sua vez pode causar infarto do tecido nervoso e a morte do paciente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IDADOS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pt-BR" sz="2200" spc="-1" strike="noStrike">
                <a:solidFill>
                  <a:srgbClr val="c00000"/>
                </a:solidFill>
                <a:latin typeface="Arial"/>
              </a:rPr>
              <a:t>Hemorragia Interna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c00000"/>
                </a:solidFill>
                <a:latin typeface="Arial"/>
              </a:rPr>
              <a:t>Deitar o acidentado e elevar os membros inferiores.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c00000"/>
                </a:solidFill>
                <a:latin typeface="Arial"/>
              </a:rPr>
              <a:t>Prevenir o estado de choque.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c00000"/>
                </a:solidFill>
                <a:latin typeface="Arial"/>
              </a:rPr>
              <a:t>Referir a equipe de cirurgia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c00000"/>
                </a:solidFill>
                <a:latin typeface="Arial"/>
              </a:rPr>
              <a:t>Controlar regularmente os parametros hemodinamicos e circulatorios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c00000"/>
                </a:solidFill>
                <a:latin typeface="Arial"/>
              </a:rPr>
              <a:t>Hemorragia Externa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c00000"/>
                </a:solidFill>
                <a:latin typeface="Arial"/>
              </a:rPr>
              <a:t>Deitar a vítima; o repouso da parte ferida ajuda a formação de um coágulo.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c00000"/>
                </a:solidFill>
                <a:latin typeface="Arial"/>
              </a:rPr>
              <a:t>Se o ferimento estiver coberto pela roupa, descobri-lo (evitar, porém, o resfriamento do acidentado).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c00000"/>
                </a:solidFill>
                <a:latin typeface="Arial"/>
              </a:rPr>
              <a:t>Deter a hemorragia.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c00000"/>
                </a:solidFill>
                <a:latin typeface="Arial"/>
              </a:rPr>
              <a:t>Evitar o estado de choque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CNICAS PARA ESTANCAR HEMORRAG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Elevacao da regiao acidentada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Tamponament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mpressao arterial ( directa e indirecta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Torniquete ( como ultima tentativa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HOQU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OQU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onceit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É uma crise aguda de insuficiência cardiovascular, ou seja, o coracao e vasos não são capazes de irrigar todos os tecidos do corpo com oxigenio suficiente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POS DE CHOQU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Hipovolemico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( hemorragia grave, desidratacao)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Septico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(bacterias que produzem endotoxina que causa vasodilatacao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ardiogenico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( falencia do coracao em manter pressao sanguinea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Anafilatico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(causada por alergeno derivado dedrogas, mordedura ou picadas de insectos, medicamentos, alimentos, derivados de sangue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oque hipovolemico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6840" y="1142640"/>
            <a:ext cx="838188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00000"/>
                </a:solidFill>
                <a:latin typeface="Arial"/>
              </a:rPr>
              <a:t>Quadro clinic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04000" indent="-504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Taquicardia, Hipotensão, Sede, Oliguria,  Alterações de comportamento, Taquipnei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04000" indent="-504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04000" indent="-504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Cuidados de enfermage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04000" indent="-5040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Controle rigoroso da Tensao Arterial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04000" indent="-5040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Reposição dos volumes dos líquidos perdidos:  - SF a 0,9% e Ringer Lactat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04000" indent="-5040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Preparo do paciente para cirurgia em caso de hemorragia persistente,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04000" indent="-5040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Administração de anti-hemorrágicas prescrito pelo médic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04000" indent="-5040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Controle e vigilância constantes no pacient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RGENCIAS E EMERGENC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Urgências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são todas as situações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línicas de instalação súbita,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desde as não graves até às graves,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m risco de estabelecimento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de falência de funções vitai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• </a:t>
            </a: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Emergências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são todas as situações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línicas de estabelecimento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súbito, em que existe, estabelecido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ou eminente, o compromisso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de uma ou mais funções vitais. ( Rede de referencia hospitalar, Portugal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OQUE ANAFILATIC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6840" y="1143000"/>
            <a:ext cx="838188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Quadro clinic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Cianose, comichao, perda da consciência, paragem cardiorrespiratoria progressiva, queda repentina da tensao sanguínea, respiração ruidosa, tosse, rubor de fac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00000"/>
                </a:solidFill>
                <a:latin typeface="Arial"/>
              </a:rPr>
              <a:t>Cuidados de enfermage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Colocar o paciente em posição supina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- manter livre as vias aérea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- Monitorar os sinais vitai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- Administrar oxigênio, epenifrina, aminofilina,corticoides injetáveis, segundo a prescrica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- Manter veia canalizada com soluções de cloreto de sódio a 0,9%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Acrescentar outros tipos de choqu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TRAUMATISMO E POLITRAUMATISMO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CEI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Traumatismo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E uma lesao ou ferida mais ou menos estensa, produzida por accao violenta de natureza fisica ou quimica externa ao organism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Politraumatismo: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São lesões múltiplas de diversas naturezas que podem comprometer diversos órgãos e sistema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POS DE TRAUMATISM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ontuso: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ha transferencia de energia em uma superficie corporal externa, nao penetrando a pel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Penetrante-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Ha transferencia de energia em uma area concentrada, com isso ha pouca dispersao de energia provocando laceracao da pel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NAIS E SINTOM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Intensa dor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Pode ter sangramento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Dificuldade em movimentar o local afectado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Se for na cabeca pode ter perda de visao, incosciencia, sangramento nasa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IDADOS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539640" y="1142640"/>
            <a:ext cx="829944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Controle da hemorragia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Punção de veia para reposição das perdas sangüíneas e administração de medicamentos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Sondagem vesical, se prescrita, para avaliação do débito urinário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Controle rigoroso da administração e perda de líquidos, PVC e sinais vitais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Imobilização das fraturas, observando as extremidades (coloração, temperatura e pulso)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Avaliação da ansiedade do paciente, orientando e esclarecendo sobre o seu estado, procedimentos e dúvidas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QUEIMADURAS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eimadur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onceit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Sao lesoes na pele, provocada geralmente pelo calor ou pelo frio, mas que podem tambem ser provocadas pela electricidade, por contacto com certos produtos quimicos, radiacoes, ou ate por fricca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ASSIFICACA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Quanto a profundidad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Quanto a extensa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OS ETICO-LEGA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 relação entre enfermeiro e pacientes  e assentada em bases humanitárias, éticas e legais, garante a melhor relação interpessoal e favorece o correto processo diagnóstico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e terapêutic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Responsabilidade de enfermagem: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ocorre quando o enfermeiro não cumpre a obrigação que tem em relação ao paciente,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ausando-lhe dan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31640" y="188640"/>
            <a:ext cx="7467480" cy="9363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nto a profundida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Queimaduras de 1ºgrau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 pele encontra-se vermelha e dolorida.  Atinge a epiderme. A resposta capilar é normal. Com o tempo, a pele descasca-se mas cura-se espontaneamente depois de 5 a 7 dias. Este estado não requer tratamento. </a:t>
            </a:r>
            <a:br>
              <a:rPr sz="2800"/>
            </a:b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Queimaduras superficiais de 2ºgrau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 pele está inchada, vermelha com bolhas e dolorida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 resposta capilar é normal. Quando as bolhas são abertas, a pele por baixo das bolhas é vermelha e brilhante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Se a queimadura for mantida livre de infecções, a pele cura-se espontaneamente entre 10 a 14 dias. 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6840" y="1143000"/>
            <a:ext cx="6418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Queimaduras profundas de 2ºgrau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 pele está inchada, vermelha, rosada ou pálida. Sente-se a pele grossa e existem bolhas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tinge a derm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 pele não fica branca quando se testa a resposta capilar. As sensações de dor e toque estão reduzidas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 queimadura cura-se deixando uma cicatriz, normalmente, no decurso de três semanas. 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28" name="Picture 2" descr="http://4.bp.blogspot.com/_pMxMXFn7L-4/TOmTpQzbMMI/AAAAAAAARF8/RyNteagoYLU/s1600/queimadura+2%25C2%25BA+grau.jpg"/>
          <p:cNvPicPr/>
          <p:nvPr/>
        </p:nvPicPr>
        <p:blipFill>
          <a:blip r:embed="rId1"/>
          <a:stretch/>
        </p:blipFill>
        <p:spPr>
          <a:xfrm>
            <a:off x="6227640" y="1628640"/>
            <a:ext cx="2808360" cy="25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00876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143000"/>
            <a:ext cx="6275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Queimaduras de 3ºgrau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 pele está branca, castanha ou preta e sec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Não existem bolha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tinge os musculos e os osso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Não existe sensação de toque ou dor. Não existe resposta capilar e por isso não há sinais de circulação de sangue através dos tecido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31" name="Picture 2" descr="http://4.bp.blogspot.com/_pMxMXFn7L-4/TOmUKll0cRI/AAAAAAAARGA/2JDrT2EfK9o/s1600/queimadura+3%25C2%25BA+grau.jpg"/>
          <p:cNvPicPr/>
          <p:nvPr/>
        </p:nvPicPr>
        <p:blipFill>
          <a:blip r:embed="rId1"/>
          <a:stretch/>
        </p:blipFill>
        <p:spPr>
          <a:xfrm>
            <a:off x="6372360" y="1989000"/>
            <a:ext cx="246672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NTO A EXTENSA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Varios metodos sao usados para estimar a area de superficie corporal total (ASCT) lesada por queimadura, entre eles estao: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1. Regra dos noves</a:t>
            </a: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: que designa percentuais em multiplos de nove para as principais superficies corporais. A cabeca e os membros superiores tem a percentagem de 9%, MI 18% cada, Torax e Abdomem 18% cada e orgaos genitais 1%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2.Metodo de Lund e Browder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Divide o corpo em areas pequenas e estima a percentagem da area queimada com a idade do pacient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3. Metodo de palm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Este metodo usa a palma do paciente para medir a percentagem da zona queimada, a palma e de 1%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gra dos nov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Picture 2" descr="http://3.bp.blogspot.com/_pMxMXFn7L-4/TOh2CJOmIsI/AAAAAAAARF4/-ok1NmwRlyA/s1600/queimaduras.jpg"/>
          <p:cNvPicPr/>
          <p:nvPr/>
        </p:nvPicPr>
        <p:blipFill>
          <a:blip r:embed="rId1"/>
          <a:stretch/>
        </p:blipFill>
        <p:spPr>
          <a:xfrm>
            <a:off x="1835280" y="1052640"/>
            <a:ext cx="5184720" cy="40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LICACO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Infeccoes da pel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Queloide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ntratura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Perda de grande quantidade de liquido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24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UIDADOS DE ENFERMAGEM DE EMERGENCIA</a:t>
            </a:r>
            <a:br>
              <a:rPr sz="3000"/>
            </a:b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68360" y="1143000"/>
            <a:ext cx="8370720" cy="54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analizar veia e administrar muitos fluidos EV segundo a prescricao medica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Incentivar o paciente a beber muito liquido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Sonda vesical para medicao de diures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dministrar analgesicos segundo a prescrica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ntrolar os SV regularment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dministrar VAT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UIDADOS DE ENFERMAGEM TARDIO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Fazer penso com sulfadiazina de prat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Exercicio de fisioterapia para impedir atrofia muscular e mobilidad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Educacao ao paciente e famili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39640" y="83664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Responsabilidade de enfermagem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O enfermeiro nao deve ser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Negligente, imprudente e </a:t>
            </a:r>
            <a:r>
              <a:rPr b="0" lang="pt-BR" sz="2800" spc="-1" strike="noStrike" u="sng">
                <a:solidFill>
                  <a:srgbClr val="c00000"/>
                </a:solidFill>
                <a:uFillTx/>
                <a:latin typeface="Arial"/>
              </a:rPr>
              <a:t>impericia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pt-BR" sz="2800" spc="-1" strike="noStrike" u="sng">
                <a:solidFill>
                  <a:srgbClr val="c00000"/>
                </a:solidFill>
                <a:uFillTx/>
                <a:latin typeface="Arial"/>
              </a:rPr>
              <a:t>impiric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1. Negligente-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nstitui a omissão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ou a não observância de determinados deveres por parte do enfermeiro. Exemplo: procedimentos vitai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2. Imprudente-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nstitui a omissão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de cautela, precipitação ou audácia do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to médico. Exemplo: utilizacao de tecnica de penso nao adequad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66"/>
                </a:solidFill>
                <a:latin typeface="Arial"/>
              </a:rPr>
              <a:t>INTOXICACAO EXOGENA</a:t>
            </a:r>
            <a:endParaRPr b="1" lang="en-US" sz="4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OXICACAO EXOGEN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00000"/>
                </a:solidFill>
                <a:latin typeface="Arial"/>
              </a:rPr>
              <a:t>Intoxicação </a:t>
            </a: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é uma condição seguida da administração de substâncias psicoativas e resultante em distúrbios no nível de consciência, congnição, percepção, julgamento, afeto ou comportamento, ou outra resposta ou função psicofisiológic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00000"/>
                </a:solidFill>
                <a:latin typeface="Arial"/>
              </a:rPr>
              <a:t>Intoxicacao exogena</a:t>
            </a: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: pode ser definida como consequencia clinica e ou bioquimicas, da exposicao a substancias quimicas encontradas no ambiente isolado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ias de intoxicaca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Ingesta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Inalaca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ntaminacao cutane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Produtos alimentare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Insecticidas (organofosforados e carbamatos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Por salicilato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Por animais venenosos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dro clinic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Box 4"/>
          <p:cNvSpPr/>
          <p:nvPr/>
        </p:nvSpPr>
        <p:spPr>
          <a:xfrm>
            <a:off x="324000" y="1341360"/>
            <a:ext cx="25192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SINTOMAS E SINAIS DIGESTIV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- Vómi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- Diarre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- Hemorragias digestivas  - Acção directa do tóx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3132000" y="1413000"/>
            <a:ext cx="5688000" cy="47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SINTOMAS E SINAIS RESPIRATÓ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-Obstrução das vias aére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-Paralisia muscula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-Depressão do centro respirató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-Interferência com a hemoglobina e normal transporte de oxigén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-Diminuição da pressão arter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-Interferência com os sistemas enzimáticos celulares que têm a cargo a utilização do oxigénio pela célul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- Edema pulmonar agudo – inalação de gases e aspiração de liqui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Box 3"/>
          <p:cNvSpPr/>
          <p:nvPr/>
        </p:nvSpPr>
        <p:spPr>
          <a:xfrm>
            <a:off x="324000" y="1413000"/>
            <a:ext cx="2736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SINTOMAS E SINAIS REN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- Oligú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- Insuficiência renal agu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4"/>
          <p:cNvSpPr/>
          <p:nvPr/>
        </p:nvSpPr>
        <p:spPr>
          <a:xfrm>
            <a:off x="2987640" y="1413000"/>
            <a:ext cx="2952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SINTOMAS E SINAIS NEUROLÓG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- Convulsões – A morte ocorre por espasmos dos músculos respiratórios ou depressão respiratória após convuls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Co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Pupila    midríase            Mi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5"/>
          <p:cNvSpPr/>
          <p:nvPr/>
        </p:nvSpPr>
        <p:spPr>
          <a:xfrm>
            <a:off x="179280" y="3500280"/>
            <a:ext cx="2808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SINTOMAS E SINAIS CARDIOVASCUL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- A lesão do miocárdio por tóxicos é ra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- A taquicardia é um sinal frequ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6"/>
          <p:cNvSpPr/>
          <p:nvPr/>
        </p:nvSpPr>
        <p:spPr>
          <a:xfrm>
            <a:off x="5940360" y="1413000"/>
            <a:ext cx="30258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SINTOMAS E SINAIS HEMATOLÓG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- Reacções hemolític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  </a:t>
            </a: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Anemia, Febre,  Vómitos / naúseas,  Dor abdom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- Discrasias sanguín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 </a:t>
            </a: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-Agranulocit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    </a:t>
            </a: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Anemia, Leucopenia e Trombocitope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didas Gera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Avaliar os sinais vitais e mantê-los em parâmetros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adequados,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Lavagem gastric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Carvao activado, apos a lavagem gastrica: consiste na absorsao de compostos presentes no intestino e os ja absorvid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Laxativos: manitol a 20% 150 a 200ml de 8/8h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FALTA OS SINAIS E SINTOMAS DE OUTRAS INTOXICACOE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MORDEDURAS E PICADA POR ANIMAI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RDEDURAS E PICAD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nceit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Refere se accao ou efeito de morder, dentada ou picada como consequencia duma accao animal ou human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É o padrão de encaixe dos dentes inferiores aos superiores na arcada dentária.</a:t>
            </a:r>
            <a:br>
              <a:rPr sz="2800"/>
            </a:br>
            <a:br>
              <a:rPr sz="2800"/>
            </a:b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PO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143000"/>
            <a:ext cx="4043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As mordeduras  mais frequentes sao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ae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Gato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bra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Roedore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nimais ferroze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Humana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4" name="TextBox 3"/>
          <p:cNvSpPr/>
          <p:nvPr/>
        </p:nvSpPr>
        <p:spPr>
          <a:xfrm>
            <a:off x="5003640" y="1125360"/>
            <a:ext cx="367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As picadas mais frequentes sa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belh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Vesp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Formi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Mosqui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Mos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Peixes veneno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EQUENCIAS DE MORDEDURA E PICAD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23640" y="141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Raiv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Veneno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Hemorragia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Infecção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Perda de tecido, em ferimentos desfigurantes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Tétano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Reacções alérgicas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3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Arial"/>
              </a:rPr>
              <a:t>. Impericia-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nstitui a inaptidão,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ignorância, falta de destreza ou insuficiência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de conhecimento técnico por parte do enfermeiro.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Exemplo: introdução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de alimentação no trato respiratório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través de sonda mal posicionad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24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IDADOS NA MORDEDURA ANIM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Desinfectar o local da mordedura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Se a ferida estiver inchada, aplicar gelo embrulhado num pano limpo por 10 minutos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Informar-se se o cão está correctamente vacinado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Providencie que a vítima receba a vacina do tétano, se não a tiver tomad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Nunca se deve suturar a ferid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IDADOS NA MORDEDURA HUMAN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Lavar o ferimento com água e sabão pelo menos durante 5 minutos, mas sem esfregar com força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Desinfectar o local da mordedura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Cobrir o ferimento com compressa esterilizada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Se estiver inchada colocar gelo</a:t>
            </a:r>
            <a:r>
              <a:rPr b="1" lang="pt-PT" sz="2800" spc="-1" strike="noStrike">
                <a:solidFill>
                  <a:srgbClr val="c00000"/>
                </a:solidFill>
                <a:latin typeface="Arial"/>
              </a:rPr>
              <a:t>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IDADOS NA PICA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Não retire os ferrões com pinças nem os esprema. Raspe o local com lâmina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Desinfectar com álcool ou outro anti-séptico (Betadine dérmico)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Aplicar gelo localmente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DESMAIO/SINCOP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MAI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onceit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E a perda subita e transitoria de consciencia e consequentemente da postura, devido a isquemia cerebral transitoria ( reducao na irrigacao do sangue para o cerebro)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ausa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Hipoglicemia,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Factor emocional,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Dor extrema,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mbiente confinado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SINAIS E SINTOM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Tontur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Sensação de mal estar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Pulso rápido e frac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Respiração presente de ritmos variado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Tremor nas sobrancelha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Pele fria, pálida e húmid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Inconsciência superficial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IDADOS A PRESTA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Arejar o ambiente, ou transportar a vítima para um local com melhor ventilação.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Elevar os membros inferiores, com uma mochila, roupas, etc. com isso, o sangue circula em maior quantidade no cérebro e nos órgãos nobres.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Virar a cabeça para o lado, evitando que a vítima venha a vomitar e possa se asfixiar.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Afrouxar a roupa, para uma melhor circulação.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Após o desmaio ter passado, não dê água imediatamente, para evitar que a vítima se afogue, pois ainda não está com seus reflexos recuperados totalmente.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O mesmo em relação a deixá-la caminhar sozinha imediatamente após o desmaio. Faça-a sentar e respirar fundo, após auxilie-a a dar uma volta, respirando fundo e devagar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Com isso, o organismo se readapta a posição vertical e evita que ela possa desmaiar novamente, o que pode ocorrer se ela levantar bruscamente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pós esses procedimentos, pode dar água a vítim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CONVULSOES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Convulsão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6840" y="1142640"/>
            <a:ext cx="8381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Perda súbita da consciência acompanhada de contrações musculares bruscas e involuntárias, conhecida popularmente como “ataque”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pt-BR" sz="2600" spc="-1" strike="noStrike">
                <a:solidFill>
                  <a:srgbClr val="c00000"/>
                </a:solidFill>
                <a:latin typeface="Arial"/>
              </a:rPr>
              <a:t>Causas variadas: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Epilepsia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Febre alta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Traumatismo craniano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Infecções do cérebro, HIV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Malária, raiva, sífilis, tétano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Fluxo sangüíneo inadequado para o cérebro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Hipertensão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Hemorragia intracraniana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SABILIDADE DO PACIEN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Fidelidade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nfidencialidade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Veracidade das informações prestada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SINAIS E SINTOM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Inconsciênci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Queda abrupta da vitim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Salivação abundante e vômit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Contração brusca e involuntária dos músculo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Enrijecimento da mandíbula, travando os dente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Relaxamento dos esfíncteres (urina e/ou fezes soltas)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Esqueciment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ASSIFICACA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6840" y="1143000"/>
            <a:ext cx="838188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c00000"/>
                </a:solidFill>
                <a:latin typeface="Arial"/>
              </a:rPr>
              <a:t>Convulsões Generalizadas </a:t>
            </a: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- ocorrem em qualquer idade, em qualquer momento. O intervalo entre as crises varia bastante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c00000"/>
                </a:solidFill>
                <a:latin typeface="Arial"/>
              </a:rPr>
              <a:t>Convulsão generalizada aguda </a:t>
            </a: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- caracterizado por perda da consciência e contrações musculares involuntárias tônico-clônicas generalizadas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c00000"/>
                </a:solidFill>
                <a:latin typeface="Arial"/>
              </a:rPr>
              <a:t>Convulsões de grande mal </a:t>
            </a: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(motoras principais) - convulsões contínuas persistentes ou episódios graves consecutivos sem a restauração da consciência.  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IDADOS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6840" y="1142640"/>
            <a:ext cx="8381880" cy="55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a) Proteger o paciente evitar que o paciente se bata nos objetos que o rodeiam,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b) Colocar o paciente em decúbito lateral para evitar bronco-aspiração,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c) Proteger a boca e isolar as vias respiratórias, e colocar uma compressa dobrada entre os dente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d) Administrar oxigêni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e) Controlar os movimentos do paciente, segurando-o com cuidad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f) Aplicar tratamento farmacológico de acordo com o prescrito. O fármaco mais usado durante a crise é o diazepam EV lento,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h) Quando o paciente despertar, reoriente-o quanto ao ambient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66"/>
                </a:solidFill>
                <a:latin typeface="Arial"/>
              </a:rPr>
              <a:t>INSOLACAO</a:t>
            </a:r>
            <a:endParaRPr b="1" lang="en-US" sz="4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SOLACA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onceit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E o conjunto de sintomas que acometem uma pessoa exposta demasiadamente ao sol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aus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contece quando o organismo fica incapacitado de controlar a sua temperatur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NAIS E SINTOM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Intensa falta de ar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Desidratação e a queimadura da pele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Cefaleias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Nauseas e tonturas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Temperatura corporal elevada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Diarreia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Pele quente, avermelhada e seca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Extremidades roxeadas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Inconsciencia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Pulso rapido e forte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Comichao terrivel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IDADOS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Levar o paciente para um local fresco e arejad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Deita-la com a cabeca elevada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locar compressas frias sobre a cabeca e envolver o corpo com taoalha molhada (agua e vinagre)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Encaminhar o paciente ao clinic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Incentivar a beber muito liquid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TERIAL  NECESSARI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Carrinha de emergencia contendo</a:t>
            </a: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: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Tabuleiro, canula, ambu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Seringas, agulhas, esfigmomanometro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Estetoscopio, termometro clinico, espatula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Fios de sutura, kit A de penso, garote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Cateter venoso, adesivo, couvete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Taca com quadrados de algodao, laringoscopio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Otoscopio, ataduras, algodao, gesso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Sondas, vaselina e lidocaina local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Bacia com agu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spirador, Balao de oxigeni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nti-septicos, soros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Biombo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Luvas de procedimento ou cirurgicas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Mascaras descartaveis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vental impermeavel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Barrete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Oculos de protecca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SABILIDADE ETIC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00005e"/>
                </a:solidFill>
                <a:uFillTx/>
                <a:latin typeface="Arial"/>
              </a:rPr>
              <a:t>O atendimento de urgência é uma obrigação do Estado</a:t>
            </a:r>
            <a:r>
              <a:rPr b="0" lang="pt-BR" sz="2800" spc="-1" strike="noStrike" u="sng">
                <a:solidFill>
                  <a:srgbClr val="c00000"/>
                </a:solidFill>
                <a:uFillTx/>
                <a:latin typeface="Arial"/>
              </a:rPr>
              <a:t>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O direito ao atendimento de emergência é igual ao direito à vida, à educação, ao trabalho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etc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Toda acção no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setor de urgência deve ser fundamentada em rotinas próprias e protocolos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ssistenciais previamente aprovados e constantemente revisto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BLIOGRAF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66"/>
                </a:solidFill>
                <a:latin typeface="Arial"/>
              </a:rPr>
              <a:t>Rede de Referenciação Hospitalar de Urgência/Emergência 14 de Novembro de 2001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66"/>
                </a:solidFill>
                <a:latin typeface="Arial"/>
              </a:rPr>
              <a:t>Sorensen e Luckmann, Enfermagem Fundamental, 3ª edicao, Edictora Lusodidactica, Lisboa, 1998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66"/>
                </a:solidFill>
                <a:latin typeface="Arial"/>
              </a:rPr>
              <a:t>Smelter e Bare, Enfermagem Medico-cirurgica, Editora Guanabarra, Vol 2, 10ª Edicao, 2005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www2.unoeste.br/~aulasmedicina/arquivos/07e 08.../saude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1T11:17:46Z</dcterms:created>
  <dc:creator>Hamido</dc:creator>
  <dc:description/>
  <dc:language>en-US</dc:language>
  <cp:lastModifiedBy>inacia</cp:lastModifiedBy>
  <dcterms:modified xsi:type="dcterms:W3CDTF">2011-11-28T10:29:30Z</dcterms:modified>
  <cp:revision>50</cp:revision>
  <dc:subject/>
  <dc:title>Paragem Cardiorrespiratória</dc:title>
</cp:coreProperties>
</file>