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0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5808-1F99-4403-AA93-2F946334405C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0593-FE15-4E85-BA45-71099F74434D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13CF9-E6A6-43B7-8305-826CEB3855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11F1D-C580-42F9-AF56-AD31E7C39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F2357-5096-4C8C-9AE7-EE45D881D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21133-443C-45C9-9A5F-B10466160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FF1CA-7E2B-4F68-BF94-C821A36FA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C8C71-31C4-4FB1-A0AB-1AC8646C6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0024E-16EE-4B86-8441-55D84BDED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EDC5-3763-4D9A-9065-BB918BBD4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1B68-10E2-47AC-9424-57CEB2428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A2E8E-754A-4364-920D-463B864064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D56C8-BA36-4087-B888-279D6AA633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3C14C-7790-420A-9826-CDA7CF1F6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0092-675A-421D-8B67-A51D31289FE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diagnosticoenfer.hdfree.com.br/DIAGNOSTICOS%20DE%20ENFERMAGEM/Sindrome/SINDROME%20DO%20%20DESUSO.htm" TargetMode="External"/><Relationship Id="rId2" Type="http://schemas.openxmlformats.org/officeDocument/2006/relationships/hyperlink" Target="http://diagnosticoenfer.hdfree.com.br/DIAGNOSTICOS%20DE%20ENFERMAGEM/Sindrome/SINDROME%20DO%20DEFICIT%20NO%20AUTOCUIDADO.htm" TargetMode="External"/><Relationship Id="rId3" Type="http://schemas.openxmlformats.org/officeDocument/2006/relationships/hyperlink" Target="http://diagnosticoenfer.hdfree.com.br/DIAGNOSTICOS%20DE%20ENFERMAGEM/Risco/RISCO%20PARA%20LESAO.htm" TargetMode="Externa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5560&amp;ST=SE&amp;franq=136426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76960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ODULO 9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ÁTICAS DE ENFERMAGEM II: ENFERMAGEM MÉDICO-CIRÚRGIC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762120" y="2017440"/>
            <a:ext cx="7772400" cy="25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ffff"/>
                </a:solidFill>
                <a:latin typeface="Arial"/>
                <a:ea typeface="Times New Roman"/>
              </a:rPr>
              <a:t>CUIDADOS DE ENFERMAGEM AO DOENTE COM ALTERACÇÕES NEUROLÓGICAS E MOTORA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o Equilíbrio Hídrico e Controlando as Necessidade Nutricionai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estado de hidratação é avaliado examinando-se o turgor tecidual e as membranas mucosa, avaliando-se as tendências de ingestão e excreção e analisando-se os dados laboratoriai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r o cuidado da boc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boca é inspeccionada quanto a ressecamento, inflamação e formação de crostas. Os pacientes inconscientes precisam de um cuidado oral consciencioso, porque há um risco de parotidite se a boca não mantida bem limp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42A3-A3A0-47CB-916A-23640479DFE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 integridade da pele e das Articulaçõe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vitar a ruptura da pele exige avaliações contínuas da Enfermagem. Dá-se uma atenção especial aos pacientes inconscientes, porque eles não podem responder a estímulos externos. Uma prescrição inclui virar o paciente a intervalos regulares para evitar a pressão, que pode causar a ruptura e a necrose da pe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servar a Integridade da Córne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uns pacientes inconscientes ficam com os olhos abertos e têm reflexos córneos inadequados ou ausentes. A córnea pode ficar irritada, ressecada ou arranhada, ocasionando ulcera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B7B5-2748-4E87-A335-B9EA99F7FB7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 Temperatura Corpor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ma febre alta num paciente inconsciente pode ser causada por uma infecção de trato respiratório ou urinário, reacções de drogas ou uma lesão de centro hipotalâmicos para a regulação da temperatura. Uma ligeira elevação de temperatura pode ser causada pela desidrataç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vitar a retenção Urinar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paciente com alteração do nível de consciência com frequência apresenta incontinência ou tem retenção urinár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2C47-95C6-40E0-8DE2-C0D8DD5E20C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bexiga é palpada ou examinada periodicamente por técnicas de aquisição de imagens para determinar se está presente a retenção urinária, porque uma bexiga cheia pode ser uma causa não - percebida de incontinência por transbordamen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mover o Funcionamento Intestin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 abdómen é avaliado quanto à distensão auscultando-se os sons intestinais e medindo-se as circunferências do abdómen com uma fita métrica. Há risco de diarreia por infecção, uso de antibióticos e líquidos hiperosmol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FD87-05F0-4208-9969-E00EF7E70F9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porcionar Estimulação Sensorial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enfermeira toca o paciente e fala com ele encorajando familiares e amigos do paciente a fazer o mesmo. A comunicação é extremamente importante e inclui tocar o paciente e passar tempo suficiente com ele para ficar sensível a sua necess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nder às Necessidades da Famíl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família do paciente com alteração de nível de consciência pode ser lançada num súbito estado de crise e passar pelo processo de ansiedade grave, negação, raiva, remorso, tristeza e reconcili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AB81-FB80-4EDB-A672-D69DF3128D7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onitorar e Tratar as Complicações Potenciai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neumonia, aspiração e insuficiência respiratória são complicações potenciais em qualquer paciente que tenha um rebaixamento do nível de consciência e que não possa proteger suas vias aéreas ou de virar tossir e respirar fundo. Quanto maior for a duração do período de inconsciência, maior o risco de complicações pulmon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72E6-8082-42DD-B825-21AF744362D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VULSÕ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vulsões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As convulsões são episódios de actividades motora, sensorial, autonómica ou psíquica anormal (ou uma combinação destas), que decorrem de uma descarga súbita e excessiva de neurónios cerebrais (Hickey) parte do cérebro ou todo ele pode ser envolvi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lassificação internacional de crises convulsivas diferencia dois tipos princip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ses parciais, que se iniciam numa parte de cérebr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rises generalizadas, que envolvem descargas eléctricas no cérebro inter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9AB6-E1A9-4699-94A8-6507C99ABB1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IFESTAÇÕES CLÍN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09480" y="1143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uma crise parcial simple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consciência permanece intacta, enquanto, numa crise parcial complexa, a consciência se altera. As crises não classificadas são designadas desse modo devido a dados incomple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ausa subjacente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distúrbio eléctrico (disritmia) nas células nervosas numa região do cérebro; essas células emitem descargas eléctricas anormais, recorrentes e não controlada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6F33-8F35-4D4C-B915-4D130DD3D88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crise convulsiva típic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manifestação dessa descarga neuronal excessiva. Pode haver também uma perda de consciência associada, movimento excessivo, ou perda do tonus muscular ou do movimento e distúrbios do comportamento, humor, sensação e percep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5EDD-0C59-4B17-8188-70999FB957C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IFESTAÇÕES CLÍN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1430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causas específicas das crises convulsivas são variad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 podem ser classificadas como idiopáticas (defeit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néticos, defeitos do desenvolvimento) e adquirid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 causas das convulsões adquiridas inclu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Vasculares Cerebr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ipoxémia por qualquer causa, incluindo insuficiência vascular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ebre (na infânci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Lesões Crânio-encéfalo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48E4-D074-43A1-85DD-94F377356BB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5D35-F0BF-40D1-85B8-AFC734F3FB1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33160" y="2819160"/>
            <a:ext cx="830556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o estado de inconsciência usando a escala de coma de Glasgow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leccionar os cuidados de enfermagem a prestar ao utente inconsciente, prevenindo as complicações decorrentes do estado clínico do ut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850E-A4D4-4919-991E-4EB80BDF4A60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143000" y="1219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pós a discussão desse tema os aluno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657600" y="2286000"/>
            <a:ext cx="1828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28E3-FE38-4B11-8551-32B79E877B1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iperten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fecção do Sistema Nervoso Cent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ões metabólicas e tóxicas (Ex: Insuficiência renal, hiponatrémia; hipoglicémia, insecticidas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umor cerebr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bstinência a droga e álcoo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ergi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533520" y="1523880"/>
          <a:ext cx="8381880" cy="4800600"/>
        </p:xfrm>
        <a:graphic>
          <a:graphicData uri="http://schemas.openxmlformats.org/drawingml/2006/table">
            <a:tbl>
              <a:tblPr/>
              <a:tblGrid>
                <a:gridCol w="3276360"/>
                <a:gridCol w="510552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(COM INICIO LOCALIZ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INTO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0800">
                <a:tc rowSpan="4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simples (com sintomas elementares, geralmente sem alteração de consciênc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mot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sensoriais especiais ou somatossenso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autonóm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as compo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11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parciais complexas (com sintomas complexos, geralmente com alteração de consciênci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alteração de consciência tão-so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cogni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afectiv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psicossensori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om sintomas psicomotores (automatism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Formas compo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17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A5E2-D844-4097-AB34-89D3B8EF0F8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533520" y="106668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LASSIFICAÇÃO INTERNACIONAL DAS CRISES CONVULS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533520" y="990720"/>
          <a:ext cx="8305560" cy="3627360"/>
        </p:xfrm>
        <a:graphic>
          <a:graphicData uri="http://schemas.openxmlformats.org/drawingml/2006/table">
            <a:tbl>
              <a:tblPr/>
              <a:tblGrid>
                <a:gridCol w="3352680"/>
                <a:gridCol w="49528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(COM INICIO LOCALIZAD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8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INTO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1160">
                <a:tc rowSpan="7"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parciais secundariamente generalizad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RISES GENERALIZADAS (CONVULSIVAS OU NÃO-CONVULSIVAS, BILATERALMENTE SIMÉTRICAS SEM INICIO LOCALIZAD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 tónica - clônic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tó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clô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de ausência (pequeno m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atón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mioclônicas (epilépticas bilateralmente maciças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7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rises não-classificad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7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D14B7-F46D-402D-9DF8-A8EE4749C93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31520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urante uma Convul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privacidade e proteger o paciente dos curiosos (o paciente que tiver uma aura- aviso de uma convulsão importante-pode ter de procurar um lugar seguro e com privacidade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o paciente no chão, se possí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teger a cabeça com uma almofada para evitar uma lesão (por bater uma superfície dur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4BCA-73CE-4DE4-B4E5-0A74E3E6F34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533160" y="114264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urante uma Convul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purrar para longe quaisquer móveis que possam lesar o paciente durante a convuls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o paciente estiver na cama, remover travesseiro e elevar ao gradis later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uma aura preceder a crise, inserir uma vis aérea oral para reduzir a possibilidade de o paciente morder a língua ou a bochech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4FCF-3584-4B08-A906-A8777B9A265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6840" y="12193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tentar abrir a boca que está cerrada nem inserir objectos. Dentes quebrados e lesão dos lábios e da língua podem ocorrer em consequência dessa ac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ão se deve fazer nenhuma tentativa de conter o paciente durante a crise, porque as contracções musculares são fortes e a contracção pode produzir les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11AE-C0FA-4E2D-801D-484EDD8C503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pois da Cri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o paciente deitado de lado para evitar a broncoaspiração. Certificar-se que a via aérea está permeáve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Há geralmente um período de confusão mental após uma crise de grande m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Um curto período de apneia pode ocorrer durante uma crise generalizada ou imediatamente após a mesm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o despertar, o paciente deve se reorientado quanto ao ambiente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2B18-8568-4A3D-A317-2BD2DA59C89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7621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11430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 o paciente ficar agitado após uma crise (período pos-ictal), usar persuasão tranquila e uma concentração lev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313E-D744-4E61-A15D-2FD2858F240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Cuidados de 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Depois da Cri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3" descr="4ABE2E0"/>
          <p:cNvPicPr/>
          <p:nvPr/>
        </p:nvPicPr>
        <p:blipFill>
          <a:blip r:embed="rId1"/>
          <a:srcRect l="19086" t="5674" r="9939" b="53748"/>
          <a:stretch/>
        </p:blipFill>
        <p:spPr>
          <a:xfrm>
            <a:off x="533520" y="198108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rturbações do son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São alterações na conciliação do sono ou durante o mesmo, ou então alterações relativas à duração do sono, ou a comportamentos anormais associados ao sono, como o terror nocturno e o sonambulism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on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algo necessário para sobreviver e gozar de boa saúde, mas ainda não se sabe porque se necessita do sono nem exactamente como nos benefic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6F9D-4B9A-4E3F-9C0E-42691ADD1DE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necessidades individuais de sono variam amplamente 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nos adultos saudáveis vão de apenas 4 horas diárias 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no até 9 hor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Geralmente, as pessoas dormem de noite, embora muitas 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çam durante o dia devido aos seus horários de trabalh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ituação que muitas vezes provoca perturbações do son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B5B7-7447-4212-9339-53D9D09C2FB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F179D-AFB1-4A85-BCDF-77A0B91DA6F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1430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o utente em estado convulsivo de forma a prestar medidas de enfermagem prevenindo as complicaç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conhecer a importância dos cuidados de enfermagem no utente com mobilidade física prejudicada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eleccionar os cuidados de enfermagem a prestar ao utente com mobilidade física prejudic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094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uitos factores, como a excitação ou o </a:t>
            </a: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stress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ocional, podem determinar as horas de sono de uma pessoa e a forma como se sente ao desperta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s medicamentos podem também desempenhar u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pel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guns produzem sonolência enquanto outros dificultam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clusive certos alimentos ou aditivos, como a cafeína, as especiarias fortes e o glutamato monos sódico, podem afectar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EC79-4CB7-4189-B5FE-7D2F4F16C73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sóni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É a dificuldade em conciliar o sono ou permanecer adormecido, ou uma alteração no padrão do sono que, ao despertar, leva à percepção de que o sono foi insuficiente. A insónia não é uma doença, mas um sintoma. Pode ser consequência de diversas perturbações emocionais e físicas e do uso de medicament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8D3B-F3F0-431D-903D-9E98B944039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6840" y="1143000"/>
            <a:ext cx="8381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dificuldade em conciliar o sono é frequente entre jovens e idosos e muitas vezes manifesta-se no decurso de alterações emocionais, como a ansiedade, o nervosismo, a depressão ou o temor. Há mesmo pessoas que têm dificuldade em conciliar o sono simplesmente porque não experimentam cansaço, nem físico nem menta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FAFD-23E2-45B3-84DD-496C901CB7A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0948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Hipersónia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um aumento das horas absolutas de sono, aproximadamente em 25 % mais do que padrão normal de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bora seja menos frequente que a insónia, a hipersónia é um sintoma que muitas vezes indica a possibilidade de uma doença grave. As pessoas saudáveis podem experimentar uma hipersónia temporária durante algumas noites ou dias como consequência de um período de privação de sono continuado ou devido a um esforço físico pouco habitual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9337-CDB4-4B25-9FA4-6831AE5E3F9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160" y="99036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Narcoleps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alteração pouco frequente do sono, que se caracteriza por crises recidivantes de sono durante as horas normais de vigília e também de cataplexia, paralisia do sono e alucina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conhece-se a causa, mas a perturbação costuma apresentar-se em pessoas com antecedentes familiares, o que sugere uma predisposição genétic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mbora a narcolepsia não tenha consequências graves para a saúde, pode produzir um sentimento de temor e aumentar o risco de acident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BBF23-651E-4720-9E25-F620F647AF1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pneia durante o son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grupo de perturbações graves em que a respiração se suspende repetidamente durante o sono (apneia) um tempo suficientemente prolongado para provocar uma desoxigenação sanguínea e cerebral e aumentar a quantidade de anidrido carbón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pneia obstrutiva deve-se a uma obstrução na garganta ou nas vias respiratórias superio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apneia central é consequência de uma disfunção na zona do cérebro que controla a respir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4363-A421-489D-A8CE-90F549A8A4A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ssónia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ão sonhos e actividades físicas particularmente vividas que se apresentam durante o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síndroma das pernas inquietas (acatisia)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a perturbação bastante comum que costuma aparecer exactamente antes de adormecer, particularmente entre os maiores de 50 ano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C802-1DC4-4FA5-8621-3CC0F337AAB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obretudo em situações de </a:t>
            </a:r>
            <a:r>
              <a:rPr b="0" i="1" lang="pt-PT" sz="2400" spc="-1" strike="noStrike">
                <a:solidFill>
                  <a:srgbClr val="000066"/>
                </a:solidFill>
                <a:latin typeface="Arial"/>
              </a:rPr>
              <a:t>stress,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as pessoas com acatisia experimentam um ligeiro mal-estar nas pernas, juntamente com movimentos espontâneos e incontroláveis das mesm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sconhece-se a causa desta perturbação, mas mais de Um terço dos afectados têm antecedentes familiares. Por Vezes, pode prevenir-se tomando benzodiazepinas antes de se deit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6089-4507-4A47-8490-90E74C81D21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errores nocturn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ão episódios de medo com gritos e agitação e muitas vezes são acompanhados de sonambulismo. Estes episódios costumam aparecer durante as fases não do ciclo do sono. Pode ser útil o tratamento com benzodiazepinas, como o diazepam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esadelos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fectam crianças e adultos e são sonhos particularmente vividos e aterradores, seguidos de um despertar brusco. Os pesadelos verificam-se durante o sono e são mais frequentes em estados febris, situações de cansaço excessivo ou depois da ingestão de bebidas alcoólicas. Não existe um tratamento específico para corrigir a perturb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E221-F039-4074-93A1-73F9C148EE7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onambulismo: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É o acto de andar de forma semiconsciente durante o sono sem se aperceber disso e é mais frequente no final da infância e durante a adolescência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s pessoas não sonham durante os estados de sonambulismo; de facto, a actividade cerebral nesse período, embora normal, parece-se mais com a de um indivíduo desperto do que com a de um estado de son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s sonâmbulos podem murmurar de forma repetida e alguns magoam-se ao tropeçar em obstáculos. Geralmente, a maioria não recorda o episód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AB5A-D1F7-4EB5-8AD3-16FB4901EE3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ERTURBAÇÕES DO SON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ALTERAÇÃO DA CONSCIÊNCIA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NCEITO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 de consciênc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ão de responder a estímulos ambientais e perceber esses estím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ceito de inconsciênci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ndição de responder menos a estímulos ambientais e perceber menos esses estím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m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É um estado de ausência de resposta não possível de activação no qual não há respostas intencionais e estímulos internos e externos, embora possam estar presentes respostas não-intencionais a estímulos dolorosos e reflexos do tronco cerebral. A duração do coma limita-se habitualmente a 2 a 4 seman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F384-72FA-4A56-9B0C-9D064649FCF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N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obilidade Física Prejudicada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: Estado em que um indivíduo apresenta, ou está em ris­co de apresentar, limitação do movimento físico, mas não está imó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associa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obilidade Física Prejudicada descreve um indivíduo com o uso limitado do (s) braço (s) ou perna (s) ou com limitação da força muscular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A7CE-70BC-4C9F-80FA-E574EFA1DCF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obilidade Física Prejudicada não deve ser usada para descrever a imobilidade completa; nesse caso, é mais aplicável a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Síndrome do Desus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 limitação do movimento físico pode ser também a etiologia de outros diagnósticos de enfermagem, como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Deficit no Autocuidado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ou </a:t>
            </a:r>
            <a:r>
              <a:rPr b="0" lang="pt-PT" sz="24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Risco para Les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1D50-43DB-4974-A458-165CBD33155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esus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ou está em risco de apresentar deterioração dos sistemas orgânicos ou de alteração no funcionamento, resultante de inactividade musculo esquelética prescrita ou inevitá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ificuldade no Autocuidado: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prejuízo função motora ou cognitiva, causando uma diminuição na capacidade de desempenhar cada uma das cinco actividades de autocuidad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048C-BBD7-42B6-AC6B-71CBF1C3FD7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actores associados à diminuição da força e 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sistência secundária 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neuromuscula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lterações auto-imunes (ex: esclerose múltipla, artri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s do sistema nervoso (ex: Parkinsonismo,  miastenia gravi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istrofia muscul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lisia total ou parcial (ex: traumatismo  raquimedular, derram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46B9-BF60-4878-A610-C9645FA4C3C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umor no sistema nervoso centr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essão intracraniana aumentad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ts sensori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eficiência músculo esquelét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ractur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Doença do tecido conectivo (lúpus eritematoso sistémic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lacionados ao edema (líquido sinovial aumentado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1381-5F43-4F0D-9413-201C1CA487C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OBILIDADE FÍSICA PREJUD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ERVENÇÕES GER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as lentes conectivas prescritas ou o aparelho auditiv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mover a independência no vestir por meio da prática contínua e sem auxíl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colher roupas folgadas, com mangas e pernas largas e com fecho anterior. Permitir tempo suficiente para o vestir-se e o despir-se, pois a tarefa pode ser fatigante dolorosa ou difíci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9062-8BE8-4EB3-AEE6-C6B68A3945B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lanificar que a pessoa aprenda e demonstre uma parte da actividade antes de progredir para a segui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as roupas na ordem em que devem ser vestid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cuidados de vestir necessário (alguns comummente usados incluem os adesivos de velcro, o puxador de zipe, o gancho para o botões, a calçadeira com o cabo longo, os sapatos com elástico substituindo os cordões; todas as peças de vestuário podem ter o fechamento adaptado para o velcr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F13E-52ED-4FD2-87E2-21BECD5FE0C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roupas comuns ou especiais em lugar de roupas de dormi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privacidade para a rotina de vesti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s pessoas com deficiência visual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ermitir que a pessoa estabeleça o local mais conveniente para colocar as roupas e adaptar o ambiente para a melhor realização da tarefa (ex: remover as barreiras desnecessári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761B-249B-4B10-8F50-080FCA76A82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nunciar-se verbalmente antes de entrar ou sair da área de vestir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belecer uma rotina adequada para proporcionar um programa estruturado que diminua a confus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s instruções simples e repeti-las frequentemente evitar as distrac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troduzir um artigo de vestuário de cada vez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C17E-DCAA-4BB7-92F3-59DD8DE975F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33160" y="9907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atenção para a tarefa; estar alerta quanto à fadiga, que pode aumentar a confus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vestigar a compreensão e o conhecimento do indivíduo e da família sobr</a:t>
            </a:r>
            <a:r>
              <a:rPr b="0" lang="pt-PT" sz="2000" spc="-1" strike="noStrike">
                <a:solidFill>
                  <a:srgbClr val="000066"/>
                </a:solidFill>
                <a:latin typeface="Arial"/>
              </a:rPr>
              <a:t>e as instruções e a justificativa acim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s pessoas com membros amputados ou ausente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Banho cedo pela manhã ou antes de deitar para evitar o vestir-se e despir-se des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E8A5-685A-4855-8077-5B6EF800197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09480" y="1574640"/>
          <a:ext cx="8153640" cy="4597560"/>
        </p:xfrm>
        <a:graphic>
          <a:graphicData uri="http://schemas.openxmlformats.org/drawingml/2006/table">
            <a:tbl>
              <a:tblPr/>
              <a:tblGrid>
                <a:gridCol w="2590920"/>
                <a:gridCol w="2844720"/>
                <a:gridCol w="2718000"/>
              </a:tblGrid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ÂME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PO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ONTU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90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Resposta de abertura dos olh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spontâne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6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À vo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À 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lhor resposta verb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rien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Confu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lavras inadequad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Sons incompreensív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6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0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987B-71D3-4122-8668-AC2EB1866DB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609480" y="9907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Escala de Coma de Glasg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o espelho durante o banho para inspeccionar a pele das áreas paralisad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submetida à amputação a inspeccionar o coto quanto à integridade da pel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apenas a quantidade de supervisão ou de auxílio necessário para aprendizagem do uso da extremidade ou para a adaptação à defici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125B-D86B-4DB1-BE01-0A9F5D2919D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índrome do Deficiência no Autocuidad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prejuízo função motora ou cognitiva, causando uma diminuição na capacidade de desempenhar cada uma das cinco actividades de auto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ficiência no Autocuidado Alimentação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tado em que o indivíduo apresenta habilidade prejudicada para realizar ou completar as actividades alimentares por si mesm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7020-9C7E-42EE-9F93-33AB47128C4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TERVENÇÕES GER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veriguar com a pessoa ou os membros da família que alimentos ela aprecia ou não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com que as refeições sejam feitas sempre no mesmo local: ambiente agradável, sem muitas distrac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Manter a temperatura correcta dos alimentos (os alimentos quentes, quentes e os ali­mentos frios, fri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E0C7-D199-4A8B-A270-B423F826530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456840" y="9903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o alívio da dor, pois ela pode afitar o apetite e a habilidade de alimenta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uma boa higiene oral antes e depois das refei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usar dentaduras e ócul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locar a pessoa na posição mais normal para alimentar-se, de acordo com a sua in­capacidade (a melhor posição é a sentada na cadeira, à mesa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o contacto social durante a refe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3E896-1F15-4A2C-AB3B-E9DC0AE7B19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a deficiência perceptiva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scolher louças de cores diferentes para ajudar a distinção dos itens (ex: bandeja vermelha, pratos branco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Verificar os padrões habituais de alimentação da pessoa e proporcionar itens alimentares de acordo com a preferência (ou organizá-los no sentido do relógi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FEC6-0398-4979-8F80-534D9ADFD14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Registar no plano de cuidados a organização utilizada (ex: a carne na posição de 6 horas; as batatas, às 9 horas; os vegetais, às 12 horas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ingestão de alimentos com as mãos (ex: o pão, as frutas, salsichas) para proporcionar independênc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E638-4A44-4979-BD73-535AF8FDF12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ara reforçar a independência máxima, proporcionar os equipamentos adaptativos necessári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ato com bordas altas para evitar que o alimento caia para for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Sucção sob o prato ou a tigela para manter a estabilida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abos forrados nos talheres para uma prensa mais firm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EBA8C-93E1-4A7F-B966-23FB45CB1D3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Tala no pulso e na mão, com um prendedor para fixar os talher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po especial para os líqu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ca arredondada para cortar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Auxiliar a servir, se necessário, abrindo as embalagens, os guardanapos, os condimentos; cortando a carne; passando manteiga no p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F711-2BBF-45CB-B573-C89B5135EBD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 as pessoas com deficiência cognitivo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roporcionar um ambiente isolado, quieto até que a pessoa seja capaz de alimentar-se sem distrair-se facilmente da taref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Orientar a pessoa quanto à localização e à finalidade do equipamento para a alimentação Colocar a pessoa na posição mais normal que ela fisicamente é capaz de suportar, para alimentar-s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1924-B323-4C6A-90FC-4A8E196CDFA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6840" y="10666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Encorajar a pessoa a prestar atenção na tarefa, mas ficar alerta quanto à fadiga, frustração ou agitação. Para as pessoas com medo de envenenamento: permitir que ela abra os alimentos enlat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Comer primeiramente um bisco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Fazer as refeições em estilo famili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Investigar, para garantir que tanto a pessoa quanto a família compreendam a razão e a finalidade de todas as interven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CD26-0661-4DF1-8B45-9834C0A74BF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609480" y="1295280"/>
          <a:ext cx="8229600" cy="274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7560"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Melhor resposta mot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Obedece a coman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ocaliza a d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trai-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ctr" pos="93024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lexão</a:t>
                      </a: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xten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Nenh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20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1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9E58-15A1-43D6-AF55-AF8A19BF6AA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D0BB-3403-437A-A190-59D2BE62ED6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  <a:hlinkClick r:id="rId1"/>
              </a:rPr>
              <a:t>Tratado de Enfermagem Médico-Cirúrgica</a:t>
            </a:r>
            <a:r>
              <a:rPr b="1" lang="pt-PT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Brunner &amp; Suddarth – Vol. 2 – Guanabara Koogan - 2009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66"/>
                </a:solidFill>
                <a:latin typeface="Arial"/>
              </a:rPr>
              <a:t>www.manualmerck.net/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DC16-FB19-4854-8DBA-0D18F178F33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066320"/>
            <a:ext cx="8076960" cy="33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As respostas do paciente são avaliadas numa escala de 3 a 15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m escore de 3 indica uma alteração grave da função neurológic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Um escore de 15 indica que o paciente está respondendo plenam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A INCONSCIÊNCI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09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33160" y="1294920"/>
            <a:ext cx="8305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ssistência de Enfermagem num utente incons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nter as vias aérea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À consideração mais importante de pacientes com alterações do nível de consciência e estabelecer uma via aérea adequada e assegurar a ventila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teger o paciente: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</a:rPr>
              <a:t>Para a protecção do paciente, os gradis laterais são acolchoados, dois gradis são mantidos na posição levantada durante o dia e três à noite; entretanto, levantar todos os quatro gradis é considerado uma conten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8FD2-00B3-4B86-A58B-6CB745C3D28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de Saúde Materno 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A0EC-B8C1-4210-B6AF-0101FBE9305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ssistência de Enfermagem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1" descr="4ABE2E0"/>
          <p:cNvPicPr/>
          <p:nvPr/>
        </p:nvPicPr>
        <p:blipFill>
          <a:blip r:embed="rId1"/>
          <a:srcRect l="19086" t="5674" r="9939" b="53748"/>
          <a:stretch/>
        </p:blipFill>
        <p:spPr>
          <a:xfrm>
            <a:off x="609480" y="990720"/>
            <a:ext cx="8153640" cy="5181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30:39Z</dcterms:modified>
  <cp:revision>753</cp:revision>
  <dc:subject/>
  <dc:title>ANATOMIA E FISIOLOGIA HUMANA</dc:title>
</cp:coreProperties>
</file>