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gency FB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Agency F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C0A1-F17C-4D2B-92DF-7151CF6A4D31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5ADB-D456-45D1-A244-E776F43763D8}" type="slidenum">
              <a:rPr b="0" lang="pt-PT" sz="1200" spc="-1" strike="noStrike">
                <a:solidFill>
                  <a:srgbClr val="000000"/>
                </a:solidFill>
                <a:latin typeface="Agency FB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624A-95AF-437F-868D-DD05204F42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7D866-BF50-43E5-922D-02CD1C019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02769-AA8C-4672-AD46-565978C66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036B9-B08A-489D-BC69-7BEC723ADE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3A25A-7B11-4192-91C2-F3E1364AF1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50F1C-952A-4EBE-AC63-82080D3B45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47E98-870D-4F3C-89A7-5534A3C077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8C307-BE8A-4758-A2FC-C71081836F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D6E53-2564-4DA1-B997-FD67702171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0BEFE-7B62-44EE-864A-BADAB2D302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3DA6D-90EE-47EC-B045-D7D3BFB7B2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79CC2-4AF8-4AA7-9122-05BB6E5B8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FEFDE-E536-41DD-9840-88D4EC76D2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C5157-B3AF-44AA-A743-73AF22F06D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AA13D-32B8-43C4-B741-9FFB3D53C4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A34907-B0E0-4323-B640-9E75CADC5C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66919-C4D7-4ECE-A9E9-1A98879EA6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8FA08-B5B0-466D-A7B2-47AE4303BB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DC95-283A-4B20-9219-D714CA57A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5810-BE1F-4865-A021-F4AB03CCDA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81A33-9B8E-47BA-82E7-43EE8A52F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6A886-56B1-4387-B897-9233F2553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114C1-B324-446C-A24F-9BBE86CCF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8F221-84F0-4416-B831-01DD78C24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2755-BB12-42A4-9BC2-3A148D1C065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3"/>
          <p:cNvSpPr/>
          <p:nvPr/>
        </p:nvSpPr>
        <p:spPr>
          <a:xfrm>
            <a:off x="914400" y="198108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3"/>
          <p:cNvSpPr/>
          <p:nvPr/>
        </p:nvSpPr>
        <p:spPr>
          <a:xfrm>
            <a:off x="2971800" y="144792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304920" y="457200"/>
            <a:ext cx="628560" cy="622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7"/>
          <p:cNvSpPr/>
          <p:nvPr/>
        </p:nvSpPr>
        <p:spPr>
          <a:xfrm>
            <a:off x="2971800" y="1676520"/>
            <a:ext cx="50292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8"/>
          <p:cNvSpPr/>
          <p:nvPr/>
        </p:nvSpPr>
        <p:spPr>
          <a:xfrm>
            <a:off x="2971800" y="1600200"/>
            <a:ext cx="5486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gency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gency FB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3048120" y="640044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7391160" y="6324120"/>
            <a:ext cx="1447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5415-4D51-4014-A7EC-921BE5E1368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7400" y="1523520"/>
            <a:ext cx="5486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PT" sz="3600" spc="-1" strike="noStrike">
                <a:solidFill>
                  <a:srgbClr val="ffffff"/>
                </a:solidFill>
                <a:latin typeface="Arial"/>
              </a:rPr>
              <a:t>ENFERMAGEM MÉDICO-CIRÚRGICA</a:t>
            </a:r>
            <a:endParaRPr b="1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33160" y="46483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400" spc="-1" strike="noStrike">
                <a:solidFill>
                  <a:srgbClr val="000066"/>
                </a:solidFill>
                <a:latin typeface="Arial"/>
              </a:rPr>
              <a:t>SUBMÓDULO  11:</a:t>
            </a:r>
            <a:endParaRPr b="1" lang="en-US" sz="34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PT" sz="3400" spc="-1" strike="noStrike">
                <a:solidFill>
                  <a:srgbClr val="000066"/>
                </a:solidFill>
                <a:latin typeface="Arial"/>
              </a:rPr>
              <a:t>ATENÇÃO À PEQUENAS CIRURGIAS</a:t>
            </a:r>
            <a:endParaRPr b="1" lang="en-US" sz="34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Agency FB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 Black"/>
              </a:rPr>
              <a:t>Curso de Enfermagem Geral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AC91-7280-4D1A-A918-D84A6BB5052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. DA CLASSIFICAÇÃO DOS FIO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20574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 Quanto à absor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Quanto à absorção os fios podem se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) Absorvíveis- São os que podem ser digeridos pelas células do organismo durante ou após a cicatrização dos tecidos. Ex: Catgut (Simples ou plain, cromado)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lagéno ( Simples,cromado e extracromado)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CA70-723E-4EE6-BF48-B04A28E0444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. DA CLASSIFICAÇÃO DOS FIOS</a:t>
            </a:r>
            <a:endParaRPr b="1" lang="en-US" sz="28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) Não absorvíveis- São aqueles que as células do organismo não conseguem digerir, portanto estes fios devem ser tirados depois da cicatrização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ste tipo fios geralmente é usada para suturas superficiai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: Seda cirúrgica, algodão cirúrgico, as metálicase as sintéticas etc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6EBA-F68C-44AC-ADE9-D9AABAD6A09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resentação dos fi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fios poderão apresentar-se em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) Embalagem de pequenas carteiras duplas, estando a pequena dentro da grand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B)Rolos como de linha de costura, podendo serem pequenos, portanto individuais ou maior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914400" indent="-4572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) Tubos de vidro semelhantes aos tubos de colheita de sangue ( mergulhados em solução alcoolica )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C3C29-FC44-467A-B6B1-C16337FEDD7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 DA APRESENTAÇÃO DOS FI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fios também se podem apresentar com agulha já adaptada ou não, sendo assim classificados de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) Traumáticos-Aquelas que não possuem a agulha adaptada (Agulha não embutida). Razão porque traumatizam mai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B) Atraumáticas-Aquelas que se apresentam com agulha já adaptada da fábrica (Agulha embutida)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CC14-472C-40B2-BBD5-7DF722B78CC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ÇÃO DAS AGULH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função das agulhas é facilitar a passagem da linha pelos tecid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  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IPOS DE AGULH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s agulhas podem ser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cta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urvas,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/4 do círcul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1/2 do círcul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3/8 do círcul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EFE8-5DD3-407F-B3AE-47DCF5D2545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A CLASSIFICAÇÃO DAS AGULH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 acordo com o seu formato as agulhas podem ser classificadas em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-Cortantes ou triangulares-Este tipo de agulhas origina um pequeno corte no tecido e o fio tem tendência de aumentar o cort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ão mais usadas para suturar os tendões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Não cortantes ou redondas-Este tipo de agulhas apresenta o corpo arredondado e são usadas em tecidos pouco resistent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: Fígado, rins etc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4CE2-937A-462A-87AC-07180967C85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O DE CADA TIPO DE AGULH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 uso das agulhas depende do tip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Agulhas Curvas-São mais utilizadas para suturar tecidos profundos e a pel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-Agulhas Semi-rectas-São utilizadas para suturar a pel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3-Agulhas rectas-São utilizadas para algumas suturas gastro-intestinai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Definir a utilidade das agulhas circular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s agulhas variam em tamanho e calibre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A4804-ADE8-4A6A-BC6E-ABF88A2173E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ITUIÇÃO DAS AGULH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s agulhas são constituidas da seguinte forma</a:t>
            </a:r>
            <a:r>
              <a:rPr b="0" lang="en-US" sz="2800" spc="-1" strike="noStrike">
                <a:solidFill>
                  <a:srgbClr val="000066"/>
                </a:solidFill>
                <a:latin typeface="Agency FB"/>
              </a:rPr>
              <a:t>: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gency FB"/>
              </a:rPr>
              <a:t>  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- Fenda-orifício onde se mete o fi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Corpo-É a parte que constitue a verdadeira peça da agulh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eralmente é feita de aço inoxdável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-Ponta- È a parte terminal da agulh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DA62-F601-4502-A05A-17EBB87A941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ESCOLHA DE AGULH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istem alguns factores que influenciam a escolha da agulha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amanh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po de tecido a sutura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apacidade de sensibilidade da área a sutura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ferência do Cirurgiã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otina da Sala de Operaçõ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96AE-9745-41C7-BF70-CB5C2145136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TERIAL E EPI NECESSÁRI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PI: Luv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irurgica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máscara,avental plástico,barrete e óculos de protecçã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TERIAL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it de sutura ( couvete, tesoura pequena, pinça porta-agulha, pinça de Kocher, pinça de dissecçã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 dent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, compressa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sterelizada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)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90B7-42C0-4A00-BBC1-65E536F3DE2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ffff"/>
                </a:solidFill>
                <a:latin typeface="Arial Black"/>
                <a:ea typeface="Times New Roman"/>
              </a:rPr>
              <a:t>COMPETÊNCIAS              </a:t>
            </a:r>
            <a:endParaRPr b="1" lang="en-US" sz="36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 u="sng">
                <a:solidFill>
                  <a:srgbClr val="000066"/>
                </a:solidFill>
                <a:uFillTx/>
                <a:latin typeface="Arial"/>
                <a:ea typeface="Arial"/>
              </a:rPr>
              <a:t>NO FIM DA AULA O ESTUDANTE DEVE SER CAPAZ DE </a:t>
            </a:r>
            <a:r>
              <a:rPr b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Prestar cuidados de Enfermagem humanizados ao utente durante a execussão da técnic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Prestar cuidados de urgência e emergência médico-cirúrgica, bem como aplicar medidas preventivas das complicaçõ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-78480" y="7238880"/>
            <a:ext cx="809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Curso de Enfermagem  Geral e  de </a:t>
            </a:r>
            <a:r>
              <a:rPr b="0" lang="pt-PT" sz="1400" spc="-1" strike="noStrike">
                <a:solidFill>
                  <a:srgbClr val="000000"/>
                </a:solidFill>
                <a:latin typeface="Agency FB"/>
              </a:rPr>
              <a:t>Saúde</a:t>
            </a:r>
            <a:r>
              <a:rPr b="0" lang="en-US" sz="1400" spc="-1" strike="noStrike">
                <a:solidFill>
                  <a:srgbClr val="000000"/>
                </a:solidFill>
                <a:latin typeface="Agency FB"/>
              </a:rPr>
              <a:t> Materno-Infant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3670-C453-4570-9B58-85BCC5A8F99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5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E MATERIAL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NT. DE MATERIAL NECESSÁRIO :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ção fisiológica 0,9 % ; adesiv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aldes com sacos plásticos para o lixo comum e lixo infeccioso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0681-FDE7-4A1F-8EEA-E14B1942B86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ve o material para junto do paciente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umprimente o paciente e apresente-se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xplique o procedimento a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utent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e peça a sua colaboração; posicione-o de modo a facilitar a realização do procedimento; mantenha a sua privacidade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D709-780A-4B8A-85BC-82DD8E2A4CB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ave as mãos com água e sabão ou freccione-as com álcool glicerinado, se não estiverem visivelmente sujas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bra o kit de suturas pela parte externa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e a pinça de Kocher segurando-a com ajuda do papel do campo e coloque-a no bordo do campo estéril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0A96-5050-48C3-8FB4-0F88EC22CE1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lce as luvas d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irurgica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e a pinça de dissecção com ajuda da primeira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e uma compressa e dobre-a em 4 partes fixando-a na pinça de Kocher com ajuda da pinça de dissecção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65FC-EE33-489F-B688-A40A5940801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mbeba a compressa com a solução fisiológica e desinfecte a ferida; repetir esta operação até a ferida ficar limpa mudando sempre a compress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oque o campo aberto por cima da ferida;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bra a carteira da linha de sutura e deixe cair a linha no tabuleiro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8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E01C-DEAE-40DB-B679-102664900BE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egue na pinça de Kocher com a mão direita; fixe a agulha e pegue a pinça de Dissecção com a mão esquerd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m a pinça de Dissecção fixe o bordo direito da ferida, puncione-o com agulha e puxe a linha até ficar 1cm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7CEF-7C16-47D6-8266-7E8F5D58436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O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rola a linha na pinça porta-agulha;com a mesma pinça pega na ponta inicial da linha e faça o nó ;corte a linha deixando cerca de 0,5cm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ça a mesma técnica noutro bordo e assim sucessivamente até terminar a sutur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sinfecte e seque a ferida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D566-BB57-428C-827D-669FE5DCF34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E PROCEDIMENT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aça o penso simples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tire as luvas de procedimento e deite-as em recipiente com saco plástico para lixo infeccios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ave as mãos com água e sabão.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giste o procedimento no Diário de Enfermagem</a:t>
            </a: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9405-CA33-49AC-A643-1133D940EF8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IDADOS DE ENFERMAGEM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 usar agulha embutida, ter o cuidado de não apertar com a pinça porta-agulhas a extremidade da agulha onde o fio funde porque é zona oca, porque pode-se parti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mpre que se quebrar uma agulha deve-se certificar se todos os pedaços foram retirados.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EEEB-3A59-4294-AC0C-874D8598635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BIBLIOGRAFIA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ual de Cirurgia para Técnico de Cirurgi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or :  Vaz,Fernando. Moçambiqu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ual de Enfermagem Cirúrgic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or: Instituto de Ciências de Saúde de Maputo.Moçambiqu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tado de Enfermagem Médico-Cirúrgic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utor: Brunner Suddarth. Brasi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rensen e Luckmann, Enfermagem Fundamental, 3ª edicao, Editora Lusodidactica, Lisboa, 1998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8674-0DCF-471E-8607-BED91A871CF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as compentênci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2952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758880" indent="-3794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Aplicar os conhecimentos aadquiridos ao planificar,executar e avaliar os cuidados de Enfermagem, baseados no diagnóstico realizado,visando a satisfação das necessidades do utente do fóro médico-cirúrgico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758880" indent="-3794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    </a:t>
            </a:r>
            <a:r>
              <a:rPr b="0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Orientar os utentes e a família sobre os cuidados a prestar no pré e pós operatório e prevenção das complicaçõ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lvl="1" marL="758880" indent="-3794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66"/>
                </a:solidFill>
                <a:latin typeface="Arial Black"/>
                <a:ea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284400" indent="-2844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284400" indent="-2844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   </a:t>
            </a:r>
            <a:endParaRPr b="1" lang="en-US" sz="20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AF71-6001-4ACC-8C40-A68311BDBF2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SUTUR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SUTURA-É a aplicação de qualquer material com o fim de aproximar os tecidos, mantendo-os cosidos até que a cicatrização se conclua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Fio de sutura e um material flexivel incerrido atraves dos tecidos (com o uso de uma agulha) para aproximar as suas extremidades e diminuir o espaco morto. (Sorensen e Luckmann, 1998)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25800" indent="-3258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1BFF-EAE2-4F53-822F-9AE2822681B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AS SUTURA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IPOS DE SUTURAS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Existem dois tipos de suturas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Suturas contínuas-São aquelas em que o fio é consecutivo sem sofrer nenhum corte, desde a primeira extremidade até à outra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Suturas separadas-São aquelas em que os pontos  são separados um do outro, com o corte constante do fio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EB2D-6B83-4FD9-A873-19F0C0EB6EB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ESCOLHA DO FI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factores que influenciam a escolha do fio são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empo desejado para que os fios permaneçam no organismo e se serão ou não absorvido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Tipo de tecido a ser suturado. Alguns tecidos absorvem o fio mais rapidamente que outro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stado nutricional do paciente (Mal nutridos, anémicos mais obesos) e Idade (mais idosos) absorvem com dificuldades os tecidos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8815-30E7-4380-AA5E-CB1E35819AE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. DA ESCOLHA DO FIO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s fios são também absorvidos com dificuldade onde houver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-Infec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-Muitas secreções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-Muita humidade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70AF-6DBF-4D96-BDD7-35CCD4B06C5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SSIFICAÇÃO DOS FIOS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Os fios podem ser classificados em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 Quanto à sua origem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2- Quanto à sua absorção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- Quanto à sua origem podem ser divididos em: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)  Origem animal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-como por exemplo a seda, tendões de animais, crinas,catgut etc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5A0D-C083-4DD4-8B88-9FF61B0095F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gency FB"/>
              </a:rPr>
              <a:t>CONT. DA CLASSIFICAÇÃO DOS FIOS </a:t>
            </a:r>
            <a:endParaRPr b="1" lang="en-US" sz="3200" spc="-1" strike="noStrike">
              <a:solidFill>
                <a:srgbClr val="ffffff"/>
              </a:solidFill>
              <a:latin typeface="Agency FB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) Origem  Vegeta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 exemplo: Nylon, poliester.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) Origem Mineral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or exemplo: fios de aço, de alumínio, de prata, de platina, de cobre etc.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gency FB"/>
              </a:rPr>
              <a:t>   </a:t>
            </a:r>
            <a:endParaRPr b="1" lang="en-US" sz="2400" spc="-1" strike="noStrike">
              <a:solidFill>
                <a:srgbClr val="000066"/>
              </a:solidFill>
              <a:latin typeface="Agency FB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7391520" y="632448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2D1D-934C-4654-B76E-D78296705A0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4"/>
          <p:cNvSpPr/>
          <p:nvPr/>
        </p:nvSpPr>
        <p:spPr>
          <a:xfrm>
            <a:off x="3048120" y="6400800"/>
            <a:ext cx="365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9999ff"/>
                </a:solidFill>
                <a:latin typeface="Verdana"/>
              </a:rPr>
              <a:t>Cursos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Maputo</cp:lastModifiedBy>
  <dcterms:modified xsi:type="dcterms:W3CDTF">2011-10-11T13:48:33Z</dcterms:modified>
  <cp:revision>842</cp:revision>
  <dc:subject/>
  <dc:title>ANATOMIA E FISIOLOGIA HUMANA</dc:title>
</cp:coreProperties>
</file>