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3A01-55E7-47CA-8785-6D78C1C8C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0321-25D5-40A4-A50D-BEA7A22B8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1796-66A4-4CA8-93AE-F215D9D02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921AD-2060-4C60-8999-34BBCA53F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397A3-7EDA-4882-82B3-E0706C0E62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5D7F4-F47A-4C3B-969A-49308CE4C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CF2F-AF05-4571-840A-9B6C15CAF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7D07B-B96C-4C27-9FB9-54A8E3B5B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281A5-1D12-48BF-87E3-7F2C856A3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4323B-B309-44F6-B65B-887E03BB4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834C2-DCB8-483D-82D9-671328EDD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50B54-554D-4342-B838-F3A1DCC39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D77E4-4272-4107-AB1E-475508D04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B9DFB-7C38-497B-BCBF-9DDBC2DD3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9565E-D3E4-4F57-917C-6386B2B53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7B5C6-F525-4A6D-B912-71D23B8C33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F5EF-3A87-4A09-A33A-A447B1C9DDA9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6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Jhpiego_logo"/>
          <p:cNvPicPr/>
          <p:nvPr/>
        </p:nvPicPr>
        <p:blipFill>
          <a:blip r:embed="rId2"/>
          <a:stretch/>
        </p:blipFill>
        <p:spPr>
          <a:xfrm>
            <a:off x="7772400" y="61722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4920" y="1600200"/>
            <a:ext cx="662292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ENFERMAGEM 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MÉDICO-CIRÚRG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86920" y="4572000"/>
            <a:ext cx="69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UBMÓDULO  12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UIDADOS DE ENFERMAGEM NAS EMERGENCIAS E URGENCI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 Black"/>
              </a:rPr>
              <a:t>Curso de Enfermagem Gera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LEG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O Código Civil normatiza que aquele que por ação ou omissão voluntária,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gligência ou imprudência,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violar direito ou causar dano a outrem, ainda que exclusivamente moral, comete acto ilícito, sendo obrigado a reparar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 da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ENDIMENTO INIC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O objetivo principal deste atendimento é manter a vida do cliente e prevenir seqüelas, estabelecendo prioridades ante cuidados prest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O atendimento se realiza antes mesmo do estabelecimento do diagnóstico, pois visa minimizar os efeitos dos agravos que colocam o paciente em risco de vi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A regra básica do atendimento, conhecida como o  da assistência de emergência, prioriza três ações a avalia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O nível de consciênci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Manter as vias aéreas desobstruída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Preservar a respiração e a circul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ARAGEM CARDIORRESPIRATORIA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ragem Cardiorrespirató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000" y="2781000"/>
            <a:ext cx="83818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ausas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Respiratória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obstrução das vias aéreas, falência respiratóri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Circulatória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rritmias, IAM,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Distúrbios metabólico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cidose, alcalose, desequilíbrio hidreletrolític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Ação de droga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nestésicos, cloreto de potássio, intoxicação digitálica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entagon 3"/>
          <p:cNvSpPr/>
          <p:nvPr/>
        </p:nvSpPr>
        <p:spPr>
          <a:xfrm>
            <a:off x="826920" y="1341360"/>
            <a:ext cx="2554560" cy="935280"/>
          </a:xfrm>
          <a:custGeom>
            <a:avLst/>
            <a:gdLst>
              <a:gd name="textAreaLeft" fmla="*/ 0 w 2554560"/>
              <a:gd name="textAreaRight" fmla="*/ 2554920 w 255456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41" y="0"/>
                </a:lnTo>
                <a:lnTo>
                  <a:pt x="21600" y="10800"/>
                </a:lnTo>
                <a:lnTo>
                  <a:pt x="17641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Paragem Cardiorrespirat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4"/>
          <p:cNvSpPr/>
          <p:nvPr/>
        </p:nvSpPr>
        <p:spPr>
          <a:xfrm>
            <a:off x="3059280" y="1341360"/>
            <a:ext cx="2952720" cy="93528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6" y="0"/>
                </a:lnTo>
                <a:lnTo>
                  <a:pt x="21600" y="10800"/>
                </a:lnTo>
                <a:lnTo>
                  <a:pt x="18176" y="21600"/>
                </a:lnTo>
                <a:lnTo>
                  <a:pt x="0" y="21600"/>
                </a:lnTo>
                <a:lnTo>
                  <a:pt x="3424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Ausência dos batimentos Cardía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5"/>
          <p:cNvSpPr/>
          <p:nvPr/>
        </p:nvSpPr>
        <p:spPr>
          <a:xfrm>
            <a:off x="5724360" y="1341360"/>
            <a:ext cx="2951280" cy="935280"/>
          </a:xfrm>
          <a:custGeom>
            <a:avLst/>
            <a:gdLst>
              <a:gd name="textAreaLeft" fmla="*/ 0 w 2951280"/>
              <a:gd name="textAreaRight" fmla="*/ 2951640 w 29512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6" y="0"/>
                </a:lnTo>
                <a:lnTo>
                  <a:pt x="21600" y="10800"/>
                </a:lnTo>
                <a:lnTo>
                  <a:pt x="18176" y="21600"/>
                </a:lnTo>
                <a:lnTo>
                  <a:pt x="0" y="21600"/>
                </a:lnTo>
                <a:lnTo>
                  <a:pt x="3424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Ausência da respi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26920" y="227664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Impossibilidade da oxigenação dos órgãos vit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PC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341000"/>
            <a:ext cx="4259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Dificuldade respiratória </a:t>
            </a:r>
            <a:r>
              <a:rPr b="1" lang="pt-BR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 Paragem respiratória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Ausência de pulso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Perda de consciênci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Imobilidade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Palidez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Cianose de extremidades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Midríase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2" descr="http://2.bp.blogspot.com/-LolAgJXegv4/TbrJw7CKuYI/AAAAAAAAAXE/Cp98ku4Rec8/s320/MwKBT0sF_desfibrilador1.jpg"/>
          <p:cNvPicPr/>
          <p:nvPr/>
        </p:nvPicPr>
        <p:blipFill>
          <a:blip r:embed="rId1"/>
          <a:stretch/>
        </p:blipFill>
        <p:spPr>
          <a:xfrm>
            <a:off x="4932360" y="3357720"/>
            <a:ext cx="3768840" cy="282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http://t0.gstatic.com/images?q=tbn:ANd9GcQhz-JhCsYgtpMVGtV1GngxBnqk_POh2jAiPb-ScizqAkIXJP_jsA"/>
          <p:cNvPicPr/>
          <p:nvPr/>
        </p:nvPicPr>
        <p:blipFill>
          <a:blip r:embed="rId2"/>
          <a:stretch/>
        </p:blipFill>
        <p:spPr>
          <a:xfrm>
            <a:off x="4562640" y="1341360"/>
            <a:ext cx="2746080" cy="194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http://t3.gstatic.com/images?q=tbn:ANd9GcSDnp4Hx4Xax-GaSwMF6Jw1dZiEQrwqAS3CwGfJSyv8cBNQg8fWTg&amp;t=1"/>
          <p:cNvPicPr/>
          <p:nvPr/>
        </p:nvPicPr>
        <p:blipFill>
          <a:blip r:embed="rId3"/>
          <a:stretch/>
        </p:blipFill>
        <p:spPr>
          <a:xfrm>
            <a:off x="6515280" y="1341360"/>
            <a:ext cx="2628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par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980640"/>
            <a:ext cx="5267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Na Sala de Emergência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Tábua de massagem cardíaca,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edicamentos de atendimento de paragem cardíac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aterial de entubaçã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ondas de aspiraçã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mbu e máscar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oluções endovenos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eringas + agulh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Equipos de solução venosa e sangue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parelho de desfibrilação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Balao de oxigeni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012000" y="1096920"/>
            <a:ext cx="2089080" cy="2979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5991120" y="4191120"/>
            <a:ext cx="225288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ssuscitação Cardiorrespirató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É um conjunto de manobras destinadas a garantir a oxigenacao dos órgãos quando a circulação do sangue de uma pessoa para paragem cardiorrespirato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Objectiv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Consiste na manutencao da via respiratoria pervia, fornecimento de ventilacao artificial por medidas de urgencia para respiracao e producao de circulacao artificial pela massagem cardiaca extern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TAPAS DE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- Vias aereas(Airway)-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ter as vias aereas permeave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- Respiracao (Breathing)-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eservar a respiracao ( respiracao boca-boca, boca-mascara, ventilacao artificial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- Circulacao (Circulation)-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arantir a distribuicao de nutrientes e oxigenio as celulas (pressao intratoraxic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142640"/>
            <a:ext cx="83818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A RCP inicia-se com os cuidados para a desobstrução das vias aéreas mediante a retirada de próteses, corpos estranhos e secreçõe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A seguir, são realizados os procedimentos de abertura das vias aéreas superiore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No caso de o utente não apresentar trauma, devemos hiperextender seu pescoço colocando uma das mãos sob sua nuca, levantando-a ligeiramente; com a outra mão posicionada sobre sua testa, traciona-se a cabeça para trás; ou pode-se colocar um coxim sob seus ombros, de forma a provocar a </a:t>
            </a:r>
            <a:r>
              <a:rPr b="0" lang="pt-PT" sz="2600" spc="-1" strike="noStrike">
                <a:solidFill>
                  <a:srgbClr val="000066"/>
                </a:solidFill>
                <a:latin typeface="Arial"/>
              </a:rPr>
              <a:t>hiperextensão desejad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No final do modulo o estudante tera adiquirido as seguintes competenci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ferencia emergencia de urge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tende o paciente e familia de forma humaniz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dentifica os sinais e sintomas das patologi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lecciona o material e EPI necessario para execussao das tecnic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ecuta os procedimentos correctament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gista no processo do paci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755640" y="2494080"/>
            <a:ext cx="2457360" cy="27367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395280" y="52308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00000"/>
                </a:solidFill>
                <a:latin typeface="Arial"/>
              </a:rPr>
              <a:t>1. </a:t>
            </a: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Avaliação da ví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960720" cy="44384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2124000" y="1054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c00000"/>
                </a:solidFill>
                <a:latin typeface="Arial"/>
              </a:rPr>
              <a:t>2. </a:t>
            </a:r>
            <a:r>
              <a:rPr b="1" lang="pt-PT" sz="1800" spc="-1" strike="noStrike">
                <a:solidFill>
                  <a:srgbClr val="00007d"/>
                </a:solidFill>
                <a:latin typeface="Arial"/>
              </a:rPr>
              <a:t>Obstrucao</a:t>
            </a:r>
            <a:r>
              <a:rPr b="1" lang="pt-PT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da via aé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pela língua e epigl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788000" y="544500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c00000"/>
                </a:solidFill>
                <a:uFillTx/>
                <a:latin typeface="Arial"/>
              </a:rPr>
              <a:t>3</a:t>
            </a:r>
            <a:r>
              <a:rPr b="1" lang="pt-BR" sz="1800" spc="-1" strike="noStrike" u="sng">
                <a:solidFill>
                  <a:srgbClr val="002060"/>
                </a:solidFill>
                <a:uFillTx/>
                <a:latin typeface="Arial"/>
              </a:rPr>
              <a:t>. Abertura da via aérea </a:t>
            </a: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- o alívio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obstrução se dá pela inclinação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cabeça e elevação do que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4516560" y="1197000"/>
            <a:ext cx="4303440" cy="4746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382920" cy="25210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1042920" y="4292640"/>
            <a:ext cx="28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00000"/>
                </a:solidFill>
                <a:latin typeface="Arial"/>
              </a:rPr>
              <a:t>4. </a:t>
            </a: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Ventilação artif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2 insufl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68360" y="1066680"/>
            <a:ext cx="4032360" cy="1576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3348000" y="2733840"/>
            <a:ext cx="5516640" cy="3492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500720" y="1413000"/>
            <a:ext cx="439236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5.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 relação insuflação:compres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2:15  - Adu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1:5 - Crianç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nobras RCP em crianç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928800" y="1628640"/>
            <a:ext cx="78786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OBSTRUCAO DAS VIAS AEREAS SUPERIOR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TRUCAO DAS VIAS AEREA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 uma emergencia medica que pode estar ocluida de maneira parcial complet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Sinais e sintomas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Sufocaca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parencia apreensiv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stridor expiratorio e inspiratori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Uso da musculatura acessoria (retracao supra esternal e intercostal)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timento de asas de nariz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nsiedade crescent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nquietacao e confusao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752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TAMENTO/CUIDADOS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nobra de inclinacao da cabeca e levantamento do queixo-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z-se com o paciente em decubito dorsa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nobra de golpe mandibular-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ao levantados os angulos da mandibula inferior do paciente e desloca-se a mandibula para dia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sercao da via aerea orofaringea-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inserido sobre a parte posterior da lingua dentro da faringe posterior inferior em paciente que respira de maneira expontane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tubacao endotraqueal-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iste em estabelecer e manter a via aerea nos pacientes com insuficiencia respiratoria ou hipox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EMORRAGIA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É a saída de sangue do espaço intravascular (vasos e coração) para o compartimento extravascular ou para fora do organism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Tip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A hemorragia pode ser interna ou extern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URGENCIAS E EMERGENCIAS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 IN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332000" y="2276640"/>
            <a:ext cx="230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826920" y="191628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lteração do nível de consciência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Agressividade ou passivida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Tremores e arrepios do corp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Pulso rápido e frac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espiração rápida e artifici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Pele pálida, fria e úmid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Sudorese;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Pupilas dilat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5435640" y="1989000"/>
            <a:ext cx="331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7d"/>
                </a:solidFill>
                <a:latin typeface="Arial"/>
              </a:rPr>
              <a:t>Fraquez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7d"/>
                </a:solidFill>
                <a:latin typeface="Arial"/>
              </a:rPr>
              <a:t>Se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7d"/>
                </a:solidFill>
                <a:latin typeface="Arial"/>
              </a:rPr>
              <a:t>Fri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7d"/>
                </a:solidFill>
                <a:latin typeface="Arial"/>
              </a:rPr>
              <a:t>Ansiedade ou indiferença</a:t>
            </a:r>
            <a:r>
              <a:rPr b="0" i="1" lang="pt-BR" sz="1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1042920" y="1268280"/>
            <a:ext cx="26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SI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5724360" y="1197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SINT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 EX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755640" y="134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3708360" y="1341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VEN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6372360" y="1341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CAP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755640" y="2133720"/>
            <a:ext cx="244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Sangue é vermelho viv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Rico em oxigên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Perda é pulsátil, obedecendo às contrações sistólicas do coração. </a:t>
            </a:r>
            <a:r>
              <a:rPr b="1" i="1" lang="pt-BR" sz="2400" spc="-1" strike="noStrike">
                <a:solidFill>
                  <a:srgbClr val="00007d"/>
                </a:solidFill>
                <a:latin typeface="Arial"/>
              </a:rPr>
              <a:t>É mais g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3635280" y="2276640"/>
            <a:ext cx="216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Vermelho esc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obre em oxig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erda continua e com pouca pressao. </a:t>
            </a:r>
            <a:r>
              <a:rPr b="1" i="1" lang="en-US" sz="2400" spc="-1" strike="noStrike">
                <a:solidFill>
                  <a:srgbClr val="00007d"/>
                </a:solidFill>
                <a:latin typeface="Arial"/>
              </a:rPr>
              <a:t>Menos grave que a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5"/>
          <p:cNvSpPr/>
          <p:nvPr/>
        </p:nvSpPr>
        <p:spPr>
          <a:xfrm>
            <a:off x="6659640" y="2421000"/>
            <a:ext cx="230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7d"/>
                </a:solidFill>
                <a:latin typeface="Arial"/>
              </a:rPr>
              <a:t>Pequenas perdas de sangue, em vasos de pequeno calibre que recobrem a superfície do corpo. </a:t>
            </a:r>
            <a:r>
              <a:rPr b="1" i="1" lang="pt-BR" sz="2400" spc="-1" strike="noStrike">
                <a:solidFill>
                  <a:srgbClr val="00007d"/>
                </a:solidFill>
                <a:latin typeface="Arial"/>
              </a:rPr>
              <a:t>Sao as menos gr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EQUENCIA E COMPLICACO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1. Choque hipovolêmico: perda rápida de grande quantidade de sangu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2. Anemia : sangramento crônico e repetido (ex : úlcera gástric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3. Asfixia : quando há hemorragia pulmona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  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4. Tamponamento cardíaco : especialmente por ruptura ventricular (infarto agudo do miocárdio)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  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5. Hemorragia intracraniana: o sangramento pode causar destruição do tecido nervoso e compressão dos vasos adjacentes, causando isquem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.As hemorragias pequenas em locais vitais podem ser fatais.Por exemplo: a ocorrência de um hemorragia no espaço subaracnóide pode causar vasoconstrição arterial prolongada, que por sua vez pode causar infarto do tecido nervoso e a morte do pa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000066"/>
                </a:solidFill>
                <a:latin typeface="Arial"/>
              </a:rPr>
              <a:t>Hemorragia Intern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66"/>
                </a:solidFill>
                <a:latin typeface="Arial"/>
              </a:rPr>
              <a:t>Deitar o acidentado e elevar os membros inferiores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66"/>
                </a:solidFill>
                <a:latin typeface="Arial"/>
              </a:rPr>
              <a:t>Prevenir o estado de choque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66"/>
                </a:solidFill>
                <a:latin typeface="Arial"/>
              </a:rPr>
              <a:t>Referir a equipe de cirurgi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66"/>
                </a:solidFill>
                <a:latin typeface="Arial"/>
              </a:rPr>
              <a:t>Controlar regularmente os parametros hemodinamicos e circulatorio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66"/>
                </a:solidFill>
                <a:latin typeface="Arial"/>
              </a:rPr>
              <a:t>Hemorragia Extern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66"/>
                </a:solidFill>
                <a:latin typeface="Arial"/>
              </a:rPr>
              <a:t>Deitar a vítima; o repouso da parte ferida ajuda a formação de um coágulo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66"/>
                </a:solidFill>
                <a:latin typeface="Arial"/>
              </a:rPr>
              <a:t>Se o ferimento estiver coberto pela roupa, descobri-lo (evitar, porém, o resfriamento do acidentado)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66"/>
                </a:solidFill>
                <a:latin typeface="Arial"/>
              </a:rPr>
              <a:t>Deter a hemorragia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66"/>
                </a:solidFill>
                <a:latin typeface="Arial"/>
              </a:rPr>
              <a:t>Evitar o estado de choqu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NICAS PARA PARAR HEMORRA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levacao da regiao acident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amponamen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pressao arterial ( directa e indirect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rniquete ( como ultima tentativ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HOQU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É uma crise aguda de insuficiência cardiovascular, ou seja, o coracao e vasos não são capazes de irrigar todos os tecidos do corpo com oxigenio sufi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CHOQ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Hipovolemic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 hemorragia grave, desidratacao)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ptic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bacterias que produzem endotoxina que causa vasodilatacao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rdiogenic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( falencia do coracao em manter pressao sanguine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filatic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(causada por alergeno derivado dedrogas, mordedura ou picadas de insectos, medicamentos, alimentos, derivados de sangue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 hipovolemic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142640"/>
            <a:ext cx="83818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Quadro clin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Taquicardia, Hipotensão, Sede,Oliguria,  Alterações de comportamento, Taquipne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ontrole rigoroso da Tensao Arteri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Reposição dos volumes dos líquidos perdidos:  - SF a 0,9% e Ringer Lacta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Preparo do paciente para cirurgia em caso de hemorragia persistente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dministração de anti-hemorrágicas prescrito pelo méd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ontrole e vigilância constantes no pacien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GENCIAS E EMERG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Urgências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são todas as situações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ínicas de instalação súbita,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desde as não graves até às graves,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 risco de estabelecimento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de falência de funções vi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• </a:t>
            </a: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Emergências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são todas as situações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ínicas de estabelecimento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súbito, em que existe, estabelecid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u eminente, o compromisso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de uma ou mais funções vitais. ( Rede de referencia hospitalar, Portugal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 ANAFILAT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143000"/>
            <a:ext cx="83818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Quadro clin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ianose, comichao, perda da consciência, paragem cardiorrespiratoria progressiva, queda repentina da tensao sanguínea, respiração ruidosa, tosse, rubor de fac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olocar o paciente em posição supin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- manter livre as vias aére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- Monitorar os sinais vit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- Administrar oxigênio, epenifrina, aminofilina,corticoides injetáveis, segundo a prescrica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- Manter veia canalizada com soluções de cloreto de sódio a 0,9%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RAUMATISMO E POLITRAUMATISMO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raumatism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 uma lesao ou ferida mais ou menos estensa, produzida por accao violenta de natureza fisica ou quimica externa ao organism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olitraumatismo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São lesões múltiplas de diversas naturezas que podem comprometer diversos órgãos e sistem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TRAUMATISM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tuso: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a transferencia de energia em uma superficie corporal externa, nao penetrando 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Penetrante-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a transferencia de energia em uma area concentrada, com isso ha pouca dispersao de energia provocando laceracao d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ensa dor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de ter sangrament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ficuldade em movimentar o local afect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 for na cabeca pode ter perda de visao, incosciencia, sangramento nasa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539640" y="1142640"/>
            <a:ext cx="82994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Controle da hemorrag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Punção de veia para reposição das perdas sangüíneas e administração de medicamento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ondagem vesical, se prescrita, para avaliação do débito urinári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Controle rigoroso da administração e perda de líquidos, PVC e sinais vitai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Imobilização das fraturas, observando as extremidades (coloração, temperatura e pulso)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Avaliação da ansiedade do paciente, orientando e esclarecendo sobre o seu estado, procedimentos e dúvida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QUEIMADURA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imadur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ao lesoes na pele, provocada geralmente pelo calor ou pelo frio, mas que podem tambem ser provocadas pela electricidade, por contacto com certos produtos quimicos, radiacoes, ou ate por fricc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uanto a profundi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uanto a extens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67480" cy="936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o a profundida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eimaduras de 1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ele encontra-se vermelha e dolorida.  Atinge a epiderme. A resposta capilar é normal. Com o tempo, a pele descasca-se mas cura-se espontaneamente depois de 5 a 7 dias. Este estado não requer tratamento. </a:t>
            </a: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OS ETICO-LEG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A relação entre enfermeiro e pacientes  e assentada em bases humanitárias, éticas e legais, garante a melhor relação interpessoal e favorece o correto processo diagnóstic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 terapêut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Responsabilidade de enfermagem: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ocorre quando o enfermeiro não cumpre a obrigação que tem em relação ao paciente,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usando-lhe da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eimaduras superficiais de 2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ele está inchada, vermelha com bolhas e dolorid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resposta capilar é normal. Quando as bolhas são abertas, a pele por baixo das bolhas é vermelha e brilha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 a queimadura for mantida livre de infecções, a pele cura-se espontaneamente entre 10 a 14 di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143000"/>
            <a:ext cx="641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Queimaduras profundas de 2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ele está inchada, vermelha, rosada ou pálida. Sente-se a pele grossa e existem bolh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inge a derm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ele não fica branca quando se testa a resposta capilar. As sensações de dor e toque estão reduzid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queimadura cura-se deixando uma cicatriz, normalmente, no decurso de três seman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6" name="Picture 2" descr="http://4.bp.blogspot.com/_pMxMXFn7L-4/TOmTpQzbMMI/AAAAAAAARF8/RyNteagoYLU/s1600/queimadura+2%25C2%25BA+grau.jpg"/>
          <p:cNvPicPr/>
          <p:nvPr/>
        </p:nvPicPr>
        <p:blipFill>
          <a:blip r:embed="rId1"/>
          <a:stretch/>
        </p:blipFill>
        <p:spPr>
          <a:xfrm>
            <a:off x="6227640" y="1628640"/>
            <a:ext cx="28083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008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143000"/>
            <a:ext cx="627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Queimaduras de 3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pele está branca, castanha ou preta e se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existem bolh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inge os musculos e os oss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existe sensação de toque ou dor. Não existe resposta capilar e por isso não há sinais de circulação de sangue através dos tecidos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9" name="Picture 2" descr="http://4.bp.blogspot.com/_pMxMXFn7L-4/TOmUKll0cRI/AAAAAAAARGA/2JDrT2EfK9o/s1600/queimadura+3%25C2%25BA+grau.jpg"/>
          <p:cNvPicPr/>
          <p:nvPr/>
        </p:nvPicPr>
        <p:blipFill>
          <a:blip r:embed="rId1"/>
          <a:stretch/>
        </p:blipFill>
        <p:spPr>
          <a:xfrm>
            <a:off x="6372360" y="1989000"/>
            <a:ext cx="24667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O A EXTENS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Varios metodos sao usados para estimar a area de superficie corporal total (ASCT) lesada por queimadura, entre eles esta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1. Regra dos noves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: que designa percentuais em multiplos de nove para as principais superficies corporais. A cabeca e os membros superiores tem a percentagem de 9%, MI 18% cada, Torax e Abdomem 18% cada e orgaos genitais 1%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2.Metodo de Lund e Browder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vide o corpo em areas pequenas e estima a percentagem da area queimada com a idade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. Metodo de palm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ste metodo usa a palma do paciente para medir a percentagem da zona queimada, a palma e de 1%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ra dos no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2" descr="http://3.bp.blogspot.com/_pMxMXFn7L-4/TOh2CJOmIsI/AAAAAAAARF4/-ok1NmwRlyA/s1600/queimaduras.jpg"/>
          <p:cNvPicPr/>
          <p:nvPr/>
        </p:nvPicPr>
        <p:blipFill>
          <a:blip r:embed="rId1"/>
          <a:stretch/>
        </p:blipFill>
        <p:spPr>
          <a:xfrm>
            <a:off x="1835280" y="1052640"/>
            <a:ext cx="51847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ICACO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feccoes da pel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Queloid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ratur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rda de grande quantidade de liqui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8360" y="1143000"/>
            <a:ext cx="8370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nalizar veia e administrar muitos fluidos EV segundo a prescricao medic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centivar o paciente a beber muito liqui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onda vesical para medicao de diures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ministrar analgesicos segundo a prescric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rolar os SV regularm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zer penso com sulfadiazina de prat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ercicio de fisioterapia para impedir atrofia muscular e mobili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dministrar VAT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ducacao ao paciente e famil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INTOXICACAO EXOGENA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as de intox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gest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alac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aminacao cutane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dutos alimentar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secticidas (organofosforados e carbamato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r salicila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r animais venenosos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9640" y="83664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Responsabilidade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 enfermeiro nao deve se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Negligente, imprudente e impericia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impir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1. Negligente-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titui a omissão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ou a não observância de determinados deveres por parte do médico. Exemplo: procedimentos vi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2. Imprudente-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titui a omissão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de cautela, precipitação ou audácia d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to médico. Exemplo: utilizacao de tecnica de penso nao adequ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OXICACAO EXOGE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Intoxicação 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é uma condição seguida da administração de substâncias psicoativas e resultante em distúrbios no nível de consciência, congnição, percepção, julgamento, afeto ou comportamento, ou outra resposta ou função psicofisiológ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Intoxicacao exogena: pode ser definida como consequencia clinica e ou bioquimicas, da exposicao a substancias quimicas encontradas no ambiente isolad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dro clin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324000" y="1341360"/>
            <a:ext cx="251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SINTOMAS E SINAIS DIGES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 Vómi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 Diarr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 Hemorragias digestivas  - Acção directa do tó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3564000" y="1413000"/>
            <a:ext cx="489564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SINTOMAS E SINAIS RESPIRATÓ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Obstrução das vias aé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-Paralisia musc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-Depressão do centro respirató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-Interferência com a hemoglobina e normal transporte de oxigé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-Diminuição da pressão ar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-Interferência com os sistemas enzimáticos celulares que têm a cargo a utilização do oxigénio pela célul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7d"/>
                </a:solidFill>
                <a:latin typeface="Arial"/>
              </a:rPr>
              <a:t>- Edema pulmonar agudo – inalação de gases e aspiração de liqu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395280" y="177336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SINTOMAS E SINAIS RE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 Oligú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 Insuficiência renal ag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3059280" y="1773360"/>
            <a:ext cx="295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SINTOMAS E SINAIS NEUR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 Convulsões – A morte ocorre por espasmos dos músculos respiratórios ou depressão respiratória após convuls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C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Pupila    midríase            Mi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250920" y="4149720"/>
            <a:ext cx="28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SINTOMAS E SINAIS CARDIOVASCU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 A lesão do miocárdio por tóxicos é r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 A taquicardia é um sinal frequ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5867280" y="1773360"/>
            <a:ext cx="3025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SINTOMAS E SINAIS HEMATOLÓ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 Reacções hemolí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  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Anemia, Febre,  Vómitos / naúseas,  Dor abdo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 Discrasias sanguín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 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-Agranulocit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    </a:t>
            </a:r>
            <a:r>
              <a:rPr b="1" lang="pt-BR" sz="1800" spc="-1" strike="noStrike">
                <a:solidFill>
                  <a:srgbClr val="00007d"/>
                </a:solidFill>
                <a:latin typeface="Arial"/>
              </a:rPr>
              <a:t>Anemia, Leucopenia e Trombocitop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idas Ger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valiar os sinais vitais e mantê-los em parâmetro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dequado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vagem gas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rvao activado, apos a lavagem gastrica: consiste na absorsao de compostos presentes no intestino e os ja absorvi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xativos: manitol a 20% 150 a 200ml de 8/8h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RDEDURAS E PICADA POR ANIMAI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DEDURAS E PICA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fere se accao ou efeito de morder, dentada ou picada como consequencia duma accao animal ou huma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É o padrão de encaixe dos dentes inferiores aos superiores na arcada dentária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143000"/>
            <a:ext cx="4043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s mordeduras  mais frequentes sa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a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br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oedor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nimais ferroz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5003640" y="1125360"/>
            <a:ext cx="36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As picadas mais frequentes s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bel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Ves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Formi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osqu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os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eixes venen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EQUENCIAS DE MORDEDURA E PICA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23640" y="141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aiv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Venen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Hemorragi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fecçã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erda de tecido, em ferimentos desfigurante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Tétan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Reacções alérgic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NA MORDEDUR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infectar o local da mordedur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 a ferida estiver inchada, aplicar gelo embrulhado num pano limpo por 10 minuto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Informar-se se o cão está correctamente vacinad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Providencie que a vítima receba a vacina do tétano, se não a tiver toma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unca se deve suturar a feri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IDADOS NA MORDEDURA HUMA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Lavar o ferimento com água e sabão pelo menos durante 5 minutos, mas sem esfregar com forç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infectar o local da mordedur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Cobrir o ferimento com compressa esterilizad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Se estiver inchada colocar gelo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3. Impirico-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stitui a inaptidão,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ignorância, falta de destreza ou insuficiência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 conhecimento técnico por parte do enfermeiro.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emplo: introdução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de alimentação no trato respiratóri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través de sonda mal posicion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NA P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Não retire os ferrões com pinças nem os esprema. Raspe o local com lâmin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Desinfectar com álcool ou outro anti-séptico (Betadine dérmico)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66"/>
                </a:solidFill>
                <a:latin typeface="Arial"/>
              </a:rPr>
              <a:t>Aplicar gelo localm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SMAIO/SINCOP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MA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 a perda subita e transitoria de consciencia e consequentemente da postura, devido a isquemia cerebral transitoria ( reducao na irrigacao do sangue para o cerebro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aus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Hipoglicemi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Factor emocional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Dor extrem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Ambiente confin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ontu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Sensação de mal est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Pulso rápido e frac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Respiração presente de ritmos variad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Tremor nas sobrancelh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Pele fria, pálida e húmid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Inconsciência superfic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A PREST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Arejar o ambiente, ou transportar a vítima para um local com melhor ventilação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Elevar os membros inferiores, com uma mochila, roupas, etc. com isso, o sangue circula em maior quantidade no cérebro e nos órgãos nobres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Virar a cabeça para o lado, evitando que a vítima venha a vomitar e possa se asfixiar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Afrouxar a roupa, para uma melhor circulação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Após o desmaio ter passado, não dê água imediatamente, para evitar que a vítima se afogue, pois ainda não está com seus reflexos recuperados totalmente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O mesmo em relação a deixá-la caminhar sozinha imediatamente após o desmaio. Faça-a sentar e respirar fundo, após auxilie-a a dar uma volta, respirando fundo e devagar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Com isso, o organismo se readapta a posição vertical e evita que ela possa desmaiar novamente, o que pode ocorrer se ela levantar bruscamente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Após esses procedimentos, pode dar água a vítima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nvulsã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Perda súbita da consciência acompanhada de contrações musculares bruscas e involuntárias, conhecida popularmente como “ataque”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Causas variadas: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Epilepsi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Febre alt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Traumatismo cranian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Infecções do cérebro, HIV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Malária, raiva, sífilis, tétan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Fluxo sangüíneo inadequado para o cérebr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Hipertensã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Hemorragia intracraniana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Inconsciê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Queda abrupta da vitim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Salivação abundante e vômi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Contração brusca e involuntária dos múscul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Enrijecimento da mandíbula, travando os dent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Relaxamento dos esfíncteres (urina e/ou fezes soltas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Esqueci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143000"/>
            <a:ext cx="83818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Convulsões Generalizadas </a:t>
            </a: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- ocorrem em qualquer idade, em qualquer momento. O intervalo entre as crises varia bastante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Convulsão generalizada aguda </a:t>
            </a: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- caracterizado por perda da consciência e contrações musculares involuntárias tônico-clônicas generalizada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Convulsões de grande mal </a:t>
            </a: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(motoras principais) - convulsões contínuas persistentes ou episódios graves consecutivos sem a restauração da consciência.  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142640"/>
            <a:ext cx="838188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) Proteger o paciente evitar que o paciente se bata nos objetos que o rodeiam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b) Colocar o paciente em decúbito lateral para evitar bronco-aspiração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) Proteger a boca e isolar as vias respiratórias, e colocar uma compressa dobrada entre os dent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) Administrar oxigên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e) Controlar os movimentos do paciente, segurando-o com cuid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f) Aplicar tratamento farmacológico de acordo com o prescrito. O fármaco mais usado durante a crise é o diazepam EV lento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h) Quando o paciente despertar, reoriente-o quanto ao amb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INSOLACAO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delidad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fidencialidad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eracidade das informações prestad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OL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 o conjunto de sintomas que acometem uma pessoa exposta demasiadamente ao so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contece quando o organismo fica incapacitado de controlar a sua temperatu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ntensa falta de ar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esidratação e a queimadura da pele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efalei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Nauseas e tontur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Temperatura corporal elevad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Diarre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Pele quente, avermelhada e sec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Extremidades roxead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Inconscienc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Pulso rapido e fort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omichao terrivel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evar o paciente para um local fresco e arejad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ita-la com a cabeca elev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locar compressas frias sobre a cabeca e envolver o corpo com taoalha molhada (agua e vinagre)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caminhar o paciente ao clin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centivar a beber muito liqui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 NECESSA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Carrinha de emergencia contendo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: tabuleiro contendo, canula, ambu, seringas, agulhas, esfigmomanometro, estetoscopio, termometro clinico, espatula, fios de sutura, kit A de penso, garote, cateter venoso, adesivo, couvete, taca com quadrados de algodao, laringoscopio, otoscopio, ataduras, algodao, gesso, sondas, vaselina e lidocaina loca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cia com agua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spirador, Balao de oxigenio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Anti-septicos, soro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iombo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uvas de procedimento ou cirurgic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scaras descartavei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vental impermeave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arret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culos de protecc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Rede de Referenciação Hospitalar de Urgência/Emergência 14 de Novembro de 2001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orensen e Luckmann, Enfermagem Fundamental, 3ª edicao, Edictora Lusodidactica, Lisboa, 1998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melter e Bare, Enfermagem Medico-cirurgica, Editora Guanabarra, Vol 2, 10ª Edicao, 2005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2.unoeste.br/~aulasmedicina/arquivos/07e 08.../saud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ET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O atendimento de urgência é uma obrigação do Esta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O direito ao atendimento de emergência é igual ao direito à vida, à educação, ao trabalho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tc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oda acção no </a:t>
            </a: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setor de urgência deve ser fundamentada em rotinas próprias e protocolos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ssistenciais previamente aprovados e constantemente revist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1:17:46Z</dcterms:created>
  <dc:creator>Hamido</dc:creator>
  <dc:description/>
  <dc:language>en-US</dc:language>
  <cp:lastModifiedBy>Maputo</cp:lastModifiedBy>
  <dcterms:modified xsi:type="dcterms:W3CDTF">2011-10-11T13:46:36Z</dcterms:modified>
  <cp:revision>28</cp:revision>
  <dc:subject/>
  <dc:title>Paragem Cardiorrespiratória</dc:title>
</cp:coreProperties>
</file>