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A182-A504-48FF-9EFD-FBCDC4D158BD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0BD6-4CF9-40D5-83CA-356170C68985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007B4-5AA1-4807-9567-B37F347A7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15A3-DD44-4063-86FC-5317FCC06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CBE13-375B-407B-B9C5-892F4081E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7D00-F290-452A-92E7-F1725441B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1C2CE-B293-49F5-A6B0-1F5060CB1B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51B6D-FB68-4C9D-B6F3-F1E90FE558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5C90-2270-4D65-B16F-D81E3881A1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A7753-E61B-4FC8-8474-AE243196AD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A318-B78E-4992-9433-383B5AA6DC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D617B-B57A-40F3-9B67-48FB6B453B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749FE-9FA0-4DE0-B1EB-24FC465E19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F0021-86D9-4BEF-9BB4-5B6703F03E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390C4-03A9-4183-AEFE-389AA8FF5A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3AFA2-99FC-4EEE-B059-47BA60EA5B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912FB-AEB9-4911-BFA8-146E8E376C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22969-6838-4758-9C40-ECBE736E6D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1ADE3-F57D-44DE-8F41-F53EB994FD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A518E-2441-4F8D-92C8-86EFACAC7B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42E83-A15E-4078-B49F-6DD777BAC4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C90D8-DB25-4D75-95DC-165CC330F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A789-1B96-42D3-A022-1336E36475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71B3-8038-4C00-A30D-40BC2620CC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15640-6D83-4D4D-A799-F910D14CFC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C7C37-2C8F-4C54-B7F8-8ACEE3DED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DAB3-BA87-4232-9FE0-EC7A126E1E0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4F49-7FA9-455D-B39D-61FDFF17FF7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SUBMÓDULO  11: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ATENÇÃO À PEQUENAS CIRURGIAS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98C-15FF-49C1-BB2C-7D9E2705DF6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1676520" y="6400800"/>
            <a:ext cx="6705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 e Enfermagem de Saude Materno-Infan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20574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 Quanto à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to à absorção os fios podem s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 Absorvíveis- São os que podem ser digeridos pelas células do organismo durante ou após a cicatrização dos tecidos. Ex: Catgut (Simples ou plain, cromado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agéno ( Simples,cromado e extracromado)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3373-6415-4C61-B037-865696CAEC7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Não absorvíveis- São aqueles que as células do organismo não conseguem digerir, portanto estes fios devem ser tirados depois da cicatriza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tipo fios geralmente é usada para suturas superfici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Seda cirúrgica, algodão cirúrgico, as metálicase as sintética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5EDB-D1A6-4893-8E34-26B8BAB9AC2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rão apresentar-se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Embalagem de pequenas carteiras duplas, estando a pequena dentro da gran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Rolos como de linha de costura, podendo serem pequenos, portanto individuais ou ma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) Tubos de vidro semelhantes aos tubos de colheita de sangue ( mergulhados em solução alcoolica )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FF90-8BC1-4DE9-81ED-6B0B22D5A25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 DA 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também se podem apresentar com agulha já adaptada ou não, sendo assim classificados d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Traumáticos-Aquelas que não possuem a agulha adaptada (Agulha não embutida). Razão porque traumatizam m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 Atraumáticas-Aquelas que se apresentam com agulha já adaptada da fábrica (Agulha embutida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9EA-8F1D-4B1E-ABD6-8F53F93F8DC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unção das agulhas é facilitar a passagem da linha pelos teci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S DE AGULH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agulhas podem s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vas,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4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2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/8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2CF3-6842-4F59-9DA4-D61E4A56FC3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 acordo com o seu formato as agulhas podem ser classificadas 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Cortantes ou triangulares-Este tipo de agulhas origina um pequeno corte no tecido e o fio tem tendência de aumentar o cor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mais usadas para suturar os tendõe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Não cortantes ou redondas-Este tipo de agulhas apresenta o corpo arredondado e são usadas em tecidos pouco resist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Fígado, rin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4509-17D7-493F-AFDA-EA3C9CEA5A2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O DE CADA TIPO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uso das agulhas depende do tip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gulhas Curvas-São mais utilizadas para suturar tecidos profundos e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gulhas Semi-rectas-São utilizadas para suturar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Agulhas rectas-São utilizadas para algumas suturas gastro-intestin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r a utilidade das agulhas circula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s agulhas variam em tamanho e calibr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F69-6A4D-4CBF-9203-8F0478DF2D3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ITUI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agulhas são constituidas da seguinte forma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 Fenda-orifício onde se mete o f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Corpo-É a parte que constitue a verdadeira peça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ralmente é feita de aço inoxdáve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Ponta- È a parte terminal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87BE-51EE-4BF1-9FA4-15A98EF21F9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istem alguns factores que influenciam a escolha da agulha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manh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tecido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e de sensibilidade da área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ência do Cirurgiã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tina da Sala de Oper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57865-1E14-4AF7-B086-CAE022A81C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PI: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máscara,avental plástico,barrete e óculos de protec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ERI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it de sutura ( couvete, tesoura pequena, pinça porta-agulha, pinça de Kocher, pinça de dissecçã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 d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compress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erelizad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E41A-4195-45DC-A1ED-5132272EF2D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deve ser capaz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Conceitua suturas, abcessos e corpos estranhos</a:t>
            </a: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Descreve os sinais e sintomas das patologias,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Menciona o material e o EPI necessario para as tecnicas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ff0000"/>
                </a:solidFill>
                <a:latin typeface="Arial"/>
                <a:ea typeface="Arial"/>
              </a:rPr>
              <a:t>Executa as tecnicas de acordo com os procedimentos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Enfermagem humanizados ao utente durante a execussão da técnica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urgência e emergência médico-cirúrgica, bem como aplicar medidas preventivas das complicações.</a:t>
            </a:r>
            <a:endParaRPr b="1" lang="en-US" sz="22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57040" indent="-2570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-78480" y="7238880"/>
            <a:ext cx="80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E0E8-E10D-45DE-B35D-3FAE13E535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. DE MATERIAL NECESSÁRIO 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ção fisiológica 0,9 % ; adesiv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des com sacos plásticos para o lixo comum e lixo infeccios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BC3-33C0-4EA7-B1AE-1DFFE9E7152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e o material para junto do pacient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mprimente o paciente e apresente-se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ique o procedimento a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peça a sua colaboração; posicione-o de modo a facilitar a realização do procedimento; mantenha a sua privacidad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AEA5-79EF-4FCC-AC50-83E1D1A725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 ou freccione-as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o kit de suturas pela parte extern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Kocher segurando-a com ajuda do papel do campo e coloque-a no bordo do campo estéril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10B1-90C0-415E-BFC6-086E9D6D309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e as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dissecção com ajuda da primeir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uma compressa e dobre-a em 4 partes fixando-a na pinça de Kocher com ajuda da pinça de dissecção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EC80-2901-41E4-8B66-B950DE2204C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ba a compressa com a solução fisiológica e desinfecte a ferida; repetir esta operação até a ferida ficar limpa mudando sempre a compress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que o campo aberto por cima da ferid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a carteira da linha de sutura e deixe cair a linha no tabuleir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010D-66CA-49CF-9E6B-79554CDB179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gue na pinça de Kocher com a mão direita; fixe a agulha e pegue a pinça de Dissecção com a mão esquer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a pinça de Dissecção fixe o bordo direito da ferida, puncione-o com agulha e puxe a linha até ficar 1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4A64-D636-4C50-8EF0-D8B50557444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rola a linha na pinça porta-agulha;com a mesma pinça pega na ponta inicial da linha e faça o nó ;corte a linha deixando cerca de 0,5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a mesma técnica noutro bordo e assim sucessivamente até terminar a sutur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nfecte e seque a feri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F87D-4D2D-4055-B62B-F765855485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o penso simples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s luvas de procedimento e deite-as em recipiente com saco plástico para lixo infeccios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giste o procedimento no Diário de Enfermagem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68E-2BAA-4213-B114-6CE4D10FB2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usar agulha embutida, ter o cuidado de não apertar com a pinça porta-agulhas a extremidade da agulha onde o fio funde porque é zona oca, porque pode-se parti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mpre que se quebrar uma agulha deve-se certificar se todos os pedaços foram retirados.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BFDE-F44D-495F-A1C0-72CA1457A73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orensen e Luckmann, Enfermagem Fundamental, 3ª edicao, Editora Lusodidactica, Lisboa, 199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5F93-B50F-49BB-B8C5-A1ABD23D3E6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compen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37944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 Black"/>
                <a:ea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410C-11FE-41B7-A15A-128DD6CADB4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TURA-É a aplicação de qualquer material com o fim de aproximar os tecidos, mantendo-os cosidos até que a cicatrização se concl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o de sutura e um material flexivel incerrido atraves dos tecidos (com o uso de uma agulha) para aproximar as suas extremidades e diminuir o espaco morto. (Sorensen e Luckmann, 1998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1C92-E25E-4718-9A8C-87CC5A0CA4A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TIPOS DE SUT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xistem dois tipos de sutura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1-Suturas contínuas-São aquelas em que o fio é consecutivo sem sofrer nenhum corte, desde a primeira extremidade até à out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-Suturas separadas-São aquelas em que os pontos  são separados um do outro, com o corte constante do fi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8F01-3540-4305-A605-DFBF61A068C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actores que influenciam a escolha do fio são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empo desejado para que os fios permaneçam no organismo e se serão ou não absorvid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 de tecido a ser suturado. Alguns tecidos absorvem o fio mais rapidamente que outr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do nutricional do paciente (Mal nutridos, anémicos mais obesos) e Idade (mais idosos) absorvem com dificuldades os tecido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AAF7-1307-472D-BCD0-A73CAD9FB98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fios são também absorvidos com dificuldade onde houv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Infec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Muitas secre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Muita humida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B33A-0978-4E9B-82B4-B2EB7962007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m ser classifica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 Quanto à sua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 podem ser dividi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 Origem anima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como por exemplo a seda, tendões de animais, crinas,catgut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0CA9-9F7D-4D47-A684-510D5456F2B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A CLASSIFICAÇÃO DOS FIOS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Origem  Veget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Nylon, polieste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) Origem Miner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fios de aço, de alumínio, de prata, de platina, de cobre etc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42EC-429D-44F4-96A3-548B7DE7543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7:33Z</dcterms:modified>
  <cp:revision>845</cp:revision>
  <dc:subject/>
  <dc:title>ANATOMIA E FISIOLOGIA HUMANA</dc:title>
</cp:coreProperties>
</file>