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5FB53-3176-42AC-BB17-9B788FC993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BA0E6-A8FA-4D5E-913E-DDAC8D6429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90196-7B26-4685-B61D-9816F7F4CB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72C67-FEFA-4D65-8E32-4A9C72D339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7B4F5-3C70-4721-93D5-F1440DB2E0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84E2E-6E4E-407D-81C3-CE5147D1FD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3E98D-B5A2-4B23-8269-7B9C2430F1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6D616-086F-4F3F-9F99-D3462EA139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AE1BB-647F-4F9F-B99C-31B513A3E0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5252D-AC32-4BC6-B872-4D10ED297B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23DEF-A99B-4177-BA1D-8EC1C175DE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503E7-1C67-4EA9-97C1-BA52A0AE42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2133360" y="6400440"/>
            <a:ext cx="5105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PT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pic>
        <p:nvPicPr>
          <p:cNvPr id="4" name="Picture 18" descr="Jhpiego_logo"/>
          <p:cNvPicPr/>
          <p:nvPr/>
        </p:nvPicPr>
        <p:blipFill>
          <a:blip r:embed="rId3"/>
          <a:stretch/>
        </p:blipFill>
        <p:spPr>
          <a:xfrm>
            <a:off x="7543800" y="6297480"/>
            <a:ext cx="1143000" cy="484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80520" y="6400440"/>
            <a:ext cx="167652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AC05F-CB3F-4E3B-8249-891A320AB726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3"/>
          <p:cNvSpPr/>
          <p:nvPr/>
        </p:nvSpPr>
        <p:spPr>
          <a:xfrm>
            <a:off x="762120" y="205740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8" descr="Jhpiego_logo"/>
          <p:cNvPicPr/>
          <p:nvPr/>
        </p:nvPicPr>
        <p:blipFill>
          <a:blip r:embed="rId2"/>
          <a:stretch/>
        </p:blipFill>
        <p:spPr>
          <a:xfrm>
            <a:off x="7772400" y="228600"/>
            <a:ext cx="1143000" cy="484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" descr=""/>
          <p:cNvPicPr/>
          <p:nvPr/>
        </p:nvPicPr>
        <p:blipFill>
          <a:blip r:embed="rId3"/>
          <a:stretch/>
        </p:blipFill>
        <p:spPr>
          <a:xfrm>
            <a:off x="380880" y="304920"/>
            <a:ext cx="628920" cy="6220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3"/>
          </p:nvPr>
        </p:nvSpPr>
        <p:spPr>
          <a:xfrm>
            <a:off x="2437920" y="6400440"/>
            <a:ext cx="4800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PT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39"/>
          <p:cNvSpPr/>
          <p:nvPr/>
        </p:nvSpPr>
        <p:spPr>
          <a:xfrm>
            <a:off x="2438280" y="6400800"/>
            <a:ext cx="480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2133360"/>
            <a:ext cx="73152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CUIDADOS DE ENFERMAGEM NAS </a:t>
            </a: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ALTERAÇÕES URINÁRI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523520" y="4419360"/>
            <a:ext cx="61722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 Black"/>
              </a:rPr>
              <a:t>Sub-modulo 04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 Black"/>
              </a:rPr>
              <a:t>Intervenções de Enfermage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2060"/>
                </a:solidFill>
                <a:latin typeface="Arial"/>
              </a:rPr>
              <a:t>Promoção da Eliminação Urinária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98960" indent="-49896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2060"/>
                </a:solidFill>
                <a:latin typeface="Arial"/>
              </a:rPr>
              <a:t>Promover a privacidade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98960" indent="-49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98960" indent="-49896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2060"/>
                </a:solidFill>
                <a:latin typeface="Arial"/>
              </a:rPr>
              <a:t>Auxiliar o paciente a ir a casa de banho para urinar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98960" indent="-49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98960" indent="-49896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2060"/>
                </a:solidFill>
                <a:latin typeface="Arial"/>
              </a:rPr>
              <a:t>Se o paciente for de sexo masculino, permitir que ele use o urinol ao lado do leit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98960" indent="-49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98960" indent="-49896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2060"/>
                </a:solidFill>
                <a:latin typeface="Arial"/>
              </a:rPr>
              <a:t>Aplicar compressas mornas no períneo,  banhos de chuveiro , banhos de assento, e dar chá quente, para promover calor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98960" indent="-49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 e de Saude Materno-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139CB-A729-41FD-B447-BC817F85DF15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467480" cy="1066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 Black"/>
              </a:rPr>
              <a:t>Intervenções de Enfermage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BA9B5-956C-4B23-ACA8-05D35B9F5BC6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2060"/>
                </a:solidFill>
                <a:latin typeface="Arial"/>
              </a:rPr>
              <a:t>Oferecer apoio psicológic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2060"/>
                </a:solidFill>
                <a:latin typeface="Arial"/>
              </a:rPr>
              <a:t>Administrar analgésico após a cirurgi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2060"/>
                </a:solidFill>
                <a:latin typeface="Arial"/>
              </a:rPr>
              <a:t>Aliviar a dor e desconforto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2060"/>
                </a:solidFill>
                <a:latin typeface="Arial"/>
              </a:rPr>
              <a:t>Alívio da retenção urinária/distensão abdominal)</a:t>
            </a:r>
            <a:r>
              <a:rPr b="1" lang="pt-PT" sz="2800" spc="-1" strike="noStrike">
                <a:solidFill>
                  <a:srgbClr val="002060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 Black"/>
              </a:rPr>
              <a:t>Avaliação: Resultados Esperado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Que o paciente demonstra padrões normais de micção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limina 300 a 400 ml de urina a cada 3 hora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Não apresenta distensão abdominal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Não refere vontade de esvaziar a bexig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 e da Saude Materno-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DE9A7-0545-4987-9CB0-E1D229DBDBFC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7467480" cy="990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 Black"/>
              </a:rPr>
              <a:t>Avaliação do Paciente (Cont.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FE964-488D-418E-B1AA-4DEF182DB717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Que o paciente apresenta alívio da dor e do desconforto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Não relata dor e desconforto abdominal ou vesical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Utiliza medidas apropriadas para evitar a recidiva de retenção urinária e desconforto vesical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 Black"/>
              </a:rPr>
              <a:t>Incontinência urinár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Conceit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continência Urinária é a perda involuntária ou não controlada de urina pela bexig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incontinência pode ser temporária ou permanente.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emporária :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 resulta de uma condição inflamatóri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or exemplo: Cistit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ermanente: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 for por uma causa  neurológica grave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or exemplo: paraplegia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 e de Saude Materno-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173E1-9D1C-4FD8-B673-6598896F95E3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94920" y="0"/>
            <a:ext cx="7543800" cy="13716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 Black"/>
              </a:rPr>
              <a:t>Tipos de Incontinênc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6840" y="14475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Incontinência de Esforç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É a perda involuntária de urina através de uma uretra intacta devido ao aumento súbito da pressão intra – abdominal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Causa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Lesão obstétrica, lesões do colo cervical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oenças pélvicas, Menopausa; Infecções do trato urinário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Fístulas ou doenças congênitas (atrofia da bexiga,  ureter ectópico ). </a:t>
            </a:r>
            <a:br>
              <a:rPr sz="2400"/>
            </a:b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 e de Saude Materno-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CB0EF-330E-4F87-B77A-E6A485E355FE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 Black"/>
              </a:rPr>
              <a:t>Tipos de Incontinência (Cont.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2. Incontinência de Urgênci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Ocorre quando o paciente percebe a necessidade de urinar, mas é incapaz de inibir a micção por tempo suficiente para chegar à casa de banh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Causa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Disfunção neurológic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Irritação local devido a infecção do trato urinári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Tumores vesicai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D8C9F-123D-49AE-BEDB-D8670F348706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550CA-F10D-4EB8-871C-82F58C61F494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Tipos de Incontinência (Cont.)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3. Incontinência de Hiperflux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É caracterizada por perda frequente, quase constante, de urina da bexiga. É uma situação em que bexiga não pode esvaziar-se normalmente e é excessivamente distendid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Causa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normalidades neurológicas(lesões modulare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bstrução da saída de urina causada por (medicamentos, tumores, estenoses e hiperplasia da próstata).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Tipos de Incontinência (Cont.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 e de Saude  Materno-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499E9-2812-4755-9622-1BCCC226D545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4. 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Incontinência Funciona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Refere se a casos em que a função do trato urinário está intacta, porém o paciente não consegue identificar a necessidade de urinar, ou está impossibilitado de se locomover.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Causa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eficiência cognitiva grave (demência de Alzheimer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deficiência física, que dificulta ou impossibilita a locomoção do paciente para chegar a casa de banho a tempo para urinar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 Black"/>
              </a:rPr>
              <a:t>Quadro resumo da Incontinênc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01523-EBBE-441D-AE4E-0B07C17975EF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28600" y="914400"/>
          <a:ext cx="8610480" cy="5943600"/>
        </p:xfrm>
        <a:graphic>
          <a:graphicData uri="http://schemas.openxmlformats.org/drawingml/2006/table">
            <a:tbl>
              <a:tblPr/>
              <a:tblGrid>
                <a:gridCol w="2152800"/>
                <a:gridCol w="2152440"/>
                <a:gridCol w="2152800"/>
                <a:gridCol w="2152440"/>
              </a:tblGrid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p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ais e Sintom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usas Comu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tervenções de Enfermag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159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 esforç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erda descontrolada pequenas quantidades de urina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da do tónus muscular do períneo e do esfíncter secundário a partos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mento da pressão intra – abdomin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sã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Atrofia na menopausa,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Prolapso uterino uterino ou obesidad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telecimento da musculatura do assoalho pélvic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ção do pes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urgênc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apacidade de manter o controlo do fluxo de urina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te necessidade de urinar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mor ou outra condição neurológica do paciente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o motor e sensorial após um trauma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eterização directa e intermitent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144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perflux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iminação descontrolada de urina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xiga distentida com retenção urinária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enção da bexiga ou tónus muscular enfraquecido após uma obstrução da uretra por resíduos no cateter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mento da próstata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xiga distendida ou espasmos pós operatório da bexiga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dratação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iminação adequada dos conteúdos da bexiga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ter a permeabilidade do cateter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129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ion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da de capacidade de controlo de urina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bilidade prejudicada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gnição prejudica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mitação física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capacidade de comunicaçã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ter o vestuário seco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ilitar o acesso a sanita, arrastadeira ou urinol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aborar /programar o horário  para o paciente urinar na sanita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467480" cy="1066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Competências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-61920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619200" indent="-61920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619200" indent="-6192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Identificar as causas ou factores associados a retenção urinária, incontinência urinária e edem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619200" indent="-61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619200" indent="-6192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eleccionar os cuidados de enfermagem a prestar ao paciente com retenção urinária, incontinência urinária e edem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619200" indent="-61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619200" indent="-6192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roceder as técnicas de algaliação e lavagem vesical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619200" indent="-6192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  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619200" indent="-6192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 e da Saude Materno-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44FBE-A8E0-4876-8AF6-36664D40114F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46748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 Black"/>
              </a:rPr>
              <a:t>Cuidados de Enfermage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bter um diário sobre os padrões de eliminação do paciente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esencorajar a  limitação rígida de ingestão de líquid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lanificar um horário inicial de eliminação que tenha associação com os horários em que o paciente costuma estar incontinente ou sinta a distensão da bexig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aso não exista qualquer padrão, planificar a ajuda ao paciente na  sua eliminação de duas em duas horas, durante o dia, e de quatro em quatro horas, durante a noite.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3A3B4-6268-4F34-8671-3D75B2811823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6858000" cy="1295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Cuidados de Enfermagem (Cont.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68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judar o paciente a usar a sanita, ou ponha – o  na arrastadeira ou  urinol antes da hora marcada para a eliminaçã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stimular o som do acto de urinar, tal como o da água corrente de uma torneir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rientar os pacientes  a identificarem todas as sensações que antecedem o acto de  eliminação, tal como o arrepio, espasmo muscular, inquietação ou erecção espontâne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eça aos pacientes com incontinência hiperfluxo, para fazerem massagens suaves ou  darem palmadinhas na região do púbis.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7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7B616-918B-4FB0-B202-35AB6D0B02C4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467480" cy="1066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idados de Enfermagem (Cont.)</a:t>
            </a:r>
            <a:br>
              <a:rPr sz="24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6840" y="129492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nsinar os pacientes com incontinência por esforço a realizarem os exercícios Kegel </a:t>
            </a:r>
            <a:r>
              <a:rPr b="0" lang="pt-PT" sz="1800" spc="-1" strike="noStrike">
                <a:solidFill>
                  <a:srgbClr val="000066"/>
                </a:solidFill>
                <a:latin typeface="Arial"/>
              </a:rPr>
              <a:t>( ver o quadro a seguir)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nsinar os pacientes com incontinência de urgência a andarem lentamente e concentrarem se em segurar a urina ao aproximar se da área da sanita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 e de Saude Materno-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42A87-2DE9-48BB-8DB8-39EC427752E8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01028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"/>
              </a:rPr>
              <a:t>Exercícios Keg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5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BC135-7C3A-40B0-8E35-BE6BCEB95C77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523880" y="1397160"/>
          <a:ext cx="6096240" cy="384480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écnica para realizar os realizar os exercícios Keg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Contrair os músculos internos usados para evitar o acto de urinar, ou interromper o acto urinário assim que tiver iniciado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Manter os músculos contraídos durante 10 segundos no mínim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Relaxar a musculatura durante o mesmo período de temp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Repetir o padrão de contração e relaxamento 10 a 25 vezes por di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Implementar o regime de exercício 3 a 4 vezes por dia, durante um mínimo de duas semanas a um mê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46748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 Black"/>
              </a:rPr>
              <a:t>Outras Alterações Urinária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6840" y="11426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núri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Definiçã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anúria refere se a ausência de urina ou a uma eliminação de até 100 ml em 24 hora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Sinais e Sintoma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bexiga fica vazia, consequentemente o paciente não sente a necessidade de urinar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 e de Saude Mterno-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8A772-917E-4B87-BE67-736D482788B8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625760" y="5562720"/>
          <a:ext cx="6984720" cy="695160"/>
        </p:xfrm>
        <a:graphic>
          <a:graphicData uri="http://schemas.openxmlformats.org/drawingml/2006/table">
            <a:tbl>
              <a:tblPr/>
              <a:tblGrid>
                <a:gridCol w="6984720"/>
              </a:tblGrid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Outras alterações Urinárias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2. Oligúri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Definiçã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oligúria refere se a eliminação de um volume reduzido de urina pelo pacient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Sinais e Sintoma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Quantidade de urina eliminada pelo paciente é abaixo de 400 ml durante 24 hora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3. Poliúri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Definiçã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poliúria é a eliminação de grandes volume de urina, sem nenhuma relação da quantidade de líquidos ingeridos.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  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5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 e de Saude Materno-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E1C64-A28C-4CE0-A2AA-79F475D1071D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lterações urinárias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Causa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ode estar associada a diabete melitos doença doença endócrina causada por insuficiência de insulina no organismo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iabete insípida doença causada por insuficência de h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ormona antidiurétic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4. Nictúri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efiniçã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Nictúria é a necessidade que o paciente tem de acordar a noite para urinar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 e de Saude Materno-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B4B23-9BC5-4B82-8278-79F3AD1F3CBE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lterações Urinárias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Causas de Nictúri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umento da próstat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umento da glândula a volta da uretr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4. Disúri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Definiçã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disúria é a dificuldade ou desconforto  que o paciente sente ao urinar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Sinais e Sintoma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umento de frequência de micções e de urgência, com uma forte sensação de que a urina deve ser eliminada rapidamente.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E9BD9-818D-467C-90DC-F8ADDB02AA6C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rincipais Doenças do Rim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As principais doenças são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Síndrome Nefrótic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Infecção urinária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Cálculo Rena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Obstrução Urinária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Insuficiência Renal Aguda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7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4"/>
          <p:cNvSpPr/>
          <p:nvPr/>
        </p:nvSpPr>
        <p:spPr>
          <a:xfrm>
            <a:off x="65530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47BD0-E810-45B4-B7F8-22F8234E91D7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rincipais Doenças do Rim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Insuficiência Renal Crónica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Tumores Renai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Tumores Renai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Doenças Multissistêmica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Nefropatias Tóxica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1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12078-E784-489D-90CC-A56B4FB8B9F3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52480" y="-360"/>
            <a:ext cx="68580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ff"/>
                </a:solidFill>
                <a:latin typeface="Arial Black"/>
              </a:rPr>
              <a:t>Conceit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tenção Urinári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É a incapacidade de urinar apesar da urgência ou desejo do paciente fazê -l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      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Factores predisponente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irurgia nas regiões anal ou perineal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oenças  aguda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Idosos ou acamado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nsiedade,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umento da próstat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 e da Saude Materno-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26BE8-4586-44C9-B7E6-F6475F4DE408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rincipais Doenças do Ri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Síndrome Nefrótica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Conceit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Síndrome nefrótica é um distúrbio clínico caracterizado por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umento acentuado de proteina na urina            ( proteinúria)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Redução da albumina no sangue                        ( hipoalbuminemia)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5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9ABEE-0B15-4786-A334-F17BAFE4F955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Síndrome Nefrótico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c) 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Edem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d) Excesso de colesterol no sangue                         ( hipercolesterolemia)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e) Hipertensã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Manifestações Clínica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Início lento de retenção de líquidos com evolução para edem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erda de proteínas na urin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9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E5041-73DE-410B-8B35-EE2EACE5C7A3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Síndrome Nefrótic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Intervenções de Enfermagem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poio emocional da famíli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Controlo da pressão arterial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Fornecimento de dieta rica em proteína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Dieta com restrição de colesterol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92830-41C1-43BC-9969-0F8FD35399DE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Nefrosclero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84400" indent="-28440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Nefroscleorose - 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é o endurecimento, ou esclerose, das artérias do rim ou seja, manifestação renal de arteriosclerose  generalizad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84400" indent="-2844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84400" indent="-28440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Causas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84400" indent="-2844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Geralmente é associada à hipertensão arterial.</a:t>
            </a: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84400" indent="-2844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84400" indent="-2844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84400" indent="-2844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84400" indent="-2844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84400" indent="-2844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7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0931A-3068-4220-993C-CB9E89DDC133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Nefrosclero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Manifestações clínica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Hipertensão crescente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Redução da função renal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lteração dos vasos retiniano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Intervenções de enfermagem?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1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24354-5816-41F9-A334-C17F9CE6CAD7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Hidronefro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Hidronefrose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Conceit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É a dilatação da pelve e cálices, de um ou ambos os rins, com consequente adelgação do parênquima renal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Causa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Obstrução parcial ou intermitente ao fluxo normal da urina devido a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- Tumor que comprime o ureter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5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89822-69B6-443B-9C9A-8FDC3FED6059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Hidronefro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09480" y="114300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Cálculo renal formado na pelve renal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umento da  próstata (nos homens idosos)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Manifestações Clínica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Dor no flanco e dorso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disúria, calafrios, febre, dor á palpação e piúri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Sangramento do rim afectad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Hematúri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Sinais e sintomas de Insuficiência renal crônica.(se ambos os rins estiverem afectados)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9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7C333-8414-40ED-8A40-242B00C73FA8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istit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Cistite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Conceit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Cistite é uma inflamação da bexiga causada por infecção ascendente da urin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Causa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Refluxo de urina para da uretra para a bexig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( refluxo uretrovesical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Contaminação fecal ou o uso de um cateter ou cistoscópio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E4EDC-6CCE-4A12-AF9B-903DF2DC6B3C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istit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Manifestações Clínica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rdor e dor ao urinar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Nictúri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Dor ou espasmo na região da bexiga e região suprapúbic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Hematúri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iúria (leucócitos na urina 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Bacteriúria ( bactérias nas urina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7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A3042-7FBD-4B1C-A2DA-AE34E889A8A5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istite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Processo de  Enfermagem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Diagnóstico de enfermagem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Dor e Desconforto relacionados à inflamação e infecção da uretra, bexiga e outras estruturas do trato urinário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Conhecimento insuficiente sobre os factores que predispõem à infecção; detecção e prevenção da recorrência e tratamanto.</a:t>
            </a: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1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294C5-9513-432A-83C4-78F3CAD99B30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e Enfermagem Geral e da Saude Materno-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A2ABF-9AF6-4DA7-91AC-5176BEDA4224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44200" y="1523520"/>
            <a:ext cx="81471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-6192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619200" indent="-61920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atologia Uretral ( infecção, tumor)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619200" indent="-61920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Traumatism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619200" indent="-61920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isfunção vesical neurogêni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619200" indent="-61920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lguns medicamentos, incluindo anticolinérgicos – antiespasmódicos, agentes antidepressivos – antiespasmódicos e anti – hipertensivos.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619200" indent="-61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619200" indent="-61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619200" indent="-61920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66"/>
              </a:solidFill>
              <a:latin typeface="Arial"/>
            </a:endParaRPr>
          </a:p>
          <a:p>
            <a:pPr marL="619200" indent="-61920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Espaço Reservado para Número de Slide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F2CAB-9A7E-47F9-841C-083E1243384F}" type="slidenum">
              <a:rPr b="1" lang="pt-BR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itle 1"/>
          <p:cNvSpPr/>
          <p:nvPr/>
        </p:nvSpPr>
        <p:spPr>
          <a:xfrm>
            <a:off x="2057400" y="228600"/>
            <a:ext cx="6477120" cy="1066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 Black"/>
              </a:rPr>
              <a:t>         </a:t>
            </a:r>
            <a:r>
              <a:rPr b="1" lang="pt-PT" sz="2400" spc="-1" strike="noStrike">
                <a:solidFill>
                  <a:srgbClr val="ffffff"/>
                </a:solidFill>
                <a:latin typeface="Arial Black"/>
              </a:rPr>
              <a:t>Factores predisponentes 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istite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Planificação e implementação do processo de enfermagem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Objectivos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liviar a dor, desconforto e aumento do conhecimento de medidas preventivas e modalidades de tratament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Intervenções de enfermagem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liviar a dor e o desconforto,</a:t>
            </a: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 através do início do tratamento com antibiótic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5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D62CB-8776-4B14-A0ED-64C357A2AEC0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istite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nalgésicos e Antinflamatórios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Ingestão de grandes quantidades de  líquidos; 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Educação do paciente sobre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Banho de chuveiro em vez de banheir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Limpar a região perineal e do meato uretral após cada evacuação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Ingerir grandes quantidades ded líquidos durante o di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Urinar duas a três vezes durante, para esva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9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94FD5-BDCD-4D37-8934-0D65ED477FBE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istite Educação ao paciente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Urinar a cada duas a três horas durante o dia, para esvaziar completamente a bexig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Urinar imediatamente após o intercurso sexual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Controlar a presença de bactérias através de testes de urin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Chamar o médico ou outro técnico superior de houver febre ou  persistência  dos sinais e sintoma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Fazer seguimento regular com o médico.  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AE650-85F1-4EF0-8851-8537B4AAAE16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Edema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Conceit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 glomerulonefrite é doença renal na qual há uma reacção inflamatória nos glomérulo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Manifestações Clínicas da Aguda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Celaleias,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Mal estar geral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Edema facial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Dor no flanco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7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9BE2E-9BD0-4C16-810E-34D06448D620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Edema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Manifestações clínicas da Aguda (cont.)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Hipertensão leve e grave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Dor a palpação do ângulo costovertebral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Manifestações clínicas da Crónica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1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A99AC-E00D-4D05-BE03-692015D2ADB0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lgaliação/Sondagem Vesic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Conceit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lgaliação ou Sondagem vesícula, é o acto de inserir um cateter ou sonda na bexiga através da uretr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Indicaçõe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Manter os pacientes com incontinência seco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liviar  distensão da bexiga quando os pacientes não conseguem urinar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liviar com precisão o equilíbrio de líquido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vitar que a bexiga se distenda durante procedimentos cirúrgico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5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53CEA-2657-4EB8-9BCE-0912500A1E54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lgaliação ( 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Medir o residual de urina na bexiga após a eliminação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Obter amostras esterilizadas de urin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Instalar medicação no interior da bexig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Tipos de algaliação/sondagem vesica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Há três tipos de cateteres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1. Cateter externo,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 é aplicado  para colheita de amostras de urina, ou para controle de pacientes com incontinência urinária, e removida quando colhida a quantidade suficiente de urina. 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9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A51AF-ABCD-423C-BEE2-D6D64CB7062A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Tipo de algaliação/sondagem vesic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2. Cateter de Alívio,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é uma sonda estreita, que é   colocada na bexiga até que seja temporariamente drenada ou obtido um volume suficiente de urina para amostr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3. Cateter de Demora,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onsiste na introdução da sonda no interior da bexiga e mantida durante um período de tempo.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11131-EE5D-470F-BD85-EC3DA4C7AA51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 Black"/>
              </a:rPr>
              <a:t>Cuidados de Enfermagem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lgaliação Feminin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Material necessári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PI: luvas cirúrgicas e de procedimento, máscara, óculos e avental plástic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Material para higiene íntima ( genital): jarra com água morna, sabão, compressas limpas e toalh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Kit para algaliação ou sondagem: compressas, campo aberto, pinça Cheron, cuvete, cuvete redond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nti – séptico. Clerexidina – Hibitane ou Clorexidina e Cetrimida – Savlon ou Iodopovidona de base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7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B2DD1-ABEA-4C53-AF03-CDDA35AC1A20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uidados de Enfermagem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Lubrificante geral uretral co xilocaína ou solução fisiológica a 0,9%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eringa de 5 ou 10 ml com agulha, adesiv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onda vesical ou algália de acordo com a idade e indicação de uso e saco colector;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rrastadeir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opo graduado para medir a urin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Biombo (S) quando necessári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1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B944E-DDAB-41F1-B412-E3B6F3B85606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 e de Saude Materno-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5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DC15E-D48D-4A3B-BFF5-DB90A7A7A6FF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4760" y="-360"/>
            <a:ext cx="6553080" cy="12193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 Black"/>
              </a:rPr>
              <a:t>Complicaçõ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15998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Infecção urinária resultante de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istensão excessiva da bexiga consequentemente a redução da circulação sanguínea na parede vesical e proliferação de bactéria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omprometimento da função renal, principalmente se houver obstrução do trato urinário.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rocediment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umprimentar a utente e identificar se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xplicar o procedimento e pedir a sua colaboraçã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olocar a utente em decúbito dorsal com as pernas flectidas e joelhos afastados, sobre uma arrastadeir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reparar tira de adesivo para fixar a sond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Lavar as mãos com água e sabão ou friccionar as com álcool glicerinado, se não estiverem visivelmente suja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alçar luvas de procediment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5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092A5-EFBE-4FA4-AD91-ACBE317CA403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 Black"/>
              </a:rPr>
              <a:t>Procedimento ( Cont.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osicionar se à esquerda da paciente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Fazer a higiene genital com água e sabão ( ver procedimento na página 30 do manual do MISAU)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Retirar as luvas de procedimento e deita as imediatamente em recipiente com saco plástico para o lixo infeccioso)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Lavar as mãos com água e sabão ou friccionar as com álcool glicerinado, se não estiverem visivelmente suja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brir o Kit de algaliação ou sondagem, e adicionar a sonda e a sering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9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 e de Saude Materno-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D3A8A-32A4-4026-9F40-190AF527C486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rocedimento ( 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Deitar uma porção de solução fisiológica a 0,9%, na cuvete;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Calçar as luva cirúrgica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Testar o cuff ou balão com 5 a 15 ml de ar ( conforme indicado pelo fabricante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Conectar a sonda ao saco colector e certificar que este esteja fechad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Realizar a anti sépsia do mente de vénus no sentido transversal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- Aplicar movimento único e firme, e utilizar a pinça com compressas e anti-séptico de base aquosa para cada movimento;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61C57-5E7F-4B6B-A620-F7B352DDAD33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 Black"/>
              </a:rPr>
              <a:t>Procedimento  (cont.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ontinuar a limpar com anti sépsia dos grandes lábios e de cima para baixo, pela parte externa e interna , a incluir a vulva e o meato urinári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olocar o campo aberto sobre o órgão genital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Lubrificar a sond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garrar a algália com a mão dominante, e com a mão não dominante, afaste os pequenos lábio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Introduza a algália suavemente até o surgimento da urin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ncha o cuff ou balão com solução fisiológica na quantidade indica pelo fabricant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7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396E6-7DBE-4924-93F7-0B89A05AF78C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ertificar  se o balão está a funcionar, verificar a resistência da algália ao puxar para baix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Retirar o camp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Fixar a algália com adesivo na cox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eixar o paciente confortável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Recolher, levar e arrumar o material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assar as mãos enluvadas em solução de hipoclorito de sódio a 0,5%, retirar as e deitar as imediatamente na mesma solução por 10 minut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1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D108B-CB36-4C33-B9D5-7DBE1D5C6973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rocedimento ( 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Lavar as mãos com água e sabão ou friccionar com álcool glicerinado, se não estiverem visivelmente sujas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Registar o procedimento no diário de enfermagem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5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5B959-66C7-40A4-985E-62B9EBC8B9D0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 Black"/>
              </a:rPr>
              <a:t>Procedimento (Cont.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 Black"/>
              </a:rPr>
              <a:t>Sondagem Vesical ou Algaliação Masculin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Material e EPI necessário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PI: luvas cirúrgicas e luvas de procedimento, máscara, óculos e avental plástic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Material para higiene íntima: jarra com água morna, sabão, compressas limpas e toalha;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Kit para sondagem ou algaliação: compressas, campo aberto, pinça Cheron, cuvete, uma taça redond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nti – séptico: clerexidina – Hibitane ou Clorexidina e Cetrimida – Savlon ou iodopovidona de base aquos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9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E8592-29C0-4727-9B0B-1CF41771E4AD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 Black"/>
              </a:rPr>
              <a:t>Procedimento (Cont.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Lubrificante gel uretral com xilocaína ou solução fisiológica a 0,9%,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eringa de 5 ou 10 ml com agulha, adesiv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onda vesical ou algália de acordo com a idade e indicação de us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aco colector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rrastadeir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opo graduado para medir a urina;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Biombo se necessári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839CA-9972-41FE-B77A-60870912FAAA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rocediment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umprimentar o paciente e  identificar se 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xplicar o procedimento e pedir a sua colaboraçã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olocar o paciente em decúbito dorsal, sobre uma arrastadeir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reparar tiras de adesivo para fixar a sond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Lavar as mãos com água e sabão ou fricciona as com álcool glicerinado, se não estiverem visivelmente suja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alçar as luvas de procediment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7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FC55C-B4ED-49F6-B70C-045A2F0A9242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 Black"/>
              </a:rPr>
              <a:t>Procedimento (Cont.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osicionar se a esquerda do paciente e fazer a higiene genital com água e sabão ( ver procedimento página 30)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Retirar as luvas de procedimento e deit as imediatamente em recipiente com saco plástico para o lixo infeccios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Lavar as mãos com água e sabão ou fricciona as com álcool glicerinado, se não estiverem </a:t>
            </a: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visivelmente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limpa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brir o kit de sondagem ou algaliação, e adicione a sonda e a sering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1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B3E7A-F1F3-4460-81C2-93BD4BE1DC62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467480" cy="990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 Black"/>
              </a:rPr>
              <a:t>Avaliação do paciente</a:t>
            </a: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Sinais e Sintoma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Qual foi o horário da última micção?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 paciente está eliminando pequenas quantidades de urina frequentemente?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Há gotejo de urina?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 paciente refere dor ou desconforto na região inferior do abdomen?( o desconforto pode ser relativamente leve se a bexiga se distende lentamente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B3CEC-375F-4976-8692-19D500E29E94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 Black"/>
              </a:rPr>
              <a:t>Procedimento ( Cont.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eitar uma porção de solução fisiológica a 0,9% na cuvete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alçar as luvas cirúrgica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Testar o cuff ou balão com 5 a 15 ml de ar ( conforme indicado pelo fabricante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onectar a sonda ao saco colector e certificar se está fechad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egar o pénis com uma compressa e retrair o perpúci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5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3349D-0309-449A-8202-F14152C8D75B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 Black"/>
              </a:rPr>
              <a:t>Procedimento (Cont.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egurar o pénis abaixo da glande e aplicar o anti – séptico a utilizar uma compressa para cada movimento (do meato urinário até a base da glande e no corpo do pénis no sentido longitudinal de cima para baixo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olocar o campo aberto sobre o órgão genital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Lubrificar a sond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egurar a algália com a mão dominante e com a mão não dominante introduzir a algália suavemente no pénis que deve estar em posição vertical, de forma a suprimir a primeira curvatura da uretr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9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5712C-3FD6-4C6F-A687-1D56793413DE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 Black"/>
              </a:rPr>
              <a:t>Procedimento (Cont.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ncher o cuff ou balão com solução fisiológica na quantidade indicada da fabricant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ertificar se o balão está a funcionar, e verificar se a algália oferece resistência ao puxar para baix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Retirar o campo  aberto,: fixar com adesivo a algália na cox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Recolher, lavar e arrumar o material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assar as mãos com luvas em solução  de hipoclorito de sódio a 0,5%; retirar as luvas imeditamente nesta solução por 10 minut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B4E3C-AD24-4854-9258-95C55B4651D2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523880" y="533160"/>
            <a:ext cx="746784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 Black"/>
              </a:rPr>
              <a:t>Procedimento (Cont.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Lavar as mãos com água e sabão ou friccionar com álcool glicerinado, se estiverem visivelmente sujas;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Registar o procedimento no diário de enfermagem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7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550ED-192F-476E-B76C-70DBA23CEC5C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467480" cy="1066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 Black"/>
              </a:rPr>
              <a:t>Avaliação do paciente (Cont.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Sinais e Sintoma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 paciente apresenta edema na região da bexiga? ( pode indicar retenção)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Há macicez à pressão na região suprapúbica ( pode indicar uma bexiga cheia de urina)?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Há outros indicadores de retenção urinária, como a inquietação e agitação?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 e de Saude Materno-Infant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B9A0D-70F8-499E-BD31-27BE3463F6D8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Baseando se nos dados de avaliação os diagnósticos de enfermagem para o paciente podem incluir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Retenção urinária relacionada à dor,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Tensã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usência de privacidade ou ambientes e posições para urinar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or e desconforto devido á distensão vesical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 e de Saude Materno-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5F83C-65BC-4EC9-9719-C21E00B9E451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 Black"/>
              </a:rPr>
              <a:t>Diagnóstico de Enfermage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7467480" cy="990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Objectivo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O Diagnóstico de Enfermagem tem como objectivos:</a:t>
            </a:r>
            <a:br>
              <a:rPr sz="2400"/>
            </a:b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Retornar  os padrões normais de micção do paciente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liviar o desconforto do pacient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 e da Saude Materno-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8DDC7-FEDD-44AE-B3BE-E095DC72D1AF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7T06:59:16Z</dcterms:created>
  <dc:creator>Carlos Catingue</dc:creator>
  <dc:description/>
  <dc:language>en-US</dc:language>
  <cp:lastModifiedBy>INSTRUMENTACAO</cp:lastModifiedBy>
  <dcterms:modified xsi:type="dcterms:W3CDTF">2019-11-12T09:50:56Z</dcterms:modified>
  <cp:revision>1124</cp:revision>
  <dc:subject/>
  <dc:title>ANATOMIA E FISIOLOGIA HUMANA</dc:title>
</cp:coreProperties>
</file>