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36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7DFE4-D0E2-467D-8607-8B288D5871EF}" type="slidenum"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61BA-074A-47AA-A775-017273D3F911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AFF6-B6BE-4530-B180-8DDDF66D7F24}" type="slidenum">
              <a:rPr b="0" lang="pt-P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91E27-888D-4BC0-86BD-ECBC50502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7668A-7706-4D45-B7B2-BD564D5D0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2CF40-2625-415E-B04A-FA85377DF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968B4-FD25-491F-8566-C4EC074662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3DAD-D2E6-4E99-B84E-FF7FF15191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9076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4680" y="11430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9076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24680" y="376992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887D3-3166-4063-8B9C-11ED7DB0F8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920E5-C7B3-42B4-AE52-6248C512AF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AFF95-944C-42FA-83A6-C37A75D19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228240"/>
            <a:ext cx="7467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F0985-E25B-4013-BDDC-36E4A491E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A1ACC-F6AB-446A-A4C2-6637CCDEC3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5200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C923B-3884-49A3-A7A1-F659929FA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200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76992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85C92-80F3-43A0-99D8-4A4A4C393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2133360" y="6400440"/>
            <a:ext cx="5105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" name="Picture 1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628920" cy="6224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8" descr="Jhpiego_logo"/>
          <p:cNvPicPr/>
          <p:nvPr/>
        </p:nvPicPr>
        <p:blipFill>
          <a:blip r:embed="rId3"/>
          <a:stretch/>
        </p:blipFill>
        <p:spPr>
          <a:xfrm>
            <a:off x="7543800" y="6297480"/>
            <a:ext cx="1143000" cy="484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80520" y="6400440"/>
            <a:ext cx="167652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79FB-C4F7-4092-ADFA-A98EDC0A885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3"/>
          <p:cNvSpPr/>
          <p:nvPr/>
        </p:nvSpPr>
        <p:spPr>
          <a:xfrm>
            <a:off x="762120" y="2057400"/>
            <a:ext cx="7772400" cy="2514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8" descr="Jhpiego_logo"/>
          <p:cNvPicPr/>
          <p:nvPr/>
        </p:nvPicPr>
        <p:blipFill>
          <a:blip r:embed="rId2"/>
          <a:stretch/>
        </p:blipFill>
        <p:spPr>
          <a:xfrm>
            <a:off x="7772400" y="228600"/>
            <a:ext cx="1143000" cy="484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628920" cy="6220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 2" charset="2"/>
              <a:buChar char="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2437920" y="6400440"/>
            <a:ext cx="48006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PT" sz="1200" spc="-1" strike="noStrike">
                <a:solidFill>
                  <a:srgbClr val="9999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9"/>
          <p:cNvSpPr/>
          <p:nvPr/>
        </p:nvSpPr>
        <p:spPr>
          <a:xfrm>
            <a:off x="2438280" y="6400800"/>
            <a:ext cx="480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2133720"/>
            <a:ext cx="7315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UIDADOS DE ENFERMAGEM NO TRANS-OPERATOR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76520" y="4724280"/>
            <a:ext cx="586728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B-MODULO 08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ATICA DE ENFERMGEM II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PEL DO ENFERMEIRO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EQUIPA CIRURGIC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143000"/>
          <a:ext cx="8381880" cy="4754520"/>
        </p:xfrm>
        <a:graphic>
          <a:graphicData uri="http://schemas.openxmlformats.org/drawingml/2006/table">
            <a:tbl>
              <a:tblPr/>
              <a:tblGrid>
                <a:gridCol w="1600200"/>
                <a:gridCol w="3048120"/>
                <a:gridCol w="37335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ifica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emp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ente normalmente sa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nhuma anomalidade sistémica sem infecção,feb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ente com doença sistémica lev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pertensão controlada, diabetes, bronquite crónica obesidade idade superior a 80 an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ente com doença grave sistém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nça grave insuficiência cardíaca compensada a mais de seis meses, angina pectoris arritimia grave, cirose diabetes ou hipertensã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  <p:sp>
        <p:nvSpPr>
          <p:cNvPr id="13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1DCE-9FF3-4903-9F06-81F9C8DA4AA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APEL DO ENFERMEIRO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 EQUIPA CIRURGIC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143000"/>
          <a:ext cx="8381880" cy="4664160"/>
        </p:xfrm>
        <a:graphic>
          <a:graphicData uri="http://schemas.openxmlformats.org/drawingml/2006/table">
            <a:tbl>
              <a:tblPr/>
              <a:tblGrid>
                <a:gridCol w="1447920"/>
                <a:gridCol w="3809880"/>
                <a:gridCol w="31240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if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emp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ente com  doença sistemica incapacitante que é uma ameaça a v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ficiencia cardíaca congestiva grave, enfarto de miocardio a mais de seis meses, insuficiencia respiratoria, renal grave, doenca hepatica grave avançad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ente morbundo sem expectativa de subreviver mesmo com cirurg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ciente inconsciente com lesão craneana traumatica e ritmo cardiaco agonic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</a:tbl>
          </a:graphicData>
        </a:graphic>
      </p:graphicFrame>
      <p:sp>
        <p:nvSpPr>
          <p:cNvPr id="13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A383-FC4E-46A5-8AC6-C9625AC541A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BAD0-E16C-43DA-8CE3-62F411F92F5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DMISSAO DO PACIENTE </a:t>
            </a:r>
            <a:br>
              <a:rPr sz="2800"/>
            </a:b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       NO BLOCO OPERATORIO </a:t>
            </a:r>
            <a:r>
              <a:rPr b="1" lang="pt-PT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(Cont.) </a:t>
            </a:r>
            <a:br>
              <a:rPr sz="2800"/>
            </a:b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15998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 algn="just"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78080" indent="-4780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sta fase o enfermeiro deve verificar o cumprimento da preparação feita ao paciente no pré-operató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78080" indent="-478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78080" indent="-47808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Verifricar o cumprimento do protocolo especific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de cada especialidade cirúrgica e do procedimento a que o paciente será submeti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78080" indent="-478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 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78080" indent="-478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467840" cy="838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PREPARACÃO DA SALA CIRÚRGICA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bjectivo-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ver os artigos, equipamento necessarios, para proporcionar o desenvolvimento do ato anestesico-cirurgico em ambiente fisico e humano a que o paciente tenha direit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sponsabilidades-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ão responsáveis destas actividad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ecnicos de Enfermagem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são eles  que  preparam  diariamente as salas de operações  seguindo  os  padrões  estabelecid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ervisores de Enfermagem  garantem a preparação adequada da sala de cirurgi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94DA-1F52-4EDC-8751-03B00816197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-152640"/>
            <a:ext cx="7467480" cy="1447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PREPARAÇÃO DA SALA CIRÚRG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equipa de Enfermagem todos os dias deve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ar a sala de cirurgia verificando os equipamentos, materiais e realizar a desinfecçõe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olocar o equipamento em posição funcional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var as mãos antes e depois de preparar a sala de cirurg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18ff"/>
                </a:solidFill>
                <a:latin typeface="Arial"/>
              </a:rPr>
              <a:t>Calça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luvas de procediment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infectar as superificies de equipamentos,( foco cirurgico, central e auxiliar, mesa cirurgica, mesa auxiliar,suportes, bancos giratorios, braçadeiras, estrados e escada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)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2D75-E6D4-44E5-8F84-6A85416F383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PREPARAÇÃO DA SALA CIRURGICA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7621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etirar as luvas, lavar as mãos e iniciar a arrumação da sala de cirurg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ar o equipamento para monitorização cardíaca, oximetria, pressão arterial e  temperatur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estar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 funcionamento dos aparelhos eléctricos, como: monitores, aspiradores, gerador eléctrico cirúrgic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de de gases medicinais( oxigénio, óxido, ar comprimido e vácuo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e"/>
                </a:solidFill>
                <a:latin typeface="Arial"/>
              </a:rPr>
              <a:t>Verificar</a:t>
            </a:r>
            <a:r>
              <a:rPr b="0" lang="en-US" sz="2400" spc="-1" strike="noStrike">
                <a:solidFill>
                  <a:srgbClr val="00005e"/>
                </a:solidFill>
                <a:latin typeface="Arial"/>
              </a:rPr>
              <a:t> os artigos do carrinho de anestesi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erificar o funcionamento da luz de todas as posições da mesa de cirurgia e seus acessóri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ar a mesa cirurgic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8E0C-9BE7-42B7-80E1-FFC0DC624B7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UXO NO BLOCO OPERATOR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9140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bjectivo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; Garantir uma circulação eficaz de profissionais de saúde e pacientes, com segurança e de acordo com as necessidades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unciona articulando com outros sectores dos cuidados intensivos e intermedi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O Bloco Operatório,  deve estar localizado numa área que ofereça a segurança necessária às técnicas assépticas, distante de locais de grande circulação de pessoas, de ruído e de poeira, deve estar próximo das unidades de </a:t>
            </a:r>
            <a:r>
              <a:rPr b="0" lang="pt-BR" sz="2400" spc="-1" strike="noStrike">
                <a:solidFill>
                  <a:srgbClr val="1818ff"/>
                </a:solidFill>
                <a:latin typeface="Arial"/>
              </a:rPr>
              <a:t>internamento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, pronto-socorro e dos cuidados  intensiv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78E1-DCB0-4C6F-9246-D2E2DBF881F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LUXO NO BLOCO OPERATORIO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6094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Do Bloco operatorio, devem fazer  parte  a sala de recobro, pós-anestésica e a central de materiais e esterilização e vestiári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Área de conforto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Área destinada as refeiçõe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Sala dos cirurgiões e anestesiologistas:(para elaboração de relatórios)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Sala de Enfermagem: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Sala administrativa deve estar em local de fácil acess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Sala de recepção dos pacient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Sala de material de limpez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Sala para guarda de equipamen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ala de gases medicin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A3EEC-4704-499A-8C5C-B2479202052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VAGEM CIRURGICA COMUM DAS MAOS (Ver a recomendação da OM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Objectivo;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elhorar as praticas de higiene das maos nos profissionais de saude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duzir a transmisão cruzada de microorganismos patogénicos entre pacientes e profissionais de saúd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lavagem das mãos é um procedimento muito importante na prevenção e controlo das infecções hospitalares. A pele das mãos apresenta  flora bacteriana que se divide em duas parte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B187-35E6-4CDC-917E-EA26B988FD9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VAGEM CIRURGICA DAS MAO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10666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ra Transitoria,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é constituida por microorganismos que vivem temporariamente na pele podendo ser patogenicos ou não; são adquiridos por contacto com ambiente, equipamentos material contaminado, e com pessoas ( pacientes colonizados infectados)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lora Residente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 constituido por microorganismos normais da pele encontrando-se localizados na epiderme onde  multiplicam-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lavagem das mão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é um procedimento que consiste em esfregar vigorosamente ambas superficies das maos incluindo os dedos, punhos , o enxaguamento com agua corrente, prestando maior atenção com as unhas que devem ser curtas, as zonas interdigitais. 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73B3-C313-4F7F-A675-C2FAE8D80D1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91BB-6111-4D19-AA99-AB3ADC2D39A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75212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818ff"/>
                </a:solidFill>
                <a:latin typeface="Arial"/>
                <a:ea typeface="Times New Roman"/>
              </a:rPr>
              <a:t>Admitir o paciente no bloco operató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818ff"/>
                </a:solidFill>
                <a:latin typeface="Arial"/>
                <a:ea typeface="Times New Roman"/>
              </a:rPr>
              <a:t>Garantir o fluxo correcto do pessoal dentro do bloco operató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818ff"/>
                </a:solidFill>
                <a:latin typeface="Arial"/>
                <a:ea typeface="Times New Roman"/>
              </a:rPr>
              <a:t>Garantir que a lavagem cirúrgica das mãos seja feita com rigor pelos profissionais indicad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818ff"/>
                </a:solidFill>
                <a:latin typeface="Arial"/>
                <a:ea typeface="Times New Roman"/>
              </a:rPr>
              <a:t>Garantir o acesso de roupa devidamente preparada para o bloco operató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818ff"/>
                </a:solidFill>
                <a:latin typeface="Arial"/>
                <a:ea typeface="Times New Roman"/>
              </a:rPr>
              <a:t>Apoiar a outros elementos da equipe na realização de outras actividades quando necessá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818ff"/>
                </a:solidFill>
                <a:latin typeface="Arial"/>
                <a:ea typeface="Times New Roman"/>
              </a:rPr>
              <a:t>Transferir o paciente operado com segurança ao recobr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619200" indent="-61920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1818ff"/>
                </a:solidFill>
                <a:latin typeface="Arial"/>
                <a:ea typeface="Times New Roman"/>
              </a:rPr>
              <a:t>Monitorar e efectuar os registos dos procedimentos efectuad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Espaço Reservado para Número de Slid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709E-84D3-4520-BA71-DB21C5B9E9AA}" type="slidenum">
              <a:rPr b="1" lang="pt-B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219320" y="8380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estudantes deverão ser capazes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657600" y="1371600"/>
            <a:ext cx="18288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le 1"/>
          <p:cNvSpPr/>
          <p:nvPr/>
        </p:nvSpPr>
        <p:spPr>
          <a:xfrm>
            <a:off x="1371600" y="22860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Ê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VAGEM CIRURGICA DAS MAO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6840" y="8377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Lavagem Cirúrgica das maos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e um procedimento que visa reduzir o risco de contaminação da ferida cirurgica pela remoção ou destruição dos microorganismos transitoria, redução ou inativação da flora residente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Para melhor eficiência do procedimento o profissional de saúde deve;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Remover todas as joias e relogios,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Ter unhas aparadas, nao usar unhas posticas, e sem esmalte,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Usar escovas macia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Material basico a ser usado na lavagem cirurgica das mao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Agua em sistema que aciona o pedal com o pe,cotovelo ou joelho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55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Arial"/>
              </a:rPr>
              <a:t>Usar sempre que possivel o sabão liquido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3F7D-9360-46C3-9563-D0481736264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VAGEM CIRURGICA DAS MAO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ssuir  a toalha de papel individu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ar escovas individuais e estereis, compressas solução alcoolic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dimento da lavagem cirurgica das mãos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bra a torneira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m usar as mão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molhando as mãos antebracos e cotovelos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loque a solução detergente anti-septica e espalhe-a nas mãos e antebracos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gue uma escova esterilizada e escove as unhas, dedos, mãos e antebracos, nesta ordem, sem retorno, por cinco minutos, mantendo as mãos em altura superior aos cotovelo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540C-FD1B-4267-B94C-2CABEED0C8E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VAGEM CIRURGICA DAS MAO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)  Use para as maos e antebracos o lado da escova nao utilizada para as unhas ( no caso de a escova ter so um lado, use duas escovas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)  Detenha-se nos sulcos, pregas e espacos interdigitais, articula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ul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es e extermidades dos dedos, com movimentos de fricca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nxague os dedos, depois as maos deixando que a agua caia por ultimo nos antebracos que devem estar afastados do tronco, de forma que a agua escorra para os cotovelos, procurando manter as maos em plano mais elevad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nx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1818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ue as maos com compressas estereis, que devem vir dobradas em quatro partes, enxuguando-se primeiro uma das maos com outro lado enxugua-se a outra. Coloca-se estes lados um de encontro  ao outro, de forma a obter outros lados estereis . Enxugua-se um antebraco. Vira –se a compressa na face interna. 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3C38-4311-461A-B7FF-8E956822CAB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VAGEM CIRURGICA DAS MAO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)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nx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1818ff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ue as maos com compressas estereis, que devem vir dobradas em quatro partes, enxuguando-se primeiro uma das maos com outro lado enxugua-se a outra. Coloca-se estes lados um de encontro  ao outro, de forma a obter outros lados estereis . Enxugua-se um antebraco. Vira –se a compressa na face interna.   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) Aplique a solucao alcoolica do anti-septico utilizado, deixando-a secar antes de calcar as luvas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7B46-A584-4312-9522-8794E116252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O DA ROUPA CIRURGIC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 Bloco operatorio,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 um lugar especial dentro do hospital,preparado segundo um conjunto de requisitos que tornam apto a pratica de cirurgia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 um sector do hospital onde se realizam intervencoes cirurgicas, visando atender a resolucao de intercorrencias cirurgicas, por meio da accao de uma equipa integrada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ao realizadas tecnicas estereis para garantira seguranca do paciente quanto ao controle da infecca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r ser um local restrito, o acesso ao publico e limitado, ficando restrito a circulacao dos profissionais que ai trabalham, para garantir o controle da assepsi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E611-E7E3-40E2-9DC6-1B193DACF59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O DA ROUPA CIRUGICA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 bloco operatorio divide-se em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;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re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r </a:t>
            </a:r>
            <a:r>
              <a:rPr b="0" lang="en-US" sz="2000" spc="-1" strike="noStrike">
                <a:solidFill>
                  <a:srgbClr val="1818ff"/>
                </a:solidFill>
                <a:latin typeface="Arial"/>
              </a:rPr>
              <a:t>nao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trita-nesta zona os profissionais de saude podem circular livremente, com roupas propria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rea semi-restrita-e a zona em que permite a circulacao de pessoal e de modo a nao intervir nas rotinas de controle e manipulacao da assepsia da area restrita ( sala de estar e de preparacao de material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area restrita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em da roupa propria da sala de cirurgia deve ser usadas mascaras e barretes conforme as normas da unidade e as tecnicas assepticas devem ser utilizadas de maneira rigorosa, afim de diminuir os riscos de infeccoes ( salas de cirurgias, lavabos, salas de recuperacao pos-anestesica e corredores internos).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BF92-8A56-4E7B-9DA1-BC7A45AD797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PARACAO DE INSTRUMENTOS CIRURGIC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Objectivos; 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Garantir  a segurança da esterilização dos instrumentos cirurgicos, para o melhor  atendimento aos pacientes</a:t>
            </a:r>
            <a:r>
              <a:rPr b="1" lang="pt-BR" sz="16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Permitir a gestao e  coordenação das instrumentos medico-cirurgico.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Proporcionar  o material esterilizado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 todo hospital?;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Promover a interação entre as áreas: expurgo, preparo e montagem de instrumentos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Adequar as condições ambientais às necessidades do trabalho na área;  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Prover materiais e equipamentos  necessarios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66"/>
                </a:solidFill>
                <a:latin typeface="Arial"/>
              </a:rPr>
              <a:t>Preparar, limpar, processar e distribuir  os artigos e instrumentos  médico-cirurgicos 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1573-AEAC-47C4-AB62-58D3D052949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dentificacao de Instrumentos Cirurg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s Instrumentos podem ser agrupados em: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mentos de Dierese sa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isturis e tesoura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emostasi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sao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incas hemostaticas de divesros tipos e tamanhos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ntese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o;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inca porta-agulhas, pincas sem dentes e de rato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mentos  Especiais;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o utilizados em determinados tempos de cirurgia especializada, exemplo: (Costotomos, rugina, pincas de allis)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A7AB-1104-4915-A88E-A5D42B95BD0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ESTESI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nestesia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, e um estado de narcose depressivo do sistema nervoso central, produzido por agentes farmacologicos, analgesias, relaxamento e perda de reflex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f"/>
                </a:solidFill>
                <a:latin typeface="Arial"/>
              </a:rPr>
              <a:t>TIPOS DE ANESTESI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s anestesias dividem-se em dois grandes grupos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nestesia Geral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, os seus efeitos suspendem a sensibilidade em todo o organismo, e usada quando o anestesico e inalado ou administrado por via endovenos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Os agentes anestesicos inalados sa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Liquidos volateis e gases anestesicos,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 produzem anestesia quando os vapores sao inalado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Os anestesicos gerais produzem anestesia na medida em que ao administrar no organismo, vai atingir o cerebro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  </a:t>
            </a:r>
            <a:br>
              <a:rPr sz="2000"/>
            </a:b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5E09-9558-4074-B08E-5627733C9F5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Metodos de administracao,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os anestesicos liquidos sao administrados por uma mistura de vapores com oxigenio ou oxido nitroso, fazendo o paciente inalar a mistur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Estagios da anestesia geral, 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divide-se em quatro partes, cada um e associado com manifestacoes especificas</a:t>
            </a:r>
            <a:r>
              <a:rPr b="1" lang="pt-BR" sz="20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Os bloqueadores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(narcoticos neurmusculares relaxantes) sao administrados ,varios estagios desaparecem?.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1818ff"/>
                </a:solidFill>
                <a:latin typeface="Arial"/>
              </a:rPr>
              <a:t>Quando sao administrados narcoticos e bloqueadores neuromusculares, varios estagios de consciencia estao ausent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4CE1-4B88-4A54-AFA5-DA170044687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1371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L DO ENFERMEIR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EQUIPA CIRURGICA</a:t>
            </a:r>
            <a:br>
              <a:rPr sz="28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 Enfermeiro da sala de operação é responsável pela segurança e bem-estar  do paciente, coordena o pessoal da sala de operações   pelo desempenho das actividades dos enfermeiros instrumentistas   e circulante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stá preocupado com estado emocional do paciente e continua a prestar o cuidado iniciado pelos enfermeiros no pré-operatorio, oferecendo ao paciente informação e tranquilizá-lo, monitorar os factores que possam provocar  lesões resultantes do mau funcionamento dos aparelhos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6DAC-E3CF-453F-9AA0-EB9553EE84E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STAGIOS DE ANESTESI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meiro Estagio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icia a anestesia (analgesia), quando o paciente respira a mistura anastesica,com uma sensacao de calor, tonturas; o paciente pode ouvir ruidos, tilintar, roucos nos ouvidos, pode estar atento mesmo incapaz de mover-s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gundo Estagio,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aracteriza-se por uma agitacao, grito,conversacao, cantar, rir ou chorar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s pupilas tornam-se dilatadas e contraem-se quando expostas a luz, a frequencia cardiaca e rapid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rceiro Estagio,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anestesia cirurgica, e obtida pela administracao continua de vapor ou gas, o paciente fica inconsciente deitado imovel sobre a mesa cirurgic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s pupilas tornam-se reduzidas e contraem-se com a luz.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47F4D-0929-41B4-9204-F7861326D0C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ffff"/>
                </a:solidFill>
                <a:latin typeface="Arial"/>
              </a:rPr>
              <a:t>Cont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s respiracoes sao regular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 frequencia e o volume do pulso sao normai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Quarto Estagi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, caracteriza-se por depressao medular, e alcancada com administracao de muitos anestesic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s respiracoes tornam-se superficiais,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 pulso e fraco e fino,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s pupilas dilatam e nao se contraem mesmo com a presenca da luz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942A-4AC8-4CB8-A611-6947A09336C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Anestesia Local</a:t>
            </a:r>
            <a:r>
              <a:rPr b="1" lang="pt-BR" sz="28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os seus efeitos suspendem a sensacao em partes do organism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Anestesia loc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Regio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Epidural ou Medula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1AEE-5C4B-42F9-B2EB-4AFCFBF7B36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ICIONAMENTO DO PACIE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posicao ideal para o paciente na mesa cirurgica depende do procedimento cirurgico a ser submetido, assim como a condicao fisica do pacient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 potencial para um conforto transitori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1818ff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u mesmo lesao permanente, e evidente porque muitas posicoes sao estranhas, hiperestendem as articulacoes, comprimem as arterias ou pressionam os nervos e proeminencias ossea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principais posicoes sao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cubito dorsal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 paciente e colocado nesta posicao quando e para uma cirurgia e laparotomia,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endelenburg,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itotomica, o paciente esta estendido sobre o bordo da cam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cubito latera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9A9E-50BC-4A07-8003-587DBA435C8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TI-SEPSIA CIRURGIC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È um procedimento que visa evitar a contaminação das feridas cirúrgicas,que possa ser provocada pela flora cutanêa natural, ou por uma infecção presist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equipa da sala de cirurgia tem responsabilidade de utilizar os principios assepticos para reduzir os risc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Quaisquer instrumentos, agulhas, suturas, curativos, luvas,campos cirurgicos e soluções que entrarem em contacto com a ferida cirurgica e os tecidos expostos devem ser esterilizados antes do seu us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 cirurgião, os seus assistentes, enfermeiros devem se preparar lavando as mãos, bracos com água e sab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sar roupas apropriadas de mangas compridas, luvas </a:t>
            </a:r>
            <a:r>
              <a:rPr b="0" lang="en-US" sz="24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e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sterei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 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3E1A-9711-4F32-A43B-F2F2C01F680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TI-SEPSIA CIRURGICA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 cabeca e o cabelo, ficam cobertos de barrete, mascara cobre  o nariz e a boca, para reduzir a possibilidade de bacterias do trato respiratorio penetra na ferid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ma area da pele do paciente exposta, deve ser lavada e aplicada uma solucao anti-septico e coberta com campos esterei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48E3-F34A-48E4-83E8-08CBA0092A8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OIO AO PACIENTE DURANT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PROCEDIMENTO CIRURG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siste em acompanhar  o paciente durante a sua estadia na sala de operações, devendo a enfermagem estar atenta a todas as alterações que poderão surgir e atuar na recuperação d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visita prè-operatória è um recurso usado para levantar todos os dados sobre o paciente cirurgico por intermedio dos quais detecta os problemas ou alterações relacionados aos aspectos biopsico-socio-espirituais do paciente e planear a assistência de enfermagem a ser prestad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m  o aumento das complicações no </a:t>
            </a:r>
            <a:r>
              <a:rPr b="0" lang="en-US" sz="24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pre pos-operatorio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enfermagem deve ter conhecimento suficiente pela actividade intra-operatori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BF9E-6B18-494B-8EBF-C3CBC58DFB5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POIO AO PACIENTE DURANT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 PROCEDIMENTO CIRURG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mportância,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s dados ou informações levantados oferecem subsidios para a identificação de problemas ou alterações biopsico-socio-espirituais do paciente e podem influenciar no procedimento anestesico-cirurgico como na reabilitação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porcionam a realização do planeamento de assistência continua de enfermagem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ferece a oportunidade de o enfermeiro  dialogar com paciente orientando, esclarecendo as dúvidas e estabelecer um clima de confianç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80AC-DEAE-43A5-AF17-5C29FBF22416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IO AO PACIENTE DURANT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ROCEDIMENTO CIRURGIC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Quem deve fazer,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sta actividade è feita por enfermeiro que seja: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rdial, que saiba ouvir atentamente, compreensiva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enha disponibilidade, que se mostre preocupad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fereca  seguranç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Que tenha conhecimentos cientificos e de enfermagem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Que respeite as crenças espirituais e valores culturai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Que de informações capazes de ajudar na irradiação ou diminuição dos desconfortos emocionais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A5CF-AFFB-498B-9763-70386747C69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OIO AO PACIENTE DURANT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PROCEDIMENTO CIRURG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a Unidade Cirúrgica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o enfermeiro deve completar o històrico prè-operatório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ordenar o ensino ao paciente com outros membros da equipa de enfermagem,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xplicar as fases do periodo perioperatorio e suas expectativas,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senvolver um plano de actividades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A1C4-6DD9-4B77-BFE0-3DEE9B04E5D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1295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PEL DO ENFERMEIR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 EQUIPA CIRÚRGICA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 Enfermeiro circulante deve ser  técnico capaz de promover a segurança dos pacient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onitorar as actividades dos membros da equipa cirúrgica, verificar as condições funcionais da sala de opera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sponsabilidades específicas do enfermeiro circulant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erificar o consentimento do paciente em relação a cirurg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ordenar a equipa de cirurg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arantir a limpeza, temperatura, humidade, iluminação adequada a sala de operaçõe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2ABA-924D-41C3-8DF2-1F3711B923C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IO AO PACIENTE DURANT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PROCEDIMENTO CIRURG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a sala de cirurgia,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valiar o nivel de consciênçia do paci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visar os regist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dentificar o pacie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xaminar a area a ser operad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poio psicologico,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formar o paciente sobre o que esta acontecend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valiar o estado psicológico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evenir estimulos nocivo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municar sobre o estado emocional do paciente aos membros de enfermagem.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AA9E-0C55-410A-8CD5-E0B6A22DBE6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OIO AO PACIENTE DURANT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PROCEDIMENTO CIRURGIC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a fase intra-operatorio,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nutenção da seguranç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osicionar o paciente 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linhamento funcional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xposição da area cirurgic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nutencao da posição durante o procedimento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porcionar apoio fisico 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segurar que a contagem de gazes/compressas, agulhas e instrumentos esta correta.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B19E-E184-4F65-8D42-86F5B6ADECA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ARTE DO MATERIAL CONTAMINAD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siste na retirada de todas as barreiras protectoras das superficies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tirada do Equipamento de Protecção Individual, colocar no local apropriad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scarte dos Perfuro-cortantes (agulhas, bisturis), devem ser colocados em recipientes rigidos ( caixas incineradoras ou baldes)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 descarte do lixo contaminado ( gaze, algodão), è feito na lixeira com respectivo saco plast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s campos cirurgicos, são descartados em sacos próprios. 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B4D8-D603-4352-91DF-1D28103C740A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ARTE DO MATERIAL CONTAMINAD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mo descartar o material perfuro-cortante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os materiais, todos os objectos e instrumentos contendo cantos e bordas pontos ou protoberancias rigidas e agudas capazes de cortar e perfurar ao mesmo tempo, precisam de descarte especial para que nao tragam riscos ao ambiente, ao usuario e nem compromentam a biossegurança.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0EEF-707A-4D9E-8675-8D59FA2F7ED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ARTE DO MATERIAL CONTAMINADO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 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 descarte deste tipo de material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 tema do procedimento operacional,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ipos de perfuro-cortante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,incluem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Laminas de barbear,bisturis,agulhas, ampolas de vidro,lancetas e outros semelhantes, 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DE2E-A916-40ED-AEEB-9AD609F3BBCB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arte Seguro de Lix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uro-Cortan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990720"/>
            <a:ext cx="83818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lassificacao </a:t>
            </a:r>
            <a:r>
              <a:rPr b="0" lang="en-US" sz="36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dos perfuro-cortantes lixo;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urpo “A” Residuos Biologico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rupo “B” Residuos Quimicos;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rupo”C” Radioativo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rupo”D” Lixo Comum(papeis)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Grupo“E” Perfuro-cortante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6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Grupo “F” Lixo infeccioso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FE6D-72F5-4DAF-9512-BDDE81E2D07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apas do Descarte Seguro de Lixo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imeira Etapa: Segregação;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siste na separação  ou selecção apropriada dos residuos, realizada dentro do próprio local do procediment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egunda Etapa :Tratamento preliminar;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siste na descontaminação dos residuos (desinfecção ou esterilização), por meios quimicos ou fisicos, que permite o seu manuseio desses residuos até a sua destruição sem oferecer risco quando colectados e transportad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260A-7086-4C68-9BEF-77B86421A5F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erceira Etapa: Descarte; 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pós a descontaminação os residuos devem ser colocados nos locais ou recipientes apropriados com tampas, devidamente identificadas com simbolo apropriados,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x; ( Lixo contaminado). 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FDA9-5037-49D1-93C2-3DB6DB2A5F4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arte Seguro d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furo-Cortan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A caixa de descarte deve ser fechada e manipulada com cuidado, no caso de contaminacao por agentes que devem ser acondicionados dentro de saco prop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Recomendações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Nao quebrar, entortar ou reencapar agulhas qualquer material perfuro-cortantes apos o us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Nao retirar manualmente a agulha da seringa, caso seja indispensavel sua retirada so e permitida utilizando-se procedimento mecanic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No caso das seringas de vidro, é necessário levar a seringa juntamente com a agulha para efectuar o processo de descontaminacao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97877-4E48-44DE-9071-B8F5136C0785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scarte Seguro d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rfuro-Cortant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È necessario descartar o material em recipientes de paredes rigidas, com tampas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s recipientes devem ser identificados com etiquetas autocolantes, com as seguintes informações;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scrição de material perfuro-cortant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Inscrição de acordo com a contaminaçõo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imbolo de risco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5e"/>
                </a:solidFill>
                <a:latin typeface="Times New Roman"/>
                <a:ea typeface="Times New Roman"/>
              </a:rPr>
              <a:t>Os residuos e as caixas incineradoras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vem ser preenchidos somente ate dois terços de sua capacidade, nao podendo ser esvaziados ou reaproveitado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446FB-044C-4A1D-9C01-04257CA1DF0C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L DO ENFERMEIR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 EQUIPA CIRURGIC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uncionamento seguro do equipamento da sala de operações.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ponibilidade de materiais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onitorar o paciente e registar as actividades ao longo do procedimento e bem-estar do paciente.</a:t>
            </a:r>
            <a:endParaRPr b="1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AEE0-28E1-43F2-A189-2D7C49D64218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FERENCIA DO PACIENTE PARA O RECOBR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18ff"/>
                </a:solidFill>
                <a:latin typeface="Arial"/>
              </a:rPr>
              <a:t>Recobro/Sala deRecuperacao de anestesia </a:t>
            </a:r>
            <a:r>
              <a:rPr b="0" lang="en-US" sz="2000" spc="-1" strike="noStrike">
                <a:solidFill>
                  <a:srgbClr val="000066"/>
                </a:solidFill>
                <a:latin typeface="Agency FB"/>
              </a:rPr>
              <a:t>E a sala onde os pacientes sao conduzidos imediatamente apos a realizacao do acto cirurgic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gency FB"/>
              </a:rPr>
              <a:t>Objectivos</a:t>
            </a:r>
            <a:r>
              <a:rPr b="0" lang="en-US" sz="2000" spc="-1" strike="noStrike">
                <a:solidFill>
                  <a:srgbClr val="000066"/>
                </a:solidFill>
                <a:latin typeface="Agency FB"/>
              </a:rPr>
              <a:t>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gency FB"/>
              </a:rPr>
              <a:t>Controlar melhor a recuperacao da sua consciencia e das suas funcoes vita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gency FB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gency FB"/>
              </a:rPr>
              <a:t>E formada por uma sala ampla onde sao colocadas camas especiai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gency FB"/>
              </a:rPr>
              <a:t>O responsavel pela sala de recuperacao e </a:t>
            </a:r>
            <a:r>
              <a:rPr b="0" lang="en-US" sz="2000" spc="-1" strike="noStrike">
                <a:solidFill>
                  <a:srgbClr val="ff0000"/>
                </a:solidFill>
                <a:latin typeface="Agency FB"/>
              </a:rPr>
              <a:t>a equipa  cirurgica </a:t>
            </a:r>
            <a:r>
              <a:rPr b="0" lang="en-US" sz="2000" spc="-1" strike="noStrike">
                <a:solidFill>
                  <a:srgbClr val="1818ff"/>
                </a:solidFill>
                <a:latin typeface="Agency FB"/>
              </a:rPr>
              <a:t>o anestesis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gency FB"/>
              </a:rPr>
              <a:t>O paciente permanece nesta sala ate a recuperacao completa da consciencia e das suas funcoes  vitais. A alta da unidade deve ser dada pelo anestesista responsavel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gency FB"/>
              </a:rPr>
              <a:t>Prestar ao cliente todos os cuidados necessários até a recuperação de seus reflexos e estabilização dos sinais vitais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gency FB"/>
              </a:rPr>
              <a:t> 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1958-F589-41E3-B9AE-3D282735906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467480" cy="83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ANSFERENCIA DO PACIENTE PARA O RECOBR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O pós-operatório imediato tem seu início na sala de recuperação pós-anestésica para onde é levado o cliente pós-operado, ainda sob efeito da anestesia.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O paciente recebe acompanhamento direc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to, e depois da estabilização de seu estado, tem alta dessa unidade e é levado para o seu leito de origem.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Procedimentos de rotinas na sala de recuperação pós-anestésico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Oxigen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oterapia;</a:t>
            </a:r>
            <a:br>
              <a:rPr sz="1800"/>
            </a:b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Monitorização clínica</a:t>
            </a:r>
            <a:br>
              <a:rPr sz="1800"/>
            </a:b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Observar cor da pele e mucosas</a:t>
            </a:r>
            <a:br>
              <a:rPr sz="1800"/>
            </a:b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Padrão respiratório </a:t>
            </a:r>
            <a:br>
              <a:rPr sz="1800"/>
            </a:b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Sangramentos </a:t>
            </a:r>
            <a:br>
              <a:rPr sz="1800"/>
            </a:b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Nível de bloqueio sensitivo </a:t>
            </a:r>
            <a:br>
              <a:rPr sz="1800"/>
            </a:b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Globo vesical </a:t>
            </a:r>
            <a:br>
              <a:rPr sz="1800"/>
            </a:br>
            <a:r>
              <a:rPr b="0" lang="pt-BR" sz="1800" spc="-1" strike="noStrike">
                <a:solidFill>
                  <a:srgbClr val="000066"/>
                </a:solidFill>
                <a:latin typeface="Arial"/>
              </a:rPr>
              <a:t>Força muscular</a:t>
            </a:r>
            <a:br>
              <a:rPr sz="1800"/>
            </a:br>
            <a:br>
              <a:rPr sz="1800"/>
            </a:br>
            <a:r>
              <a:rPr b="1" lang="pt-BR" sz="1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1800"/>
            </a:br>
            <a:r>
              <a:rPr b="0" lang="pt-BR" sz="1800" spc="-1" strike="noStrike">
                <a:solidFill>
                  <a:srgbClr val="000066"/>
                </a:solidFill>
                <a:latin typeface="Agency FB"/>
              </a:rPr>
              <a:t>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0E3C-1644-4CE8-B9A2-938D6D51247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71240" y="15192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uipamento d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Proteccao Individual (EPI)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 EPI)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CESSARI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2949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ao  todos os dispositivos ou produtos de uso individual utilizado para a proteccao de riscos susceptiveis de ameaca, seguranca e saude do trabalhador  durante um determinado procediment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s servicos devem fornecer e exigir que o tecnico de saude use o  Equipamento de Proteccao Individual (EPI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 tecnico de saude deve usar o EPI, para o fim a que se destina,trocar sempre que estiver danificad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b050"/>
                </a:solidFill>
                <a:uFillTx/>
                <a:latin typeface="Arial"/>
              </a:rPr>
              <a:t>Limpar e conservar depois de qualquer procedimento.(Descontaminar ou descartar) VER AS NORMAS DE PC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BBE7-128D-4CFD-9C8D-C23E4B1EECF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uipamento de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teccao Individual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ont.) </a:t>
            </a: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b050"/>
                </a:solidFill>
                <a:latin typeface="Arial"/>
              </a:rPr>
              <a:t>VER AS RECOMENDACOES DE PCI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ipo de Equipamento de proteccao  Individual (EPI)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uv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ot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scar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cul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vent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arret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uidados a ter com EPI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var,Secar e Guardar em lugar seguro depois de procedimen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FB92-D2B4-44CF-B1B4-C8CD2533EA50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NECESSARIO  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Equipamento, Monitores, Negatoscópio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Equipamentos móveis,  suportes para soros, baldes para lixo,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Mesa cirúrgica, mesas auxiliares, mesa de mayo, mesa de instrumentacao, suporte de hampers,, escadinha, aspiradores, aparelho de anestesia, bisturi elétrico, carro de anestesia.   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A3ED-214E-4D3B-BAD1-8400E1BED2EF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ERIAL 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NECESSARIO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t.)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Roupas para paramentação, campos operatórios, compressas,  instrument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Soluções, pomadas, material para curativo e soro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 </a:t>
            </a: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Fios de suturas, agulhas, sondas, cateteres, próteses, seringas, luvas.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C6FE-D5C8-4AC7-B238-9D9C587F0A1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S E REGISTO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Realizar uma breve leitura do prontuário ou das recomendações de enfermagem vindas do sector da sala de cirurgia,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Certificar-se sobre os dados de identificação do paciente e sobre a cirurgia a que ele será submetid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Observar se todos os cuidados pré-cirúrgicos relacionados ao procedimento foram devidamente realizados como: a administração de medicamentos pré-anestésicos (avaliando inclusive os seus efeitos )  e preparo do local ( tricotomia )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2DB4C-7218-4B31-B777-BB8BB454674D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DIMENTOS E REGISTO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Verificar os sinais vitais do paciente, comunicando ao médico anestesista ou ao enfermeiro possíveis alteraçõ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Colocar no paciente gorro e sapatilhas,as roupas de cama devem ser do próprio centro cirúrgic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Manter uma recepção calma, tranqüila que traga confianca e segurança a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Observar o comportamento do paciente em relacao a; confiança, ansiedade, insegurança, agressividad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4555-FCF3-4FD9-9E48-F64B407F0C5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CEDIMENTOS E REGISTOS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Permanecer na sala com o paciente ate recuperar as funcoes vit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valiar sinais vitais de 15 em 15 minutos, depois de 30 em 30 minutos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Avaliar oxigenação, estimulando o movimento respirató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Observar ocorrência de vômitos, lateralizar a cabeça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66"/>
                </a:solidFill>
                <a:latin typeface="Arial"/>
              </a:rPr>
              <a:t>Limpar vias aéreas e aspirar se necessário;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BA0E-9AD7-4634-BB36-282E2315F2FE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DIMENTOS E REGISTOS</a:t>
            </a:r>
            <a:br>
              <a:rPr sz="28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Manter vigilância, manter curativo limpo e sec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Tomar medidas para aliviar a dor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Realizar balanço hídrico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Proporcionar conforto e segurança;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Informar a família sobre o estado do pacien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 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3DDC-01ED-408A-B75A-E8A587191E87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46748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PEL DO ENFERMEIR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A EQUIPA CIRÚRGIC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Responsabilidade do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nfermeiro Instrumetista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strumetação da cirurgi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eparação das mesas estéreis, suturas, ligaduras e equipamentos especiai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oiar o cirurgião e seus assistentes durante o procedimento cirurgico, prevendo os instrumentos necessarios (compressas, drenos e outros equipamentos)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4624-0A3A-455F-B05B-78F1C48A22D9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ncias Bibliograficas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Ensinando a Cuidar de Clientes em situações clínicas e cirúrgicas. 6ª edicao. difusão editora, 275-289, 2003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Gattorno, Escola de Formação Técnica Profissional Rosa. Manual Curricular para Formação dos Técnicos em Enfermagem, Módulo IV, 2ª Ed., 162-168, 2005.Brunner/Suddarth;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Tratado de Enfermagem Medico-Cirurgico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Setima Edicao. Volume 1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66"/>
                </a:solidFill>
                <a:latin typeface="Arial"/>
              </a:rPr>
              <a:t>Editora; Guanabara Kooga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F987-80A5-466A-928B-F959C7721BF2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467480" cy="685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ont. 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6840" y="15238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ntrolar o tempo em que o paciente esta sob efeito de anestesia e o tempo em que a ferida esta aberta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umerar as agulhas, compressas e outros instrumentos para se ter certeza de que eles foram contados para assegurar o bem-estar do paciente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otular as amostras e enviar ao laboratorio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9BC4-3CA1-4FC0-805D-02D66A4EDDE3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PEL DO ENFERMEIRO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NA EQUIPA CIRURGIC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6840" y="7621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 Enfermeiro Anestesista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écnico de saúde treinado,qualificado e especilizado na área de anestesiologia, pode ser enfermeiro ou médico que administra anestesicos.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valia o paciente através da entrevista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lecciona e administra o anestésic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ntuba o paciente e trata quaisqueres problemas relacionados com agente anestésico,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upervisa a condição do paciente durante o procedimento cirúrgico.  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541A-96B7-4BFD-A306-FED131880904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467480" cy="10666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L DO ENFERMEIR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NA EQUIPA CIRURGIC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ont.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1430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ntes do paciente entrar na sala de operações, o anestesista visita-o  para proporcionar-lhe informações sobre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ipo de anestesia a ser administrad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acções pré-anestésicos e conhecimento das anomalias anatomicas que podem dificultar a intuba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 enfermeiro anestesista utiliza a escala de classificação da condição fisica do paciente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2133720" y="6400800"/>
            <a:ext cx="5105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200" spc="-1" strike="noStrike">
                <a:solidFill>
                  <a:srgbClr val="9999ff"/>
                </a:solidFill>
                <a:latin typeface="Verdana"/>
              </a:rPr>
              <a:t>Curso de Enfermagem G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380880" y="6400800"/>
            <a:ext cx="16765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3109-7B6E-437E-85D1-6C4F9723C6F1}" type="slidenum">
              <a:rPr b="0" lang="en-US" sz="1200" spc="-1" strike="noStrike">
                <a:solidFill>
                  <a:srgbClr val="9999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6:59:16Z</dcterms:created>
  <dc:creator>Carlos Catingue</dc:creator>
  <dc:description/>
  <dc:language>en-US</dc:language>
  <cp:lastModifiedBy>Guest</cp:lastModifiedBy>
  <dcterms:modified xsi:type="dcterms:W3CDTF">2017-10-24T10:00:17Z</dcterms:modified>
  <cp:revision>971</cp:revision>
  <dc:subject/>
  <dc:title>ANATOMIA E FISIOLOGIA HUMANA</dc:title>
</cp:coreProperties>
</file>