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5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B8A53-30CC-42D1-AE6F-268A0A3A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25CD-90F0-4E13-9DA9-9797D2607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1871-98E5-4A17-B659-EB7EF3D1C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66BE-9087-4D30-B7B6-D7C7781BC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6FD0-A029-4CD3-B801-0A4C9A52A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D73A-CF00-49D3-8AE4-CA2379034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6CB09-303F-43A7-8048-EF9A7C1779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83886-2EA9-4A97-BAAB-D3D9B16D5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871F-E2E1-44A3-8D51-D995C705C7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E5D2-30B1-4A47-AAA8-1725A6516C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44F0E-E6A4-4620-A562-31B22272C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018D1-8A91-4024-8561-D517BE708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9B509-7916-43E0-9EC5-21863F22C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8FE7-5E47-457B-8832-D24835E97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DF58-E17A-4310-A621-0A08D3764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7E5DF-8055-44F2-9BB9-7A0384B8B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D1B78-AEA2-4018-941D-3E258686CE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4FF9-C688-4D77-856D-2DCD07EFA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5"/>
          <p:cNvSpPr/>
          <p:nvPr/>
        </p:nvSpPr>
        <p:spPr>
          <a:xfrm rot="5400000">
            <a:off x="-3227400" y="3227400"/>
            <a:ext cx="6858000" cy="40320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80520" y="6324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E1E-D015-4CC6-92DF-43C1CAFB8DAC}" type="slidenum">
              <a:rPr b="0" lang="pt-PT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3505320" cy="6858000"/>
          </a:xfrm>
          <a:prstGeom prst="rect">
            <a:avLst/>
          </a:prstGeom>
          <a:gradFill rotWithShape="0">
            <a:gsLst>
              <a:gs pos="0">
                <a:srgbClr val="cccce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3"/>
          <p:cNvSpPr/>
          <p:nvPr/>
        </p:nvSpPr>
        <p:spPr>
          <a:xfrm>
            <a:off x="1371600" y="144792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24"/>
          <p:cNvGrpSpPr/>
          <p:nvPr/>
        </p:nvGrpSpPr>
        <p:grpSpPr>
          <a:xfrm>
            <a:off x="0" y="1447920"/>
            <a:ext cx="2742840" cy="2514240"/>
            <a:chOff x="0" y="1447920"/>
            <a:chExt cx="2742840" cy="2514240"/>
          </a:xfrm>
        </p:grpSpPr>
        <p:sp>
          <p:nvSpPr>
            <p:cNvPr id="46" name="Rectangle 25"/>
            <p:cNvSpPr/>
            <p:nvPr/>
          </p:nvSpPr>
          <p:spPr>
            <a:xfrm>
              <a:off x="0" y="3326040"/>
              <a:ext cx="689040" cy="636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26"/>
            <p:cNvSpPr/>
            <p:nvPr/>
          </p:nvSpPr>
          <p:spPr>
            <a:xfrm>
              <a:off x="1366560" y="1447920"/>
              <a:ext cx="686880" cy="6379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27"/>
            <p:cNvSpPr/>
            <p:nvPr/>
          </p:nvSpPr>
          <p:spPr>
            <a:xfrm>
              <a:off x="681120" y="3324240"/>
              <a:ext cx="698400" cy="6364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8"/>
            <p:cNvSpPr/>
            <p:nvPr/>
          </p:nvSpPr>
          <p:spPr>
            <a:xfrm>
              <a:off x="2042640" y="1447920"/>
              <a:ext cx="700200" cy="6379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9"/>
            <p:cNvSpPr/>
            <p:nvPr/>
          </p:nvSpPr>
          <p:spPr>
            <a:xfrm>
              <a:off x="679680" y="2076480"/>
              <a:ext cx="698040" cy="62820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30"/>
            <p:cNvSpPr/>
            <p:nvPr/>
          </p:nvSpPr>
          <p:spPr>
            <a:xfrm>
              <a:off x="1366560" y="2076480"/>
              <a:ext cx="686880" cy="6282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31"/>
            <p:cNvSpPr/>
            <p:nvPr/>
          </p:nvSpPr>
          <p:spPr>
            <a:xfrm>
              <a:off x="0" y="2695680"/>
              <a:ext cx="689040" cy="63936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32"/>
            <p:cNvSpPr/>
            <p:nvPr/>
          </p:nvSpPr>
          <p:spPr>
            <a:xfrm>
              <a:off x="679680" y="2695680"/>
              <a:ext cx="698040" cy="63936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8" descr="Jhpiego_logo"/>
          <p:cNvPicPr/>
          <p:nvPr/>
        </p:nvPicPr>
        <p:blipFill>
          <a:blip r:embed="rId2"/>
          <a:stretch/>
        </p:blipFill>
        <p:spPr>
          <a:xfrm>
            <a:off x="7772400" y="61722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" descr=""/>
          <p:cNvPicPr/>
          <p:nvPr/>
        </p:nvPicPr>
        <p:blipFill>
          <a:blip r:embed="rId3"/>
          <a:stretch/>
        </p:blipFill>
        <p:spPr>
          <a:xfrm>
            <a:off x="8058240" y="38088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1593360"/>
            <a:ext cx="6623280" cy="262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ENFERMAGEM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</a:rPr>
              <a:t>MÉDICO-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86920" y="4572000"/>
            <a:ext cx="691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SUBMÓDULO  12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</a:rPr>
              <a:t>CUIDADOS DE ENFERMAGEM NAS EMERGENCIAS E URGENCI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LEG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Código Civil normatiza aquele que por ação ou omissão voluntária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negligência ou imprudênci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violar direito ou causar dano a outrem, ainda que exclusivamente moral, comete acto ilícito, sendo obrigado a reparar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TENDIMENTO INICI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objetivo principal deste atendimento é manter a vida do cliente e prevenir seqüelas, estabelecendo prioridades ante cuidados pres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atendimento se realiza antes mesmo do estabelecimento do diagnóstico, pois visa minimizar os efeitos dos agravos que colocam o paciente em risco de vi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gra básica do atendimento, conhecida como o  da assistência de emergência, prioriza três ações a avalia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nível de consciênc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Manter as vias aéreas desobstruída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reservar a respiração e a circulaçã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ARAGEM CARDIORRESPIRATORIA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ragem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8000" y="2781000"/>
            <a:ext cx="83818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Causas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Respiratóri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obstrução das vias aéreas, falência respiratória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Circulatória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rritmias, IAM,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Distúrbios metabólico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cidose, alcalose, desequilíbrio hidreletrolítico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cc"/>
                </a:solidFill>
                <a:latin typeface="Arial"/>
              </a:rPr>
              <a:t>Ação de drogas: </a:t>
            </a:r>
            <a:r>
              <a:rPr b="1" lang="pt-BR" sz="2200" spc="-1" strike="noStrike">
                <a:solidFill>
                  <a:srgbClr val="000066"/>
                </a:solidFill>
                <a:latin typeface="Arial"/>
              </a:rPr>
              <a:t>anestésicos, cloreto de potássio, intoxicação digitálic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entagon 3"/>
          <p:cNvSpPr/>
          <p:nvPr/>
        </p:nvSpPr>
        <p:spPr>
          <a:xfrm>
            <a:off x="826920" y="1341360"/>
            <a:ext cx="2554560" cy="935280"/>
          </a:xfrm>
          <a:custGeom>
            <a:avLst/>
            <a:gdLst>
              <a:gd name="textAreaLeft" fmla="*/ 0 w 2554560"/>
              <a:gd name="textAreaRight" fmla="*/ 2554920 w 255456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41" y="0"/>
                </a:lnTo>
                <a:lnTo>
                  <a:pt x="21600" y="10800"/>
                </a:lnTo>
                <a:lnTo>
                  <a:pt x="17641" y="21600"/>
                </a:ln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Paragem Cardiorrespirató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4"/>
          <p:cNvSpPr/>
          <p:nvPr/>
        </p:nvSpPr>
        <p:spPr>
          <a:xfrm>
            <a:off x="3059280" y="1341360"/>
            <a:ext cx="2952720" cy="935280"/>
          </a:xfrm>
          <a:custGeom>
            <a:avLst/>
            <a:gdLst>
              <a:gd name="textAreaLeft" fmla="*/ 0 w 2952720"/>
              <a:gd name="textAreaRight" fmla="*/ 2953080 w 295272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os batimentos Cardí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5724360" y="1341360"/>
            <a:ext cx="2951280" cy="935280"/>
          </a:xfrm>
          <a:custGeom>
            <a:avLst/>
            <a:gdLst>
              <a:gd name="textAreaLeft" fmla="*/ 0 w 2951280"/>
              <a:gd name="textAreaRight" fmla="*/ 2951640 w 29512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76" y="0"/>
                </a:lnTo>
                <a:lnTo>
                  <a:pt x="21600" y="10800"/>
                </a:lnTo>
                <a:lnTo>
                  <a:pt x="18176" y="21600"/>
                </a:lnTo>
                <a:lnTo>
                  <a:pt x="0" y="21600"/>
                </a:lnTo>
                <a:lnTo>
                  <a:pt x="3424" y="108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0000"/>
                </a:solidFill>
                <a:latin typeface="Arial"/>
              </a:rPr>
              <a:t>Ausência da respi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26920" y="2276640"/>
            <a:ext cx="756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0000"/>
                </a:solidFill>
                <a:latin typeface="Arial"/>
              </a:rPr>
              <a:t>Impossibilidade da oxigenação dos órgãos v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Sinais e sintomas de PC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341000"/>
            <a:ext cx="4259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Dificuldade respiratória </a:t>
            </a:r>
            <a:r>
              <a:rPr b="1" lang="pt-BR" sz="2500" spc="-1" strike="noStrike">
                <a:solidFill>
                  <a:srgbClr val="000066"/>
                </a:solidFill>
                <a:latin typeface="Wingdings"/>
                <a:ea typeface="Wingdings"/>
              </a:rPr>
              <a:t></a:t>
            </a: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 Paragem respiratória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Ausência de pulso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66"/>
                </a:solidFill>
                <a:latin typeface="Arial"/>
              </a:rPr>
              <a:t>Perda de consciência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Imobilidade;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Palidez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Cianose de extremidades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Midríase.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2" descr="http://2.bp.blogspot.com/-LolAgJXegv4/TbrJw7CKuYI/AAAAAAAAAXE/Cp98ku4Rec8/s320/MwKBT0sF_desfibrilador1.jpg"/>
          <p:cNvPicPr/>
          <p:nvPr/>
        </p:nvPicPr>
        <p:blipFill>
          <a:blip r:embed="rId1"/>
          <a:stretch/>
        </p:blipFill>
        <p:spPr>
          <a:xfrm>
            <a:off x="4932360" y="3357720"/>
            <a:ext cx="3768840" cy="282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t0.gstatic.com/images?q=tbn:ANd9GcQhz-JhCsYgtpMVGtV1GngxBnqk_POh2jAiPb-ScizqAkIXJP_jsA"/>
          <p:cNvPicPr/>
          <p:nvPr/>
        </p:nvPicPr>
        <p:blipFill>
          <a:blip r:embed="rId2"/>
          <a:stretch/>
        </p:blipFill>
        <p:spPr>
          <a:xfrm>
            <a:off x="4562640" y="1341360"/>
            <a:ext cx="2746080" cy="194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http://t3.gstatic.com/images?q=tbn:ANd9GcSDnp4Hx4Xax-GaSwMF6Jw1dZiEQrwqAS3CwGfJSyv8cBNQg8fWTg&amp;t=1"/>
          <p:cNvPicPr/>
          <p:nvPr/>
        </p:nvPicPr>
        <p:blipFill>
          <a:blip r:embed="rId3"/>
          <a:stretch/>
        </p:blipFill>
        <p:spPr>
          <a:xfrm>
            <a:off x="6515280" y="1341360"/>
            <a:ext cx="2628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terial par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980640"/>
            <a:ext cx="5267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0066"/>
                </a:solidFill>
                <a:latin typeface="Arial"/>
              </a:rPr>
              <a:t>Na Sala de Emergência:</a:t>
            </a:r>
            <a:endParaRPr b="1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Tábua de massagem cardíaca,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edicamentos de atendimento de paragem cardíac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Material de entub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ndas de aspiraçã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mbu e máscara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oluções endovenos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Seringas + agulh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Equipos de solução venosa e sangue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Aparelho de desfibrilaçã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Balao de oxigeni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089080" cy="2979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5991120" y="4191120"/>
            <a:ext cx="2252880" cy="19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Ressuscitação Cardiorrespiratór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 conjunto de manobras destinadas a garantir a oxigenacao dos órgãos quando a circulação do sangue de uma pessoa para paragem cardiorrespi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Objectiv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onsiste na manutencao da via respiratoria pervia, fornecimento de ventilacao artificial por medidas de urgencia para respiracao e producao de circulacao artificial pela massagem cardiaca extern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ETAPAS DE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- Vias aereas(Airway)-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nter as vias aereas permeave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B- Respiracao (Breathing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eservar a respiracao ( respiracao boca-boca, boca-mascara, ventilacao artificial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- Circulacao (Circulation)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rantir a distribuicao de nutrientes e oxigenio as celulas (pressao intratorax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6840" y="1142640"/>
            <a:ext cx="83818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RCP inicia-se com os cuidados para a desobstrução das vias aéreas mediante a retirada de próteses, corpos estranhos e secreçõ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 seguir, são realizados os procedimentos de abertura das vias aéreas superiore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No caso de o utente não apresentar trauma, devemos hiperextender seu pescoço colocando uma das mãos sob sua nuca, levantando-a ligeiramente; com a outra mão posicionada sobre sua testa, traciona-se a cabeça para trás; ou pode-se colocar um coxim sob seus ombros, de forma a provocar a </a:t>
            </a:r>
            <a:r>
              <a:rPr b="0" lang="pt-PT" sz="2600" spc="-1" strike="noStrike">
                <a:solidFill>
                  <a:srgbClr val="c00000"/>
                </a:solidFill>
                <a:latin typeface="Arial"/>
              </a:rPr>
              <a:t>hiperextensão desejad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 final do modulo o estudante tera adiquirido as seguintes competencias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erenciar emergencia de urge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ender o paciente e familia de forma humaniz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dentificar os sinais e sintomas das patologi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leccionar o material e EPI necessario para execussao das tecn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cutar os procedimentos correctamen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gistar corretamente no processo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755640" y="2494080"/>
            <a:ext cx="2457360" cy="2736720"/>
          </a:xfrm>
          <a:prstGeom prst="rect">
            <a:avLst/>
          </a:prstGeom>
          <a:ln w="0">
            <a:noFill/>
          </a:ln>
        </p:spPr>
      </p:pic>
      <p:sp>
        <p:nvSpPr>
          <p:cNvPr id="152" name="TextBox 4"/>
          <p:cNvSpPr/>
          <p:nvPr/>
        </p:nvSpPr>
        <p:spPr>
          <a:xfrm>
            <a:off x="395280" y="5230800"/>
            <a:ext cx="28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1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Avaliação da víti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788000" y="1052640"/>
            <a:ext cx="3960720" cy="44384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2124000" y="10540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2. </a:t>
            </a:r>
            <a:r>
              <a:rPr b="1" lang="pt-PT" sz="1800" spc="-1" strike="noStrike">
                <a:solidFill>
                  <a:srgbClr val="00007d"/>
                </a:solidFill>
                <a:latin typeface="Arial"/>
              </a:rPr>
              <a:t>Obstrucao</a:t>
            </a:r>
            <a:r>
              <a:rPr b="1" lang="pt-PT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da via aé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2060"/>
                </a:solidFill>
                <a:latin typeface="Arial"/>
              </a:rPr>
              <a:t>pela língua e epigl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4788000" y="544500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c00000"/>
                </a:solidFill>
                <a:uFillTx/>
                <a:latin typeface="Arial"/>
              </a:rPr>
              <a:t>3</a:t>
            </a:r>
            <a:r>
              <a:rPr b="1" lang="pt-BR" sz="1800" spc="-1" strike="noStrike" u="sng">
                <a:solidFill>
                  <a:srgbClr val="002060"/>
                </a:solidFill>
                <a:uFillTx/>
                <a:latin typeface="Arial"/>
              </a:rPr>
              <a:t>. Abertura da via aérea </a:t>
            </a: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- o alívi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obstrução se dá pela inclinação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2060"/>
                </a:solidFill>
                <a:latin typeface="Arial"/>
              </a:rPr>
              <a:t>cabeça e elevação do que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516560" y="1197000"/>
            <a:ext cx="4303440" cy="4746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611280" y="1268280"/>
            <a:ext cx="3382920" cy="252108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1042920" y="4292640"/>
            <a:ext cx="28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c00000"/>
                </a:solidFill>
                <a:latin typeface="Arial"/>
              </a:rPr>
              <a:t>4. </a:t>
            </a: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Ventilação artifi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200" spc="-1" strike="noStrike">
                <a:solidFill>
                  <a:srgbClr val="002060"/>
                </a:solidFill>
                <a:latin typeface="Arial"/>
              </a:rPr>
              <a:t>2 insuflaçõ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Passos da RC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68360" y="1066680"/>
            <a:ext cx="4032360" cy="1576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3348000" y="2733840"/>
            <a:ext cx="5516640" cy="349236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5"/>
          <p:cNvSpPr/>
          <p:nvPr/>
        </p:nvSpPr>
        <p:spPr>
          <a:xfrm>
            <a:off x="4500720" y="1413000"/>
            <a:ext cx="43923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Arial"/>
              </a:rPr>
              <a:t>5.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 relação insuflação:compress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2:15  - Adu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1:5 - Crianç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Manobras RCP em crianç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tretch/>
        </p:blipFill>
        <p:spPr>
          <a:xfrm>
            <a:off x="928800" y="1628640"/>
            <a:ext cx="787860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OBSTRUCAO DAS VIAS AEREAS SUPERIORE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BSTRUCAO DAS VIAS AEREA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 uma emergencia medica que pode estar ocluida de maneira parcial completa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Sinais e sintomas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ufocaca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parencia apreensiv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ridor expiratorio e inspirator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Uso da musculatura acessoria (retracao supra esternal e intercostal)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Batimento de asas de nariz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Ansiedade crescen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quietacao e confusao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752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RATAMENTO/CUIDADOS DE ENFERMAGE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inclinacao da cabeca e levantamento do queixo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-se com o paciente em decubito dorsa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nobra de golpe mandibular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sao levantados os angulos da mandibula inferior do paciente e desloca-se a mandibula para dia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sercao da via aerea orofaringea-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inserido sobre a parte posterior da lingua dentro da faringe posterior inferior em paciente que respira de maneira expontane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tubacao endotraqueal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iste em estabelecer e manter a via aerea nos pacientes com insuficiencia respiratoria ou hipox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poio psicologic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HEMORRAGIA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a saída de sangue do espaço intravascular (vasos e coração) para o compartimento extravascular ou para fora do organismo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Tip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hemorragia pode ser interna ou extern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75920" y="1285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URGENCIAS E EMERGENCIA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EDICO- CIRURGICA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IN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3"/>
          <p:cNvSpPr/>
          <p:nvPr/>
        </p:nvSpPr>
        <p:spPr>
          <a:xfrm>
            <a:off x="1332000" y="2276640"/>
            <a:ext cx="2303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826920" y="1916280"/>
            <a:ext cx="3816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lteração do nível de consciência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gressividade ou passivida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remores e arrepios do corp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lso rápido e frac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spiração rápida e artificia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le pálida, fria e úmid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udorese;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upilas dilat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6"/>
          <p:cNvSpPr/>
          <p:nvPr/>
        </p:nvSpPr>
        <p:spPr>
          <a:xfrm>
            <a:off x="5435640" y="1989000"/>
            <a:ext cx="331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aquez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Sed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Fri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c00000"/>
                </a:solidFill>
                <a:latin typeface="Arial"/>
              </a:rPr>
              <a:t>Ansiedade ou indiferença</a:t>
            </a:r>
            <a:r>
              <a:rPr b="0" i="1" lang="pt-BR" sz="18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7"/>
          <p:cNvSpPr/>
          <p:nvPr/>
        </p:nvSpPr>
        <p:spPr>
          <a:xfrm>
            <a:off x="1042920" y="1268280"/>
            <a:ext cx="266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5724360" y="1268280"/>
            <a:ext cx="19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Arial"/>
              </a:rPr>
              <a:t>SINTOM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MORRAGIA EXTER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755640" y="134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5"/>
          <p:cNvSpPr/>
          <p:nvPr/>
        </p:nvSpPr>
        <p:spPr>
          <a:xfrm>
            <a:off x="3708360" y="1341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VEN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7"/>
          <p:cNvSpPr/>
          <p:nvPr/>
        </p:nvSpPr>
        <p:spPr>
          <a:xfrm>
            <a:off x="6372360" y="13413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API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755640" y="2133720"/>
            <a:ext cx="244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Sangue é vermelho viv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ico em oxigêni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rda é pulsátil, obedecendo às contrações sistólicas do coraçã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É mais gr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3635280" y="2276640"/>
            <a:ext cx="216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Vermelho esc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obre em oxige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Perda continua e com pouca pressao.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Menos grave que a ar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5"/>
          <p:cNvSpPr/>
          <p:nvPr/>
        </p:nvSpPr>
        <p:spPr>
          <a:xfrm>
            <a:off x="6659640" y="2421000"/>
            <a:ext cx="2305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equenas perdas de sangue, em vasos de pequeno calibre que recobrem a superfície do corpo. </a:t>
            </a:r>
            <a:r>
              <a:rPr b="1" i="1" lang="pt-BR" sz="2400" spc="-1" strike="noStrike">
                <a:solidFill>
                  <a:srgbClr val="c00000"/>
                </a:solidFill>
                <a:latin typeface="Arial"/>
              </a:rPr>
              <a:t>Sao as menos gr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EQUENCIA E 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1. Choque hipovolêmico: perda rápida de grande quantidade de sangu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2. Anemia : sangramento crônico e repetido (ex : úlcera gástric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3. Asfixia : quando há hemorragia pulmon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4. Tamponamento cardíaco : especialmente por ruptura ventricular (infarto agudo do miocárdio)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5. Hemorragia intracraniana: o sangramento pode causar destruição do tecido nervoso e compressão dos vasos adjacentes, causando isquem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s hemorragias pequenas em locais vitais podem ser fatais.Por exemplo: a ocorrência de um hemorragia no espaço subaracnóide pode causar vasoconstrição arterial prolongada, que por sua vez pode causar infarto do tecido nervoso e a morte do pa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In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o acidentado e elevar os membros inferiore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Prevenir o estado de choque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Referir a equipe de cirurgi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Controlar regularmente os parametros hemodinamicos e circulatorio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c00000"/>
                </a:solidFill>
                <a:latin typeface="Arial"/>
              </a:rPr>
              <a:t>Hemorragia Externa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itar a vítima; o repouso da parte ferida ajuda a formação de um coágul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Se o ferimento estiver coberto pela roupa, descobri-lo (evitar, porém, o resfriamento do acidentado)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Deter a hemorragia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c00000"/>
                </a:solidFill>
                <a:latin typeface="Arial"/>
              </a:rPr>
              <a:t>Evitar o estado de choqu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967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CNICAS PARA ESTANCAR HEMORRAG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levacao da regiao acident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mponamen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pressao arterial ( directa e indirect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rniquete ( como ultima tentativ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HOQU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uma crise aguda de insuficiência cardiovascular, ou seja, o coracao e vasos não são capazes de irrigar todos os tecidos do corpo com oxigenio sufici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CHOQU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Hipovolem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hemorragia grave, desidratacao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p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bacterias que produzem endotoxina que causa vasodilatacao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rdiogen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( falencia do coracao em manter pressao sanguinea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nafilatic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(causada por alergeno derivado dedrogas, mordedura ou picadas de insectos, medicamentos, alimentos, derivados de sangue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hipovolemic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2640"/>
            <a:ext cx="838188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Taquicardia, Hipotensão, Sede, Oliguria,  Alterações de comportamento, Taquipne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rigoroso da Tensao Arteri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Reposição dos volumes dos líquidos perdidos:  - SF a 0,9% e Ringer Lacta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Preparo do paciente para cirurgia em caso de hemorragia persistente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dministração de anti-hemorrágicas prescrito pelo méd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504000" indent="-5040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ntrole e vigilância constantes no pacien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RGENCIAS E EMERGENCI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U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instalação súbita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sde as não graves até às graves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m risco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falência de funçõe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• </a:t>
            </a: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Emergências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todas as situaçõe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línicas de estabeleciment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úbito, em que existe, estabeleci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u eminente, o compromiss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uma ou mais funções vitais. ( Rede de referencia hospitalar, Portugal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HOQUE ANAFILAT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6840" y="1143000"/>
            <a:ext cx="83818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Quadro clinic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ianose, comichao, perda da consciência, paragem cardiorrespiratoria progressiva, queda repentina da tensao sanguínea, respiração ruidosa, tosse, rubor de fac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Cuidados de enfermagem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olocar o paciente em posição supina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livre as vias aérea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onitorar os sinais vitai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Administrar oxigênio, epenifrina, aminofilina,corticoides injetáveis, segundo a prescrica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- Manter veia canalizada com soluções de cloreto de sódio a 0,9%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crescentar outros tipos de choqu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RAUMATISMO E POLITRAUMATISM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CEIT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raumatism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uma lesao ou ferida mais ou menos estensa, produzida por accao violenta de natureza fisica ou quimica externa ao organism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olitraumatismo: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ão lesões múltiplas de diversas naturezas que podem comprometer diversos órgãos e sistem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DE TRAUMATISM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tuso: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superficie corporal externa, nao penetrando 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Penetra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a transferencia de energia em uma area concentrada, com isso ha pouca dispersao de energia provocando laceracao da pel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tensa dor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de ter sangrament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ficuldade em movimentar o local afect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e for na cabeca pode ter perda de visao, incosciencia, sangramento nas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640" y="1142640"/>
            <a:ext cx="8299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da hemorrag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unção de veia para reposição das perdas sangüíneas e administração de medicamento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Sondagem vesical, se prescrita, para avaliação do débito urinário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Controle rigoroso da administração e perda de líquidos, PVC e sinais vitais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mobilização das fraturas, observando as extremidades (coloração, temperatura e pulso);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valiação da ansiedade do paciente, orientando e esclarecendo sobre o seu estado, procedimentos e dúvi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QUEIMADURA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eimadur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ao lesoes na pele, provocada geralmente pelo calor ou pelo frio, mas que podem tambem ser provocadas pela electricidade, por contacto com certos produtos quimicos, radiacoes, ou ate por fri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profund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anto a extens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OS ETICO-LEG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lação entre enfermeiro e pacientes  e assentada em bases humanitárias, éticas e legais, garante a melhor relação interpessoal e favorece o correto processo diagnóstico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e terapêu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Responsabilidade de enfermagem: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corre quando o enfermeiro não cumpre a obrigação que tem em relação ao paciente,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ndo-lhe dan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467480" cy="936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nto a profundida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1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ncontra-se vermelha e dolorida.  Atinge a epiderme. A resposta capilar é normal. Com o tempo, a pele descasca-se mas cura-se espontaneamente depois de 5 a 7 dias. Este estado não requer tratamento. </a:t>
            </a:r>
            <a:br>
              <a:rPr sz="2800"/>
            </a:b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superficiai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 com bolhas e dolorida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resposta capilar é normal. Quando as bolhas são abertas, a pele por baixo das bolhas é vermelha e brilha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 a queimadura for mantida livre de infecções, a pele cura-se espontaneamente entre 10 a 14 di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6840" y="1143000"/>
            <a:ext cx="641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profundas de 2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inchada, vermelha, rosada ou pálida. Sente-se a pele grossa e existem bolh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a derm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não fica branca quando se testa a resposta capilar. As sensações de dor e toque estão reduzid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queimadura cura-se deixando uma cicatriz, normalmente, no decurso de três semanas.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8" name="Picture 2" descr="http://4.bp.blogspot.com/_pMxMXFn7L-4/TOmTpQzbMMI/AAAAAAAARF8/RyNteagoYLU/s1600/queimadura+2%25C2%25BA+grau.jpg"/>
          <p:cNvPicPr/>
          <p:nvPr/>
        </p:nvPicPr>
        <p:blipFill>
          <a:blip r:embed="rId1"/>
          <a:stretch/>
        </p:blipFill>
        <p:spPr>
          <a:xfrm>
            <a:off x="6227640" y="1628640"/>
            <a:ext cx="2808360" cy="25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600876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143000"/>
            <a:ext cx="6275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Queimaduras de 3ºgrau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 pele está branca, castanha ou preta e sec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m bolha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tinge os musculos e os oss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ão existe sensação de toque ou dor. Não existe resposta capilar e por isso não há sinais de circulação de sangue através dos teci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1" name="Picture 2" descr="http://4.bp.blogspot.com/_pMxMXFn7L-4/TOmUKll0cRI/AAAAAAAARGA/2JDrT2EfK9o/s1600/queimadura+3%25C2%25BA+grau.jpg"/>
          <p:cNvPicPr/>
          <p:nvPr/>
        </p:nvPicPr>
        <p:blipFill>
          <a:blip r:embed="rId1"/>
          <a:stretch/>
        </p:blipFill>
        <p:spPr>
          <a:xfrm>
            <a:off x="6372360" y="1989000"/>
            <a:ext cx="246672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NTO A EXTENS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Varios metodos sao usados para estimar a area de superficie corporal total (ASCT) lesada por queimadura, entre eles estao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1. Regra dos noves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 que designa percentuais em multiplos de nove para as principais superficies corporais. A cabeca e os membros superiores tem a percentagem de 9%, MI 18% cada, Torax e Abdomem 18% cada e orgaos genitais 1%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2.Metodo de Lund e Browder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ivide o corpo em areas pequenas e estima a percentagem da area queimada com a idade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. Metodo de palm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ste metodo usa a palma do paciente para medir a percentagem da zona queimada, a palma e de 1%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gra dos nov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Picture 2" descr="http://3.bp.blogspot.com/_pMxMXFn7L-4/TOh2CJOmIsI/AAAAAAAARF4/-ok1NmwRlyA/s1600/queimaduras.jpg"/>
          <p:cNvPicPr/>
          <p:nvPr/>
        </p:nvPicPr>
        <p:blipFill>
          <a:blip r:embed="rId1"/>
          <a:stretch/>
        </p:blipFill>
        <p:spPr>
          <a:xfrm>
            <a:off x="1835280" y="1052640"/>
            <a:ext cx="518472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ICACO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feccoes da pel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Queloid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atu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rda de grande quantidade de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UIDADOS DE ENFERMAGEM DE EMERGENCIA</a:t>
            </a:r>
            <a:br>
              <a:rPr sz="3000"/>
            </a:b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68360" y="1143000"/>
            <a:ext cx="837072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nalizar veia e administrar muitos fluidos EV segundo a prescricao medic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o paciente a beber muito liquid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Sonda vesical para medicao de diures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analgesicos segundo a prescri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rolar os SV regularm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ministrar VAT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UIDADOS DE ENFERMAGEM TARDIO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azer penso com sulfadiazina de pra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rcicio de fisioterapia para impedir atrofia muscular e mobili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ducacao ao paciente e famil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9640" y="83664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esponsabilidade de enfermagem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 enfermeiro nao deve ser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Negligente, imprudente e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ericia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impir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1. Neglig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u a não observância de determinados deveres por parte do enfermeiro. Exemplo: procedimentos vit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00000"/>
                </a:solidFill>
                <a:latin typeface="Arial"/>
              </a:rPr>
              <a:t>2. Imprudente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omiss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cautela, precipitação ou audácia d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o médico. Exemplo: utilizacao de tecnica de penso nao adequ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TOXICACAO EXOGENA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OXICACAO EXOGE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ção 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é uma condição seguida da administração de substâncias psicoativas e resultante em distúrbios no nível de consciência, congnição, percepção, julgamento, afeto ou comportamento, ou outra resposta ou função psicofisioló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00000"/>
                </a:solidFill>
                <a:latin typeface="Arial"/>
              </a:rPr>
              <a:t>Intoxicacao exogena</a:t>
            </a: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: pode ser definida como consequencia clinica e ou bioquimicas, da exposicao a substancias quimicas encontradas no ambiente isolad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ias de intox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gest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alaca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taminacao cutane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rodutos alimenta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secticidas (organofosforados e carbamato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salicil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or animais venenosos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Quadro clin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324000" y="1341360"/>
            <a:ext cx="25192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DIGES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Vómi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Diarre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Hemorragias digestivas  - Acção directa do tó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"/>
          <p:cNvSpPr/>
          <p:nvPr/>
        </p:nvSpPr>
        <p:spPr>
          <a:xfrm>
            <a:off x="3132000" y="1413000"/>
            <a:ext cx="568800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SINTOMAS E SINAIS RESPIRATÓ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Obstrução das vias aér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Paralisia muscula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epressão do centro respirató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a hemoglobina e normal transporte de oxigén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Diminuição da pressão ar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Interferência com os sistemas enzimáticos celulares que têm a cargo a utilização do oxigénio pela célul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00000"/>
                </a:solidFill>
                <a:latin typeface="Arial"/>
              </a:rPr>
              <a:t>- Edema pulmonar agudo – inalação de gases e aspiração de liqu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324000" y="1413000"/>
            <a:ext cx="273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RE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Oligú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Insuficiência renal ag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4"/>
          <p:cNvSpPr/>
          <p:nvPr/>
        </p:nvSpPr>
        <p:spPr>
          <a:xfrm>
            <a:off x="2987640" y="1413000"/>
            <a:ext cx="2952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NEUR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Convulsões – A morte ocorre por espasmos dos músculos respiratórios ou depressão respiratória após convuls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Co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Pupila    midríase            M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79280" y="3500280"/>
            <a:ext cx="28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CARDIOVASCU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lesão do miocárdio por tóxicos é ra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A taquicardia é um sinal frequ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5940360" y="1413000"/>
            <a:ext cx="3025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SINTOMAS E SINAIS HEMAT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Reacções hemolí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Febre,  Vómitos / naúseas,  Dor abdo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 Discrasias sanguí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-Agranuloci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    </a:t>
            </a:r>
            <a:r>
              <a:rPr b="1" lang="pt-BR" sz="2000" spc="-1" strike="noStrike">
                <a:solidFill>
                  <a:srgbClr val="c00000"/>
                </a:solidFill>
                <a:latin typeface="Arial"/>
              </a:rPr>
              <a:t>Anemia, Leucopenia e Trombocitop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edidas Gerai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valiar os sinais vitais e mantê-los em parâmetro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dequados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vagem gastric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Carvao activado, apos a lavagem gastrica: consiste na absorsao de compostos presentes no intestino e os ja absorv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Laxativos: manitol a 20% 150 a 200ml de 8/8h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FALTA OS SINAIS E SINTOMAS DE OUTRAS INTOXICACO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RDEDURAS E PICADA POR ANIMAI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ORDEDURAS E PICAD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efere se accao ou efeito de morder, dentada ou picada como consequencia duma accao animal ou human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É o padrão de encaixe dos dentes inferiores aos superiores na arcada dentária.</a:t>
            </a:r>
            <a:br>
              <a:rPr sz="2800"/>
            </a:br>
            <a:br>
              <a:rPr sz="2800"/>
            </a:b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IPO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143000"/>
            <a:ext cx="4043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mordeduras  mais frequentes sao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Ga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br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Roedor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imais ferroz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Human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5003640" y="1125360"/>
            <a:ext cx="367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s picadas mais frequentes sa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belh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s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orm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qu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os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eixes venen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968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SEQUENCIAS DE MORDEDURA E PICA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23640" y="141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a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Vene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Hemorragi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ecçã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erda de tecido, em ferimentos desfigurante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Tétan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Reacções alérgica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Arial"/>
              </a:rPr>
              <a:t>. Impericia-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stitui a inaptidão,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gnorância, falta de destreza ou insuficiência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 conhecimento técnico por parte do enfermeiro.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xemplo: introduçã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e alimentação no trato respiratóri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través de sonda mal posicionad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824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MORDEDURA ANIMA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a ferida estiver inchada, aplicar gelo embrulhado num pano limpo por 10 minutos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Informar-se se o cão está correctamente vacinado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Providencie que a vítima receba a vacina do tétano, se não a tiver toma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unca se deve suturar a feri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IDADOS NA MORDEDURA HUMAN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Lavar o ferimento com água e sabão pelo menos durante 5 minutos, mas sem esfregar com forç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o local da mordedur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Cobrir o ferimento com compressa esterilizad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Se estiver inchada colocar gelo</a:t>
            </a:r>
            <a:r>
              <a:rPr b="1" lang="pt-PT" sz="28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NA PICA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Não retire os ferrões com pinças nem os esprema. Raspe o local com lâmina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Desinfectar com álcool ou outro anti-séptico (Betadine dérmico)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c00000"/>
                </a:solidFill>
                <a:latin typeface="Arial"/>
              </a:rPr>
              <a:t>Aplicar gelo local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ESMAIO/SINCOP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MA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a perda subita e transitoria de consciencia e consequentemente da postura, devido a isquemia cerebral transitoria ( reducao na irrigacao do sangue para o cerebro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aus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Hipoglicemi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Factor emocional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Dor extrema,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mbiente confin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ontur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nsação de mal estar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ulso rápido e frac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spiração presente de ritmos variad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Tremor nas sobrancelha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Pele fria, pálida e húmid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 superficial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A PRESTA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rejar o ambiente, ou transportar a vítima para um local com melhor venti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levar os membros inferiores, com uma mochila, roupas, etc. com isso, o sangue circula em maior quantidade no cérebro e nos órgãos nobres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Virar a cabeça para o lado, evitando que a vítima venha a vomitar e possa se asfixiar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frouxar a roupa, para uma melhor circulação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Após o desmaio ter passado, não dê água imediatamente, para evitar que a vítima se afogue, pois ainda não está com seus reflexos recuperados totalmente.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mesmo em relação a deixá-la caminhar sozinha imediatamente após o desmaio. Faça-a sentar e respirar fundo, após auxilie-a a dar uma volta, respirando fundo e devagar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m isso, o organismo se readapta a posição vertical e evita que ela possa desmaiar novamente, o que pode ocorrer se ela levantar bruscamente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Após esses procedimentos, pode dar água a vítim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Arial"/>
              </a:rPr>
              <a:t>CONVULSOES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nvulsã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11426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Perda súbita da consciência acompanhada de contrações musculares bruscas e involuntárias, conhecida popularmente como “ataque”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ausas variadas: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Epilepsi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ebre alt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Traumatismo crani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Infecções do cérebro, HIV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Malária, raiva, sífilis, tétan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Fluxo sangüíneo inadequado para o céreb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ipertensã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Hemorragia intracraniana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DO PACIENT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delida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nfidencialidade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Veracidade das informações prestada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Inconsciênci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Queda abrupta da vitim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alivação abundante e vômit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Contração brusca e involuntária dos músculo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nrijecimento da mandíbula, travando os dent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Relaxamento dos esfíncteres (urina e/ou fezes soltas)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Esquec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1143000"/>
            <a:ext cx="838188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Generalizadas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ocorrem em qualquer idade, em qualquer momento. O intervalo entre as crises varia bastante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ão generalizada aguda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- caracterizado por perda da consciência e contrações musculares involuntárias tônico-clônicas generalizadas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c00000"/>
                </a:solidFill>
                <a:latin typeface="Arial"/>
              </a:rPr>
              <a:t>Convulsões de grande mal </a:t>
            </a:r>
            <a:r>
              <a:rPr b="0" lang="pt-BR" sz="2600" spc="-1" strike="noStrike">
                <a:solidFill>
                  <a:srgbClr val="c00000"/>
                </a:solidFill>
                <a:latin typeface="Arial"/>
              </a:rPr>
              <a:t>(motoras principais) - convulsões contínuas persistentes ou episódios graves consecutivos sem a restauração da consciência.  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2640"/>
            <a:ext cx="838188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a) Proteger o paciente evitar que o paciente se bata nos objetos que o rodeiam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b) Colocar o paciente em decúbito lateral para evitar bronco-aspiraçã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c) Proteger a boca e isolar as vias respiratórias, e colocar uma compressa dobrada entre os dent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) Administrar oxigên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e) Controlar os movimentos do paciente, segurando-o com cuidad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f) Aplicar tratamento farmacológico de acordo com o prescrito. O fármaco mais usado durante a crise é o diazepam EV lento,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h) Quando o paciente despertar, reoriente-o quanto ao amb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66"/>
                </a:solidFill>
                <a:latin typeface="Arial"/>
              </a:rPr>
              <a:t>INSOLACAO</a:t>
            </a:r>
            <a:endParaRPr b="1" lang="en-US" sz="4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OLACA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onceit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 o conjunto de sintomas que acometem uma pessoa exposta demasiadamente ao sol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aus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contece quando o organismo fica incapacitado de controlar a sua temperatur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NAIS E SINTOMA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tensa falta de ar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00000"/>
                </a:solidFill>
                <a:latin typeface="Arial"/>
              </a:rPr>
              <a:t>Desidratação e a queimadura da pele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efalei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Nauseas e tontur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emperatura corporal elevad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Diarre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ele quente, avermelhada e sec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xtremidades roxeadas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Inconsciencia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Pulso rapido e fort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omichao terrivel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evar o paciente para um local fresco e arejado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Deita-la com a cabeca elevad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Colocar compressas frias sobre a cabeca e envolver o corpo com taoalha molhada (agua e vinagre)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ncaminhar o paciente ao clin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Incentivar a beber muito liqu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 NECESSARI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00000"/>
                </a:solidFill>
                <a:latin typeface="Arial"/>
              </a:rPr>
              <a:t>Carrinha de emergencia contendo</a:t>
            </a: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: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buleiro, canula, ambu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eringas, agulhas, esfigmomanometro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Estetoscopio, termometro clinico, espatula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Fios de sutura, kit A de penso, garo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Cateter venoso, adesivo, couvete, 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Taca com quadrados de algodao, laringoscopi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toscopio, ataduras, algodao, gesso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Sondas, vaselina e lidocaina local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cia com agu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pirador, Balao de oxigeni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nti-septicos, soro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iomb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Luvas de procedimento ou cirurgica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Mascaras descartavei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vental impermeavel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Barret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Oculos de protecca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SPONSABILIDADE ETIC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005e"/>
                </a:solidFill>
                <a:uFillTx/>
                <a:latin typeface="Arial"/>
              </a:rPr>
              <a:t>O atendimento de urgência é uma obrigação do Estado</a:t>
            </a:r>
            <a:r>
              <a:rPr b="0" lang="pt-BR" sz="28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O direito ao atendimento de emergência é igual ao direito à vida, à educação, ao trabalho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etc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oda acção no </a:t>
            </a:r>
            <a:r>
              <a:rPr b="0" lang="pt-BR" sz="2800" spc="-1" strike="noStrike">
                <a:solidFill>
                  <a:srgbClr val="c00000"/>
                </a:solidFill>
                <a:latin typeface="Arial"/>
              </a:rPr>
              <a:t>setor de urgência deve ser fundamentada em rotinas próprias e protocolos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ssistenciais previamente aprovados e constantemente revist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Rede de Referenciação Hospitalar de Urgência/Emergência 14 de Novembro de 2001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ctora Lusodidactica, Lisboa, 1998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66"/>
                </a:solidFill>
                <a:latin typeface="Arial"/>
              </a:rPr>
              <a:t>Smelter e Bare, Enfermagem Medico-cirurgica, Editora Guanabarra, Vol 2, 10ª Edicao, 2005.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ww2.unoeste.br/~aulasmedicina/arquivos/07e 08.../saude,</a:t>
            </a:r>
            <a:endParaRPr b="1" lang="en-US" sz="2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1T11:17:46Z</dcterms:created>
  <dc:creator>Hamido</dc:creator>
  <dc:description/>
  <dc:language>en-US</dc:language>
  <cp:lastModifiedBy>inacia</cp:lastModifiedBy>
  <dcterms:modified xsi:type="dcterms:W3CDTF">2011-11-28T10:29:00Z</dcterms:modified>
  <cp:revision>50</cp:revision>
  <dc:subject/>
  <dc:title>Paragem Cardiorrespiratória</dc:title>
</cp:coreProperties>
</file>