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A6E1-BF7B-4A05-8559-3FEDA77B6366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1EB1-BFC0-4FAA-8BA7-3B9336289726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A081-6727-4AFE-8BCF-518D52A52210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4514-D748-45D5-B0A4-EE7B936B5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35C1-6630-4E97-8821-B27B50F469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1A1D2-BFB3-4F52-B64D-0F17A7718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20189-9D50-407E-91ED-470F26432B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0498D-F317-444E-BEEB-5AE7E50421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92CF7-9F23-443D-A1CB-B8A134ADF4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304D2-53D9-490E-9AE4-03776BAA2D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1F908-F586-42F6-913F-1F5370EE1E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C8FFB-7B92-4B4C-A791-055BA57322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89A3F-072A-4ECD-8FA2-DFBDF61566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66C36-9D17-4957-AD02-645E1CFD4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27951-D65E-4D7B-B988-D60D2B6F9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2E9D7-33E9-4EF7-B811-20C2C8F606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10CD9-2A1E-48EE-B629-29F85ECDE4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0778D-5F8F-4592-A18B-DFEEA93962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3EF2F-30AE-4C5F-8629-6AE8B07663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1DDB9-0751-4CE2-AD58-AA32A0B74B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62B9-1C15-45A3-AD23-F44526EEE3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B4D7-57F6-4C63-96F9-24CF9B0FF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4382-4C72-4EBB-BA17-FC7193600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D0E7C-E0A0-42B7-8706-D296E896D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BC900-0233-41C0-93B3-5AF020861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65855-D724-429C-9A95-EDF72A418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0E63E-52C0-4440-9D00-2C236AD19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4B46-9275-4BB4-9EB4-F4DD306D866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4C6A-9818-463C-AD0F-25DDAACB0BD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235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Arial"/>
              </a:rPr>
              <a:t>ENFERMAGEM MÉDICO-CIRÚRGIC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Submódulo 11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lang="pt-PT" sz="2000" spc="-1" strike="noStrike">
                <a:solidFill>
                  <a:srgbClr val="000066"/>
                </a:solidFill>
                <a:latin typeface="Arial"/>
                <a:ea typeface="Arial"/>
              </a:rPr>
              <a:t>ATENÇÃO À PEQUENAS CIRURGIAS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Curso de Enfermagem Geral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5FC8-03B8-46A2-9F2A-D7EA6301199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lucagon injectável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e medicamento exerce um efeito relaxante sobre o músculo esofagean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ndoscopia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Em último caso se recorre ao procedimento  endoscópico para remover o alimento impactad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Enfermeiro deverá encorajar o paciente, deixando-o mais calmo possível de modo a não agitar-s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Enfermeiro deverá seguir todas as recomendações médicas possíveis incluíndo a educaç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05120" y="2133720"/>
            <a:ext cx="5486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FERMAGEM MÉDICO-CIRÚRGIC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676520" y="4572000"/>
            <a:ext cx="58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gency FB"/>
              </a:rPr>
              <a:t>SUBMÓDULO 11</a:t>
            </a:r>
            <a:endParaRPr b="1" lang="en-US" sz="32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gency FB"/>
              </a:rPr>
              <a:t>CURSO DE ENFERMAGEM GERAL</a:t>
            </a:r>
            <a:endParaRPr b="1" lang="en-US" sz="32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RENAGEM DE ABCESS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BCESS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nceito-É uma colecção localizada de pús e usualmente o resultado de uma invasão de bactérias piogénicas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(fonte)</a:t>
            </a:r>
            <a:endParaRPr b="1" lang="en-US" sz="16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a tentativa de combater a infecção os leucócitos  (polimorfonucleares) fagocitam e destroem os microorganismos, libertando enzimas que liquefazem o tecido necrosad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sim o pús formado é composto de: tecido necrosado, leucócitos  e bactérias destruída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2952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ebre de tipo séptic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l est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norex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u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eucocitose neutrófil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IFESTAÇÃ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nicamente o abcesso no princípio manifesta-se com uma tumefacção vermelha, dolorosa e dur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is tarde amolece e surge a flutua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 não fôr drenado cirurgicamente, o pús procura saída para o exterior através de uma fístula ou para o interior de uma víscera o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NECESSÁRIO PARA DREN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abuleiro ou mesinha própri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inça de Kocher ( Média ou pequena 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inça de Kelly ( Média ou pequena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inça de dissecção com dentes (Média ou pequena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bo de bisturi nº 3 e bisturi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mpo fechad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igadur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aça para solut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MATERIAL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mpo abert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uvete reniforme ( média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ress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sterilizad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desiv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uva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irurgic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arrete e Óculos de protecção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otas de borracha e Avental impermeáve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rascos de Solut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nestesico loc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1426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-Preparar o paciente para a execucao da tecnic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Lavar as mã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Reunir o materi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-Preparar o material na mesinh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-Posicionar o paciente confortavelment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6-Usar material de EPI complet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-Abrir o Kit e organizar o material incluíndo a adaptação do bisturi no cab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  1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-Deitar o soluto na taç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8- Usa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Trocar com calcar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s luv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9-Fazer Antissépsia loc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-Colocar o campo abert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2-Colocar a couvete estéril por cima  do campo  junto ao abcess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licar anestesico local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3-Fazer a incisão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gency FB"/>
                <a:ea typeface="Arial"/>
              </a:rPr>
              <a:t> </a:t>
            </a: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Arial"/>
              </a:rPr>
              <a:t>ENFERMAGEM MÉDICO-CIRÚRGICA 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gency FB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XTRAÇÃO DE CORPOS ESTRANHOS</a:t>
            </a:r>
            <a:endParaRPr b="1" lang="en-US" sz="32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  2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4-Alargar a incisão e tecidos fundos com pinça de    Kelly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5-Drenar o abcesso espremendo com as compressas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6-Desinfectar a cavidade com uma compressa húmida </a:t>
            </a: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embebida com hipocloreto a 0,025% </a:t>
            </a: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e com o auxílio da pinça de Kelly em movimentos circulares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7-Colocar um dreno de Penrose ou semelhante   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8-Secar à volta da incisão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66"/>
                </a:solidFill>
                <a:latin typeface="Arial"/>
              </a:rPr>
              <a:t>19-Colocar, por baixo do dreno, uma compressa cortada a meio cerca de ¾.</a:t>
            </a: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OS PROCEDIMENTOS  3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0-Colocar outras compressas por cima da 1ª 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1-Fixar o penso com uma ligadur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2-Retirar o pacient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3-Retirar o material para ser processad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4-Arrumar o restante materi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5-Fazer regist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ver a descricao da referencia bibliografica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ual de Cirurgia para Técnico de Cirurgi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tor :  Vaz,Fernando. Moçambiqu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nual de Enfermagem Cirúrgic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tor: Instituto de Ciências de Saúde de Maputo.Moçambiqu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ratado de Enfermagem Médico-Cirúrgic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utor: Brunner Suddarth. Brasi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80880" y="129528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 FIM DA AULA O ESTUDANTE </a:t>
            </a:r>
            <a:r>
              <a:rPr b="1" lang="pt-PT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ERA ADQUIRIDO AS SEGUINTES COMPETENCIA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pt-PT" sz="2400" spc="-1" strike="noStrike">
                <a:solidFill>
                  <a:srgbClr val="ff0000"/>
                </a:solidFill>
                <a:latin typeface="Arial"/>
                <a:ea typeface="Arial"/>
              </a:rPr>
              <a:t>Selecciona o material e o EPI necessario durante a execussão da técn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esta cuidados de Enfermagem humanizados ao uten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esta cuidados de urgência e emergência médico-cirúrgica, bem como aplica medidas preventivas das complicações.</a:t>
            </a: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CONT. DAS COMPETÊNCIAS              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Aplicar os conhecimentos adquiridos ao planificar,executar e avaliar os cuidados de Enfermagem, baseados no diagnóstico realizado,visando a satisfação das necessidades do utente do fóro médico-cirúrgic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Orientar os utentes e a família sobre os cuidados a prestar no pré e pós operatório e prevenção das complic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2480" y="633564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RPOS ESTRANH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eve-se falar dos outras vias propensas a corpos estranhos</a:t>
            </a:r>
            <a:endParaRPr b="1" lang="en-US" sz="26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Muitos corpos estranhos deglutidos atravessam o trato gastrointestinal sem a necessidade de intervenção médica.No entanto alguns deglutidos  como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dentaduras (trocar com protese dentaria)</a:t>
            </a: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, espinhas de peixe, alfinetes, pequenas baterias,artigos  contendo mercúrio ou chumbo, podem lesionar o esôfago ou obstruir sua luz e devem ser  removidos.</a:t>
            </a:r>
            <a:endParaRPr b="1" lang="en-US" sz="2600" spc="-1" strike="noStrike">
              <a:solidFill>
                <a:srgbClr val="000066"/>
              </a:solidFill>
              <a:latin typeface="Agency FB"/>
            </a:endParaRPr>
          </a:p>
          <a:p>
            <a:pPr marL="312120" indent="-312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de haver dor e disfag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de ocorrer uma dispneia em consequência da pressão sobre a traque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exames radiológicos são úteis para identificar o corpo estranh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ve-se referenciar o material necessario e os passos a seguir na exexussao da tecnic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2200" indent="-322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Habitualmente os corpos estranhos podem ser removidos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2200" indent="-32220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m ajuda do esofagoscópi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2200" indent="-322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2200" indent="-322200" algn="just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Quando o corpo estranho é pontiagudo ( ganchos para cabelo, alfinetes de segurança, agulhas, picos e taxas ) não é seguro permitir que o objecto percorra lentamente o estômago e o intestino.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13E3-3044-4CEB-A7B7-A1B25795C6D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Íman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so a um cabo pode ser manobrado no local com a ajuda de fluoroscopia, removendo-se assim o object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téter de demora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de ser manipulado até além do objecto, o balão será insuflado o catéter e o corpo estranho serão removido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ofagoscopi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É possível para um esofagoscopista habilidoso remover alfinetes de segurança abertos através do esofagoscópi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laxante-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ndo um bolo alimentar impactado se encontrar no esófago pode-se tratar o paciente com relaxante muscular do tipo valium (Diazepan), às vezes isto é suficiente para relaxar o músculo esofágico e permitir que o bolo de carne se movimente através do esófag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47:03Z</dcterms:modified>
  <cp:revision>877</cp:revision>
  <dc:subject/>
  <dc:title>ANATOMIA E FISIOLOGIA HUMANA</dc:title>
</cp:coreProperties>
</file>