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B836-4DC1-4152-9935-B89847A4D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B0D79-6972-4BE3-A43C-3F8947252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9C56-2278-42ED-880C-5F4E02D78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884E-0106-4A81-8A6F-D85BC6D3CF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B56E3-C40A-437D-A2DF-735BB226F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36A7-C43E-4787-B442-A048D2CD0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76C03-FFA7-431D-9BAA-DF62DF85E1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EFED-E8E3-4FBF-AF3F-D0D30951B4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987B2-7425-45F3-8DB7-E187497E4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1786-C9C7-44B1-A9BD-EF016B8849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F659E-D025-4180-B77C-E2B858904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CDD92-80A2-4154-99BD-79161E09D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90FA4-33F8-4833-885E-52073DD3B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1FDB0-64B7-4A51-A0C6-F569C493B6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DAB88-1221-45A6-97ED-85E9EFE644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DD7C-CF25-49BC-8219-75CC939D3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968F1-5427-4391-9A0C-95A775379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26A4-BD91-4F42-A006-2CDD82C412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1593360"/>
            <a:ext cx="662328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6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c00000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erenciar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ender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r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leccionar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cutar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istar corretamente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poio psicologic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042920" y="12682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724360" y="12682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T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ESTANC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aquicardia, Hipotensão, Sede, 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rescentar outros tipos de choqu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836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egligente, imprudente e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ericia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u a não observância de determinados deveres por parte do enfermeir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7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 sensação de toque ou dor. Não existe resposta capilar e por isso não há sinais de circulação de sangue através dos tec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0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IDADOS DE ENFERMAGEM DE EMERGENCIA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IDADOS DE ENFERMAGEM TARD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. Impericia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cao exogena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24000" y="1341360"/>
            <a:ext cx="251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DIGES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Vóm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Diarre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Hemorragias digestivas  - Acção directa do tó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132000" y="1413000"/>
            <a:ext cx="5688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RESPI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Obstrução das vias aé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Paralisia mus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epressão do centro respi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a hemoglobina e normal transporte de oxigé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iminuição da pressão ar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Edema pulmonar agudo – inalação de gases e aspiração de liqu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24000" y="141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RE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Oligú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Insuficiência renal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987640" y="1413000"/>
            <a:ext cx="295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NEUR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upila    midríase            M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79280" y="350028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CARDIOVAS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lesão do miocárdio por tóxicos é r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taquicardia é um sinal fre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5940360" y="1413000"/>
            <a:ext cx="302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HEMAT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Reacções hem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Febre,  Vómitos / naúseas,  Dor abd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Discrasias sangu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Agranuloci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Leucopenia e 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FALTA OS SINAIS E SINTOMAS DE OUTRAS INTOXICA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uman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 ANI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rejar o ambiente, ou transportar a vítima para um local com melhor venti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frouxar a roupa, para uma melhor circu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pós esses procedimentos, pode dar água a víti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ONVULSO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5e"/>
                </a:solidFill>
                <a:uFillTx/>
                <a:latin typeface="Arial"/>
              </a:rPr>
              <a:t>O atendimento de urgência é uma obrigação do Estado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buleiro, canula, ambu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eringas, agulhas, esfigmomanomet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etoscopio, termometro clinico, espatul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Fios de sutura, kit A de penso, garo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ateter venoso, adesivo, couve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ca com quadrados de algodao, laringoscop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toscopio, ataduras, algodao, gess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cia com agu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pirador, Balao de oxigen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ti-septicos, sor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iomb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Código Civil normatiza aquele que por ação ou omissão voluntária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hp</cp:lastModifiedBy>
  <dcterms:modified xsi:type="dcterms:W3CDTF">2013-10-31T10:22:01Z</dcterms:modified>
  <cp:revision>52</cp:revision>
  <dc:subject/>
  <dc:title>Paragem Cardiorrespiratória</dc:title>
</cp:coreProperties>
</file>