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F126-A6BC-48B3-9AD4-2B66B3EA4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2C5B-2BC5-4BC0-8AFC-709AB79A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8592-AB3A-4701-A2E0-449454D2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4B5-8556-4EC3-A602-6F23E3BE5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FC7-B5E5-4EA8-92A1-0FD8ED44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27E4-E0B7-4850-B2E1-53687F0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3CE9-85AB-4C99-8FC5-296DBDC9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4657-F0BA-4905-AAD7-B132C37C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69FF-F66E-4F74-8D14-FFA2AFDF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68DE-FE36-44E8-848E-8072CCB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2F58-F809-4488-96CB-CDE87FDE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C58-F5AA-4A52-ADAB-05DC3EFD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3A9D-7EDB-4C62-BB5F-6D6CF96067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9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772400" cy="259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MODULO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898989"/>
                </a:solidFill>
                <a:latin typeface="Calibri"/>
              </a:rPr>
              <a:t>PRÁTICAS DE ENFERMAGEM II: ENFERMAGEM MÉDICO-CIRÚRG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558ed5"/>
                </a:solidFill>
                <a:latin typeface="Calibri"/>
              </a:rPr>
              <a:t>Sub-modulo 6: Cuidados de enfermagem nas alterações  especia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uidados com a higiene or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valiar diariamente a mucosa or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nstruir o paciente a relatar a queimação oral, dor, áreas de rubor, lesões abertas nos lábios, dor ao deglutir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alizar a higiene oral após as refeiçõe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11C-BD97-47DB-B75B-198832EDB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isitar o dentista regularmente; usar escovas de cerdas maci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vitar e tratar rapidamente as cári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plicar lubrificante labial; evitar o álcool e fumo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05CF7-6C27-44CA-B5E3-46887AAF1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2. Cuidados com a aplicação de Insulina: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Locais para aplicação de insulin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gião deltóid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gião glúte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e ântero-extrema da cox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arede abdominal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eri-umbilic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Variar o local da aplicação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Registar os locais e utilizar todos os possívei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Numa mesma área use aproximadamente uma distância de 2 a 3 c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9B5E6-02C9-4639-93AD-BECA068C96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703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uidados com os pé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Lavar diariamente, enxugar cuidadosamente entre os dedo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rtar e limpar as unh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sar sapatos macios e não andar descalço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stimular a circulação com massagen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5D77-00D8-48C5-8753-25B17914FA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utros cuidado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ornecer instruções por escrito sobre o cuidado com os pés, e programas de exercíci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uxiliar para garantir que as roupas estejam adequadamente ajustada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ncorajar a ingestão adequada de proteínas e calori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ncorajar a participação nos programas de exercícios planejado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0107-11AB-4B68-A646-B53E9FDB6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AULA PRÁT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0560" indent="-120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emonstração dos tipos de insulina e seus respectivos cálcul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20560" indent="-1206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dministração da insulina (Aula Prátic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730E-2906-4134-83B4-43E382143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EM QUIMIOTERAP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nceito de quimioterapi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refere-se ao tratamento de doenças por substâncias químicas que afectam o funcionamento celular </a:t>
            </a:r>
            <a:r>
              <a:rPr b="0" lang="pt-PT" sz="1400" spc="-1" strike="noStrike">
                <a:solidFill>
                  <a:srgbClr val="558ed5"/>
                </a:solidFill>
                <a:latin typeface="Calibri"/>
              </a:rPr>
              <a:t>(http://pt.wikipedia.org/wiki/Quimioterapia)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É aquele que pudesse destruir apenas as células cancerosas sem lesar as normais, mas este fármaco não existe. Apesar da estreita margem entre o benefício e o dano, muitas pessoas com cancro podem tratar-se com medicamentos anticancerosos (quimioterapia) e algumas podem curar-se. Actualmente, podem minimizar-se os efeitos secundários da quimioterap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E369-7DF8-4BC6-ACF2-C1C055609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medicamentos anticancerosos estão agrupados em várias categoria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gentes alquilantes, antimetabólitos, alcalóides derivados de plantas, antibióticos antineoplásicos, enzimas, hormonas e moduladores da resposta biológica. Muitas vezes, dois ou mais medicamentos são usados em associação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0421-86F9-48EE-AEAC-3F7FEB5BF9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motivo principal da quimioterapia combinada é utilizar medicamentos que actuem sobre diferentes partes do processo metabólico das células, aumentando assim a probabilidade de morrerem muito mais células cancerosas. Os efeitos secundários tóxicos da quimioterapia podem reduzir-se quando se combinam medicamentos com diferentes toxicidades, cada um numa dose mais baixa do que seria necessário se fossem usados sozinh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0CBAA-F081-4C3A-A66D-ECE765ECF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or fim, por vezes combinam-se medicamentos com propriedades diferentes. Por exemplo, os medicamentos que matam as células tumorais podem ser combinados com os que estimulam o sistema imunológico do organismo para lutar contra o cancro (moduladores da resposta biológ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3AFDE-C6F3-4764-B63C-40F972EC8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EFEITOS COMUNS DOS AGENTE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3D09-B6C1-4A1E-AE53-EEE8EE5346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743200"/>
            <a:ext cx="837576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r e classificar as diabetes mellitu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dentificar as causas e quadro clínico das diabetes mellit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os cuidados de enfermagem ao utente com diabetes, ensinando o uso da insulin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71E23-D8C1-4A1C-92B9-8B32601E6437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Calibri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efeitos tóxicos dos medicamentos variam de acordo com o grupo a que pertence a droga e com a sensibilidade individual de cada pacient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sintomas mais frequentes são: anorexia, náusea, vómito, febre, calafrios, mal-estar geral, diarreia ou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obstipaca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, eritema, descamação da pele, necrose tecidual e hemorragia,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queda do cabel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uso dos quimioterápicos por um período prolongado ocasiona o desenvolvimento de outros tipos de cânceres, depressão da medula óssea, que gera anemia, tendência hemorrágicas e diminuição da resistência a infecçõ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982E-B9C2-4120-9E61-951E333B9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EFEITOS COLATERAIS DOS AGENTES QUIMIOTERÁP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PRECAUÇÕES NA ADMINISTRAÇÃO DOS QUIMIOTERÁPICO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D290-60C1-48E9-BBEF-483632A37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09480" y="1298520"/>
          <a:ext cx="8229600" cy="47404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2895480"/>
              </a:tblGrid>
              <a:tr h="335160">
                <a:tc gridSpan="3"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nde e como se administra a quimiot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44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m que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0880">
                <a:tc>
                  <a:txBody>
                    <a:bodyPr lIns="9360" rIns="9360" tIns="9360" bIns="9360" anchor="ctr">
                      <a:noAutofit/>
                    </a:bodyPr>
                    <a:p>
                      <a:pPr lvl="1"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Hospi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oentes clínicos exter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sultório do médic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Menos frequentemente, na sala de operações para poder aplicar os medicamentos perto do tumo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m casa (por uma enfermeira, pelo próprio ou por um membro da famíl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lvl="1" marL="291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Directamente nos vasos sanguíneos que chegam à área de crescimento do tumo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r perfusão gota a gota endovenosa (de um saco ou garrafa com solução endovenosa, durante vários minutos até várias hora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r estímulo intravenoso (directamente na veia, um cateter na veia central ou implantado no orifício durante alguns minutos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almente (cápsulas, pastilhas ou líquid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lvl="1" marL="2919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aria, dependendo do cancro: vários medicamentos num dia, uma dose diária durante vários dias, continuamente durante muitos dias, uma dose semanal, uma dose ou alguns dias de medicação uma vez por mê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s tratamentos podem ser administrados por períodos de várias semanas a vários an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29196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Uma fase do tratamento pode ser fornecida de uma só vez, aplicar com intervalos entre duas aplicações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ADMINISTRAÇÃO DO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oporcionar conforto e repouso ao paciente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Verificar sinais vitais de 6/6 hora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bservar e relatar o aparecimento de efeitos colaterais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uxiliar o paciente com episódios de náuseas, vómitos e diarreia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716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Realizar higiene oral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ACBA-8771-4372-A6BE-9254AE5EE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ferecer líquidos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Observar o local da punção venosa, para evitar extravasamento da drog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aso ocorra o extravasamento venoso, interromper o gotejamento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34308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sistir o paciente com gentileza, ouvindo suas queixas e demonstrando o devido interesse pela sua recuperação e bem-esta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18E1-59A0-4088-B521-A88E88FADD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ADMINISTRAÇÃO DOS QUIMIOTERÁPICO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Precauçõ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Usar o EPI recomendado durante o manuseio de medicamentos quimioterap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Canalizar uma veia de grande calibre para o tratamento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Proteger a pele do contacto com estes medicamento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Rever as recomendações para identificar medicamentos que necessitam de protecção do efeito dos factores ambientai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Calibri"/>
              </a:rPr>
              <a:t>Nao incluir no manuseio de medicamentos quimioterapico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que tenham doenças crónicas debilitante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que tenham tido exposição prolongada a ambientes radiológic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uncionarios idoso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NO UTENTE EM DIÁLISE PERITON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nceit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lise – e um conjunto de tecnicas usada para remover liquidos e produtos residuais uremicos do corpo quando os rins nao conseguem faz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Tipos de Dialis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558ed5"/>
                </a:solidFill>
                <a:latin typeface="Calibri"/>
              </a:rPr>
              <a:t>Dialise peritoni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just">
              <a:spcBef>
                <a:spcPts val="4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558ed5"/>
                </a:solidFill>
                <a:latin typeface="Calibri"/>
              </a:rPr>
              <a:t>Hemodiali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álise peritoneal: Introdução para dentro da cavidade abdominal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um líquido que contém uma mistura especial de glicose e de sais que arrasta as substâncias tóxicas dos tecidos. Depois extrai-se o líquido e despeja-se. A quantidade de glicose pode ser modificada para extrair mais ou menos líquido do organis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E320-D39D-46E1-A053-106BB7D05A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Quanto às técnicas de inserção, cuidado e retirada do cateter, podem variar de acordo com as características específicas para cada caso, são sugeridas as seguintes instruçõ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locar o paciente em posição adequada, em ambiente cirúrgic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r todo material e a sala, utilizando-se de medidas assépticas respeitando as rotinas da instituiçã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8B17-87B2-44E5-8C19-0D948C9E14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ceder a aplicação do anestésico de acordo com a indicaç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ceder a incisão da pele superficialmente atravessando todas as camadas (planos) para posteriormente por punção atingir  o peritóni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Uma vez localizada a cavidade peritoneal, introduzir o cateter com o extremo fenestrado no interior do peritónio de modo que toda extremidade fenestrada fique no interior da cavidade peritone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8E86-D718-430B-9946-9EAD00636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alizar a cauterização dos vasos sanguíneos segundo normas institucion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segurar que um dos “cuff” fique loca</a:t>
            </a: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liza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o no espaço entre a camada muscular e o peritónio e o outro “cuff” fique loca</a:t>
            </a: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liza</a:t>
            </a: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o no tecido subcutâneo logo abaixo da pele, para permitir que se fixe no tecido para evitar perda de líquido e contaminação do catet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ixar o cateter na superfície da pel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onectar a extensão ao extremo proximal do catete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8B03-A033-438F-8C8C-CE8D17351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restar os cuidados de enfermagem ao utente em tratamento com agentes quimioterápico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cuidados de enfermagem ao utente em diálise periton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Seleccionar e prestar cuidados de enfermagem nas alterações osteomusculares e na integridade cutânea prejudicad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E8B6-0521-4D68-A541-4B2984DA78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daptar ao extremo proximal da extensão um conector três vias para permitir o controle do que é drenado e do que é infundido na cavidade peritone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fechado o sistema com auxílio do conector três vias e conectar o reservatório de drenagem e o equipo para irrigaçã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brir o sistema e verificar o funcionamento do reservatório de drenagem. Colocar na altura indicada. 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Realizar o controle radiológico correspondente para verificar a posiçã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132-3914-4D90-A06F-92580AEDA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EPARAÇÃO DO UT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SOLUÇÃO DIALISADOR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nicia-se com a infusão de 2L de volume de solução com dextrose a 1,5 % na cavidade abdominal durante 10 minutos e deixa-se dialisar durante 2,5 hor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 solução é depois drenada durante 20 minutos antes da próxima troca. 3 trocas/d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ma vez que os indivíduos têm membranas peritoneais diferentes uns dos outros deve-se fazer, nos primeiros 2 meses, o teste do equilíbrio peritoneal para avaliar a taxa de transporte da ureia e da creatinina através da membrana peritoneal, de forma a adequar a terapêutica (dialisadores rápidos 10-17%, dialisadores moderados 50%, dialisadores médio-lentos 25-30%, dialisadores lentos 5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25A8-D74F-49DF-B1BE-1AC02B79F9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CIDENTES COMU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or Abdominal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norexi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renagem inadequad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ificuldade Respiratóri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Hérnia Abdominal, Sangrament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Problemas mecânico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633B-A3BB-451D-B42B-E9D2C3C9CA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OMPLICAÇÕ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Peritonite, principal complicação da diálise peritonea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Infecções no local de saída do cateter e túne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Falhas na ultrafiltração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;?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Calibri"/>
              </a:rPr>
              <a:t>Ou aciden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omplicações mecânic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Hérnia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or abdominal, Hipersensibilidade, Rigidez; hipotensão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arterial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renagem inadequad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Metabólicas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(</a:t>
            </a:r>
            <a:r>
              <a:rPr b="0" lang="pt-BR" sz="2000" spc="-1" strike="noStrike">
                <a:solidFill>
                  <a:srgbClr val="558ed5"/>
                </a:solidFill>
                <a:latin typeface="Calibri"/>
              </a:rPr>
              <a:t>Hiponatremia e hipernatremia, Hipopotassemia e hiperpotassemia, Alcalose e acidose, </a:t>
            </a:r>
            <a:r>
              <a:rPr b="0" lang="en-US" sz="1700" spc="-1" strike="noStrike">
                <a:solidFill>
                  <a:srgbClr val="558ed5"/>
                </a:solidFill>
                <a:latin typeface="Calibri"/>
              </a:rPr>
              <a:t>Má nutrição protéica, Hipertrigliceridemia, Obesidade, </a:t>
            </a:r>
            <a:r>
              <a:rPr b="0" lang="pt-BR" sz="2000" spc="-1" strike="noStrike">
                <a:solidFill>
                  <a:srgbClr val="558ed5"/>
                </a:solidFill>
                <a:latin typeface="Calibri"/>
              </a:rPr>
              <a:t>Hiperglicemia)</a:t>
            </a:r>
            <a:r>
              <a:rPr b="0" lang="pt-PT" sz="2000" spc="-1" strike="noStrike">
                <a:solidFill>
                  <a:srgbClr val="558ed5"/>
                </a:solidFill>
                <a:latin typeface="Calibri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Hiperglicém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Obesidad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Hipertrigliceridem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teodistrofi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A43-E861-4A9E-8E1E-D0D7828EF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SSISTÊNCIA DE ENFERMAGEM ANTES DA DIÁLISE PERITON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uidados antes da diáli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xplicar o procediment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lectrólito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parar a unidade e o material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ff0000"/>
                </a:solidFill>
                <a:latin typeface="Calibri"/>
              </a:rPr>
              <a:t>Banh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6BDD-54C6-4D86-88B4-C65B40E9DB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SSISTÊNCIA DE ENFERMAGEM DURANTE  A DIÁLISE PERITONE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ício, duração e término de cada banh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specto do líquido drenad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mbiente tranquilo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edidas de confort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sar a bolsa após cada tro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Usar técnica asséptica rigoros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A4D-AE66-4832-B0DE-F8B51832FC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DEPOIS DA DIÁLISE PERITONE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notar as condições do paci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Sinais vitai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Pes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Fechamento da folha de balanço hídrico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Início e término de cada troc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Quantidade e tipo de solução drenada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Número de troca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DE7D-2BC0-4F79-836E-89E1804442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ASSISTÊNCIA DE ENFERMAGEM NAS ALTERAÇÕES OSTEOMUSCULA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çã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Um estado no qual o indivíduo corre o risco de sofrer deterioração dos sistemas d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 organismo por inactividade musculo esquelét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Os factores relacionados com maior frequência s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iminuição da mobilidade físic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5640" indent="289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Intolerância à activida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FE20-5215-4C12-A193-AB6A546838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pele intacta e as mucosas com coloração normal; </a:t>
            </a:r>
            <a:r>
              <a:rPr b="0" lang="pt-PT" sz="2600" spc="-1" strike="noStrike">
                <a:solidFill>
                  <a:srgbClr val="00b050"/>
                </a:solidFill>
                <a:latin typeface="Calibri"/>
              </a:rPr>
              <a:t>sem sinais de isquemia e de eritemas não branqueáveis pressão;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circulação adequada; sem sinais de edema, formação de coágulos, flebites ou embolia pulmon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um retorno venoso e o débito cardíaco normais; sem sinais de sobrecarga ou falência cardíaca ou hipotensão ortostáti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49CA-5010-4A0D-88F7-386B1BDB9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ventilação adequada; sem sinais de retenção de dióxido de carbono. Ou hipox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uma alimentação adequada; sem anorexia, má nutrição, catabolismo muscular ou balanço azotado negativ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massa muscular; sem sinais  de diminuição de forca ou de tonus muscul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Manter a mobilidade articular passiva de todas as articulações; sem sinais de contractura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3FC2-F2FB-4449-B3BA-DDE3644691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ONCEI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6b9b8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: É um grupo de doenças metabólicas caracterizadas por </a:t>
            </a:r>
            <a:r>
              <a:rPr b="0" lang="pt-PT" sz="2400" spc="-1" strike="noStrike">
                <a:solidFill>
                  <a:srgbClr val="ff0000"/>
                </a:solidFill>
                <a:latin typeface="Calibri"/>
              </a:rPr>
              <a:t>e associadas a complicações, disfunções e insuficiência de vários órgãos, especialmente olhos, rins, nervos, cérebro, coração e vasos sanguíneos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niveis elevados de açúcar no sangue (hiperglicemi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Hiperglicémia: É quando a taxa de glicose no sangue esta alt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558ed5"/>
                </a:solidFill>
                <a:latin typeface="Calibri"/>
              </a:rPr>
              <a:t>Hipoglicémia: É quando a taxa de glicose no sangue esta baix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7EDF-AEFB-499A-A6BF-009F57ED13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metabolismo ósseo normal; sem reabsorção óssea, hipercalemia, hipercalciúria , formação de cálculos renais  de cálcio, osteoporose ou fracturas patogénica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a boa eliminação vesical; sem retenção urinária, urina concentrada, infecção urinária, distensão  vesical, incontinência urinária, urina alcalina ou cálculos renais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6DB2-EB77-4A77-ACE5-8F7535F8A4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idar com a incapacidade para realizar tarefas ou atingir objectivos com autonomia; sem sentimentos excessivos de perda de controlo, frustração, hostilidade, agressão ou depres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idar com a incapacidade de afastar autonomamente do que é sentido como ameaça ao seu bem-estar físico ou emocional; sem sentimentos excessivos de ansiedade, medo ou pânic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515F-3AA6-4536-AF01-1083C47DE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relacionamento inter-pessoal saudável com os prestadores de cuidados; sem dependência excessiva ou necessidade de lhe agradar ou de o controla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Manter o relacionamento saudável; sem sentimentos de isolament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2FA2-948F-489D-B0F0-56FCA7B51F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SSISTÊNCIA DE ENFERMAGEM NO UTENTE COM INTEGRIDADE CUTÂNEA PREJUDICA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6840" y="15998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efinição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Estado em que um individuo tem lesões da integridade e continuidade estrutural dos tecidos moles orgânicos, incluindo a pele, mucosa, tecidos córneo, o tecido subcutâneo, ou o muscul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Características definidor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A única grande característica definidora para este diagnostico de enfermagem é a lesão ou destruição de um dos tecidos mencionados na definiçã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3CFA0-0FB0-45BF-AF7B-7D90268453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lterações mecânicas secundárias a intervenção cirúrgica, traumatismo, pressão, fricçã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Alterações térmicas, (queimaduras) secundarias ao calor ou lesões químicas, a lesões provocadas pelo frio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Outras alterações químicas secundárias às lesões tóxicas, à excepção das relacionadas com o calor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C5E6-7314-4BEC-9BD8-0F4F63CCC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lterações circulatórias secundárias a aterosclerose, doenças cardíacas, doença vascular periféric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Défice/excesso do volume de líquidos secundário a desidratação, edem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Compromisso da mobilidade física secundário a paralisia, perda de consciência, fraqueza muscular, compromisso neurológico, depressão, certos medicamentos; de ferid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AC15-6C4A-4A12-A5EE-BE1FDEA7C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éfice/excesso nutricional secundário a desnutrição, nutrição deficiente prolongada em um ou mais elementos nutricionais essenciais, obesidad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Défice de conhecimento a respeito de segurança, prevenção de lesões, tratament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5B2E-8684-4A6F-B975-A31727DB9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Calibri"/>
              </a:rPr>
              <a:t>FACTORES RELACION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INTEGRIDADE CUTÂNEA PREJUDI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2193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fracturas lesões teciduai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a infecção de ferid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venir lesões de outros sistemas orgânicos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mover conforto do utent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omover a cicatrização da ferida através de nutrição adequad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estar os cuidados apropriados à ferida - limpeza, medicamentos, pen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90DB-482A-4CE2-B85D-560CE9F4D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Eliminar os défices de conhecimentos do utente relacionados com a le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a utente a recuperar a independênc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o utente a adaptar-se a eventuais alterações transitórias ou permanentes resultantes da ferida ou lesã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Ajudar o utente, família ou amigos a alcançarem as competências necessárias à prestação de bons cuidados à ferida ou lesão, aquando da alt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C94E5-10B9-42F2-9ED9-1B3014689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CUIDADOS DE ENFERMAGEM NA INTEGRIDADE CUTÂNEA PREJUDICAD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88D9-0CA0-47B9-8D6B-8077179D3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BLIOGRAF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Enfermagem Fundamental Abordagem Psicofisiologica</a:t>
            </a: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RENSEN &amp; LUCKMANN  1ª Edição em Português -1998 - Lusodidac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ado de Enfermagem Médico-Cirúrgica  Brunner &amp; Suddarth – Vol. 2 – Guanabara Koogan -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2400" spc="-1" strike="noStrike">
                <a:solidFill>
                  <a:srgbClr val="000000"/>
                </a:solidFill>
                <a:latin typeface="Calibri"/>
              </a:rPr>
              <a:t>www.medicalline.com.br/index.php?option=com...</a:t>
            </a: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LASSIFICAÇÃO DAS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 tipo 1- (diabetes insulinodependente) Destruição de células pancreáticas por processo auto-imune. (anteriormente conhecido como diabetes juvenil), que compreende cerca de 10% do total de cas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Calibri"/>
              </a:rPr>
              <a:t>Diabetes tipo 2 – (diabetes não insulinodependente) Resulta da sensibilidade diminuída à insulina (anteriormente conhecido como diabetes do adulto), que compreende cerca de 90% do total de cas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F753-7558-4B13-8DD5-D56FAE35ED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6840" y="99072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Diabetes gestacional – </a:t>
            </a:r>
            <a:r>
              <a:rPr b="0" lang="pt-PT" sz="2200" spc="-1" strike="noStrike">
                <a:solidFill>
                  <a:srgbClr val="ff0000"/>
                </a:solidFill>
                <a:latin typeface="Calibri"/>
              </a:rPr>
              <a:t>Causada </a:t>
            </a:r>
            <a:r>
              <a:rPr b="0" lang="pt-PT" sz="2200" spc="-1" strike="noStrike">
                <a:solidFill>
                  <a:srgbClr val="558ed5"/>
                </a:solidFill>
                <a:latin typeface="Calibri"/>
              </a:rPr>
              <a:t>qualquer  grau de intolerância à glicose com inicio durante a gravidez (2⁰ ou 3⁰ trimestre)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devido aos hormónios secretados pela placenta </a:t>
            </a:r>
            <a:r>
              <a:rPr b="0" lang="pt-PT" sz="2200" spc="-1" strike="noStrike">
                <a:solidFill>
                  <a:srgbClr val="558ed5"/>
                </a:solidFill>
                <a:latin typeface="Calibri"/>
              </a:rPr>
              <a:t>que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inibirem a acção da insulin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t-PT" sz="2200" spc="-1" strike="noStrike">
                <a:solidFill>
                  <a:srgbClr val="000000"/>
                </a:solidFill>
                <a:latin typeface="Calibri"/>
              </a:rPr>
              <a:t>Etiologia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Ainda não esclarecida. </a:t>
            </a:r>
            <a:r>
              <a:rPr b="0" lang="pt-PT" sz="2200" spc="-1" strike="noStrike">
                <a:solidFill>
                  <a:srgbClr val="ff0000"/>
                </a:solidFill>
                <a:latin typeface="Calibri"/>
              </a:rPr>
              <a:t>é o que, </a:t>
            </a: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em geral, é um estágio pré-clínico de diabetes, detectado no rastreamento pré-nata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D82-3689-486B-81E2-A5CAD5754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LASSIFICAÇÃO DAS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CAUSAS DE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betes tipo I: produção inadequada de insu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Factores: Geneticos, imunológicos e ambientai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Diabetes tipo II: Resistência a insulina e secreção deficiente de insuli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0" lang="pt-PT" sz="2400" spc="-1" strike="noStrike">
                <a:solidFill>
                  <a:srgbClr val="558ed5"/>
                </a:solidFill>
                <a:latin typeface="Calibri"/>
              </a:rPr>
              <a:t>Factores: genéticos, de risco (idade, obesidade, historia familiar e grupo etnic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alibri"/>
              </a:rPr>
              <a:t>Hiperglicémia: É quando a taxa de glicose no sangue esta alta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0000"/>
                </a:solidFill>
                <a:latin typeface="Calibri"/>
              </a:rPr>
              <a:t>Hipoglicémia: É quando a taxa de glicose no sangue esta baix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015-57E8-4ACC-8620-756C4EA787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Calibri"/>
              </a:rPr>
              <a:t>QUADRO CLÍNICO DA DIABE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s sintomas clássicos de diabetes são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úr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dips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olifagi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erda involuntária de peso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Calibri"/>
              </a:rPr>
              <a:t>Outros sintomas que levantam a suspeita clínica são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adig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Fraqueza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Letargia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Prurido cutâneo e vulvar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Bala-nopostite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Calibri"/>
              </a:rPr>
              <a:t>Infecções de repetição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4C1-C8C8-4EE2-9A1D-0C063B225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Calibri"/>
              </a:rPr>
              <a:t>CUIDADOS DE ENFERMAGE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Educação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Informação sobre o conhecimento, aceitação e convivênci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Fisiopatologia simpl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Modalidades de tratamento (administracao de insulina e monitorizacao de insulina e diet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558ed5"/>
                </a:solidFill>
                <a:latin typeface="Calibri"/>
              </a:rPr>
              <a:t>Prevencao das complicacoes ( Hipo e hiperglicemia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700" spc="-1" strike="noStrike">
                <a:solidFill>
                  <a:srgbClr val="000000"/>
                </a:solidFill>
                <a:latin typeface="Calibri"/>
              </a:rPr>
              <a:t>Cuidados com a pele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infecçõe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fricção vigorosa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Usar loções hidratantes na pel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Evitar queimaduras, ferimentos e frio excessivo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Tratar ferimentos assertivamente imediatament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 algn="just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</a:rPr>
              <a:t>Atenção especial quanto à higiene pessoal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Footer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F23C-03C9-482B-BC5B-5751AD498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3T07:31:15Z</dcterms:created>
  <dc:creator>user</dc:creator>
  <dc:description/>
  <dc:language>en-US</dc:language>
  <cp:lastModifiedBy>Maputo</cp:lastModifiedBy>
  <dcterms:modified xsi:type="dcterms:W3CDTF">2011-10-11T13:42:03Z</dcterms:modified>
  <cp:revision>50</cp:revision>
  <dc:subject/>
  <dc:title>ANATOMIA E FISIOLOGIA        HUMANA  CONCEITOS GERAIS</dc:title>
</cp:coreProperties>
</file>