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C67B-9433-43FD-A03B-3FFB734DBF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39DF-719B-419B-AC4E-68355F31B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2D649-D412-4EAC-8AAF-E3B83378F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4A03B-C498-4B94-A924-2321F57F4F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1AC67-6680-4680-858C-76C6FA046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0BCF2-E08E-4D03-BB29-8A5C9A370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70CE0-7798-471A-BDD7-3C550D4FA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5F66A-68CE-41FE-A7FC-C67A02F64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CD6A7-2E47-4169-A35E-BF3EBE6E69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46076-7379-4EED-85D6-C01606E8A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1AD15-48C0-4B92-A04B-26E3DC75E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F7BE0-7944-4D35-B1E2-22C9F4764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9D983-1EB2-4212-BFA5-8BE86452A1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7E11-173B-4BCD-9BCB-9828562C8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421-A849-4EC2-99F8-DADFFB73A49A}" type="slidenum">
              <a:rPr b="0" lang="pt-PT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628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Times New Roman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b23-cmdt-conceicao-silva.rcts.pt/janela_solucao1.htm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4292280"/>
            <a:ext cx="693396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1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"/>
          <p:cNvSpPr/>
          <p:nvPr/>
        </p:nvSpPr>
        <p:spPr>
          <a:xfrm>
            <a:off x="1835280" y="1996200"/>
            <a:ext cx="619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criança: um assunto de Saúde Públic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267920"/>
            <a:ext cx="858672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São devastadoras: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esquisadores documentam conseqüências físicas (variando de pequenas cicatrizes até danos cerebrais permanentes e morte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Psicológicas (desde baixa auto-estima até desordens psíquicas severa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gnitivas (desde deficiência de atenção e distúrbios de aprendizado até distúrbios orgânicos cerebrais severo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2"/>
                </a:solidFill>
                <a:latin typeface="Verdana"/>
              </a:rPr>
              <a:t>Comportamentais (variando da dificuldade de relacionamento com colegas até comportamentos suicidas e criminosos) decorrentes de abusos físicos, psicológicos, sexuais e de neglig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5D60-CF83-46E4-8A3E-33890D80286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68000" y="1341000"/>
            <a:ext cx="83818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omando essas conseqüências da violência contra crianças/adolescentes, isso significa que todos os níveis de atenção à saúde precisam estar atentos a essa situação e implantar programas de prevenção e atenção, principalmente para famílias que vivem em contextos de risco social e pesso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819F-8631-489C-8EA3-9836C4FBF78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sequências da violência contra crianças e adolescente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1" name="Picture 2" descr="http://t3.gstatic.com/images?q=tbn:ANd9GcQUPJyy5XRAtzvW9LyzGa6tbop6jbx7U4tsrTpNzDTMZlb-SP56"/>
          <p:cNvPicPr/>
          <p:nvPr/>
        </p:nvPicPr>
        <p:blipFill>
          <a:blip r:embed="rId1"/>
          <a:stretch/>
        </p:blipFill>
        <p:spPr>
          <a:xfrm>
            <a:off x="3132000" y="3860640"/>
            <a:ext cx="369432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atar imediatamente 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bservar o relato e a atitude dos pais durante a consulta – que podem ser de aparente preocupação e de extensiva colaboração com a equipe de saúde, mas percebe-se uma ausência de angústia quanto à gravidade das lesões, o que não ocorre habitualmente com os pais de crianças acidentad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ormar, em linguagem apropriada, as graves conseqüências de maus-tratos e abuso sexual para o desenvolv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5CEB-CE72-440D-8481-D1C16874456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plicar que a família poderá beneficiar-se de ajuda mútu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companhar os desdobramentos da notificação; se o agressor é alguém da família, não é conveniente informá-lo imediatament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 poderá sofrer riscos ainda maiore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sse caso, deve-se entrar em contato, de modo estratégico, com membros não agressores, de preferência com indicação da crian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sobre a importância do tratamento para o agressor, se ele for da famíl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C3D1-1454-437E-ABCB-84E5F90C351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efletir estratégias protetoras, pois a família se situa, face ao sofrimento, também como vítim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rientar a família para evitar comentários sobre o ocorrido com vizinhos e/ou amigos, pois a exposição gera nova violência à vítim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154E-72BA-4AE1-812E-0F57E5E9A93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4" name="Picture 2" descr="http://t3.gstatic.com/images?q=tbn:ANd9GcTMAYwsPwQAg_G3uNN2JSqM93zp6NN17A8p5AWmsFIWDYXJTmrt8A"/>
          <p:cNvPicPr/>
          <p:nvPr/>
        </p:nvPicPr>
        <p:blipFill>
          <a:blip r:embed="rId1"/>
          <a:stretch/>
        </p:blipFill>
        <p:spPr>
          <a:xfrm>
            <a:off x="3492360" y="3429000"/>
            <a:ext cx="32655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roteger a identidade da criança e do adolescente abusados (compromisso éticoprofissional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situação deverá ser relatada somente às pessoas que irão tratar da criança/adolesc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onsulta com a criança/adolescente deve ser privativa, a fim de favorecer a expressão de sentimentos; da situação de violência; sua relação com a família, amigos, escola e out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dolescente tem direito ao sigilo e à confidencialidade das informações. Isso pode ser rompido nas situações previstas por lei, como nos casos de violência ou de risco à vida, sendo, necessária a notificação ao Conselho Tutel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9B75-A756-4482-B437-9E1F78AB73E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23640" y="1196640"/>
            <a:ext cx="489564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É relevante que o profissional deixe claro para a vítima a sua disponibilidade para escutá-lo, sem julgamentos, favorecendo o vínculo de conf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família deve ser envolvida no atendimento, para que possa contribuir com o tratamento da vítima, além de possibilitar uma melhor relação entre seus membr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64F3-E4BE-421A-873D-B85EBC96671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Picture 2" descr="http://t0.gstatic.com/images?q=tbn:ANd9GcTvCSLE3VvL4xybZZrf1Fj5MFaEilEGT8Xj2TjPlTVjdxBRCUR8Fg"/>
          <p:cNvPicPr/>
          <p:nvPr/>
        </p:nvPicPr>
        <p:blipFill>
          <a:blip r:embed="rId1"/>
          <a:stretch/>
        </p:blipFill>
        <p:spPr>
          <a:xfrm>
            <a:off x="5180040" y="1484280"/>
            <a:ext cx="3833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6840" y="1143000"/>
            <a:ext cx="838188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casos de violência contra a criança/adolescente necessitam de intervenção ampliada, de equipe interdisciplinar: assistente social , enfermeiro, médico, psicólogo, pois é necessária discutir os desfechos que a equipe de saúde pretende alcançar, evitando medidas precipitadas, que podem acabar afastando a famíl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 saúde deve priorizar a assistência à criança e a sua família e encaminhar o caso aos órgãos de proteção, responsabilização e atendimento/acompanha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80E9-4022-4DAC-ACD9-0F2BA9E59A5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CaixaDeTexto 5"/>
          <p:cNvSpPr/>
          <p:nvPr/>
        </p:nvSpPr>
        <p:spPr>
          <a:xfrm>
            <a:off x="900000" y="5589720"/>
            <a:ext cx="6624720" cy="45972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is são esses órgãos em Moçambiqu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19" descr="http://www.eb23-cmdt-conceicao-silva.rcts.pt/J0288870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5445000"/>
            <a:ext cx="466920" cy="619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istas para identificação de violênc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física contra crianças/adolescentes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C69-1A0C-4BEA-984B-31689D21B76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916360" y="981000"/>
            <a:ext cx="6068880" cy="5324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http://t3.gstatic.com/images?q=tbn:ANd9GcSPuE4T58sQG3geZVK78Oc7QBOzvUU8L8BEn4Bi2Ka6axHM-NqIlA"/>
          <p:cNvPicPr/>
          <p:nvPr/>
        </p:nvPicPr>
        <p:blipFill>
          <a:blip r:embed="rId2"/>
          <a:stretch/>
        </p:blipFill>
        <p:spPr>
          <a:xfrm>
            <a:off x="250920" y="2133720"/>
            <a:ext cx="29160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a não revitimização, é importante evitar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considerar o sentimento d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lar frases como: “isso não foi nada”, “vai passar”, “não precisa chorar”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xcesso de zel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ostilidad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par a criança/adolescente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monstrar surpresa, choro, horror (sinais de censura ou desaprov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rases de humor neg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55E0-615F-43B4-B3AB-948251A6A1C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m situações de violência contra criança/adolescente é importante: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39640" y="2205000"/>
            <a:ext cx="8382240" cy="2718000"/>
          </a:xfrm>
          <a:prstGeom prst="rect">
            <a:avLst/>
          </a:prstGeom>
          <a:gradFill rotWithShape="0">
            <a:gsLst>
              <a:gs pos="0">
                <a:srgbClr val="a9a9ff"/>
              </a:gs>
              <a:gs pos="100000">
                <a:srgbClr val="e4e4ff"/>
              </a:gs>
            </a:gsLst>
            <a:lin ang="16200000"/>
          </a:gradFill>
          <a:ln w="9360">
            <a:solidFill>
              <a:srgbClr val="9393f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violência é crime! Nenhuma vítima é capaz de se esquecer disso. Mas um atendimento acolhedor, receptivo e, acima de tudo, humano pode ajudá-la a superar.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45EC-05A0-422D-85AA-51B4AA3A419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Durante séculos, a mulher suportou indefesa e em silêncio os abusos do homem. Portanto, em grande parte da história da humanidade a mulher ficou sempre à sombra dos interesses des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34B3-3F17-47D2-9187-DF865ED7C13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2" descr="http://www.jm1.com.br/wp-content/uploads/2011/07/violencia-domestica_trabalho-de-margarida-espinho1.jpg"/>
          <p:cNvPicPr/>
          <p:nvPr/>
        </p:nvPicPr>
        <p:blipFill>
          <a:blip r:embed="rId1"/>
          <a:stretch/>
        </p:blipFill>
        <p:spPr>
          <a:xfrm>
            <a:off x="2484360" y="2852640"/>
            <a:ext cx="47800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Rousseau, que tanto contribuiu para a compreensão do Estado Moderno, defendia que a mulher deveria ser colocada a serviço do homem desde a infância até a idade adulta, isto é, que nunca deveria ter participação em construções sociais e políticas (PERRUSO, 2005, p.3 ; apud CDH, 2005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DEF-17EC-4432-86F2-B754E9E275C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2" descr="http://t2.gstatic.com/images?q=tbn:ANd9GcTAYpI5HtaLJzJkgm8V_DxPCd-YeO4CVvNbhoOMgDGgaOckfyC9lw"/>
          <p:cNvPicPr/>
          <p:nvPr/>
        </p:nvPicPr>
        <p:blipFill>
          <a:blip r:embed="rId1"/>
          <a:stretch/>
        </p:blipFill>
        <p:spPr>
          <a:xfrm>
            <a:off x="3419640" y="3573360"/>
            <a:ext cx="284472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50920" y="907560"/>
            <a:ext cx="51847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ão, a mulher, historicamente, vem sofrendo vários tipos de violência: familiar, pelo marido/companheiro; social, na violação de seus direitos, dupla carga de trabalho e na falta de respostas das políticas públicas de saúde de qualidade para acompanhar a gestação, puerpério, climatério e situações de violênci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udo isso contribui para a perpetuação d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A0EA-572B-4620-A8C2-1D26AD9CC2E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2" descr="http://t2.gstatic.com/images?q=tbn:ANd9GcSxx9YJACcpVMq9XvlSm8SXQcmAIvf7Vf430-HC2hpKHCMyIryolg"/>
          <p:cNvPicPr/>
          <p:nvPr/>
        </p:nvPicPr>
        <p:blipFill>
          <a:blip r:embed="rId1"/>
          <a:stretch/>
        </p:blipFill>
        <p:spPr>
          <a:xfrm>
            <a:off x="5435640" y="1773360"/>
            <a:ext cx="356076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94920" y="1052640"/>
            <a:ext cx="8381880" cy="30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 – de discriminação, agressão ou coerção, ocasionada pelo fato de a vítima ser mulher, e que cause dano, morte, constrangimento, limitação, sofrimento físico, sexual, moral, psicológico, social, político ou econômico ou perda patrimonial. Pode acontecer tanto em espaços públicos como priv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7E05-6EF0-449F-9731-C4F558E5209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tângulo de cantos arredondados 5"/>
          <p:cNvSpPr/>
          <p:nvPr/>
        </p:nvSpPr>
        <p:spPr>
          <a:xfrm>
            <a:off x="971640" y="4076640"/>
            <a:ext cx="7561080" cy="2089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olência de gênero é toda violência sofrida pelo fato de ser mulher, sem distinção de raça, classe social, religião, idade ou qualquer outra condição; produto de um sistema social que subordina o sexo feminin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e os tipos de violência existentes contra a mulher no mundo, aquele praticado no ambiente familiar é um dos mais cruéis e perversos. O lar, identificado como local acolhedor e de proteção, passa a ser, nesses casos, um ambiente de perigo contínuo, de medo e ansiedade perman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amiliar "recobre o universo das pessoas relacionadas por laços consangüíneos ou afins. A violência doméstica é mais ampla, abrangendo pessoas que vivem sob o mesmo teto, mas não necessariamente vinculadas pelo parentesco"(Saffioti, 1997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0CFC-56EE-4749-875C-CEBCA8D17B4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efeito da violência doméstica contra a mulher, decorrente de maus-tratos, humilhações, agressões físicas, sexuais, morais, patrimoniais e psicológicas, é devastador para sua auto-es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á o medo vivenciado cotidianamente e o temor aterrorizante causador de insegurança e instabilidade, agravados pelo fato de as vítimas nunca saberem a razão capaz de desencadear nova fúria dos agressores; e a vergonha que passam diante de familiares, vizinhos, amigos e conhecidos, que provoca ansiedade, depressão, dores crônicas, entre outras enfermidad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8BC9-27E8-44C8-9024-7705CD26527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violência doméstica é qualquer ação ou conduta cometida por familiares ou pessoas que vivem na mesma casa, que cause morte, dano ou sofrimento físico, sexual ou psicológico à mulher e à crianç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das formas mais comuns de manifestação da violência contra a mulher e, no entanto, uma das mais invisíveis, sendo uma das violações dos direitos humanos mais praticadas e menos reconhecidas do mund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ta-se de um fenômeno mundial que não respeita fronteiras de classe social, raça/etnia, religião, idade e grau de escola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BABC-2A47-4F83-98E7-9BF0286EF4F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4000" y="1267920"/>
            <a:ext cx="525600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MS reconhece a violência doméstica como um problema de Saúde Pública, pois afeta a integridade física e mental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efeitos da violência doméstica contra a mulher e a criança sobre a saúde física e mental são evidentes para quem trabalha na áre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m situação de violência freqüentam com assiduidade os serviços de saúde e em geral com "queixas vagas"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5C57-7857-4884-A1C4-E512A009A57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2" descr="http://t3.gstatic.com/images?q=tbn:ANd9GcSDWjZ6SgEP3MNd_211TKlgW9tNfioXyWzEFcuQIK17A_27O8WL"/>
          <p:cNvPicPr/>
          <p:nvPr/>
        </p:nvPicPr>
        <p:blipFill>
          <a:blip r:embed="rId1"/>
          <a:stretch/>
        </p:blipFill>
        <p:spPr>
          <a:xfrm>
            <a:off x="5549760" y="1392120"/>
            <a:ext cx="3381480" cy="44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"A rota das vítimas de violência doméstica passa regularmente pelos pronto socorros, ambulatórios e hospitais da rede de saúde" (Rufino, 1997), que em geral não conseguem fazer o diagnóstico de violência doméstica, assim como não compreendem a magnitude do problema como uma questão de Saúde Pública e nem conseguem assumir a responsabilidade social que lhes cab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tanto, é fundamental que o setor saúde invista na capacitação dos profissionais de saúde para o atendimento adequado às mulheres em situação de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9F8D-F3E3-4B35-AAAC-6575BF91B514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920" y="228240"/>
            <a:ext cx="779616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mulher e a Saúde Públ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79280" y="1268280"/>
            <a:ext cx="8785440" cy="48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a entendermos porque a violência contra a mulher é uma questão de Saúde Pública, é preciso compreendê-l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numérico (grande número de vítimas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repercussões deletérias na sanidade física e mental, gerando demandas para os serviços de saúde em diversas áreas do cuidado (controle de DST/HIV/aids, assistência psicológica, psiquiátrica, clínica, cirúrgica, dentre outros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s decorrências econômicas para o país: redução da produtividade devido ao absenteísmo ao trabalho ou baixo desempenho; e do período que ficam às expensas da seguridade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E9A1-78F0-4329-8D9C-FE74A23A6F3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A violência contra a mulher e a criança pode ser evitada e, suas conseqüências, reduzidas, da mesma forma que a Saúde Pública conseguiu prevenir e reduzir, em todo o mundo, as complicações relacionadas à gravidez, aos acidentes de trabalho, às doenças contagiosas e enfermidades causadas por alimentos e água contaminad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Os fatores responsáveis por reações violentas contra mulheres e crianças, quer sejam derivados de atitudes e comportamentos ou de condições sociais, econômicas, políticas e culturais mais amplas, podem ser modificados por ações de Saúde Públ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3DCB-12B3-4AF3-A377-596C3033E43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Ações de saúde na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adoecimentos decorrentes da violência são evidenciados pelo aumento da busca pelos serviços de saúde após a vivência da violência, tanto para o tratamento dos ferimentos atuais quanto para o tratamento das doenças posteriores à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77D8-D084-4DB3-9656-9212102B580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2" descr="http://t2.gstatic.com/images?q=tbn:ANd9GcQjmcw3Y9fNEg0WznpUU0-1WhX4-qNfRz9zl3Qx4-nGwEk25lGP"/>
          <p:cNvPicPr/>
          <p:nvPr/>
        </p:nvPicPr>
        <p:blipFill>
          <a:blip r:embed="rId1"/>
          <a:stretch/>
        </p:blipFill>
        <p:spPr>
          <a:xfrm>
            <a:off x="3267000" y="3124080"/>
            <a:ext cx="303372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crônicos, vagos e repetitiv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ntrada tardia no pré-nat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anheiro muito controlador; reage quando separado da mulhe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nfecção urinária de repetição (sem causa secundári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pélvica crôn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índrome do intestino irritáve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ranstornos na sexual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mplicações em gestações anteriores, abortos de repetiç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620-8856-48D8-961F-AF69F336CB2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pressã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nsie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crônica em qualquer parte do corpo ou mesmo sem localização preci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or que não tem nome ou lug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História de tentativa de su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Lesões físicas que não se explicam de forma adequ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ibromialg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2F88-25E0-4E56-A012-7FF0CFE137F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228600"/>
            <a:ext cx="77230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dicadores de violência contra a mulhe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15640" y="228240"/>
            <a:ext cx="77230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r que o profissional de saúde não investiga 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Muitos profissionais acreditam que a violência doméstica é um problema pessoal e privado e , por isso, eles não têm o direito de intrometer-se, já que é um problema social ou legal, mas não um problema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Pensam, também, que as mulheres gostam de apanhar, pois ficam co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s percepções descritas acima são todas equivocadas, o que contribui para a perpetuação da violência contra a mulher, uma vez que o profissional perde a oportunidade de realizar uma intervenção qualificad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5E807-89E5-47AF-9598-39534639375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profissional deve atuar no sentido de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vitar julgar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cutar calmamente a história da mulher e suas expectativas em relação à assistê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Buscar entender seu problema, a origem de seu sofrimento e as dificuldades que ela tem para sair da dinâmica abusiv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a rede de suporte social que ela já tem ou pode acionar, como seu trabalho, amigos, família, recursos materi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ontar as possibilidades e reforçar pontos positiv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DD68-A025-4FDC-A518-30D2183B661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ontinuaç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apear potenciais riscos que a mulher pode correr (presença de armas e ameaças) e avaliar junto com a mulher sobre tais riscos, tentativas anteriores e formas de prevenção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artindo das questões trazidas pelas mulheres em atendimento, informar que a violência é uma situação de alta ocorrência, tem caráter social e está associada às desigualdades de direitos entre o homem e a mulher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iscutir os planos da mulher para a vida dela, buscando encontrar alternativas à situação atu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06C-B766-4388-92FC-B080DE2EE81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Atuação do profissional de saúde na violência contra a mulher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50560" y="1052280"/>
            <a:ext cx="5041800" cy="48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Identifique um ou mais vizinhos para o(s) qual(is) você pode contar sobre a violência, e peça para eles ajudarem se ouvirem brigas em sua cas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e a briga for inevitável, certifique-se de estar em um lugar do qual possa fugir e no qual não haja arm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laneje como fugir de casa em segurança, e o lugar para onde você poderá ir, caso necessár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1F29-7761-4614-8610-8830C93EF940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2" descr="http://t0.gstatic.com/images?q=tbn:ANd9GcQERJUSI4gRoaXmV0iBNaAPrJfZ-KP13nRFIPhHemTlTKYNvG0J"/>
          <p:cNvPicPr/>
          <p:nvPr/>
        </p:nvPicPr>
        <p:blipFill>
          <a:blip r:embed="rId1"/>
          <a:stretch/>
        </p:blipFill>
        <p:spPr>
          <a:xfrm>
            <a:off x="5219640" y="1916280"/>
            <a:ext cx="3673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ixe em um lugar seguro um pacote com cópias de seus documentos e dos documentos de seus filhos, dinheiro, roupas e cópia da chave de casa, para o caso de ter de fugir rapidamen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aça um acordo com alguma vizinha(o) em quem possa confiar, e combine um código de comunicação para situações de emergência, como: “Quando eu colocar o pano de prato para fora da janela, chame ajuda” ou “Quando ouvir briga, chame os vizinhos para bater em panelas na frente da casa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unca brigue na cozinha ou em local em que haja armas ou fa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9180-C301-4BCC-BEFE-2853B91EBDA8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lano de segurança para a vítim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94920" y="1341360"/>
            <a:ext cx="83818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uma rede social, incluindo uma família nuclear ou extens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esença de grupos de auto-ajuda e de empoderamento e troca de experiênc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emprego ou a possibilidade de gerar rendimentos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Ter acesso a organizações de direitos humano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AE16-DE83-40C6-B9D6-18376137B73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Picture 2" descr="http://t1.gstatic.com/images?q=tbn:ANd9GcSprk-xCa5dK229BIkiTrjbQrBHVLwjrWeKqr_m7bvi_-LWauer0Q"/>
          <p:cNvPicPr/>
          <p:nvPr/>
        </p:nvPicPr>
        <p:blipFill>
          <a:blip r:embed="rId1"/>
          <a:stretch/>
        </p:blipFill>
        <p:spPr>
          <a:xfrm>
            <a:off x="3276720" y="4221000"/>
            <a:ext cx="2970000" cy="22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920" y="228600"/>
            <a:ext cx="779616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actores protetores da violência contra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r acesso a serviços públicos que forneçam cuidados de saúde, protecção policial e justiç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 possibilidade de realizar rituais culturais e cerimónias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Ter na inspiração política ou religiosa uma fonte de conforto, de sentido e de perspectiva para o futur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6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2023-2634-423A-B0BE-8FE3DADA81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Picture 4" descr="http://t0.gstatic.com/images?q=tbn:ANd9GcTd6W6MHyjx7yYYDtWUy2HL5F9IHuHj_UUlZI4tEMoe4ZA_h3dw"/>
          <p:cNvPicPr/>
          <p:nvPr/>
        </p:nvPicPr>
        <p:blipFill>
          <a:blip r:embed="rId1"/>
          <a:stretch/>
        </p:blipFill>
        <p:spPr>
          <a:xfrm>
            <a:off x="2484360" y="3860640"/>
            <a:ext cx="3816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24000" y="907920"/>
            <a:ext cx="864072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É possível prevenir a violência contra mulheres e criança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c3c77"/>
                </a:solidFill>
                <a:latin typeface="Verdana"/>
              </a:rPr>
              <a:t>Esta afirmação não é um artigo de fé, mas baseada em evidências constatadas em exemplos de sucesso em todo o mundo, desde ações individuais e comunitárias de pequena escala, com suporte na Saúde Pública, até políticas nacionais e iniciativas do legislativ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89BD-0B7E-417D-9186-A3F951729C8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63360" y="-676440"/>
            <a:ext cx="152424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10" descr="http://4.bp.blogspot.com/-n4GXFryTRDc/TiJNoa4S00I/AAAAAAAACJ4/Y5SL6uv6YjM/s250/PROTEJA%2BNOSSAS%2BCRIAN%25C3%2587AS%2BNEGRAS.jpg"/>
          <p:cNvPicPr/>
          <p:nvPr/>
        </p:nvPicPr>
        <p:blipFill>
          <a:blip r:embed="rId1"/>
          <a:stretch/>
        </p:blipFill>
        <p:spPr>
          <a:xfrm>
            <a:off x="2916360" y="3987720"/>
            <a:ext cx="2950920" cy="24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qualquer conduta – ação ou omissão, agressão ou coerção – ocasionada pelo fato de a vítima ser criança ou adolescente, e que cause dano, constrangimento, limitação, sofrimento físico, sexual, moral, psicológico ou social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866C-5FCC-43BD-99E8-3EAC7ED582F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2" descr="http://t2.gstatic.com/images?q=tbn:ANd9GcRKPm1l_LseokYmleLmd5lP8Omo0n3RjhIPx1rCzWuOaKgdm_SO"/>
          <p:cNvPicPr/>
          <p:nvPr/>
        </p:nvPicPr>
        <p:blipFill>
          <a:blip r:embed="rId1"/>
          <a:stretch/>
        </p:blipFill>
        <p:spPr>
          <a:xfrm>
            <a:off x="2484360" y="3645000"/>
            <a:ext cx="50086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24000" y="1143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contra crianças e adolescentes é um fenômeno complexo que envolve causas socioeconômicas e histórico-culturais, aliado a pouca visibilidade, à ilegalidade e à impun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a primeira causa se destaca a má distribuição de renda, migração, pobreza, acelerado processo de urbanização e ineficácia das políticas sociais e de saúde públ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que tange aos aspectos histórico-culturais, identifica-se a concepção, ainda vigente, da criança e do adolescente como objeto de dominação dos adultos, merecedores de amor desvalorizado, contaminado pela idéia de fraqueza e inferioridad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0BF8-E33D-4D28-A898-CC163638F33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143000"/>
            <a:ext cx="838188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Antes de 1870, as crianças eram vistas como adultos e a infância não existia; trabalho infantil não era visto como exploração, mas como dever à sociedade e a Deus; além disso, eram julgadas como adultos nos crimes que cometiam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O infanticídio, até o século IX, não era crime, já que as crianças ilegítimas ou portadoras de alguma deficiência eram jogadas de precipíci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64CE-475A-417A-8405-644A7C9711C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Picture 2" descr="http://t2.gstatic.com/images?q=tbn:ANd9GcRpB-NXzfmgITb2_wjKAce6WAQQG_WVDzQStCUuJrEwF-lbpFXVmg"/>
          <p:cNvPicPr/>
          <p:nvPr/>
        </p:nvPicPr>
        <p:blipFill>
          <a:blip r:embed="rId1"/>
          <a:stretch/>
        </p:blipFill>
        <p:spPr>
          <a:xfrm>
            <a:off x="3024360" y="4365720"/>
            <a:ext cx="326376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século XIX, a criança começa a ter direito à educação e, somente em 1924, foi realizada a 1ª Declaração dos Direitos da Crianç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pesar de algumas conquistas, as crianças e adolescentes ainda são as maiores vítimas da violência, seja intra ou extrafamili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A60F6-7518-4801-93D4-A0F8EAD9C80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Violência contra criança e adolescent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Picture 2" descr="http://t3.gstatic.com/images?q=tbn:ANd9GcQ46jFeb9qlXqeDh4ztrQStDLdbeuRxkGbNY__uqWSb9L6WqbCpUQ"/>
          <p:cNvPicPr/>
          <p:nvPr/>
        </p:nvPicPr>
        <p:blipFill>
          <a:blip r:embed="rId1"/>
          <a:stretch/>
        </p:blipFill>
        <p:spPr>
          <a:xfrm>
            <a:off x="2843280" y="3645000"/>
            <a:ext cx="396072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228240"/>
            <a:ext cx="792180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ausas de violência contra crianças e adolescente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egligência fruto do despreparo para maternagem e paternagem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muitas vezes utilizada como instrumento pedagógic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abuso sexual trata-se de uma falta de fronteira entre as gerações, onde predomina o abuso de poder do mais forte e a cultura de coisificação da criança e do adolescent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psicológica refere-se à depreciação, a ameaças e à rejeição do adulto sobre a criança, desenvolvendo nesta um comportamento destrutivo ou autodestrutivo devido à desvalorização que sofr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42F40-8087-4F7A-93A1-D66F29EAD24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23:49:16Z</dcterms:created>
  <dc:creator>Escolastica</dc:creator>
  <dc:description/>
  <dc:language>en-US</dc:language>
  <cp:lastModifiedBy>Mendoza</cp:lastModifiedBy>
  <dcterms:modified xsi:type="dcterms:W3CDTF">2011-09-22T10:12:05Z</dcterms:modified>
  <cp:revision>48</cp:revision>
  <dc:subject/>
  <dc:title>Slide 1</dc:title>
</cp:coreProperties>
</file>