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F27A-6A49-4C5F-85DE-203D4EC4C5D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7914-9C13-40D8-A118-74178A4D89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D3424-3B4F-45C9-B92D-40BCB3A83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7BD6B-BC42-45B1-A743-B2F4765CA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060B3-8B08-4911-A846-EE6A2C655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C85E-A126-4155-9E94-AF21C31D5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ECB5E-06C0-438B-A63A-8F1BD1D6E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D98E28-9DCE-4A8E-92E9-67747C30F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6D225-6C56-4C28-B00F-D5502544A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7FC89-A61E-43B2-96E5-124912BE0C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0C977-74BB-4D13-A7C7-9D45A803B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B21E-A5B3-4CED-8A87-E1347FC1E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0051F-566D-4429-8E30-9B352E2B0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AC14A-3977-46AC-932A-3DE5494C7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3FF2-6C7A-4151-A53D-7A3F7662E017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img.photobucket.com/albums/v739/martiuks/PENSANDO.jpg&amp;imgrefurl=http://elespaciodemartha.blogspot.com/&amp;h=280&amp;w=200&amp;sz=50&amp;tbnid=ZFCnHigb6AcAUM:&amp;tbnh=109&amp;tbnw=77&amp;hl=pt-BR&amp;start=14&amp;prev=/images?q=pensando&amp;svnum=10&amp;hl=pt-BR&amp;lr=&amp;sa=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1640" y="4436640"/>
            <a:ext cx="6933960" cy="1536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1835280" y="2348640"/>
            <a:ext cx="61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mo identificar factores de risco a saú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o identificar os fatores de risco à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1574280"/>
            <a:ext cx="8381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Informando as pessoas para exercerem o controle sobre sua própria saúde e a saúde da comunidade – estas poderão identificar por si próprias os fatores de risco à saú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Mantendo planos de educação em saúde contínuos, individual, grupal e coletivo, que levem a adoção de estilos de vida saudáveis, ao desenvolvimento de aptidões e capacidades individuais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7EBB-836B-493B-B0C9-96D0D425A8F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o controlar os fatores de risco à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58560" y="1267920"/>
            <a:ext cx="8785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ontrole de fatores de risco está estreitamente vinculado à eficácia da sociedade em cobrar a implantação de políticas públicas voltadas à QV e ao desenvolvimento da capacidade de analisar criticamente a realidade e promover a transformação positiv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7E90-A579-47C0-9434-1116B43D99B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Elipse 5"/>
          <p:cNvSpPr/>
          <p:nvPr/>
        </p:nvSpPr>
        <p:spPr>
          <a:xfrm>
            <a:off x="1332000" y="3645000"/>
            <a:ext cx="3671640" cy="143964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pulação orientada e consc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Elipse 6"/>
          <p:cNvSpPr/>
          <p:nvPr/>
        </p:nvSpPr>
        <p:spPr>
          <a:xfrm>
            <a:off x="4716360" y="3284640"/>
            <a:ext cx="4176720" cy="1800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itos humanos básicos garantidos (moradia, alimentação, saúde e educaçã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Elipse 7"/>
          <p:cNvSpPr/>
          <p:nvPr/>
        </p:nvSpPr>
        <p:spPr>
          <a:xfrm>
            <a:off x="2484360" y="4797360"/>
            <a:ext cx="4824360" cy="158436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líticas de saúde com enfoque na atenção primária à saúde e profissionais competent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controle dos fatores de risco à saúde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ntre as ações de controle dos fatores de risco a saúde, encontram-s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s medidas de vigilância epidemiológica (identificação, registro e controle da ocorrência de doenç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Vacin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Saneamento básic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Vigilância sanitária de alimentos, do meio ambiente e de medicament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dequação do ambiente de trabalh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rientações  específicas para determinados fatores de risc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B510D-EF21-473F-BA2D-07AEB044499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68000" y="1483920"/>
            <a:ext cx="8381880" cy="23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hecendo os fatores de risco para determinados agravos à saúde é possível programar medidas dirigidas à prevenção e ao controle destes, com maiores chances de estabelecer planos de intervenções de sucess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C308-444B-4387-99E8-03A0B11A78B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tângulo de cantos arredondados 5"/>
          <p:cNvSpPr/>
          <p:nvPr/>
        </p:nvSpPr>
        <p:spPr>
          <a:xfrm>
            <a:off x="4572000" y="3573360"/>
            <a:ext cx="3240000" cy="93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jamos exemplos a segu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5" descr="j0296847"/>
          <p:cNvPicPr/>
          <p:nvPr/>
        </p:nvPicPr>
        <p:blipFill>
          <a:blip r:embed="rId1"/>
          <a:stretch/>
        </p:blipFill>
        <p:spPr>
          <a:xfrm>
            <a:off x="2268360" y="3573360"/>
            <a:ext cx="176220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50560" y="1267920"/>
            <a:ext cx="859932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o controlar os fatores de risco para o HIV/Sida?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preendendo estes factores e a partir disso adotando de forma consciente os hábitos saudáve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tores de risco para o HIV/Sid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7EB4C-036C-4B90-94C4-DA84893621A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24000" y="3357720"/>
          <a:ext cx="8640720" cy="301608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Ter prática sexual desprotegida (oral, vaginal ou an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Multiplicidade de parceir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Compartilhar seringas contaminadas (prática presente entre usuários de drogas injetávei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Receber transfusão de sangue sem con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3c3c77"/>
                          </a:solidFill>
                          <a:latin typeface="Verdana"/>
                        </a:rPr>
                        <a:t>Contato com sangue e fluidos corporais sem o uso dos equipamentos de proteção individual (EPI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61B7-960B-42EB-824E-64415BE638F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23640" y="1341000"/>
            <a:ext cx="8515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Usar preservativo sempre e durante toda a relação sexual (oral, vaginal e anal)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sexo anal pode produzir pequenas fendas na pele que forma o ânus. Estas permitem acesso direto de agentes infecciosos à corrente sanguínea, aumentando o risco de transmissão do HIV e do vírus da hepatite B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59" name="Picture 5" descr="j0296847"/>
          <p:cNvPicPr/>
          <p:nvPr/>
        </p:nvPicPr>
        <p:blipFill>
          <a:blip r:embed="rId1"/>
          <a:stretch/>
        </p:blipFill>
        <p:spPr>
          <a:xfrm>
            <a:off x="611280" y="981000"/>
            <a:ext cx="1512720" cy="2359080"/>
          </a:xfrm>
          <a:prstGeom prst="rect">
            <a:avLst/>
          </a:prstGeom>
          <a:ln w="0">
            <a:noFill/>
          </a:ln>
        </p:spPr>
      </p:pic>
      <p:sp>
        <p:nvSpPr>
          <p:cNvPr id="160" name="CaixaDeTexto 7"/>
          <p:cNvSpPr/>
          <p:nvPr/>
        </p:nvSpPr>
        <p:spPr>
          <a:xfrm>
            <a:off x="2268360" y="1268280"/>
            <a:ext cx="6191280" cy="1557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Conhecendo os fatores de risco torna-se fácil perceber as medidas de controle mais eficaz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Vejamo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484280"/>
            <a:ext cx="83818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tinuação:Para controlar os fatores de riscos para HIV/Sida, orienta-s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Reduzir o número de parceiros sexuai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strição no número de contatos casuais. Um estranho pode ter tido contato com diferentes indivíduos e não há como saber se entrou em contato com do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relacionamento com quem pareça estar doente, com erupções na pele ou outros sintomas de DST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3BF1-71D0-4918-8462-9C0CC0600C0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ortância de conhecer os fatores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640" y="1699920"/>
            <a:ext cx="838224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tinuação:Para controlar os fatores de riscos para HIV/Sida, orienta-se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ão compartilhar seringas e outros instrumentos invasiv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igir a testagem do sangue em casos de transfus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balhadores de saúde usarem os EPI necessários nas situações exigi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F639-262F-4EE0-843D-8AC56CAF7F3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ercício em pequenos grupo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439A-FEA7-41AC-A73D-9DC30E818F9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2" descr="http://lh6.ggpht.com/-LnOhHPv-fwM/ThR-l2gaITI/AAAAAAAAAfw/uk2G0XH-JaU/grupo001%25255B3%25255D.png"/>
          <p:cNvPicPr/>
          <p:nvPr/>
        </p:nvPicPr>
        <p:blipFill>
          <a:blip r:embed="rId1"/>
          <a:stretch/>
        </p:blipFill>
        <p:spPr>
          <a:xfrm>
            <a:off x="1835280" y="1197000"/>
            <a:ext cx="629892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O que é um factor de risco a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4920" y="1483920"/>
            <a:ext cx="84978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É um termo estatístico utilizado para designar uma condição ambiental, característica ou comportamento que aumenta a probabilidade da ocorrência de determinada doe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or exemplo: tabagismo, idade, história familiar de determinados cânceres, hábito alimentar, obesidade, falta de exercício são fatores de risco para o desenvolvimento do câncer. Ou seja, indivíduos sadios, quando expostos a estes fatores de risco têm mais chances de desenvolver o câncer.</a:t>
            </a:r>
            <a:r>
              <a:rPr b="1" lang="pt-BR" sz="2400" spc="-1" strike="noStrike">
                <a:solidFill>
                  <a:srgbClr val="3c3c77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70B0-FF6D-4E13-AD47-D5844E1D6C9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atores biológicos (idade, sexo, características pessoais determinadas pela herança genétic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or exempl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Mulheres com mais de 45 anos têm maior risco para câncer de colo do úter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homens tem uma carga de hipertensão arterial 20% mais que as mulher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homens tem mais tuberculose que as mulher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Filhos de pais diabéticos têm mais risco para desenvolver diabet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6143-8209-4A68-B885-A96F1EAF7F0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4000" y="907920"/>
            <a:ext cx="8640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meio ambiente, que abrange condições geográficas, características da ocupação humana, fontes de água para consumo, disponibilidade e qualidade dos alimentos e condições de habita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 exempl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gião de clima seco é fator de risco para as doenças respiratór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ocal de trabalho com excesso de barulho é fator de risco à acuidade auditiva e a saúde ment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Água poluída, alimentos contaminados são fatores de risco para parasitoses e infecções do trato digestóri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abitação precária (pouca ventilação e iluminação) é fator de risco para tuberculos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481E-CEAD-4A4C-B484-8C7DCE55671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meio socioeconômico e cultural, que expressa ocupação e renda, acesso à educação formal e ao lazer, os graus de liberdade, hábitos e formas de relacionamento interpessoal, a possibilidade de acesso aos serviços voltados para a promoção e recuperação da saúde e a qualidade da atenção por eles prestada podem representar fatores de risco a saúde. Por exempl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Crianças filhas de mães de baixa escolaridade têm mais chance de morrer no 1º. ano de vida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A dificuldade de acesso aos serviços de saúde aumentam a mortalidade por câncer e outras doenças crônicas não transmissíveis;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Baixa renda está associada a mortalidade infantil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8D46-348C-4BA1-B19E-649B91BCB66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ipos de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o exposto, pode-se perceber que os fatores de risco podem ser </a:t>
            </a: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odificáveis e não modificávei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Na opinião de vocês, sobre quais fatores de risco o enfermeiro geral poderá intervir?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9191-4BE9-480E-8F2F-3A7B81230BE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6" descr="PENSAND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64000" y="3411360"/>
            <a:ext cx="1944720" cy="27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Verdana"/>
              </a:rPr>
              <a:t>Dados os fatores de risco, vamos classificá-los em modificáveis ou não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1430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Ida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dentarism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Obesida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ereditarieda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abagism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Sex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aça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Habitação precária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Falta de saneament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724280" y="114300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stress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onsumo de alimentos e água impróprio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levado consumo de gordura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Alcoolism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Sexo desprotegid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Dificuldade de acesso ao serviço de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0106-EC7A-4267-B248-C60A708AF0E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nalisando os fatores de risco pode-se concluir que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4920" y="141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arte dos fatores de risco é modificável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Parte é não modificável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Entre os fatores modificáveis, alguns são mais difíceis e exigem mais esforços para serem ultrapassados; outros men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Os fatores de risco modificáveis serão ultrapassados com esforços conjuntos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indivídu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fissionais de saúde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líticas públicas de saúde e de outros setores sociai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3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BBCC-8908-495D-AD78-E1C727C17E6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mo identificar os fatores de ris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23640" y="1773360"/>
            <a:ext cx="851508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ealizando consultas médicas, odontológicas e de enfermagem, periódica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Tornando os serviços de saúde acessíveis a todo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Verdana"/>
              </a:rPr>
              <a:t>Realizando levantamento do perfil de saúde de comunidades ou grupo de trabalhador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12C1-9786-4326-9DC1-3B16BBC11C9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7:52:33Z</dcterms:created>
  <dc:creator>Escolastica</dc:creator>
  <dc:description/>
  <dc:language>en-US</dc:language>
  <cp:lastModifiedBy>Mendoza</cp:lastModifiedBy>
  <dcterms:modified xsi:type="dcterms:W3CDTF">2011-09-18T18:34:18Z</dcterms:modified>
  <cp:revision>38</cp:revision>
  <dc:subject/>
  <dc:title>Slide 1</dc:title>
</cp:coreProperties>
</file>