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wmf" ContentType="image/x-wmf"/>
  <Override PartName="/ppt/media/image10.jpeg" ContentType="image/jpeg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3205-3446-44E1-83C2-DBF047D5124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FC6F-1F09-4C35-A2BE-74E1F6A678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B138-3CD1-464B-83F9-45F277A6F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5598-EA5C-4A13-A5BA-DFA3C85011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8CD1-EE4B-49E3-8331-63205F964253}" type="slidenum"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4B9B-575E-46FA-A1D7-39B3FA9B5C23}" type="slidenum"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8ECE-5F31-4109-8C6B-CA1606EB887A}" type="slidenum"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61FA-F9B1-45A4-BD35-62A2BFF61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4167D-3658-48FC-A1C3-77DBCEFDF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448A-5F93-461B-B767-2E2A20EA6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A143-9738-4942-81E5-3DD37E12B99D}" type="slidenum">
              <a:rPr b="0" lang="pt-PT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B6EC-A397-41D0-9C01-5D8B1AE0E2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C821-E6D4-484E-ABAF-0EBE88C562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4827-CEEA-482D-9DB3-A05176C461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AC83-2771-4644-9ACE-7336C2B9D2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4C15-8320-4951-8B92-40B1F3DE0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5527-2A5E-4ECA-873F-D496305220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06E7-38D0-4720-AB66-58C155E953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C175F-E2D6-4FA8-98E3-EF56E2B39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DB052-AA32-4F90-A21C-3C00A4648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88AB-5E04-4A33-B77D-9872739DF0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8861F-6820-4747-8D2F-E13C1105F4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A9F1F-F6F8-4738-B8E9-24D1728BE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9D552-839D-45EC-9FED-E514D1B0C3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1CC12-7EEB-41DE-8FDF-32E64DECB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41755-2016-4A78-AF30-058E6DDFC7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EEF63-CF5C-4E46-BD7E-1B2C5D2F74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D6BEC-D080-4698-A63F-2D323BB15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1C7E1-DD89-4184-A3D3-232EFBC3D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5409-8DF6-4217-B205-417EDA88F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6251-C99D-41C5-A4D4-2F0A369C08C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00000" y="17002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.br/imgres?imgurl=http://populo.weblog.com.pt/arquivo/cuidados.jpg&amp;imgrefurl=http://populo.weblog.com.pt/arquivo/2006/09/index0&amp;h=262&amp;w=256&amp;sz=6&amp;hl=pt-BR&amp;start=17&amp;tbnid=f-CHjGQ-K7G24M:&amp;tbnh=112&amp;tbnw=109&amp;prev=/images?q=cuidados&amp;gbv=2&amp;hl=pt-BR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31640" y="4292280"/>
            <a:ext cx="6933960" cy="16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2195640" y="256464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rientação para a saúde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ço Reservado para Rodapé 4"/>
          <p:cNvSpPr/>
          <p:nvPr/>
        </p:nvSpPr>
        <p:spPr>
          <a:xfrm>
            <a:off x="4067280" y="6308640"/>
            <a:ext cx="273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ontos essenciais para quem realiza orientação em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O papel do profissional não é resolver o problema do utente, mas informar e fazê-lo  refletir sobre sua situação de risc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Não apresente soluções ou conselhos ao utente;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Não faça conclusões precipitada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Não pergunte demais – aconselhar ou orientar não é um processo de pergunta-resposta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3" name="Espaço Reservado para Número de Slide 5"/>
          <p:cNvSpPr/>
          <p:nvPr/>
        </p:nvSpPr>
        <p:spPr>
          <a:xfrm>
            <a:off x="46836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CA4F-97A0-4CEA-B6EE-FA4DF9F41B5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467480" cy="928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dividua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218960"/>
            <a:ext cx="6186600" cy="53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A individualidade é constituida por nossas vivências, isto é, pela maneira como sentimos e compreendemos o que se passa conosco e com o mundo que nos rodeia. 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“</a:t>
            </a: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É a maneira própria com que cada um de nós percebe, imagina, lembra, opina, deseja, age, ama e odeia, sente e dá prazer, toma posição diante das coisas e dos outros, decide, sente-se feliz ou infeliz” (Marilena Chauí).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Portanto, cada indivíduo tem sua própria forma de perceber aquilo que lhe é transmitido.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DA4A-9B09-4731-96E5-1785D2C52B3D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ço Reservado para Rodapé 2"/>
          <p:cNvSpPr/>
          <p:nvPr/>
        </p:nvSpPr>
        <p:spPr>
          <a:xfrm>
            <a:off x="2843280" y="6308640"/>
            <a:ext cx="381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400" spc="-1" strike="noStrike">
                <a:solidFill>
                  <a:srgbClr val="9c9cff"/>
                </a:solidFill>
                <a:latin typeface="Verdana"/>
                <a:ea typeface="Arial"/>
              </a:rPr>
              <a:t>Curso de Enfermagem G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t1.gstatic.com/images?q=tbn:Odc5zrnss8MLNM:http://blog.actbr.org.br/up/a/ac/blog.actbr.org.br/img/Pensando.png"/>
          <p:cNvPicPr/>
          <p:nvPr/>
        </p:nvPicPr>
        <p:blipFill>
          <a:blip r:embed="rId1"/>
          <a:stretch/>
        </p:blipFill>
        <p:spPr>
          <a:xfrm>
            <a:off x="6875640" y="1557360"/>
            <a:ext cx="18288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ço Reservado para Rodapé 4"/>
          <p:cNvSpPr/>
          <p:nvPr/>
        </p:nvSpPr>
        <p:spPr>
          <a:xfrm>
            <a:off x="3851280" y="6237360"/>
            <a:ext cx="295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112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Habilidades favoráveis a quem realiza orient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Ser calmo, confiante, disciplinado e respeitador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Ter tact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Ser bom observador;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Ser capaz de criar empati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Apresentar-se bem, com postura adequad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Utilizar linguagem compreensível de acordo com as características dos participant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Saber escutar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Espaço Reservado para Número de Slide 5"/>
          <p:cNvSpPr/>
          <p:nvPr/>
        </p:nvSpPr>
        <p:spPr>
          <a:xfrm>
            <a:off x="539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27581-2C13-4F1C-A3FE-E71BE42476E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tura ao aconselhar ou ori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CE8B-5804-484B-9C70-E481DAC4AA3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http://izefiliz.zip.net/images/Sorria.jpg"/>
          <p:cNvPicPr/>
          <p:nvPr/>
        </p:nvPicPr>
        <p:blipFill>
          <a:blip r:embed="rId1"/>
          <a:stretch/>
        </p:blipFill>
        <p:spPr>
          <a:xfrm>
            <a:off x="2987640" y="1197000"/>
            <a:ext cx="4336920" cy="5111640"/>
          </a:xfrm>
          <a:prstGeom prst="rect">
            <a:avLst/>
          </a:prstGeom>
          <a:ln w="0">
            <a:noFill/>
          </a:ln>
        </p:spPr>
      </p:pic>
      <p:pic>
        <p:nvPicPr>
          <p:cNvPr id="147" name="Retângulo 7" descr=""/>
          <p:cNvPicPr/>
          <p:nvPr/>
        </p:nvPicPr>
        <p:blipFill>
          <a:blip r:embed="rId2"/>
          <a:stretch/>
        </p:blipFill>
        <p:spPr>
          <a:xfrm>
            <a:off x="19080" y="1682640"/>
            <a:ext cx="413208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67480" cy="654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tura ao dar orient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94920" y="1197000"/>
            <a:ext cx="84646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Evite mãos e braços nos bolsos (passa insegurança e impede o fluxo natural da energia)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Não dê as costas para o grup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Gestos e maneirismos podem ajudá-lo a ganhar apoio e confiança do utente, mas de forma exagerada atrapalha; evite f</a:t>
            </a:r>
            <a:r>
              <a:rPr b="0" lang="pt-PT" sz="2800" spc="-1" strike="noStrike">
                <a:solidFill>
                  <a:srgbClr val="000066"/>
                </a:solidFill>
                <a:latin typeface="Verdana"/>
              </a:rPr>
              <a:t>azer barulho com as chaves ou moedas nos bolsos, brincar com a canet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Caminhe pela sala, estebeleça contato visual com TODOS os participantes – Evite olhar para o mesmo lado ou para os mesmos participante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AD5D-5B79-488D-9D25-8D0ECE6E7FAC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6"/>
          <p:cNvSpPr/>
          <p:nvPr/>
        </p:nvSpPr>
        <p:spPr>
          <a:xfrm>
            <a:off x="1828800" y="3271680"/>
            <a:ext cx="624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052640"/>
            <a:ext cx="47163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A sociedade é muito visual; as pessoas fazem julgamentos no momento em que o vêem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A maneira de se vestir é mais importante do que se imagina. 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Os trabalhadores de saúde devem ser modelo de higiene e apresentação pessoal, zelando seus fardamentos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250920" indent="-2509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Espaço Reservado para Número de Slide 8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4DB4-5F39-4585-957A-54C1E545EF43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" descr="C:\Documents and Settings\Administrador\Meus documentos\Moçambique GERAL\enfermaria modelo\fotos enf modelo depois\DSC00785.JPG"/>
          <p:cNvPicPr/>
          <p:nvPr/>
        </p:nvPicPr>
        <p:blipFill>
          <a:blip r:embed="rId1"/>
          <a:stretch/>
        </p:blipFill>
        <p:spPr>
          <a:xfrm>
            <a:off x="5148360" y="1052640"/>
            <a:ext cx="3714480" cy="49528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67480" cy="654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tura ao dar orient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Espaço Reservado para Rodapé 9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Postura ao dar orient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Use roupas adequadas (sem decotes, que não marque o corpo) para não desviar a atenção dos participant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Evite calçados que façam barulho, para não tirar a concentração dos  participant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Ao usar um recurso audiovisual, evite ficar presa ao mesmo, pois seu foco deve ser sempre o grup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 transparente, cavalete, ecrã... É apenas um apo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75CA-03CC-4227-A156-348010A975B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467480" cy="714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Linguage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360" y="980640"/>
            <a:ext cx="82468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Não utilize palavras que enfraquecem o que você tem a dizer, como: “talvez”, “acho”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Vá directo ao assunto, não faça rodeios</a:t>
            </a: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Seja simples, directo e cla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Espaço Reservado para Número de Slide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2117-D722-43B0-B48F-831326845C4D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http://www.geocities.com/HotSprings/Bath/3909/image12.gif"/>
          <p:cNvPicPr/>
          <p:nvPr/>
        </p:nvPicPr>
        <p:blipFill>
          <a:blip r:embed="rId1"/>
          <a:stretch/>
        </p:blipFill>
        <p:spPr>
          <a:xfrm>
            <a:off x="353880" y="2857680"/>
            <a:ext cx="3403800" cy="3346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http://www.geocities.com/HotSprings/Bath/3909/image14.gif"/>
          <p:cNvPicPr/>
          <p:nvPr/>
        </p:nvPicPr>
        <p:blipFill>
          <a:blip r:embed="rId2"/>
          <a:stretch/>
        </p:blipFill>
        <p:spPr>
          <a:xfrm>
            <a:off x="4286160" y="2786040"/>
            <a:ext cx="3813120" cy="3071880"/>
          </a:xfrm>
          <a:prstGeom prst="rect">
            <a:avLst/>
          </a:prstGeom>
          <a:ln w="0">
            <a:noFill/>
          </a:ln>
        </p:spPr>
      </p:pic>
      <p:sp>
        <p:nvSpPr>
          <p:cNvPr id="167" name="CaixaDeTexto 8"/>
          <p:cNvSpPr/>
          <p:nvPr/>
        </p:nvSpPr>
        <p:spPr>
          <a:xfrm>
            <a:off x="755640" y="6093000"/>
            <a:ext cx="32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inguagem téc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ixaDeTexto 9"/>
          <p:cNvSpPr/>
          <p:nvPr/>
        </p:nvSpPr>
        <p:spPr>
          <a:xfrm>
            <a:off x="4140360" y="5732640"/>
            <a:ext cx="44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Linguagem compreensí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Espaço Reservado para Rodapé 10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1065"/>
          <p:cNvGrpSpPr/>
          <p:nvPr/>
        </p:nvGrpSpPr>
        <p:grpSpPr>
          <a:xfrm>
            <a:off x="6875640" y="333360"/>
            <a:ext cx="1998000" cy="1366920"/>
            <a:chOff x="6875640" y="333360"/>
            <a:chExt cx="1998000" cy="1366920"/>
          </a:xfrm>
        </p:grpSpPr>
        <p:pic>
          <p:nvPicPr>
            <p:cNvPr id="171" name="Object 2" descr=""/>
            <p:cNvPicPr/>
            <p:nvPr/>
          </p:nvPicPr>
          <p:blipFill>
            <a:blip r:embed="rId1"/>
            <a:stretch/>
          </p:blipFill>
          <p:spPr>
            <a:xfrm>
              <a:off x="6875640" y="333360"/>
              <a:ext cx="971280" cy="1366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2" name="Group 1067"/>
            <p:cNvGrpSpPr/>
            <p:nvPr/>
          </p:nvGrpSpPr>
          <p:grpSpPr>
            <a:xfrm>
              <a:off x="8002800" y="712440"/>
              <a:ext cx="870840" cy="986760"/>
              <a:chOff x="8002800" y="712440"/>
              <a:chExt cx="870840" cy="986760"/>
            </a:xfrm>
          </p:grpSpPr>
          <p:grpSp>
            <p:nvGrpSpPr>
              <p:cNvPr id="173" name="Group 1068"/>
              <p:cNvGrpSpPr/>
              <p:nvPr/>
            </p:nvGrpSpPr>
            <p:grpSpPr>
              <a:xfrm>
                <a:off x="8002800" y="712440"/>
                <a:ext cx="870840" cy="986760"/>
                <a:chOff x="8002800" y="712440"/>
                <a:chExt cx="870840" cy="986760"/>
              </a:xfrm>
            </p:grpSpPr>
            <p:sp>
              <p:nvSpPr>
                <p:cNvPr id="174" name="Freeform 1069"/>
                <p:cNvSpPr/>
                <p:nvPr/>
              </p:nvSpPr>
              <p:spPr>
                <a:xfrm>
                  <a:off x="8324640" y="843480"/>
                  <a:ext cx="297000" cy="16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070"/>
                <p:cNvSpPr/>
                <p:nvPr/>
              </p:nvSpPr>
              <p:spPr>
                <a:xfrm>
                  <a:off x="8520480" y="1069560"/>
                  <a:ext cx="353160" cy="325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1071"/>
                <p:cNvSpPr/>
                <p:nvPr/>
              </p:nvSpPr>
              <p:spPr>
                <a:xfrm>
                  <a:off x="8002800" y="712440"/>
                  <a:ext cx="410400" cy="369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1072"/>
                <p:cNvSpPr/>
                <p:nvPr/>
              </p:nvSpPr>
              <p:spPr>
                <a:xfrm>
                  <a:off x="8313480" y="1027440"/>
                  <a:ext cx="251640" cy="336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1073"/>
                <p:cNvSpPr/>
                <p:nvPr/>
              </p:nvSpPr>
              <p:spPr>
                <a:xfrm>
                  <a:off x="8408520" y="1314720"/>
                  <a:ext cx="213120" cy="35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1074"/>
                <p:cNvSpPr/>
                <p:nvPr/>
              </p:nvSpPr>
              <p:spPr>
                <a:xfrm>
                  <a:off x="8278920" y="1317240"/>
                  <a:ext cx="174600" cy="381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0" name="Group 1075"/>
              <p:cNvGrpSpPr/>
              <p:nvPr/>
            </p:nvGrpSpPr>
            <p:grpSpPr>
              <a:xfrm>
                <a:off x="8190360" y="915840"/>
                <a:ext cx="559800" cy="474840"/>
                <a:chOff x="8190360" y="915840"/>
                <a:chExt cx="559800" cy="474840"/>
              </a:xfrm>
            </p:grpSpPr>
            <p:sp>
              <p:nvSpPr>
                <p:cNvPr id="181" name="Freeform 1076"/>
                <p:cNvSpPr/>
                <p:nvPr/>
              </p:nvSpPr>
              <p:spPr>
                <a:xfrm>
                  <a:off x="8190360" y="915840"/>
                  <a:ext cx="559800" cy="474840"/>
                </a:xfrm>
                <a:prstGeom prst="pie">
                  <a:avLst/>
                </a:prstGeom>
                <a:solidFill>
                  <a:srgbClr val="f8f8f8"/>
                </a:solidFill>
                <a:ln w="176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2" name="Group 1077"/>
                <p:cNvGrpSpPr/>
                <p:nvPr/>
              </p:nvGrpSpPr>
              <p:grpSpPr>
                <a:xfrm>
                  <a:off x="8222040" y="944640"/>
                  <a:ext cx="498240" cy="431280"/>
                  <a:chOff x="8222040" y="944640"/>
                  <a:chExt cx="498240" cy="431280"/>
                </a:xfrm>
              </p:grpSpPr>
              <p:sp>
                <p:nvSpPr>
                  <p:cNvPr id="183" name="Freeform 1078"/>
                  <p:cNvSpPr/>
                  <p:nvPr/>
                </p:nvSpPr>
                <p:spPr>
                  <a:xfrm>
                    <a:off x="8222040" y="944640"/>
                    <a:ext cx="92880" cy="1429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1079"/>
                  <p:cNvSpPr/>
                  <p:nvPr/>
                </p:nvSpPr>
                <p:spPr>
                  <a:xfrm>
                    <a:off x="8265240" y="994320"/>
                    <a:ext cx="86040" cy="12168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80"/>
                  <p:cNvSpPr/>
                  <p:nvPr/>
                </p:nvSpPr>
                <p:spPr>
                  <a:xfrm>
                    <a:off x="8301600" y="1023840"/>
                    <a:ext cx="90000" cy="3477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Freeform 1081"/>
                  <p:cNvSpPr/>
                  <p:nvPr/>
                </p:nvSpPr>
                <p:spPr>
                  <a:xfrm>
                    <a:off x="8382600" y="1054440"/>
                    <a:ext cx="68400" cy="30996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1082"/>
                  <p:cNvSpPr/>
                  <p:nvPr/>
                </p:nvSpPr>
                <p:spPr>
                  <a:xfrm>
                    <a:off x="8463960" y="1050120"/>
                    <a:ext cx="67680" cy="3258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Freeform 1083"/>
                  <p:cNvSpPr/>
                  <p:nvPr/>
                </p:nvSpPr>
                <p:spPr>
                  <a:xfrm>
                    <a:off x="8532720" y="1058760"/>
                    <a:ext cx="45720" cy="10332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Freeform 1084"/>
                  <p:cNvSpPr/>
                  <p:nvPr/>
                </p:nvSpPr>
                <p:spPr>
                  <a:xfrm>
                    <a:off x="8606880" y="1074960"/>
                    <a:ext cx="46800" cy="792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760" bIns="32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1085"/>
                  <p:cNvSpPr/>
                  <p:nvPr/>
                </p:nvSpPr>
                <p:spPr>
                  <a:xfrm>
                    <a:off x="8683920" y="1100880"/>
                    <a:ext cx="36360" cy="70200"/>
                  </a:xfrm>
                  <a:prstGeom prst="pi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760" bIns="237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42560" y="428400"/>
            <a:ext cx="5761080" cy="703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ffffff"/>
                </a:solidFill>
                <a:latin typeface="Verdana"/>
              </a:rPr>
              <a:t>Perguntas e respost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7120" y="164304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Nunca inicie uma explicação sem estar certo de que compreendeu a pergunta. 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Repetir a pergunta e ouvi-la de sua própria voz o acalmará e você estará respondendo de modo que todos o compreendam.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Satisfaça a pessoa que pergunta. Nunca termine uma resposta com “Isso responde à sua pergunta?”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Uma vez ou outra, uma pergunta hostil será lançada no seu caminho. Seja cortês. 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3c3c77"/>
                </a:solidFill>
                <a:latin typeface="Arial"/>
                <a:ea typeface="Arial"/>
              </a:rPr>
              <a:t>Nunca, sob qualquer circunstância, se torne agressivo, nervoso ou impositivo. As pessoas apreciam as boas maneiras. </a:t>
            </a: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3" name="Espaço Reservado para Número de Slide 4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F3035-2C11-4000-8145-25633DCABAD1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ço Reservado para Rodapé 2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3"/>
          <p:cNvSpPr/>
          <p:nvPr/>
        </p:nvSpPr>
        <p:spPr>
          <a:xfrm>
            <a:off x="1116000" y="333360"/>
            <a:ext cx="7745400" cy="581400"/>
          </a:xfrm>
          <a:prstGeom prst="rect">
            <a:avLst/>
          </a:prstGeom>
          <a:solidFill>
            <a:srgbClr val="5b5b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200" spc="-1" strike="noStrike">
                <a:solidFill>
                  <a:srgbClr val="ffffff"/>
                </a:solidFill>
                <a:latin typeface="Verdana"/>
              </a:rPr>
              <a:t>Como perguntar eficaz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9"/>
          <p:cNvSpPr/>
          <p:nvPr/>
        </p:nvSpPr>
        <p:spPr>
          <a:xfrm>
            <a:off x="1828800" y="2924280"/>
            <a:ext cx="624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1"/>
          <p:cNvSpPr/>
          <p:nvPr/>
        </p:nvSpPr>
        <p:spPr>
          <a:xfrm>
            <a:off x="2819520" y="227808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cc0000"/>
              </a:buClr>
              <a:buFont typeface="Wingdings 2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1143000" y="2467080"/>
            <a:ext cx="7010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3"/>
          <p:cNvSpPr/>
          <p:nvPr/>
        </p:nvSpPr>
        <p:spPr>
          <a:xfrm>
            <a:off x="428760" y="1714680"/>
            <a:ext cx="8353440" cy="39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Use um tom de voz que demonst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  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interesse e aten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Faça uma pergunta de cada vez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Use - então? - E? - Ah 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Faça a mesma pergunta de diferentes maneir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Evite o mesmo tipo de pergunt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874800"/>
                <a:tab algn="l" pos="1749600"/>
                <a:tab algn="l" pos="2624040"/>
                <a:tab algn="l" pos="3498840"/>
                <a:tab algn="l" pos="4373640"/>
                <a:tab algn="l" pos="5248440"/>
                <a:tab algn="l" pos="6122880"/>
                <a:tab algn="l" pos="6997680"/>
                <a:tab algn="l" pos="7872480"/>
                <a:tab algn="l" pos="8747280"/>
                <a:tab algn="l" pos="9621720"/>
                <a:tab algn="l" pos="1049652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Procure envolver diferentes participantes com as per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050"/>
          <p:cNvGrpSpPr/>
          <p:nvPr/>
        </p:nvGrpSpPr>
        <p:grpSpPr>
          <a:xfrm>
            <a:off x="7308720" y="1197000"/>
            <a:ext cx="1580400" cy="1595520"/>
            <a:chOff x="7308720" y="1197000"/>
            <a:chExt cx="1580400" cy="1595520"/>
          </a:xfrm>
        </p:grpSpPr>
        <p:grpSp>
          <p:nvGrpSpPr>
            <p:cNvPr id="201" name="Group 1051"/>
            <p:cNvGrpSpPr/>
            <p:nvPr/>
          </p:nvGrpSpPr>
          <p:grpSpPr>
            <a:xfrm>
              <a:off x="8147520" y="1251720"/>
              <a:ext cx="741600" cy="1518120"/>
              <a:chOff x="8147520" y="1251720"/>
              <a:chExt cx="741600" cy="1518120"/>
            </a:xfrm>
          </p:grpSpPr>
          <p:sp>
            <p:nvSpPr>
              <p:cNvPr id="202" name="Freeform 1052"/>
              <p:cNvSpPr/>
              <p:nvPr/>
            </p:nvSpPr>
            <p:spPr>
              <a:xfrm>
                <a:off x="8147520" y="1716480"/>
                <a:ext cx="290520" cy="51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Freeform 1053"/>
              <p:cNvSpPr/>
              <p:nvPr/>
            </p:nvSpPr>
            <p:spPr>
              <a:xfrm>
                <a:off x="8406360" y="1693800"/>
                <a:ext cx="201600" cy="494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1054"/>
              <p:cNvSpPr/>
              <p:nvPr/>
            </p:nvSpPr>
            <p:spPr>
              <a:xfrm>
                <a:off x="8462160" y="2124000"/>
                <a:ext cx="117720" cy="645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055"/>
              <p:cNvSpPr/>
              <p:nvPr/>
            </p:nvSpPr>
            <p:spPr>
              <a:xfrm>
                <a:off x="8296200" y="2125080"/>
                <a:ext cx="183960" cy="6436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Freeform 1056"/>
              <p:cNvSpPr/>
              <p:nvPr/>
            </p:nvSpPr>
            <p:spPr>
              <a:xfrm>
                <a:off x="8331480" y="1322640"/>
                <a:ext cx="236880" cy="336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Freeform 1057"/>
              <p:cNvSpPr/>
              <p:nvPr/>
            </p:nvSpPr>
            <p:spPr>
              <a:xfrm>
                <a:off x="8418240" y="1251720"/>
                <a:ext cx="470880" cy="561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1058"/>
            <p:cNvGrpSpPr/>
            <p:nvPr/>
          </p:nvGrpSpPr>
          <p:grpSpPr>
            <a:xfrm>
              <a:off x="7308720" y="1197000"/>
              <a:ext cx="759600" cy="1595520"/>
              <a:chOff x="7308720" y="1197000"/>
              <a:chExt cx="759600" cy="1595520"/>
            </a:xfrm>
          </p:grpSpPr>
          <p:sp>
            <p:nvSpPr>
              <p:cNvPr id="209" name="Freeform 1059"/>
              <p:cNvSpPr/>
              <p:nvPr/>
            </p:nvSpPr>
            <p:spPr>
              <a:xfrm>
                <a:off x="7550640" y="1286280"/>
                <a:ext cx="297360" cy="348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1060"/>
              <p:cNvSpPr/>
              <p:nvPr/>
            </p:nvSpPr>
            <p:spPr>
              <a:xfrm>
                <a:off x="7308720" y="1197000"/>
                <a:ext cx="342360" cy="558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061"/>
              <p:cNvSpPr/>
              <p:nvPr/>
            </p:nvSpPr>
            <p:spPr>
              <a:xfrm>
                <a:off x="7631280" y="1659960"/>
                <a:ext cx="178920" cy="524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062"/>
              <p:cNvSpPr/>
              <p:nvPr/>
            </p:nvSpPr>
            <p:spPr>
              <a:xfrm>
                <a:off x="7714080" y="1674360"/>
                <a:ext cx="273240" cy="402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063"/>
              <p:cNvSpPr/>
              <p:nvPr/>
            </p:nvSpPr>
            <p:spPr>
              <a:xfrm>
                <a:off x="7735680" y="2130840"/>
                <a:ext cx="332640" cy="650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064"/>
              <p:cNvSpPr/>
              <p:nvPr/>
            </p:nvSpPr>
            <p:spPr>
              <a:xfrm>
                <a:off x="7526520" y="2129400"/>
                <a:ext cx="223920" cy="663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Espaço Reservado para Número de Slide 2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93AF-AECF-4EDB-B7AF-6E71E7BF1AE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ço Reservado para Rodapé 2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O termo orientação para a saúde está mais voltado para o dar informação, ensinar, tornar o conhecimento accessível as pessoa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O termo educação para a saúde é mais amplo, pois se compromete com a aprendizagem em si, com a mudança de comportament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Há quem considere informação, orientação e educação para a saúde a mesma cois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2D81-BD93-4C85-9F90-A327052D1D4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0A3D-BE53-455A-AAF8-2FB9F64E63E4}" type="slidenum">
              <a:rPr b="0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1328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As 3 maneiras de fazer perguntas para um grupo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4582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Faça pergunta ao grupo como um tod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Chame o nome de um participante antes de fazer a pergunt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Ponha a questão e em seguida dirija a pergunta ao participante específico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Evite usar um só maneira de fazer perguntas – UTILIZE SEMPRE AS 3 TÉCN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sso ajudará a manter a atenção do grupo e promover uma participação diversifica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03FD-44C1-4AEE-A1C4-DA5C315593DF}" type="slidenum">
              <a:rPr b="0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mo responder eficazm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38224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Responda à pergunta com objetividad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Arial"/>
              </a:rPr>
              <a:t>Responda com outra pergunta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  <a:ea typeface="Arial"/>
              </a:rPr>
              <a:t>Quando não for capaz de responder a uma pergunta, reconheça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Procure a resposta e comunique-a na sessão seguinte, quando houve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Estimule o grupo e o participante que fez a pergunta a buscar  a respost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ço Reservado para Rodapé 5"/>
          <p:cNvSpPr/>
          <p:nvPr/>
        </p:nvSpPr>
        <p:spPr>
          <a:xfrm>
            <a:off x="3635280" y="6237360"/>
            <a:ext cx="25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Verdana"/>
              </a:rPr>
              <a:t>Como  escutar com eficácia</a:t>
            </a: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033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Ter atenção para com 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Estabelecer contacto visu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Postura corporal relax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Usar palavras e sinais corporais de estímul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Evitar distrac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Não fazer outras acções simultaneam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Compreender os sentimentos do ut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6000" y="11966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Confirmar o que o utente ouviu, solicitando para o mesmo parafrasea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Detectar preocupaçõ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Evitar interromper o utente muitas veze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Fazer uma pergunta de cada vez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Usar perguntas abert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Não falar da sua própria histór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9" name="Espaço Reservado para Número de Slide 6"/>
          <p:cNvSpPr/>
          <p:nvPr/>
        </p:nvSpPr>
        <p:spPr>
          <a:xfrm>
            <a:off x="324000" y="6237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8BD0-C930-4D21-B8FF-42E22300A3E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1840" y="189000"/>
            <a:ext cx="7921800" cy="806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600" spc="-1" strike="noStrike">
                <a:solidFill>
                  <a:srgbClr val="ffffff"/>
                </a:solidFill>
                <a:latin typeface="Verdana"/>
              </a:rPr>
              <a:t>Barreiras à escuta eficaz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214960" y="1356840"/>
            <a:ext cx="36432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Ruíd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Falta de clarez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Bloqueio emociona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Preconceitos e estereótip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Preocupação com a respost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Resistência às mudança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Pudor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Med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Tempo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Falta de atenção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CaixaDeTexto 4"/>
          <p:cNvSpPr/>
          <p:nvPr/>
        </p:nvSpPr>
        <p:spPr>
          <a:xfrm>
            <a:off x="324000" y="1125360"/>
            <a:ext cx="471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São todos os factores que interferem no processo de comunic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ço Reservado para Número de Slide 5"/>
          <p:cNvSpPr/>
          <p:nvPr/>
        </p:nvSpPr>
        <p:spPr>
          <a:xfrm>
            <a:off x="684360" y="6237360"/>
            <a:ext cx="5029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26C8-B308-4F3F-96B6-D7F24EB37FCD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http://t1.gstatic.com/images?q=tbn:M37ZptRx_lLB-M:http://www.massote.pro.br/wp-content/uploads/2009/01/barulho.JPG"/>
          <p:cNvPicPr/>
          <p:nvPr/>
        </p:nvPicPr>
        <p:blipFill>
          <a:blip r:embed="rId1"/>
          <a:stretch/>
        </p:blipFill>
        <p:spPr>
          <a:xfrm>
            <a:off x="326880" y="2781360"/>
            <a:ext cx="4641840" cy="3505320"/>
          </a:xfrm>
          <a:prstGeom prst="rect">
            <a:avLst/>
          </a:prstGeom>
          <a:ln w="0">
            <a:noFill/>
          </a:ln>
        </p:spPr>
      </p:pic>
      <p:sp>
        <p:nvSpPr>
          <p:cNvPr id="235" name="Espaço Reservado para Rodapé 5"/>
          <p:cNvSpPr/>
          <p:nvPr/>
        </p:nvSpPr>
        <p:spPr>
          <a:xfrm>
            <a:off x="3635280" y="6237360"/>
            <a:ext cx="25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467840" cy="797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rocesso de comunic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85480" y="1125360"/>
            <a:ext cx="48625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Voluntária ou involuntariamente estamos constantemente nos comunicando, mesmo sem fazer uso da palavr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Um simples gesto pode revelar algo para um observador at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Nossa expressão corporal e gestual diz muito para um bom observado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Estamos a emitir e receber mensagens em todos os contactos que estabelecemos, formais ou n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8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C86A-858F-40F6-A678-F2B02CDEC1F3}" type="slidenum">
              <a:rPr b="0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http://fotojornalismojf.files.wordpress.com/2007/09/42-16264702.jpg"/>
          <p:cNvPicPr/>
          <p:nvPr/>
        </p:nvPicPr>
        <p:blipFill>
          <a:blip r:embed="rId1"/>
          <a:stretch/>
        </p:blipFill>
        <p:spPr>
          <a:xfrm>
            <a:off x="5148360" y="1368360"/>
            <a:ext cx="3527280" cy="3589560"/>
          </a:xfrm>
          <a:prstGeom prst="rect">
            <a:avLst/>
          </a:prstGeom>
          <a:ln w="0">
            <a:noFill/>
          </a:ln>
        </p:spPr>
      </p:pic>
      <p:sp>
        <p:nvSpPr>
          <p:cNvPr id="240" name="CaixaDeTexto 7"/>
          <p:cNvSpPr/>
          <p:nvPr/>
        </p:nvSpPr>
        <p:spPr>
          <a:xfrm>
            <a:off x="5364000" y="494172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Arial"/>
                <a:ea typeface="Arial"/>
              </a:rPr>
              <a:t>O que este gesto poderá estar  comunican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Espaço Reservado para Rodapé 5"/>
          <p:cNvSpPr/>
          <p:nvPr/>
        </p:nvSpPr>
        <p:spPr>
          <a:xfrm>
            <a:off x="3635280" y="6237360"/>
            <a:ext cx="2592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ço Reservado para Rodapé 5"/>
          <p:cNvSpPr/>
          <p:nvPr/>
        </p:nvSpPr>
        <p:spPr>
          <a:xfrm>
            <a:off x="3203640" y="6237360"/>
            <a:ext cx="280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Orientação individual e grup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000" y="98100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Individual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Confidenci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Para uma pessoa ou cas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Suscita emoções fortes no utente e profission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Informação com enfoque para mudanças de atitudes e de comportament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16000" y="981000"/>
            <a:ext cx="403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Grupal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Não é confidenci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Pequenos ou grandes grup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Emocionalmente neutr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Generalizad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Informação usada para aumentar conhecimento, baseada nas necessidades gerais dos participa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Espaço Reservado para Número de Slide 6"/>
          <p:cNvSpPr/>
          <p:nvPr/>
        </p:nvSpPr>
        <p:spPr>
          <a:xfrm>
            <a:off x="611280" y="62373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0968-C82C-4D77-AC2F-70F35B6E21F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tângulo de cantos arredondados 7"/>
          <p:cNvSpPr/>
          <p:nvPr/>
        </p:nvSpPr>
        <p:spPr>
          <a:xfrm>
            <a:off x="1547640" y="5229360"/>
            <a:ext cx="62643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Vocês acham que uma substitui a ou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9" descr="http://www.eb23-cmdt-conceicao-silva.rcts.pt/J0288870.gif"/>
          <p:cNvPicPr/>
          <p:nvPr/>
        </p:nvPicPr>
        <p:blipFill>
          <a:blip r:embed="rId1"/>
          <a:stretch/>
        </p:blipFill>
        <p:spPr>
          <a:xfrm>
            <a:off x="7380360" y="5229360"/>
            <a:ext cx="466560" cy="61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Quando orienta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8000" y="1773360"/>
            <a:ext cx="838188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  <a:ea typeface="Arial"/>
              </a:rPr>
              <a:t>O enfermeiro geral deve evitar oportunidades perdidas de dar orientação, ou seja, este orientará ao longo de suas atividades, continuamente em cada contato com o utent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  <a:ea typeface="Arial"/>
              </a:rPr>
              <a:t>Além disso poderá estabelecer planos de orientação para a saúde para grupos específicos ou para temas necessário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1" name="Espaço Reservado para Rodapé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ço Reservado para Número de Slide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A87F4-E1C6-44E1-9E79-F66E6181236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ço Reservado para Rodapé 4"/>
          <p:cNvSpPr/>
          <p:nvPr/>
        </p:nvSpPr>
        <p:spPr>
          <a:xfrm>
            <a:off x="3995640" y="6308640"/>
            <a:ext cx="3024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2560" y="277920"/>
            <a:ext cx="7643880" cy="77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mbiente para dar orienta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Deve ser confortável  e privativo: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3c3c77"/>
                </a:solidFill>
                <a:latin typeface="Arial"/>
                <a:ea typeface="Arial"/>
              </a:rPr>
              <a:t>Iluminado, arejado, isento de barulho, limpo, disposição de cadeiras para todos os participantes (em círculo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Que não seja interrompido por telefone ou pela entrada de pessoas fora da atividad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6" name="Espaço Reservado para Número de Slide 5"/>
          <p:cNvSpPr/>
          <p:nvPr/>
        </p:nvSpPr>
        <p:spPr>
          <a:xfrm>
            <a:off x="755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4BDE-FE11-42D1-9E25-8F0010ED5AA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Trabalho de grup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39640" y="2133720"/>
            <a:ext cx="8382240" cy="14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Vamos para a actividade de Desenvolvimento de habilidades e atitudes para dar orientação em saúde, individual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6352-BA48-49E5-8250-91AF00E8BAA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Laboratório Humanístic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68000" y="2276640"/>
            <a:ext cx="8381880" cy="23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Vamos para a actividade de Desenvolvimento de habilidades e atitudes para aconselhar ou orientar para a saúde (atividade grupal)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E25C-849D-4072-9456-092D090AD79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94920" y="1988640"/>
            <a:ext cx="8497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c3c77"/>
                </a:solidFill>
                <a:latin typeface="Verdana"/>
              </a:rPr>
              <a:t>A Educação para a Saúde é definida como fator de promoção e proteção à saúde e estratégia para a conquista dos direitos de cidadani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ssim, neste capítulo, teremos a intenção de discutir “Orientação para a saúde” nesse contexto mais amplo, participativo, crítico, capaz de gerar autonomia nos sujeit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8B2B-CC79-4E66-B81B-8DA28ADD2D1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052280"/>
            <a:ext cx="859788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educação para a saúde não é tarefa fácil, devendo ser realizada por pessoas minimamente capacitadas, de modo a não ferir a integridade e a ética dos participa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sta pode ser desenvolvid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Para uma só pessoa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08440" indent="-2214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nominado aconselhamento; orientação individual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m pequenos e grandes grupos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08440" indent="-2214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Denominado palestra, porém esse termo está em desuso por trazer um caráter unidirecion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m massa, por meio da mídia (rádio, jornal, revistas, televisão, internet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597B-2224-43B1-920E-8651C03C0C4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Espaço Reservado para Rodapé 4"/>
          <p:cNvSpPr/>
          <p:nvPr/>
        </p:nvSpPr>
        <p:spPr>
          <a:xfrm>
            <a:off x="3635280" y="6237360"/>
            <a:ext cx="280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7581960" cy="86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O  que é o aconselhamento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4681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É um diálogo confidencial  entre o profissional e o utente; É mais usado em caráter individual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Visa proporcionar à pessoa condições para avaliar os  seus próprios riscos, tomar decisões e encontrar maneiras realísticas de enfrentar os problemas relacionados à sua saúd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Verdana"/>
              </a:rPr>
              <a:t>                                                 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7d"/>
                </a:solidFill>
                <a:latin typeface="Verdana"/>
              </a:rPr>
              <a:t>                                      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Número de Slide 5"/>
          <p:cNvSpPr/>
          <p:nvPr/>
        </p:nvSpPr>
        <p:spPr>
          <a:xfrm>
            <a:off x="539640" y="61657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61D0-FC86-466E-BC51-1C73A310F93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cuidado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550880"/>
            <a:ext cx="3865680" cy="39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ço Reservado para Rodapé 4"/>
          <p:cNvSpPr/>
          <p:nvPr/>
        </p:nvSpPr>
        <p:spPr>
          <a:xfrm>
            <a:off x="3348000" y="6237360"/>
            <a:ext cx="3240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conselhar não signific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2163600"/>
            <a:ext cx="7232760" cy="37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Dar conselho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Dizer para alguém o que fazer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Apresentar solução para os problemas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Fazer sermão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Interrogatório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Confissão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Espaço Reservado para Número de Slide 5"/>
          <p:cNvSpPr/>
          <p:nvPr/>
        </p:nvSpPr>
        <p:spPr>
          <a:xfrm>
            <a:off x="46836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463E-6E82-498E-9B5A-1736D0F14F8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Espaço Reservado para Rodapé 4"/>
          <p:cNvSpPr/>
          <p:nvPr/>
        </p:nvSpPr>
        <p:spPr>
          <a:xfrm>
            <a:off x="3708360" y="6237360"/>
            <a:ext cx="273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85080" cy="8636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Aconselhamento signif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Dar apoio emocional e orientar mediante demanda por informação para a saúde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Identificar e corrigir crenças ou mitos relacionados a percepção do problema de saúd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Ajudar na tomada de decisão em direcção a hábitos saudáveis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Apoiar na elaboração de um plano de vida saudável e de redução de fatores de risc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Espaço Reservado para Número de Slide 5"/>
          <p:cNvSpPr/>
          <p:nvPr/>
        </p:nvSpPr>
        <p:spPr>
          <a:xfrm>
            <a:off x="46836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53AD-1F67-4A20-831E-A92F4BDE92C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ço Reservado para Rodapé 4"/>
          <p:cNvSpPr/>
          <p:nvPr/>
        </p:nvSpPr>
        <p:spPr>
          <a:xfrm>
            <a:off x="3635280" y="6237360"/>
            <a:ext cx="2665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559640" cy="1135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Conceitos chave em aconselhament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740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Aceitação incondicional: capacidade que o profissional deve ter para aceitar o utente </a:t>
            </a:r>
            <a:r>
              <a:rPr b="1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sem julgar, criticar ou moralizar o comportamento dest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Empatia: processo por meio do qual o profissional é capaz de compreender sentimentos, experiências de uma pessoa e colocar-se no lugar dela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3c3c77"/>
                </a:solidFill>
                <a:latin typeface="Arial"/>
                <a:ea typeface="Arial"/>
              </a:rPr>
              <a:t>Confidencialidade: sigilo ou garantia a não divulgação de informação sem o consentimento do utente.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Espaço Reservado para Número de Slide 5"/>
          <p:cNvSpPr/>
          <p:nvPr/>
        </p:nvSpPr>
        <p:spPr>
          <a:xfrm>
            <a:off x="53964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E3F9-EF53-4340-840C-F5702314456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ço Reservado para Rodapé 4"/>
          <p:cNvSpPr/>
          <p:nvPr/>
        </p:nvSpPr>
        <p:spPr>
          <a:xfrm>
            <a:off x="3348000" y="6237360"/>
            <a:ext cx="2808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Verdana"/>
              </a:rPr>
              <a:t>Pontos essenciais para quem realiza orientação em saú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Respeitar o utente como ser humano, mesmo não aprovando as suas acções;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Compreender que cada indivíduo é único e diferente (Individualidade)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Não julgar ou criticar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Não dar simples garantias ao utente, pois este compreenderá que seus problemas foram minimizados e se tornará dependente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Não interromper o utente em demasia pois este poderá se sentir diminuído.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Não assumir que sabe o que o utente pensa (o profissional não pode querer ler a mente do utente).   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9" name="Espaço Reservado para Número de Slide 5"/>
          <p:cNvSpPr/>
          <p:nvPr/>
        </p:nvSpPr>
        <p:spPr>
          <a:xfrm>
            <a:off x="826920" y="6308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F15F-1A13-4918-AC23-7C84F9B5638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0:44:40Z</dcterms:created>
  <dc:creator>Escolastica</dc:creator>
  <dc:description/>
  <dc:language>en-US</dc:language>
  <cp:lastModifiedBy>PC-6</cp:lastModifiedBy>
  <dcterms:modified xsi:type="dcterms:W3CDTF">2014-04-15T13:52:19Z</dcterms:modified>
  <cp:revision>91</cp:revision>
  <dc:subject/>
  <dc:title>Slide 1</dc:title>
</cp:coreProperties>
</file>