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005F-0E8C-49E0-BD6F-F28D5FB9121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DC74-6DD0-4862-9B1B-988F7FCD13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D9DBC-14E0-444C-9D25-456E23F49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EFDE5-C7A1-4F43-B6D7-273E82CCE8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5B54-4EF5-45E0-BE0B-683D83837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4AB28-1752-4735-AA9B-E3020630C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E6639-2142-471E-9BBC-38E165328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E43C9-612B-4CBC-B9D1-38E859A2C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1DB57-CDA4-4006-ABAF-3C89AE0AC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5DB4D-FF1D-4588-9245-C90588C6C4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27763-17F5-4780-A475-82E996CBB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270BE-6FD3-4F20-AF2A-EEC39D0C2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2C094-5434-404C-83F2-8BD2BF2322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185F7-69FA-4849-A9F5-3013732C59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E0D7-A727-4B59-9CFB-AC736F80DCC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7336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436640"/>
            <a:ext cx="6934320" cy="15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"/>
          <p:cNvSpPr/>
          <p:nvPr/>
        </p:nvSpPr>
        <p:spPr>
          <a:xfrm>
            <a:off x="1763640" y="1915200"/>
            <a:ext cx="615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;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ordenação com outros integrantes da equipa.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3357360"/>
            <a:ext cx="4392360" cy="2879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NÃO NECESSARIAMENTE O PLANO DEVERÁ TER TODOS OS ELEMENTOS. ISSO IRÁ DEPENDER DA ABRANGÊNCIA DO PLANO.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81374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trução será dirigida pelo professor, de modo que todos caminharão juntos, passando por cada um dos elementos d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ada dupla escolherá seu tema ou área de atuação para o plan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3610-5D8F-4AE4-8EFA-0041876EF03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5292720" y="3860640"/>
            <a:ext cx="33116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Vamos elaborar um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8360" y="1267920"/>
            <a:ext cx="8370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4232-37D8-4F38-A1DD-9817F918A4E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Elaboração de plano de  orientaçõe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1196640"/>
            <a:ext cx="837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lementos de um plano de orientaçã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que abordar (o tem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Como abordar (metodologia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participa (público-alv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Recursos disponíveis (materiais de apoio audiovisual, folhetos, cartilhas, meios de divulgação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Quem irá realizar e on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uração da atividade em si e por quanto temp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cerias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brangência (individual, grupal, coletiva – uma comunidade, um distrito, um país)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AFE6-4650-4C27-B708-3A82F167DBC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18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ordenação com os integrantes da equipa d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844280"/>
            <a:ext cx="838188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m plano de orientação em saúde deve ser coordenado com os integrantes da equipe de saúde, para proporcionar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nvolvimento de tod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Uma equipe multiprofissional terá diferentes olhares sobre um mesmo te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alorização por toda equipe terá maior impacto no ut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0DFD-4579-4863-89CC-390F3381A56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341000"/>
            <a:ext cx="4043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plano de orientação podem ser inseridos sujeitos da comunidade que já exercem algum trabalho dessa natureza ou representem um canal de comunicação com a população (líderes comunitários, rádios locais, por exempl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0C98-FD9C-4421-8550-2501611F0ED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cpadnews.com.br/uploads/20101209/266x220-20101209111553-biblia-audio.jpg"/>
          <p:cNvPicPr/>
          <p:nvPr/>
        </p:nvPicPr>
        <p:blipFill>
          <a:blip r:embed="rId1"/>
          <a:stretch/>
        </p:blipFill>
        <p:spPr>
          <a:xfrm>
            <a:off x="4643280" y="1606680"/>
            <a:ext cx="4292640" cy="3566880"/>
          </a:xfrm>
          <a:prstGeom prst="rect">
            <a:avLst/>
          </a:prstGeom>
          <a:ln w="0">
            <a:noFill/>
          </a:ln>
        </p:spPr>
      </p:pic>
      <p:sp>
        <p:nvSpPr>
          <p:cNvPr id="110" name="CaixaDeTexto 6"/>
          <p:cNvSpPr/>
          <p:nvPr/>
        </p:nvSpPr>
        <p:spPr>
          <a:xfrm>
            <a:off x="622764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ádi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metodologia também pode contar com o apoio de pessoas da comunidade com algum dom artístico, como música, teatro de ru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roveitar as forças locais é muito posi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0D73-CA37-4FF4-8293-3E25F6F61B5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http://oglobo.globo.com/fotos/2009/06/29/29_MHG_rshow_teatro3.jpg"/>
          <p:cNvPicPr/>
          <p:nvPr/>
        </p:nvPicPr>
        <p:blipFill>
          <a:blip r:embed="rId1"/>
          <a:stretch/>
        </p:blipFill>
        <p:spPr>
          <a:xfrm>
            <a:off x="468360" y="2781360"/>
            <a:ext cx="5591160" cy="3575160"/>
          </a:xfrm>
          <a:prstGeom prst="rect">
            <a:avLst/>
          </a:prstGeom>
          <a:ln w="0">
            <a:noFill/>
          </a:ln>
        </p:spPr>
      </p:pic>
      <p:sp>
        <p:nvSpPr>
          <p:cNvPr id="116" name="CaixaDeTexto 6"/>
          <p:cNvSpPr/>
          <p:nvPr/>
        </p:nvSpPr>
        <p:spPr>
          <a:xfrm>
            <a:off x="6300720" y="3716280"/>
            <a:ext cx="259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 teatro tem elevado impacto no processo de educação em saú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34136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49B2-9EE5-4E32-BC89-24555798E9F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ixaDeTexto 5"/>
          <p:cNvSpPr/>
          <p:nvPr/>
        </p:nvSpPr>
        <p:spPr>
          <a:xfrm>
            <a:off x="1258920" y="4581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Igre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ixaDeTexto 6"/>
          <p:cNvSpPr/>
          <p:nvPr/>
        </p:nvSpPr>
        <p:spPr>
          <a:xfrm>
            <a:off x="6156360" y="551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Praç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117360" y="-676440"/>
            <a:ext cx="18385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http://homedanoiva.com/images/stories/igreja.jpg"/>
          <p:cNvPicPr/>
          <p:nvPr/>
        </p:nvPicPr>
        <p:blipFill>
          <a:blip r:embed="rId1"/>
          <a:stretch/>
        </p:blipFill>
        <p:spPr>
          <a:xfrm>
            <a:off x="539640" y="1916280"/>
            <a:ext cx="3521160" cy="2638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http://blogs.estadao.com.br/marcos-guterman/files/2009/08/africa.jpg"/>
          <p:cNvPicPr/>
          <p:nvPr/>
        </p:nvPicPr>
        <p:blipFill>
          <a:blip r:embed="rId2"/>
          <a:stretch/>
        </p:blipFill>
        <p:spPr>
          <a:xfrm>
            <a:off x="4356000" y="2133720"/>
            <a:ext cx="44481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981C-5CD6-4A3F-9C13-D9E0D825D9A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68000" y="1341360"/>
            <a:ext cx="83818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bientes comunitários podem ser utilizad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CaixaDeTexto 8"/>
          <p:cNvSpPr/>
          <p:nvPr/>
        </p:nvSpPr>
        <p:spPr>
          <a:xfrm>
            <a:off x="1258920" y="5661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Esco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9"/>
          <p:cNvSpPr/>
          <p:nvPr/>
        </p:nvSpPr>
        <p:spPr>
          <a:xfrm>
            <a:off x="507672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entros comunit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cpadnews.com.br/uploads/20101108/266x220-20101108162835-1.jpg"/>
          <p:cNvPicPr/>
          <p:nvPr/>
        </p:nvPicPr>
        <p:blipFill>
          <a:blip r:embed="rId1"/>
          <a:stretch/>
        </p:blipFill>
        <p:spPr>
          <a:xfrm>
            <a:off x="395280" y="2349360"/>
            <a:ext cx="4073400" cy="3383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4.bp.blogspot.com/_JgaNMaFgYAY/TOLMGyPgy4I/AAAAAAAAEnw/8U42miH2IoU/s1600/Caravana%2Bda%2BCidadania.jpg"/>
          <p:cNvPicPr/>
          <p:nvPr/>
        </p:nvPicPr>
        <p:blipFill>
          <a:blip r:embed="rId2"/>
          <a:stretch/>
        </p:blipFill>
        <p:spPr>
          <a:xfrm>
            <a:off x="4572000" y="2421000"/>
            <a:ext cx="429588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articipação de outros setores da socie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8000" y="1557360"/>
            <a:ext cx="838188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Grupos pré-existentes devem ser convidados como apoi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mães que amamenta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vivendo com HIV/si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pessoas em tratamento para tuberculos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Grupos de jovens de diferentes igrej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volver os setores de educação, trabalho e ação social como parceir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CC81-3F68-448E-A961-F84EB4AFAE5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476280"/>
            <a:ext cx="7467840" cy="1257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os pares vamos elaborar um plano de orientação em saúde.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D3BE-9434-4A89-AD1F-C899648E34D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2.bp.blogspot.com/_W-4qil_rSm0/TEv1Wt9i_wI/AAAAAAAAAfI/1-AVdzmdd6o/s1600/inset+day.gif"/>
          <p:cNvPicPr/>
          <p:nvPr/>
        </p:nvPicPr>
        <p:blipFill>
          <a:blip r:embed="rId1"/>
          <a:stretch/>
        </p:blipFill>
        <p:spPr>
          <a:xfrm>
            <a:off x="2340000" y="2421000"/>
            <a:ext cx="51116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5:19:08Z</dcterms:created>
  <dc:creator>Escolastica</dc:creator>
  <dc:description/>
  <dc:language>en-US</dc:language>
  <cp:lastModifiedBy>PC-6</cp:lastModifiedBy>
  <dcterms:modified xsi:type="dcterms:W3CDTF">2014-04-17T21:33:41Z</dcterms:modified>
  <cp:revision>16</cp:revision>
  <dc:subject/>
  <dc:title>Slide 1</dc:title>
</cp:coreProperties>
</file>