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9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8745-64EC-4396-98E5-A20FDEB4E77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4F18-D6C1-4967-BE8E-872670C10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2CE97-B6B4-45DF-A92B-1D982217F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D9B63-2B4F-4CBA-8728-C62107F532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77DEB-43FA-4E9B-919D-66F2D39421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2BAFA-4266-4991-B70B-9B287E661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A00BE-AA77-42C9-BE62-D640B631E1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02F0-C6CF-4395-B309-433D49BA6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75255-7F03-49B7-8945-77949B9FA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5439D-2BF1-4613-AE9A-F33D118DA9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7AB7-5493-422A-8C2D-067A21A74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FE982-058E-4DF7-A87D-19555DC21D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4371-94D8-4534-9EF2-B2940CDC7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A0ED-2783-4CA2-9DBB-39D9EE263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F815-7AAF-4350-A0CA-8F02DB0C2C3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826920" y="184464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fpa.br/dicas/treina.htm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58920" y="4508280"/>
            <a:ext cx="693432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Módulo 8: Prática de Enfermagem I – Promoção da Saúde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Rectangle 2067"/>
          <p:cNvSpPr/>
          <p:nvPr/>
        </p:nvSpPr>
        <p:spPr>
          <a:xfrm>
            <a:off x="2771640" y="1773360"/>
            <a:ext cx="637236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68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619280" y="2139840"/>
            <a:ext cx="619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Verdana"/>
              </a:rPr>
              <a:t>Conceito, formas e ciclo da violência e mitos que a legitimam; impacto na saúde de mulheres e crianç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spaço Reservado para Rodapé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psicológ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0920" y="981000"/>
            <a:ext cx="8588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Formas de violência psicológica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obilização emocional da vítima para satisfazer a necessidade de atenção, carinho e de importância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gressão dissimulada, em que o agressor tenta fazer com que a vítima se sinta inferior, dependente e culpad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itude de oposição e aversão também é um caso de violência psicológica, em que o agressor toma certas atitudes com o intuito de provocar ou menosprezar a vítim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meaça de mort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3227-AFEC-44D4-AD8D-F18F4C2C1B3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t3.gstatic.com/images?q=tbn:ANd9GcRzEL0-LU_yjULIaVRzfeyjLDFmBQMmoIxXZYDNq4hKqmlRu_vq"/>
          <p:cNvPicPr/>
          <p:nvPr/>
        </p:nvPicPr>
        <p:blipFill>
          <a:blip r:embed="rId1"/>
          <a:stretch/>
        </p:blipFill>
        <p:spPr>
          <a:xfrm>
            <a:off x="5148360" y="4941720"/>
            <a:ext cx="196524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psicológ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oçambique a violência psicológica é tida como a que mais ocorre no país, uma vez que antes da ocorrência da violência física e sexual, ocorre antes a violência psicológic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5A10-BDE5-4B92-8E9A-75EC311CBFD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http://t3.gstatic.com/images?q=tbn:ANd9GcTu_XPlftMS4is-lt4kGJYCUam8NOLinzdMHLJuTylbtJ6p0vjL"/>
          <p:cNvPicPr/>
          <p:nvPr/>
        </p:nvPicPr>
        <p:blipFill>
          <a:blip r:embed="rId1"/>
          <a:stretch/>
        </p:blipFill>
        <p:spPr>
          <a:xfrm rot="1729200">
            <a:off x="2512800" y="2957400"/>
            <a:ext cx="18810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verb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verbal não é uma forma de violência psicológica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rmalmente é utilizada para incomodar a vida das outras pesso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 ser feita por meio do silêncio, que muitas vezes é muito mais violento que os métodos utilizados habitualmente, como as ofensas morais (insultos), depreciações e os questionários infindávei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087F-6932-443F-8D9C-05D44F4EC5C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http://t3.gstatic.com/images?q=tbn:ANd9GcQAqgN-R1EjEHwA9kenZL7kpDKexzPaG_Gd1WtDlgP6Gh8Ngf4Y7w"/>
          <p:cNvPicPr/>
          <p:nvPr/>
        </p:nvPicPr>
        <p:blipFill>
          <a:blip r:embed="rId1"/>
          <a:stretch/>
        </p:blipFill>
        <p:spPr>
          <a:xfrm>
            <a:off x="5364000" y="4343400"/>
            <a:ext cx="194472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sexual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1143000"/>
            <a:ext cx="864072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na qual o agressor abusa do poder que tem sobre a vítima para obter gratificação sexual, sendo esta induzida ou obrigada a práticas sexu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sexual engloba o medo, a vergonha e a culpa sentidos pela vítima, mesmo naquelas que denunciam o agresso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principal forma de violência sexual em Moçambique é o estupro, assedio sexual, sucessor do falecido. </a:t>
            </a:r>
            <a:br>
              <a:rPr sz="24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7CCDC-E1B9-4220-A871-17FB959C277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http://t2.gstatic.com/images?q=tbn:ANd9GcSZlNbaseZNbhUywf4iSnXSsBSP7FhfOYUtpLxcQ-OWt9b9YQz8"/>
          <p:cNvPicPr/>
          <p:nvPr/>
        </p:nvPicPr>
        <p:blipFill>
          <a:blip r:embed="rId1"/>
          <a:stretch/>
        </p:blipFill>
        <p:spPr>
          <a:xfrm>
            <a:off x="4572000" y="4292640"/>
            <a:ext cx="1933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Neglig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8000" y="1844280"/>
            <a:ext cx="838188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negligência é o acto de omissão do responsável pela criança, idoso ou pessoa dependente, em proporcionar as necessidades básicas necessárias para a sua sobrevivência e desenvolvim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s danos causados pela negligência podem ser permanentes e grav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5104-710E-47C5-B84F-C6045C1FF065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http://t2.gstatic.com/images?q=tbn:ANd9GcSAdzTRXpfjYfJbRweBMv88exw6R3bM5k3I2CfhYmEAMyu5sGqWFg"/>
          <p:cNvPicPr/>
          <p:nvPr/>
        </p:nvPicPr>
        <p:blipFill>
          <a:blip r:embed="rId1"/>
          <a:stretch/>
        </p:blipFill>
        <p:spPr>
          <a:xfrm>
            <a:off x="4788000" y="3933720"/>
            <a:ext cx="2255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unciona como um sistema circular – o chamado ciclo da violência, que apresenta, em geral, três fase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7C11-589B-4618-AB56-38DEF3D23CF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cnho.files.wordpress.com/2010/12/ciclo.gif"/>
          <p:cNvPicPr/>
          <p:nvPr/>
        </p:nvPicPr>
        <p:blipFill>
          <a:blip r:embed="rId1"/>
          <a:stretch/>
        </p:blipFill>
        <p:spPr>
          <a:xfrm>
            <a:off x="2771640" y="2133720"/>
            <a:ext cx="3238560" cy="3381120"/>
          </a:xfrm>
          <a:prstGeom prst="rect">
            <a:avLst/>
          </a:prstGeom>
          <a:ln w="0">
            <a:noFill/>
          </a:ln>
        </p:spPr>
      </p:pic>
      <p:sp>
        <p:nvSpPr>
          <p:cNvPr id="165" name="Retângulo de cantos arredondados 15"/>
          <p:cNvSpPr/>
          <p:nvPr/>
        </p:nvSpPr>
        <p:spPr>
          <a:xfrm>
            <a:off x="755640" y="3284640"/>
            <a:ext cx="2498760" cy="914400"/>
          </a:xfrm>
          <a:prstGeom prst="roundRect">
            <a:avLst>
              <a:gd name="adj" fmla="val 16667"/>
            </a:avLst>
          </a:prstGeom>
          <a:solidFill>
            <a:srgbClr val="007e3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2. Fase do ataque vio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tângulo de cantos arredondados 16"/>
          <p:cNvSpPr/>
          <p:nvPr/>
        </p:nvSpPr>
        <p:spPr>
          <a:xfrm>
            <a:off x="5219640" y="263700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de aumento da 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tângulo de cantos arredondados 17"/>
          <p:cNvSpPr/>
          <p:nvPr/>
        </p:nvSpPr>
        <p:spPr>
          <a:xfrm>
            <a:off x="4716360" y="5013360"/>
            <a:ext cx="3672000" cy="792000"/>
          </a:xfrm>
          <a:prstGeom prst="roundRect">
            <a:avLst>
              <a:gd name="adj" fmla="val 16667"/>
            </a:avLst>
          </a:prstGeom>
          <a:solidFill>
            <a:srgbClr val="181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3. Fase do apaziguamento ou da lua-de-m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1)Fase de aumento da tensão: as tensões quotidianas acumuladas pelo agressor criam um ambiente de perigo iminente para a vítima, que é, muitas vezes, culpabilizada por tais tensõ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Sob qualquer pretexto o agressor direcciona todas as suas tensões sobre a vítima: são usualmente situações do quotidiano, como acusar a vítima de não ter cozinhado ou cozinhado com sal a mais, de ter chegado tarde em casa ou de ter amantes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4F80-685F-4D72-BFC5-ECAD3F96EC9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cnho.files.wordpress.com/2010/12/ciclo.gif"/>
          <p:cNvPicPr/>
          <p:nvPr/>
        </p:nvPicPr>
        <p:blipFill>
          <a:blip r:embed="rId1"/>
          <a:stretch/>
        </p:blipFill>
        <p:spPr>
          <a:xfrm>
            <a:off x="4500720" y="4076640"/>
            <a:ext cx="2230200" cy="2328840"/>
          </a:xfrm>
          <a:prstGeom prst="rect">
            <a:avLst/>
          </a:prstGeom>
          <a:ln w="0">
            <a:noFill/>
          </a:ln>
        </p:spPr>
      </p:pic>
      <p:sp>
        <p:nvSpPr>
          <p:cNvPr id="173" name="Retângulo de cantos arredondados 8"/>
          <p:cNvSpPr/>
          <p:nvPr/>
        </p:nvSpPr>
        <p:spPr>
          <a:xfrm>
            <a:off x="6156360" y="4149720"/>
            <a:ext cx="2808360" cy="792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Fase de aumento da tens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2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Fase do ataque violento: o agressor maltrata, física e psicologicamente a vítima, que procura defender-se, esperando que o agressor pare e não avance com mais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Este ataque pode ser de grande intensidade, podendo a vítima, por vezes, ficar em estado grave, necessitando de atendimento ao qual o agressor nem sempre lhe dá acesso imediat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B124-EDAC-496E-B6B0-A1DFC37FE516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http://cnho.files.wordpress.com/2010/12/ciclo.gif"/>
          <p:cNvPicPr/>
          <p:nvPr/>
        </p:nvPicPr>
        <p:blipFill>
          <a:blip r:embed="rId1"/>
          <a:stretch/>
        </p:blipFill>
        <p:spPr>
          <a:xfrm>
            <a:off x="4494240" y="3645000"/>
            <a:ext cx="2523960" cy="263520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de cantos arredondados 6"/>
          <p:cNvSpPr/>
          <p:nvPr/>
        </p:nvSpPr>
        <p:spPr>
          <a:xfrm>
            <a:off x="2484360" y="4437000"/>
            <a:ext cx="2497320" cy="914400"/>
          </a:xfrm>
          <a:prstGeom prst="roundRect">
            <a:avLst>
              <a:gd name="adj" fmla="val 16667"/>
            </a:avLst>
          </a:prstGeom>
          <a:solidFill>
            <a:srgbClr val="007e3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2. Fase do ataque vio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9810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3</a:t>
            </a:r>
            <a:r>
              <a:rPr b="0" i="1" lang="pt-BR" sz="2400" spc="-1" strike="noStrike">
                <a:solidFill>
                  <a:srgbClr val="000066"/>
                </a:solidFill>
                <a:latin typeface="Verdana"/>
              </a:rPr>
              <a:t>.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Fase do apaziguamento ou da lua-de-mel: o agressor, depois da tensão ter sido direccionada sobre a vítima, manifesta-lhe arrependimento e promete que não vai voltar a ser violent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presenta motivos para que a vítima desculpe a violência, como: ter corrido mal o dia, ter consumido álcool ou outras drogas e até relatar algum comportamento da vítima como motivo para seu descontrolo.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Para reforçar o pedido de desculpas pode tratar a vítima com delicadeza e tentar seduzi-la, fazendo-a acreditar que, de facto, foi essa a última vez que se descontrolou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A5B2-F8B7-4B20-A047-A0EB13E8EFA2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http://cnho.files.wordpress.com/2010/12/ciclo.gif"/>
          <p:cNvPicPr/>
          <p:nvPr/>
        </p:nvPicPr>
        <p:blipFill>
          <a:blip r:embed="rId1"/>
          <a:stretch/>
        </p:blipFill>
        <p:spPr>
          <a:xfrm rot="17994000">
            <a:off x="3761280" y="4667760"/>
            <a:ext cx="1673280" cy="1747800"/>
          </a:xfrm>
          <a:prstGeom prst="rect">
            <a:avLst/>
          </a:prstGeom>
          <a:ln w="0">
            <a:noFill/>
          </a:ln>
        </p:spPr>
      </p:pic>
      <p:sp>
        <p:nvSpPr>
          <p:cNvPr id="185" name="Retângulo de cantos arredondados 6"/>
          <p:cNvSpPr/>
          <p:nvPr/>
        </p:nvSpPr>
        <p:spPr>
          <a:xfrm>
            <a:off x="5292720" y="5445000"/>
            <a:ext cx="3672000" cy="792360"/>
          </a:xfrm>
          <a:prstGeom prst="roundRect">
            <a:avLst>
              <a:gd name="adj" fmla="val 16667"/>
            </a:avLst>
          </a:prstGeom>
          <a:solidFill>
            <a:srgbClr val="1818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  <a:ea typeface="Arial"/>
              </a:rPr>
              <a:t>3. Fase do apaziguamento ou da lua-de-m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iclo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907920"/>
            <a:ext cx="8597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ste ciclo é vivido pela vítima numa constante de medo, esperança e amor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Medo, em virtude da violência de que é alvo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Esperança, porque acredita no arrependimento e nos pedidos de desculpa que têm lugar depois da violência; 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Verdana"/>
              </a:rPr>
              <a:t>Amor, porque apesar da violência, podem existir momentos positivos no relacionamento.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O ciclo da violência caracteriza-se pela continuidade no tempo, isto é, pela repetição sucessiva ao longo de meses ou anos, podendo ser cada vez menores as fases da tensão e de apaziguamento e cada vez maior e mais intensa a fase do ataque violent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situações limite, o culminar destes episódios poderá ser o homicídi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AD2E-F364-4C78-B9DD-D9EFE20C9373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ver em um mundo no qual as pessoas são vistas como detentoras de direitos é uma grande conquist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urante séculos, milhões de seres humanos, nos mais diversos lugares do mundo, foram reduzidos à condição de escravos e submetidos aos tratamentos mais cruéis e degradantes que podemos imaginar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té bem pouco tempo, a violência contra a mulher e o abuso sexual de crianças despertavam apenas indignação moral. Hoje acarretam punições jurídic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513D-B8C0-48EB-B63C-A51C7C96E5E9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Mitos que legitimam a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9640" y="1484280"/>
            <a:ext cx="8382240" cy="37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muitos os mitos acerca da violência, podendo, assim, constituirem-se em um verdadeiro obstáculo a qualquer tipo de intervenção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ta forma, o profissional de saúde tem um papel fundamental na desmistificação de alguns mitos e preconceitos junto dos seus utentes, contribuindo de forma activa para reduzir a violênc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7D3C-152E-4AC6-8163-39A3F8F74C0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340A-82F8-425F-8264-38A7E2A1B72D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95280" y="1125360"/>
          <a:ext cx="8569440" cy="4937400"/>
        </p:xfrm>
        <a:graphic>
          <a:graphicData uri="http://schemas.openxmlformats.org/drawingml/2006/table">
            <a:tbl>
              <a:tblPr/>
              <a:tblGrid>
                <a:gridCol w="3397320"/>
                <a:gridCol w="5172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 álcool e outras drogas fazem com que as pessoas se tornem violen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substâncias químicas não são a causa da violência, mas podem potenciá-la porque têm efeito desinibido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91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 homens que batem nas mulheres são doentes ment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 agressores são pessoas “normais”. No entanto, a forma como se comportam nas relações interpessoais pode revelar uma estrutura de personalidade que predispõe à violê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iolência doméstica é um problema que n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fecta muitas mulher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estatísticas internacionais indicam que existem entre 30% e 40% de mulheres vítimas dos seus companheiros ou marid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E20B-95C5-4ACE-9CE1-3A157CB54EA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197000"/>
          <a:ext cx="8496360" cy="4937040"/>
        </p:xfrm>
        <a:graphic>
          <a:graphicData uri="http://schemas.openxmlformats.org/drawingml/2006/table">
            <a:tbl>
              <a:tblPr/>
              <a:tblGrid>
                <a:gridCol w="3456000"/>
                <a:gridCol w="504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iolência apenas existe em famílias de baix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ível socioeconômic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vítimas provêm de todos os estratos sociais, de todas as idades, raças e credos religiosos, sendo 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nómeno de carácter univers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ressão é apenas uma perda momentânea 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zão por parte da pessoa que agrid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quer tipo de violência, de uma pessoa sobre outra, é crime, independente da sua frequê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u intensidade. O agressor age com o objectivo de manter o controlo sobre a vítim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mulher não pode sair de casa porque per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reitos e pode ficar sem os filho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mulher tem o direito e a responsabilidade de proteger-se a si e aos seus filhos, devendo no enta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ar as autoridades judici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8914-80DD-496C-913C-7A77A0B3E73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95280" y="1413000"/>
          <a:ext cx="8569440" cy="4449600"/>
        </p:xfrm>
        <a:graphic>
          <a:graphicData uri="http://schemas.openxmlformats.org/drawingml/2006/table">
            <a:tbl>
              <a:tblPr/>
              <a:tblGrid>
                <a:gridCol w="2376360"/>
                <a:gridCol w="61930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0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vítima é responsável pela violência porque a provoc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inguém pede para ser agredido e ninguém merece sofrer agressão, independente, daquilo que diga ou faça. Ninguém deseja que o cônjuge seja abusivo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mulheres cujo segundo ou terceiro parceiro são agressores, muitas vezes são tidas pelo outros como culpadas pela violência – “deve ser algo com ela”. Na verdade, o agressor usa a táctica do charme no início do relacionamento a fim de descobrir que ela já foi vítima de abus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ão usa essa informação para culpá-la pela violênci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9FD7-7FF9-4C8C-9EB4-FB3FD086657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395280" y="1052640"/>
          <a:ext cx="8496360" cy="5059080"/>
        </p:xfrm>
        <a:graphic>
          <a:graphicData uri="http://schemas.openxmlformats.org/drawingml/2006/table">
            <a:tbl>
              <a:tblPr/>
              <a:tblGrid>
                <a:gridCol w="2592360"/>
                <a:gridCol w="5904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6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mulheres vítimas de violência doméstica só 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ão porque não saem de casa e até devem gos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 apanh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lheres sobreviventes de violência canalizam as energias, diariamente, a tentar sobreviver e a evitar serem mor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ão vários os factores que as impedem de desenvolverem estratégias para acabar com a violência, nomeadamente a dependência emocional (muitas vezes associadas a técnicas de controlo do agressor) e financeira, poucas opções viáveis de acomodação e apoio, resposta inadequada do sistema judiciário criminal ou de outros serviços, isolamento social, impedimentos culturais ou religiosos, o medo de sofrer ainda mais violência e o facto de terem filhos em comu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: mitos e realida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A978A-8767-4770-9BBF-A7837019555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39640" y="1268280"/>
          <a:ext cx="8353440" cy="3230640"/>
        </p:xfrm>
        <a:graphic>
          <a:graphicData uri="http://schemas.openxmlformats.org/drawingml/2006/table">
            <a:tbl>
              <a:tblPr/>
              <a:tblGrid>
                <a:gridCol w="2303640"/>
                <a:gridCol w="6049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eali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83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m homem pode ser agressor e um bom pai ao mesmo temp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qualidade da interacção do pai com o filho deve ser avaliada numa situação de violênci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á evidência científica que só pelo facto de as crianças estarem expostas a situações de violência é possível observar o impacto dessas vivências através de alterações comportamentais, emocionais e psicológicas das crianças (vitimação indirecta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vivência num ambiente de violência, onde os protagonistas são as figuras de apego (pais, por exemplo), desenvolve nas crianças a concepção de um mundo imprevisível, inseguro e assustador, podendo promover a manifestação de sintomas de ansiedade, de evitamento e/ou agressividade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A gravidade deste impacto depende do nível de desenvolvimento da criança, severidade da violência presenciada, proximidade quer ao ambiente físico quer à vítima e características individuais de cada criança (SANI, 1999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F753-A278-4740-86D9-0E594E510181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8000" y="1628640"/>
            <a:ext cx="8381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estudos revelam que os homens que agridem a companheira fisicamente também abusam fisicamente dos filhos em 40 a 75% dos caso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Os agressores, muitas vezes demonstram acentuado interesse pelos filhos quando da separação como um meio de manter o contacto, e assim controlar o cônjuge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0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D417-FED8-4A3A-B4A3-FDDE5B62C36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000" y="1699920"/>
            <a:ext cx="838188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experiência das mulheres violentadas implica um conjunto de sentimentos relacionados com a violência, que vão desde a confusão sobre o que provoca a violência, até sentimentos de desespero sobre a possibilidade de parar com a mesma, sentimentos de isolamento e depressão por estarem sob o controle violento dos seus maridos. Por vezes, algumas mulheres consideram o suicídio como uma opção para fugirem da violência” (Voices of the Poor, World Bank, 2000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4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6A38-5BF8-4D40-8FA4-31BFD126CB1A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68000" y="1844280"/>
            <a:ext cx="838188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Mulheres e crianças com reacções de Stress Pós-violência exibem grande variedade de sintomas físicos, psicológicos e emocionais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queixar-se do trauma físico propriamente dito (dor, mutilação);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dem desenvolver disfunções sexuais, doenças de transmissão sexual, dores crónicas e distúrbios funcionais, desordens gastro-intestinais, gravidezes não desejadas, aborto natural ou induzido, bem como o risco de contrair o HIV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28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436A-A534-44E4-BCE9-5ACE88F371DC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ntroduçã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9640" y="1557000"/>
            <a:ext cx="838224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bem verdade que o mundo continua sendo injusto, sobretudo com os mais vulneráveis, pois parte significativa da população sofre a falta de emprego, saúde, alimentação, água potável. Porém, pelo menos diante destes absurdos, hoje podemos dizer: isso não está direito!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 mais importante, podemos nos dirigir ao Estado como cidadãos e exigir que nossas demandas sejam atendidas, não como favor, mas como direito!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2158-BA64-4A47-82CB-3B043CFBDBC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Impacto da violência sobre a mulher e a crianç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8000" y="1773360"/>
            <a:ext cx="838188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sordens mentais depressivas, pânico, ansiedade generalizada, fobia, comportamento anti-social e outras desordens de personalidade, adesão ao uso de álcool e outras drogas, distúrbio do sono, anorexia, bulimia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criança, em particular, poderá ter perdas importantes no seu desenvolvimento psicomotor, afetivo e cognitivo, com prejuízos na escola e no relacionamento com outras crianç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F2FB-AF0C-45B0-BE3A-1C293CCE31FF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ceito de violência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Organização Mundial da Saúde (OMS) define violência com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 “</a:t>
            </a: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imposição de um grau significativo de dor e sofrimento evitáveis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rém, especialistas afirmam que o conceito é muito mais amplo e ambíguo do que essa mera constatação de que a violência é a imposição de dor, a agressão cometida por uma pessoa contra outra; mesmo porque a dor é um conceito muito difícil de ser definido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939C-F63D-4436-A7B8-5726D2B4A3E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ceito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9640" y="1412640"/>
            <a:ext cx="8382240" cy="444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é a “ação ou efeito de violentar, de empregar força física (contra alguém ou algo) ou intimidação moral contra (alguém); ato violento, crueldade, força”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No aspecto jurídico, o termo é definido como o “constrangimento físico ou moral exercido sobre alguém, para obrigá-lo a submeter-se à vontade de outrem; coação”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Verdana"/>
              </a:rPr>
              <a:t>(Dicionário Houaiss)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1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41C6-F632-41B1-BD92-73DA6B8846B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fichari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27400" y="3860640"/>
            <a:ext cx="12798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Conceito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0920" y="981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De acordo com a comunidade internacional de direitos humanos, a violência é compreendida como todas as violações dos direitos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ivis (vida, propriedade, liberdade de ir e vir, de consciência e de culto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Políticos (direito a votar e a ser votado, ter participação polític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ociais (habitação, saúde, educação, segurança);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conômicos (emprego e salário); e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Culturais (direito de manter e manifestar sua própria cultura)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6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F3CCC-E00D-4DA4-8083-92F935FBFE5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Formas de violênci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E8A6-1E3A-441A-83AF-D033C0BF53BB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lipse 5"/>
          <p:cNvSpPr/>
          <p:nvPr/>
        </p:nvSpPr>
        <p:spPr>
          <a:xfrm>
            <a:off x="1187280" y="1628640"/>
            <a:ext cx="3529080" cy="1440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ipse 6"/>
          <p:cNvSpPr/>
          <p:nvPr/>
        </p:nvSpPr>
        <p:spPr>
          <a:xfrm>
            <a:off x="1258920" y="3789360"/>
            <a:ext cx="3529080" cy="144000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sico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Elipse 7"/>
          <p:cNvSpPr/>
          <p:nvPr/>
        </p:nvSpPr>
        <p:spPr>
          <a:xfrm>
            <a:off x="5003640" y="3716280"/>
            <a:ext cx="3529080" cy="14414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egligênci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lipse 8"/>
          <p:cNvSpPr/>
          <p:nvPr/>
        </p:nvSpPr>
        <p:spPr>
          <a:xfrm>
            <a:off x="4932360" y="1700280"/>
            <a:ext cx="3527280" cy="1441440"/>
          </a:xfrm>
          <a:prstGeom prst="ellipse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fís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 violência física é o uso da força com o objectivo de ferir, deixando ou não marcas evidente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São comuns, murros, socos, mordidas e agressões com objectos diverso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Em Moçambique, as mais comuns são: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As ofensas corporais voluntárias simples (esbofetear, pontapear, morder ou esmurrar), outras ofensas qualificadas (espancamentos que resulte em sangramento).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9BB8-613B-4FF2-A2B0-C593999D6FEE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t3.gstatic.com/images?q=tbn:ANd9GcQGOHPjYgRHpToatDuIFgOHK6O5vKylrSLTY3OE-qQz-OIgLIYe"/>
          <p:cNvPicPr/>
          <p:nvPr/>
        </p:nvPicPr>
        <p:blipFill>
          <a:blip r:embed="rId1"/>
          <a:stretch/>
        </p:blipFill>
        <p:spPr>
          <a:xfrm>
            <a:off x="5724360" y="4508640"/>
            <a:ext cx="24004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Verdana"/>
              </a:rPr>
              <a:t>Violência psicológic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2640"/>
            <a:ext cx="838188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Violência psicológica ou agressão emocional, tão ou mais prejudicial que a física, é caracterizada pela rejeição, depreciação, discriminação, humilhação, desrespeito e punições exageradas.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É uma violência que não deixa marcas corporais visíveis, mas emocionalmente provoca cicatrizes para toda a vida.</a:t>
            </a:r>
            <a:br>
              <a:rPr sz="2400"/>
            </a:b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                   </a:t>
            </a:r>
            <a:br>
              <a:rPr sz="2400"/>
            </a:br>
            <a:r>
              <a:rPr b="1" lang="pt-BR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Espaço Reservado para Rodapé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  <a:ea typeface="Arial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ço Reservado para Número de Slide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E22D-BE66-4F93-9095-C7D25859BAA7}" type="slidenum">
              <a:rPr b="0" lang="pt-PT" sz="1200" spc="-1" strike="noStrike">
                <a:solidFill>
                  <a:srgbClr val="9999ff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http://t3.gstatic.com/images?q=tbn:ANd9GcTA5h1GQIGZhkrwxK-yvhJq-A5m-Mu-bVlb-Tt-Wa8SgPxVXbfy"/>
          <p:cNvPicPr/>
          <p:nvPr/>
        </p:nvPicPr>
        <p:blipFill>
          <a:blip r:embed="rId1"/>
          <a:stretch/>
        </p:blipFill>
        <p:spPr>
          <a:xfrm>
            <a:off x="4067280" y="3645000"/>
            <a:ext cx="259236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7:55:07Z</dcterms:created>
  <dc:creator>Escolastica</dc:creator>
  <dc:description/>
  <dc:language>en-US</dc:language>
  <cp:lastModifiedBy>PC-6</cp:lastModifiedBy>
  <dcterms:modified xsi:type="dcterms:W3CDTF">2014-04-21T05:47:27Z</dcterms:modified>
  <cp:revision>82</cp:revision>
  <dc:subject/>
  <dc:title>Slide 1</dc:title>
</cp:coreProperties>
</file>