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7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02F6-6414-42C2-970A-D6F41249C58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C218-7661-423C-A92A-DE6452A61D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1A87B-AF6F-429E-9CE2-8F456F28EF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73035-D2F6-4AD4-B9F4-1BD95AA94B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90764-DAE0-4F72-99E8-544B2000A8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1469F-A95C-4F0C-9D96-85D76A4BA0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E6C9F-11E6-45D5-9644-E6FD4F074B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0508B-B120-41A7-B45B-D5DC6CF6E7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D0448-5B17-4F82-86D5-7E4D8252CA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B9769-E3F3-42EF-9AC9-F7C6F1AB9E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547C6-8A9D-43F7-977D-374B9E3269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BD306-9699-4238-985F-0E61B836B6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20FAE-906C-4CE6-B1D4-6C8B9F73A3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6CA16-CC6F-44E8-99E8-4B37944B5E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E588-16E7-4508-94D0-4C110BE26038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826920" y="184464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1.bp.blogspot.com/-TxxVqjmP82Y/TXoaxhnumuI/AAAAAAAAAt8/76jf5NTPbps/s1600/justica+-+bla&#231;a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b23-cmdt-conceicao-silva.rcts.pt/janela_solucao1.htm" TargetMode="Externa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331640" y="4436640"/>
            <a:ext cx="693396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Módulo 8: Prática de Enfermagem I – Promoção da Saúd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Rectangle 2067"/>
          <p:cNvSpPr/>
          <p:nvPr/>
        </p:nvSpPr>
        <p:spPr>
          <a:xfrm>
            <a:off x="2771640" y="1773360"/>
            <a:ext cx="637236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68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1187280" y="2139840"/>
            <a:ext cx="756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Introdução: relação entre direitos humanos, género e cultura; direitos humanos em saúde; violência e violação dos direitos humanos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ço Reservado para Rodapé 6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ireitos humanos, cultura e géner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95280" y="1341000"/>
            <a:ext cx="5689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A igualdade de seres humanos não quer dizer igualdade física nem intelectual ou psicológic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Cada pessoa humana tem sua individualidade, personalidade, modo próprio de ver e senti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Assim, também, os grupos sociais têm sua </a:t>
            </a:r>
            <a:r>
              <a:rPr b="1" lang="pt-BR" sz="2400" spc="-1" strike="noStrike">
                <a:solidFill>
                  <a:srgbClr val="5b5b98"/>
                </a:solidFill>
                <a:latin typeface="Verdana"/>
              </a:rPr>
              <a:t>cultura própria</a:t>
            </a: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, que é resultado de condições naturais e soci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b5b98"/>
                </a:solidFill>
                <a:latin typeface="Verdana"/>
              </a:rPr>
              <a:t>Pessoas com Valor Igual, mas Indivíduos e Culturas Difere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EDF6-1E6C-461C-ABF3-AC093581753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http://t0.gstatic.com/images?q=tbn:ANd9GcQzb2Tz2dzCBf_mSINR2BpOwf95ObfQVMrr8ZPh3dP1eF8jlSKx"/>
          <p:cNvPicPr/>
          <p:nvPr/>
        </p:nvPicPr>
        <p:blipFill>
          <a:blip r:embed="rId1"/>
          <a:stretch/>
        </p:blipFill>
        <p:spPr>
          <a:xfrm>
            <a:off x="6227640" y="3716280"/>
            <a:ext cx="2225880" cy="2522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http://t3.gstatic.com/images?q=tbn:ANd9GcS4CZA0Vcyb8fqVj4gvPC0YIdT6tZsCTKDSL_YOpWP2PlavZOs6"/>
          <p:cNvPicPr/>
          <p:nvPr/>
        </p:nvPicPr>
        <p:blipFill>
          <a:blip r:embed="rId2"/>
          <a:stretch/>
        </p:blipFill>
        <p:spPr>
          <a:xfrm>
            <a:off x="5651640" y="1360440"/>
            <a:ext cx="33382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 que é cultur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39640" y="980640"/>
            <a:ext cx="8382240" cy="29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b98"/>
                </a:solidFill>
                <a:latin typeface="Verdana"/>
              </a:rPr>
              <a:t>É o conjunto de fenômenos materiais e ideológicos que caracterizam um grupo étnico ou uma nação (língua, costumes, rituais, culinária, vestuário, religião), estando em permanente processo de mudanç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A0D4-8525-43F7-BA1C-73D60A3AA441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http://t3.gstatic.com/images?q=tbn:ANd9GcS4CZA0Vcyb8fqVj4gvPC0YIdT6tZsCTKDSL_YOpWP2PlavZOs6"/>
          <p:cNvPicPr/>
          <p:nvPr/>
        </p:nvPicPr>
        <p:blipFill>
          <a:blip r:embed="rId1"/>
          <a:stretch/>
        </p:blipFill>
        <p:spPr>
          <a:xfrm>
            <a:off x="3419640" y="3429000"/>
            <a:ext cx="432108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ireitos humanos, cultura e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3640" y="1341000"/>
            <a:ext cx="48956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Em vários países existem inúmeros agentes sociais de saúde, que ainda não tem status enquanto tal. São raizeiros, rezadeiras, parteiras e outr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As tradições, identidade, língua, religiosidade e patrimônio dos povos são bens culturais que afetam sua saú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D77C4-6D73-406E-82B5-57DC6A7315A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C:\Users\Escolastica\Documents\Mocambique GERAL\Fotos mocambique social jan 2008\P1030007.JPG"/>
          <p:cNvPicPr/>
          <p:nvPr/>
        </p:nvPicPr>
        <p:blipFill>
          <a:blip r:embed="rId1"/>
          <a:stretch/>
        </p:blipFill>
        <p:spPr>
          <a:xfrm>
            <a:off x="5364000" y="1341360"/>
            <a:ext cx="3614760" cy="4819680"/>
          </a:xfrm>
          <a:prstGeom prst="rect">
            <a:avLst/>
          </a:prstGeom>
          <a:ln w="0">
            <a:noFill/>
          </a:ln>
        </p:spPr>
      </p:pic>
      <p:sp>
        <p:nvSpPr>
          <p:cNvPr id="154" name="Retângulo de cantos arredondados 7"/>
          <p:cNvSpPr/>
          <p:nvPr/>
        </p:nvSpPr>
        <p:spPr>
          <a:xfrm>
            <a:off x="324000" y="5589720"/>
            <a:ext cx="4535280" cy="7920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Raizeiro ensinando o tratamento de verminoses – Mercado de Mapu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Conector angulado 9"/>
          <p:cNvCxnSpPr/>
          <p:nvPr/>
        </p:nvCxnSpPr>
        <p:spPr>
          <a:xfrm flipV="1">
            <a:off x="4284360" y="5084280"/>
            <a:ext cx="935640" cy="4327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ireitos humanos, cultura e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1413000"/>
            <a:ext cx="85150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O movimento negro tem levantado a importância da cultura das religiões de matriz africana na saú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Apresenta que os terreiros de Candomblé, além das atividades religiosas funcionam como centros de saúde, que trata doenças físicas e mentais e fornecem suporte social para as comunidad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As ações terapêuticas são muitas, baseadas em procedimentos naturais com o objetivo de eliminar a origem dos transtorn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5BE5-8BCC-4D17-A47A-18550AA1A4E5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ireitos humanos, cultura e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142640"/>
            <a:ext cx="838188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O terreiro é o lugar do Axé, da tradição, da cosmovisão Africana e o lugar que mantém viva esta cosmovisã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A doença é provocada pelo enfraquecimento do Axé (cosmos) que está incorporado no homem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b5b98"/>
                </a:solidFill>
                <a:latin typeface="Verdana"/>
              </a:rPr>
              <a:t>Essa cosmovisão inclui a relação com a ancestralidade e com o Axé, como forma de entender a saúde e as manifestações das doenças e que considera a saúde não apenas como um estado de ausência de doenças, mas resultado de trocas interativas com as diversas dimensões da existência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O movimento reivindica que se reconheça a diferença étnica e a inclusão dos terreiros na rota da saú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DF06-BD19-4F7E-BC86-362F817FCE02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 que é géner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68000" y="112536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b98"/>
                </a:solidFill>
                <a:latin typeface="Verdana"/>
                <a:ea typeface="Arial"/>
              </a:rPr>
              <a:t>O termo gênero começou a ser utilizado por teóricos e estudiosos de mulheres e do feminismo, no final da década de 70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b98"/>
                </a:solidFill>
                <a:latin typeface="Verdana"/>
                <a:ea typeface="Arial"/>
              </a:rPr>
              <a:t>Naquele momento, o movimento feminista ressurgia com força em todo o mundo, provavelmente por influência da onda revolucionária que percorrera a Europa, a China, a América Latina e EUA, no final da década de 60, com os grandes movimentos estudantis e a contestação dos papéis e comportamentos sexuai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DDB3-F995-4FC6-8377-51B85EE89F62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Sexo versus géner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Espaço Reservado para Conteúdo 11"/>
          <p:cNvSpPr/>
          <p:nvPr/>
        </p:nvSpPr>
        <p:spPr>
          <a:xfrm>
            <a:off x="468360" y="1125360"/>
            <a:ext cx="838188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d5dae"/>
                </a:solidFill>
                <a:latin typeface="Verdana"/>
                <a:ea typeface="Arial"/>
              </a:rPr>
              <a:t>Sexo: Diferenças anátomo-fisiológicas existentes entre os homens e as mulhe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d5dae"/>
                </a:solidFill>
                <a:latin typeface="Verdana"/>
                <a:ea typeface="Arial"/>
              </a:rPr>
              <a:t>É um conceito bioló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d5dae"/>
                </a:solidFill>
                <a:latin typeface="Verdana"/>
                <a:ea typeface="Arial"/>
              </a:rPr>
              <a:t>Gênero:É o conjunto de características sociais, culturais, políticas, psicológicas, jurídicas e econômicas atribuídas às pessoas de forma diferenciada de acordo com o sex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d5dae"/>
                </a:solidFill>
                <a:latin typeface="Verdana"/>
                <a:ea typeface="Arial"/>
              </a:rPr>
              <a:t>As características de gênero são construções sócio-culturais que variam através da história e se referem aos papéis psicológicos e culturais que a sociedade atribui a cada um do que considera “masculino” ou “feminino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d5dae"/>
                </a:solidFill>
                <a:latin typeface="Verdana"/>
                <a:ea typeface="Arial"/>
              </a:rPr>
              <a:t>É um conceito soc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79616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ireitos humanos, género e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11280" y="1483920"/>
            <a:ext cx="4897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b98"/>
                </a:solidFill>
                <a:latin typeface="Verdana"/>
              </a:rPr>
              <a:t>Trabalhar a questão de Direitos Humanos e Saúde implica em incorporar em nossas análises as diferenças biológicas e desigualdades sociais oriundas da opressão de género, racial/étnica e de inserção das classes sociai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2" name="Espaço Reservado para Rodapé 2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49C1-2AEE-40A8-8A19-7F650E8B75CB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http://t0.gstatic.com/images?q=tbn:ANd9GcQzb2Tz2dzCBf_mSINR2BpOwf95ObfQVMrr8ZPh3dP1eF8jlSKx"/>
          <p:cNvPicPr/>
          <p:nvPr/>
        </p:nvPicPr>
        <p:blipFill>
          <a:blip r:embed="rId1"/>
          <a:stretch/>
        </p:blipFill>
        <p:spPr>
          <a:xfrm>
            <a:off x="5508720" y="1989000"/>
            <a:ext cx="305100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ireitos humanos em saúde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68000" y="1773360"/>
            <a:ext cx="8381880" cy="33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b98"/>
                </a:solidFill>
                <a:latin typeface="Verdana"/>
                <a:ea typeface="Arial"/>
              </a:rPr>
              <a:t>Mais recentemente foi incluída no conceito de saúde, a noção de “Saúde como um Direito”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  <a:ea typeface="Arial"/>
              </a:rPr>
              <a:t>E que direito é esse?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  <a:ea typeface="Arial"/>
              </a:rPr>
              <a:t>	</a:t>
            </a:r>
            <a:r>
              <a:rPr b="0" lang="pt-BR" sz="2400" spc="-1" strike="noStrike">
                <a:solidFill>
                  <a:srgbClr val="5b5b98"/>
                </a:solidFill>
                <a:latin typeface="Verdana"/>
                <a:ea typeface="Arial"/>
              </a:rPr>
              <a:t>Um Direito Humano Universal, que hoje é compreendido como DESCA (Direitos econômicos, sociais, culturais e ambientais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2381-9ABA-4942-AC98-289802A55F3B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ireitos humanos em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Essa concepção foi reforçada na Carta dos Povos sobre a Saúde, escrita com a participação de 92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	</a:t>
            </a: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países, em 2000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" Saúde é uma questão social, econômica, política e acima de tudo, um direito humano fundamental. Desigualdades, pobreza, exploração, violência e injustiça encontram-se entre as causas das doenças e morte dos pobres e marginalizados. Proporcionar condições de saúde para todos implica desafiar interesses poderosos, resistir à globlalização e mudar drasticamente as prioridades políticas e econômicas "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A720-26CB-4DBE-9695-C946332230E5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000" y="1773000"/>
            <a:ext cx="83818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Com a criação da Organização das Nações Unidas (ONU), em 1945, o conceito de direitos humanos tem se universalizado, alcançando uma grande importância na cultura jurídica internacion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Em 10/12/1948 a Declaração Universal dos Direitos Humanos foi proclamada pela Assembléia Geral da ONU em sua Resolução 217 A (III), como resposta aos horrores da 2ª. Guerra Mundial e como intento de sentar as bases da nova ordem internacion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D39E-E95A-4C7F-A8ED-7CB2AA7F4D01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ireitos humanos em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94920" y="1989000"/>
            <a:ext cx="8381880" cy="30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b98"/>
                </a:solidFill>
                <a:latin typeface="Verdana"/>
              </a:rPr>
              <a:t>Esse conceito implica perceber que os Direitos Humanos em relação á saúde, não devem ser restritos a públicos alvos distintos, ou a áreas específicas em saúde e que a luta pelos Direitos Humanos é a mesma luta dos Direitos a saúde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B684-5205-44D5-9032-0511A82DA1C0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Lutar por direitos humanos em saúde também significa: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9640" y="2060280"/>
            <a:ext cx="838224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Lutar pela inversão de prioridades no orçamento público, onde o ser humano seja o centro das prioridad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Lutar pelo aumento da renda média dos cidadãos e políticas de empreg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Lutar por educaç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Lutar por equilíbrio ambient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Lutar por diminuir as diferenças socia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036F-1160-490F-891A-D8CB9F6F048D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4000" y="1052640"/>
            <a:ext cx="8526240" cy="37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b98"/>
                </a:solidFill>
                <a:latin typeface="Verdana"/>
                <a:ea typeface="Arial"/>
              </a:rPr>
              <a:t>Objectivos da ONU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  <a:ea typeface="Arial"/>
              </a:rPr>
              <a:t>Manter a paz, a segurança internacional, desenvolver relações amigáveis entre as nações, realizar a cooperação internacional resolvendo problemas internacionais de ordem econômica, social, intelectual e humanitária, desenvolver e encorajar o respeito pelos direitos humanos e pelas liberdades fundamentais sem qualquer tipo de distin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5DB6-D073-469C-8D6F-030543A57592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liam_heartbubbles"/>
          <p:cNvPicPr/>
          <p:nvPr/>
        </p:nvPicPr>
        <p:blipFill>
          <a:blip r:embed="rId1"/>
          <a:stretch/>
        </p:blipFill>
        <p:spPr>
          <a:xfrm>
            <a:off x="5170320" y="4226040"/>
            <a:ext cx="199404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4920" y="1557000"/>
            <a:ext cx="8381880" cy="27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b98"/>
                </a:solidFill>
                <a:latin typeface="Verdana"/>
                <a:ea typeface="Arial"/>
              </a:rPr>
              <a:t>Viver em um mundo no qual as pessoas são vistas como detentoras de direitos é uma grande conquist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b98"/>
                </a:solidFill>
                <a:latin typeface="Verdana"/>
                <a:ea typeface="Arial"/>
              </a:rPr>
              <a:t>A palavra direito significa exatamente aquilo que é reto, correto ou just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6BEF-DB57-4EF7-9758-057E02D8983D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http://1.bp.blogspot.com/-TxxVqjmP82Y/TXoaxhnumuI/AAAAAAAAAt8/76jf5NTPbps/s200/justica%2B-%2Bbla%25C3%25A7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933720"/>
            <a:ext cx="34653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 que são os direitos human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000" y="1125360"/>
            <a:ext cx="83818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  <a:ea typeface="Arial"/>
              </a:rPr>
              <a:t>São um conjunto de leis, vantagens e prerrogativas que devem ser reconhecidas como essenciais pelo indivíduo para que este possa ter uma vida digna, ou seja, que não seja inferior ou superior aos outros porque é de um sexo diferente, porque pertencem a uma etnia diferente, ou religião, ou cultura, ou grupo soci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  <a:ea typeface="Arial"/>
              </a:rPr>
              <a:t>São também definidos como um conjunto de regras que o Estado e todos os cidadãos devem seguir e respeita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  <a:ea typeface="Arial"/>
              </a:rPr>
              <a:t>São importantes para que se tenha uma convivência em paz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2E62-9BEC-4FFB-B049-D4479D46E27A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O que são os direitos human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68000" y="980640"/>
            <a:ext cx="838188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b98"/>
                </a:solidFill>
                <a:latin typeface="Verdana"/>
              </a:rPr>
              <a:t>São direitos fundamentais da pessoa humana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O direito à satisfação das necessidades vitais (alimentação, habitação, assistência na doença e na educação); o direito a usufruir de liberdades políticas e civis (liberdade de pensamento, religião e associação); respeito pela integridade do indivíduo como um só; a igualdade perante a lei; o direito ao afeto e à livre expressão da sexualidade, entre outr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A01B-5FF1-425E-B704-70B007416E3E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aixaDeTexto 5"/>
          <p:cNvSpPr/>
          <p:nvPr/>
        </p:nvSpPr>
        <p:spPr>
          <a:xfrm>
            <a:off x="1332000" y="4941720"/>
            <a:ext cx="6912000" cy="119124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Recordando a leitura da “Declaração dos Direitos Humanos”, quem gostaria de acrescentar outro dire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9" descr="http://www.eb23-cmdt-conceicao-silva.rcts.pt/J0288870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5805360"/>
            <a:ext cx="46692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ireitos human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000" y="134136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b98"/>
                </a:solidFill>
                <a:latin typeface="Verdana"/>
              </a:rPr>
              <a:t>Não existe um direito mais importante que o outro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b98"/>
                </a:solidFill>
                <a:latin typeface="Verdana"/>
              </a:rPr>
              <a:t>Para o pleno exercício da cidadania, é preciso a garantia do conjunto dos Direitos Humano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b98"/>
                </a:solidFill>
                <a:latin typeface="Verdana"/>
              </a:rPr>
              <a:t>Cada cidadão deve ter garantido todos os Direitos Humanos, nenhum deve ser esquecido ou violad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5b5b98"/>
                </a:solidFill>
                <a:latin typeface="Verdana"/>
                <a:ea typeface="Arial"/>
              </a:rPr>
              <a:t>A violação dos direitos humanos constitui violênci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4F19-B6ED-4CD5-9972-6B5AA1459860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Função dos direitos human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360" y="1143000"/>
            <a:ext cx="8424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Proteger os indivíduos das arbitrariedades, do autoritarismo, da prepotência e dos abusos de pode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Representam a liberdade dos seres humanos; sua construção está ligada ao individualismo crescente das sociedades ao longo dos tempos, que levou à necessidade de limitar o poder do Estado sobre os indivíduos, fazendo com que o respeitassem e aos seus interess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Estão associados a uma idéia de civilização, de democracia, que em conjunto reflecte uma idéia de igualdade e de dignidade para tod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142D-C512-43B0-A1AE-A81B0B44E54B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Direitos humanos, cultura e géner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3640" y="1268280"/>
            <a:ext cx="5832360" cy="43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Respeitar os Direitos Humanos é promover a vida em sociedade, sem discriminação de classe social, </a:t>
            </a:r>
            <a:r>
              <a:rPr b="1" lang="pt-BR" sz="2400" spc="-1" strike="noStrike">
                <a:solidFill>
                  <a:srgbClr val="5b5b98"/>
                </a:solidFill>
                <a:latin typeface="Verdana"/>
              </a:rPr>
              <a:t>cultura</a:t>
            </a: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, religião, raça, etnia, </a:t>
            </a:r>
            <a:r>
              <a:rPr b="1" lang="pt-BR" sz="2400" spc="-1" strike="noStrike">
                <a:solidFill>
                  <a:srgbClr val="5b5b98"/>
                </a:solidFill>
                <a:latin typeface="Verdana"/>
              </a:rPr>
              <a:t>género </a:t>
            </a: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e opção sexu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Para que exista igualdade de direitos é preciso respeito às diferenç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A igualdade racial e entre </a:t>
            </a:r>
            <a:r>
              <a:rPr b="1" lang="pt-BR" sz="2400" spc="-1" strike="noStrike">
                <a:solidFill>
                  <a:srgbClr val="5b5b98"/>
                </a:solidFill>
                <a:latin typeface="Verdana"/>
              </a:rPr>
              <a:t>homens e mulheres</a:t>
            </a:r>
            <a:r>
              <a:rPr b="0" lang="pt-BR" sz="2400" spc="-1" strike="noStrike">
                <a:solidFill>
                  <a:srgbClr val="5b5b98"/>
                </a:solidFill>
                <a:latin typeface="Verdana"/>
              </a:rPr>
              <a:t> são fundamentais ao desenvolvimento da humanidade e para tornar real os Direitos Human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1A4B9-BA22-46B0-8AAA-2B6A646C03EB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t0.gstatic.com/images?q=tbn:ANd9GcQzb2Tz2dzCBf_mSINR2BpOwf95ObfQVMrr8ZPh3dP1eF8jlSKx"/>
          <p:cNvPicPr/>
          <p:nvPr/>
        </p:nvPicPr>
        <p:blipFill>
          <a:blip r:embed="rId1"/>
          <a:stretch/>
        </p:blipFill>
        <p:spPr>
          <a:xfrm>
            <a:off x="6370560" y="3716280"/>
            <a:ext cx="2162160" cy="244944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4"/>
          <p:cNvSpPr/>
          <p:nvPr/>
        </p:nvSpPr>
        <p:spPr>
          <a:xfrm>
            <a:off x="63360" y="-828720"/>
            <a:ext cx="26766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63360" y="-828720"/>
            <a:ext cx="26766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63360" y="-828720"/>
            <a:ext cx="26766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http://t3.gstatic.com/images?q=tbn:ANd9GcS4CZA0Vcyb8fqVj4gvPC0YIdT6tZsCTKDSL_YOpWP2PlavZOs6"/>
          <p:cNvPicPr/>
          <p:nvPr/>
        </p:nvPicPr>
        <p:blipFill>
          <a:blip r:embed="rId2"/>
          <a:stretch/>
        </p:blipFill>
        <p:spPr>
          <a:xfrm>
            <a:off x="5867280" y="1484280"/>
            <a:ext cx="308952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23:14:09Z</dcterms:created>
  <dc:creator>Escolastica</dc:creator>
  <dc:description/>
  <dc:language>en-US</dc:language>
  <cp:lastModifiedBy>PC-6</cp:lastModifiedBy>
  <dcterms:modified xsi:type="dcterms:W3CDTF">2014-04-21T05:46:24Z</dcterms:modified>
  <cp:revision>44</cp:revision>
  <dc:subject/>
  <dc:title>Slide 1</dc:title>
</cp:coreProperties>
</file>