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EB7-DC6A-4437-9A20-B52E4EBAFAA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148B-D5EA-43C4-A16F-AFE9497FA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0811C-899F-4C6B-980F-B8D44AF9B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E2CA9-8018-4B94-9814-3935B3730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BC7F-9710-45E7-A7BE-C4C62C828F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45BE6-2278-4607-9487-C9A754394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71475-E684-49CC-8BB8-D8EF183ED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52FB-F25D-4C92-B14E-8B1F24DB6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779AD-A9F5-43C9-939B-D116AB553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7385F-487C-4C1C-8402-AC11B76ABD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4D200-B490-4D0E-80DB-76F322015C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B1FB-15D9-4DC0-AAB4-70107AA46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8967-CC84-49BF-99EC-F964542FB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935B-9C0B-455B-86A7-16985B242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1605-70F7-4D1F-970F-0A15BFFC91F9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763640" y="1988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s de género e a natureza estrutural da violênc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s auto-infligid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8000" y="1773360"/>
            <a:ext cx="838188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rresponde aos comportamentos suicidas e os auto-abu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rimeiro caso, a tipologia contempla suicídio, ideação suicida e tentativas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ceito de auto-abuso nomeia as agressões a si próprio e as automutilaç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3AB0-9A3B-4FAE-B078-49D2330524A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s interpessoai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violências interpessoais são classificadas em dois âmbito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trafamiliar: ocorre entre os parceiros íntimos e entre membros da família, principalmente no domícilio. Inclui as várias formas de agressão contra crianças, mulheres,  homens, idosos.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unitária: é definida como aquela que ocorre no ambiente social em geral, entre conhecidos e desconhecidos. Consideram-se suas várias expressões como violência juvenil, agressões físicas, estupros, ataques sexuais e, inclusive, a violência institucional que ocorre, por exemplo, em escolas, locais de trabalho, prisões e asil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D9B-9ABA-4D90-9A2E-E47D00F13E1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s coletiv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23640" y="1143000"/>
            <a:ext cx="8515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violências coletivas se classificam os atos que causam danos, lesões e mortes, e que acontecem nos âmbitos macrossociais, políticos e econômicos, caracterizando a dominação de grupos e do Esta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cluem-se os crimes cometidos por grupos organizados, atos terroristas e de multidõ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campo político, são consideradas as guerras e os processos de aniquilamento de determinados povos e nações por outr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lassificação de violência coletiva abrange ainda ataques econômicos entre grupos e nações, geralmente motivados por interesses de domin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71A8-C646-4930-A3B4-340AC1FECE3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9640" y="1844280"/>
            <a:ext cx="83822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e acordo com os dados oficiais do Ministério do Interior, a violência contra a Mulher tem atingido níveis muito elevados no país entre 2004-2007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Neste período mais de 29.000 mulheres apresentaram queixa nos Gabinetes de Atendimento à mulher, como tendo sido vítimas de violência, com uma média de mais de 7.000 mulheres por an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F63C-2683-4239-9294-F78042CA44E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41300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números reais das vítimas de violência são muito mais elevados que estes, uma vez que muitas mulheres não apresentam queixa quando são vítimas de violência, por razões culturais, sociais e económicas</a:t>
            </a: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A6BB-06E7-44E4-BA80-CF86F0B5340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CaixaDeTexto 5"/>
          <p:cNvSpPr/>
          <p:nvPr/>
        </p:nvSpPr>
        <p:spPr>
          <a:xfrm>
            <a:off x="1187280" y="3573360"/>
            <a:ext cx="7272360" cy="82548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Quem gostaria de citar exemplos dessas razões culturais, sociais e econôm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6" descr="PENSANDO"/>
          <p:cNvPicPr/>
          <p:nvPr/>
        </p:nvPicPr>
        <p:blipFill>
          <a:blip r:embed="rId1"/>
          <a:stretch/>
        </p:blipFill>
        <p:spPr>
          <a:xfrm>
            <a:off x="4140360" y="4581360"/>
            <a:ext cx="129528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412640"/>
            <a:ext cx="83818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s tipos principais de violência contra a mulher em Moçambique são a física, sexual e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termos conceptuais existe uma diversidade de percepções sobre este fenómeno, mas todas elas possuem pontos comuns no que se refere ao essencial, que consiste no reconhecimento de que toda e qualquer violência é um mal social que deve ser eliminado da soc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462D-B712-456D-A814-C3B5B77C331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tudo piloto WLSA Moçambiqu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WLSA Moçambique concluiu estudo piloto do projecto de pesquisa sobre violência contra as mulheres, que desenvolveu nos Gabinetes de Atendimento da Mulher e da Criança, na cidade de Maputo e nas províncias de Maputo e Sofal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 objectivo da pesquisa foi conhecer a realidade da violência de género, denunciada no espaço policial das esquadras onde foram criados os Gabinetes de Atendimento da Mulher e da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  <a:ea typeface="Arial"/>
              </a:rPr>
              <a:t>Os resultados estão publicados no livr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jia, Margarita; Osório, Conceição; Arthur, Maria José (2004). Não sofrer caladas. Violência Contra Mulheres e Crianças: denúncia e gestão de conflitos. Maputo: WLSA Moçambique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3B02-CC00-4010-9A5B-38F4A4674BE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9" descr="fichario"/>
          <p:cNvPicPr/>
          <p:nvPr/>
        </p:nvPicPr>
        <p:blipFill>
          <a:blip r:embed="rId1"/>
          <a:stretch/>
        </p:blipFill>
        <p:spPr>
          <a:xfrm>
            <a:off x="6804000" y="4149720"/>
            <a:ext cx="906480" cy="9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1: Número total de ocorrências e relação vítima-agressor, segundo o sex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DC18-AF3F-40B2-AAB7-8AA80016DD8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4539600" y="-1371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270080"/>
          <a:ext cx="8640720" cy="4937040"/>
        </p:xfrm>
        <a:graphic>
          <a:graphicData uri="http://schemas.openxmlformats.org/drawingml/2006/table">
            <a:tbl>
              <a:tblPr/>
              <a:tblGrid>
                <a:gridCol w="1726920"/>
                <a:gridCol w="1152720"/>
                <a:gridCol w="936720"/>
                <a:gridCol w="647640"/>
                <a:gridCol w="1152360"/>
                <a:gridCol w="647640"/>
                <a:gridCol w="648000"/>
                <a:gridCol w="1728720"/>
              </a:tblGrid>
              <a:tr h="295200"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bin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orrê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agressores/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or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/ sex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6840" rIns="6840" tIns="6840" bIns="68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resentou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6840" marR="684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ª Esq. Mapu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ª Esq. Mato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Boa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ª Esq. Bei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9(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Do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Nhamat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. D. Gorong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83040">
                <a:tc>
                  <a:txBody>
                    <a:bodyPr lIns="3600" rIns="3600" tIns="3600" bIns="3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3600" rIns="3600" tIns="3600" bIns="36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" marR="36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2: Perfil geral da relação vítima-agressor, vítimas do sexo feminin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11280" y="1376280"/>
          <a:ext cx="8035920" cy="4645080"/>
        </p:xfrm>
        <a:graphic>
          <a:graphicData uri="http://schemas.openxmlformats.org/drawingml/2006/table">
            <a:tbl>
              <a:tblPr/>
              <a:tblGrid>
                <a:gridCol w="3720960"/>
                <a:gridCol w="1463760"/>
                <a:gridCol w="1233360"/>
                <a:gridCol w="1617840"/>
              </a:tblGrid>
              <a:tr h="496080"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au de parentesc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º de vítimas (F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xo do agres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200" rIns="16200" tIns="16200" bIns="162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segundo o parent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200" marR="16200">
                    <a:lnL w="432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3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mar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,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-namo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ante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ival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,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tro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,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1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ão aparece o parentesco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vítimas sexo femini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5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,0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agressores (sem sex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/ se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7DF2-4CD6-44A1-87BB-B686CBC828C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560" y="228600"/>
            <a:ext cx="792180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3: Tipo de violência doméstica, sendo o agressor o marido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68360" y="1268280"/>
          <a:ext cx="8381880" cy="4206960"/>
        </p:xfrm>
        <a:graphic>
          <a:graphicData uri="http://schemas.openxmlformats.org/drawingml/2006/table">
            <a:tbl>
              <a:tblPr/>
              <a:tblGrid>
                <a:gridCol w="4075200"/>
                <a:gridCol w="1434960"/>
                <a:gridCol w="1434960"/>
                <a:gridCol w="1436760"/>
              </a:tblGrid>
              <a:tr h="277560">
                <a:tc rowSpan="2"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po de cr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/viol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rupçã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vórcio/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/violência domé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000">
                <a:tc>
                  <a:txBody>
                    <a:bodyPr lIns="8640" rIns="8640" tIns="8640" bIns="86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ari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2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390A-DD60-4F5B-AAC1-FCE93FFC57B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ângulo 6"/>
          <p:cNvSpPr/>
          <p:nvPr/>
        </p:nvSpPr>
        <p:spPr>
          <a:xfrm>
            <a:off x="250920" y="551664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 limite entre Ofensas Corporais Voluntárias Simples (OCVS) e Ofensas Corporais Voluntárias Qualificadas (OCVQ) está definido na lei e a sua classificação é de apreciação da Medicina Leg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0" y="981000"/>
            <a:ext cx="439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violência contra a mulher são todos os actos perpetrados contra a mulher e que sejam capazes de causar danos físicos, sexuais, psicológicos e outros, incluindo a ameaça de tais actos, a imposição de restrições ou a privação arbitrária das liberdades fundamentais na vida privada e pública (Fórum Mulher, 2007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29E-A3AA-4ADD-B4CD-A7BB4B02E0D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2" descr="A Poligamia é um atentado aos direitos das mulheres"/>
          <p:cNvPicPr/>
          <p:nvPr/>
        </p:nvPicPr>
        <p:blipFill>
          <a:blip r:embed="rId1"/>
          <a:stretch/>
        </p:blipFill>
        <p:spPr>
          <a:xfrm>
            <a:off x="684360" y="1090440"/>
            <a:ext cx="3816360" cy="5351760"/>
          </a:xfrm>
          <a:prstGeom prst="rect">
            <a:avLst/>
          </a:prstGeom>
          <a:ln w="0">
            <a:noFill/>
          </a:ln>
        </p:spPr>
      </p:pic>
      <p:sp>
        <p:nvSpPr>
          <p:cNvPr id="100" name="CaixaDeTexto 9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Verdana"/>
              </a:rPr>
              <a:t>Tabela 4: Tipo de violência doméstica, sendo o agressor a esposa, Cidade de Maputo, Províncias de Maputo e Sofala, 2000-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39640" y="1413000"/>
          <a:ext cx="8293320" cy="4754520"/>
        </p:xfrm>
        <a:graphic>
          <a:graphicData uri="http://schemas.openxmlformats.org/drawingml/2006/table">
            <a:tbl>
              <a:tblPr/>
              <a:tblGrid>
                <a:gridCol w="4003920"/>
                <a:gridCol w="1430280"/>
                <a:gridCol w="1428840"/>
                <a:gridCol w="1430280"/>
              </a:tblGrid>
              <a:tr h="324360"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=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16920" rIns="16920" tIns="16920" bIns="16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16920" marR="1692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80280" rIns="80280" tIns="40320" bIns="40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80280" marR="8028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VQ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micídio frust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eaça de mo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and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ulté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par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o l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andono de me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ensas morais/violência psicológ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olência económ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uso de confianç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so so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itiç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m classifica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spo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8280" rIns="8280" tIns="8280" bIns="8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g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4520-0D1B-497A-B97F-9743530165F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1640" y="11430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principal vítima de violência perpetrada pelos homens, ocorrendo, sobretudo, entre os 25 e 34 anos e em todas as idades e extractos soc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homens são os principais perpetradores de violência contra a mulher, normalmente os parceiros íntim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E9A-2C3E-490A-99B3-9B97BC662F7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2" descr="O casamento prematuro é uma violação dos direitos humanos"/>
          <p:cNvPicPr/>
          <p:nvPr/>
        </p:nvPicPr>
        <p:blipFill>
          <a:blip r:embed="rId1"/>
          <a:stretch/>
        </p:blipFill>
        <p:spPr>
          <a:xfrm>
            <a:off x="611280" y="988920"/>
            <a:ext cx="3816360" cy="5351400"/>
          </a:xfrm>
          <a:prstGeom prst="rect">
            <a:avLst/>
          </a:prstGeom>
          <a:ln w="0">
            <a:noFill/>
          </a:ln>
        </p:spPr>
      </p:pic>
      <p:sp>
        <p:nvSpPr>
          <p:cNvPr id="106" name="CaixaDeTexto 7"/>
          <p:cNvSpPr/>
          <p:nvPr/>
        </p:nvSpPr>
        <p:spPr>
          <a:xfrm rot="16200000">
            <a:off x="-2337120" y="3424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7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40000" y="2204640"/>
            <a:ext cx="482436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m Moçambique a violência contra a mulher é um dos problemas mais graves do país e séria barreira ao desenvolviment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A000-DEC3-4A7E-BE4B-20E50E4C037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2" descr="Este corpo é meu"/>
          <p:cNvPicPr/>
          <p:nvPr/>
        </p:nvPicPr>
        <p:blipFill>
          <a:blip r:embed="rId1"/>
          <a:stretch/>
        </p:blipFill>
        <p:spPr>
          <a:xfrm>
            <a:off x="539640" y="1268280"/>
            <a:ext cx="3535560" cy="4996080"/>
          </a:xfrm>
          <a:prstGeom prst="rect">
            <a:avLst/>
          </a:prstGeom>
          <a:ln w="0">
            <a:noFill/>
          </a:ln>
        </p:spPr>
      </p:pic>
      <p:sp>
        <p:nvSpPr>
          <p:cNvPr id="112" name="CaixaDeTexto 9"/>
          <p:cNvSpPr/>
          <p:nvPr/>
        </p:nvSpPr>
        <p:spPr>
          <a:xfrm rot="16200000">
            <a:off x="-2409120" y="3496320"/>
            <a:ext cx="55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5C8B6-BD39-4E0D-8C71-F2B36AAA7E3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4" descr="Não à violência contra as mulheres"/>
          <p:cNvPicPr/>
          <p:nvPr/>
        </p:nvPicPr>
        <p:blipFill>
          <a:blip r:embed="rId1"/>
          <a:stretch/>
        </p:blipFill>
        <p:spPr>
          <a:xfrm>
            <a:off x="971640" y="1314360"/>
            <a:ext cx="3525840" cy="5139000"/>
          </a:xfrm>
          <a:prstGeom prst="rect">
            <a:avLst/>
          </a:prstGeom>
          <a:ln w="0">
            <a:noFill/>
          </a:ln>
        </p:spPr>
      </p:pic>
      <p:sp>
        <p:nvSpPr>
          <p:cNvPr id="117" name="CaixaDeTexto 6"/>
          <p:cNvSpPr/>
          <p:nvPr/>
        </p:nvSpPr>
        <p:spPr>
          <a:xfrm rot="16200000">
            <a:off x="-2337120" y="364068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Women and Law Southern África (WLS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16360" y="1268280"/>
            <a:ext cx="41148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vítimas mostram-se relutantes em apresentar queixas nos órgãos competentes por vergonha, receio e pelo sentimento de lealdade familiar (PNUD, 2003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impunidade do agressor gera insegurança com relação a recidivas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000" y="1773360"/>
            <a:ext cx="8381880" cy="20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natureza da violência contra a mulher resulta da desigualdade de poder com relação aos homens, nas diferentes faixas etárias, nas relações familiares, comunitárias e social, económica, cultural, religiosa e polít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4B9-8508-4BA1-B783-39A4809F45F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000" y="1773000"/>
            <a:ext cx="838188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lém da violência de género, a mulher é também vítima de muitos outros males sócio-culturais e económicos, como a pobreza absoluta e o analfabetism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opulação adulta, a mulher é majoritariamente analfabeta. A taxa de analfabetismo das mulheres está acima de 68%, comparado a dos homens, que está abaixo dos 36,7%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0740-E771-400D-94BB-DDFB4FC0242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8000" y="1989000"/>
            <a:ext cx="8381880" cy="25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ulher é a mais infectada pelo HIV, com uma taxa de seroprevalência de 57%, associado, em parte, com atitudes de violência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sequência esta encontra-se em posição vulnerável e de desvantagem, em relação ao homem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FCDA-8039-45C0-BC64-E11BC7A0AC8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sigualdade de género e a natureza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916280"/>
            <a:ext cx="838188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propõe uma classificação estrutural para a violência, que categoriza o fenômeno a partir de suas manifestações empíricas,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dirigida pela pessoa contra si mesma: auto-infligida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s relações: interpesso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o âmbito da sociedade: cole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79D-B861-43FA-9D88-7742D3F08AB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0:37:57Z</dcterms:created>
  <dc:creator>Escolastica</dc:creator>
  <dc:description/>
  <dc:language>en-US</dc:language>
  <cp:lastModifiedBy>Mendoza</cp:lastModifiedBy>
  <dcterms:modified xsi:type="dcterms:W3CDTF">2011-09-22T10:10:07Z</dcterms:modified>
  <cp:revision>52</cp:revision>
  <dc:subject/>
  <dc:title>Slide 1</dc:title>
</cp:coreProperties>
</file>