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0471-9276-4518-B0FD-FEAEE5A64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3D56-7C80-47D0-AB25-33D115DB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CD60-97BF-4F16-BE60-D0550E33A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A3D4-FEA3-4B29-B8DE-BA7EC13CD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D25A-7C2F-49DA-B3C8-A6BF010C3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281F-2907-478B-B61B-069044C5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0476-DC51-4AB4-A708-CDDD1F86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57CE-1E1A-4110-8F0B-DB69A986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316C-9303-42D7-B54F-8BC80836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6C59-C931-4A58-B9B8-62945A6A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7795-0836-4A6F-AA6C-B73F0812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0EB9-41F8-4FE4-95EC-3FF89BC7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6400-6D72-45CA-A10C-1444955F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A1AD-4E38-41F2-82BA-B95DEE46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56D3-1184-4601-ADA3-C7860E13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20D1-BA63-485C-9785-E70E267D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5C02-ECCD-4A35-B6E6-FAC1D877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D64A-3CE5-416E-850F-CA52492E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BF54-3A7D-446E-BA0F-06FF83BD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10B9-C79F-4466-9C8A-6CD3D4EF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ECA5-B2E8-4C54-9B39-C99E811D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081B-CA6A-48B4-A7F7-8F9696A0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DB92-6BCB-4BD3-963E-0D7EF5D6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493B-B995-429B-B266-82C6352F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DAA9-752D-4916-B5E1-0B2FBF40ECA4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151B-B2D6-4BBB-A39A-7F685F660A98}" type="slidenum">
              <a:rPr b="0" lang="en-US" sz="1400" spc="-1" strike="noStrike">
                <a:solidFill>
                  <a:srgbClr val="272776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ourier New"/>
              </a:rPr>
              <a:t>Сжатие информации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ourier New"/>
              </a:rPr>
              <a:t>Алгоритм Хаффмана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ourier New"/>
              </a:rPr>
              <a:t>Алгоритм Хаффмана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04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2776"/>
                </a:solidFill>
                <a:latin typeface="Courier New"/>
              </a:rPr>
              <a:t>Алгоритм Хаффмана</a:t>
            </a: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 — адаптивный алгоритм оптимального       префиксного кодирования алфавита с минимальной избыточностью. 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Был разработан 1952 году аспирантом Массачусетского технологического института Дэвидом Хаффманом при написании им курсовой работы. В настоящее время используется во многих программах сжатия данных. 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1. Символы исходного алфавита образуют вершины. Вес каждой вершины вес равен количеству вхождений данного символа в сжимаемое сообщение.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358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2. Среди вершин выбираются две с наименьшими весами (если таких пар несколько, выбирается любая из них).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358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3. Создается следующая вершина графа, из которой выходят две дуги к выбранным вершинам; одна дуга помечается цифрой 0, другая — символом 1. 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358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Вес созданной вершины равен сумме весов, выбранных на втором шаге вершин.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358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4. К новым вершинам применяются шаги 2 и 3 до тех пор, пока не останется одна вершина с весом, равным сумме весов исходных символов.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ourier New"/>
              </a:rPr>
              <a:t>НА_ДВОРЕ_ТРАВА,_НА_ТРАВЕ_ДРОВА 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48309" r="0" b="0"/>
          <a:stretch/>
        </p:blipFill>
        <p:spPr>
          <a:xfrm>
            <a:off x="1403280" y="2276640"/>
            <a:ext cx="6048360" cy="215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1042920" y="1268280"/>
          <a:ext cx="6934320" cy="1035360"/>
        </p:xfrm>
        <a:graphic>
          <a:graphicData uri="http://schemas.openxmlformats.org/drawingml/2006/table">
            <a:tbl>
              <a:tblPr/>
              <a:tblGrid>
                <a:gridCol w="692280"/>
                <a:gridCol w="695160"/>
                <a:gridCol w="692280"/>
                <a:gridCol w="695160"/>
                <a:gridCol w="692280"/>
                <a:gridCol w="692280"/>
                <a:gridCol w="695160"/>
                <a:gridCol w="692280"/>
                <a:gridCol w="695160"/>
                <a:gridCol w="692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а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в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д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,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е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н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р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о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т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_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6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4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2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1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2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2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4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2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2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5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332000" y="5137200"/>
            <a:ext cx="6553080" cy="1244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250640" y="452772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Составим таблицу кодов символов: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11280" y="374760"/>
            <a:ext cx="799308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Найдем объем сообщения после кодирования кодом Хаффмана: 2·6 + 3·4 + 4·2 + 4·1 + 4·2 + 4·2 + 3·4</a:t>
            </a: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+</a:t>
            </a: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4·2 + 4·2 + 3·5 = 95 бит.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Теперь подсчитаем объем этого сообщения, если каждый его символ кодировать цепочкой из 0 и 1 равной длины. Т.к. в сообщении 10 различных символов вес одного символа 4 бита. Поэтому после кодирования получится сообщение объемом 4·3 = 120 бит.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Коэффициент сжатия равен 120/95 =1,26.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Сообщение в памяти компьютера закодировано с помощью ASCII-кодов, каждый символ весит 8 бит. Значит, объем исходного сообщения 240 бит.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Коэффициент сжатия равен 240/95 = 2,53. 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11280" y="1562040"/>
            <a:ext cx="79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Математики доказали, что среди алгоритмов, кодирующих каждый символ по отдельности и целым количеством бит, алгоритм Хаффмана обеспечивает наилучшее сжатие.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68360" y="1197000"/>
            <a:ext cx="8280360" cy="49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Для кодирования сообщения, состоящего из букв А, Б, В, Г и Д, используется неравномерный двоичный код, позволяющий однозначно декодировать полученную двоичную последовательность.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А–00, Б–010, В–011, Г–101, Д–111.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Можно ли сократить для одной из букв длину кодового слова так, чтобы код по-прежнему можно было декодировать однозначно?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Выберите правильный вариант ответа.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1) для буквы Б – 01 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2) это невозможно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3) для буквы В – 01 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4) для буквы Г – 01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ourier New"/>
              </a:rPr>
              <a:t>Задача А9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1271520" y="3789360"/>
            <a:ext cx="6350040" cy="2450880"/>
            <a:chOff x="1271520" y="3789360"/>
            <a:chExt cx="6350040" cy="2450880"/>
          </a:xfrm>
        </p:grpSpPr>
        <p:sp>
          <p:nvSpPr>
            <p:cNvPr id="118" name=""/>
            <p:cNvSpPr/>
            <p:nvPr/>
          </p:nvSpPr>
          <p:spPr>
            <a:xfrm>
              <a:off x="1293840" y="5540400"/>
              <a:ext cx="966600" cy="699840"/>
            </a:xfrm>
            <a:custGeom>
              <a:avLst/>
              <a:gdLst/>
              <a:ahLst/>
              <a:rect l="l" t="t" r="r" b="b"/>
              <a:pathLst>
                <a:path w="3327" h="1665">
                  <a:moveTo>
                    <a:pt x="0" y="1663"/>
                  </a:moveTo>
                  <a:lnTo>
                    <a:pt x="1663" y="0"/>
                  </a:lnTo>
                  <a:lnTo>
                    <a:pt x="3327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70080" y="5540400"/>
              <a:ext cx="966960" cy="699840"/>
            </a:xfrm>
            <a:custGeom>
              <a:avLst/>
              <a:gdLst/>
              <a:ahLst/>
              <a:rect l="l" t="t" r="r" b="b"/>
              <a:pathLst>
                <a:path w="3327" h="1665">
                  <a:moveTo>
                    <a:pt x="0" y="1663"/>
                  </a:moveTo>
                  <a:lnTo>
                    <a:pt x="1663" y="0"/>
                  </a:lnTo>
                  <a:lnTo>
                    <a:pt x="3327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48120" y="5540400"/>
              <a:ext cx="966960" cy="699840"/>
            </a:xfrm>
            <a:custGeom>
              <a:avLst/>
              <a:gdLst/>
              <a:ahLst/>
              <a:rect l="l" t="t" r="r" b="b"/>
              <a:pathLst>
                <a:path w="3327" h="1665">
                  <a:moveTo>
                    <a:pt x="0" y="1663"/>
                  </a:moveTo>
                  <a:lnTo>
                    <a:pt x="1663" y="0"/>
                  </a:lnTo>
                  <a:lnTo>
                    <a:pt x="3327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26160" y="5540400"/>
              <a:ext cx="966960" cy="699840"/>
            </a:xfrm>
            <a:custGeom>
              <a:avLst/>
              <a:gdLst/>
              <a:ahLst/>
              <a:rect l="l" t="t" r="r" b="b"/>
              <a:pathLst>
                <a:path w="3327" h="1665">
                  <a:moveTo>
                    <a:pt x="0" y="1663"/>
                  </a:moveTo>
                  <a:lnTo>
                    <a:pt x="1663" y="0"/>
                  </a:lnTo>
                  <a:lnTo>
                    <a:pt x="3327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73360" y="4829040"/>
              <a:ext cx="1780920" cy="700200"/>
            </a:xfrm>
            <a:custGeom>
              <a:avLst/>
              <a:gdLst/>
              <a:ahLst/>
              <a:rect l="l" t="t" r="r" b="b"/>
              <a:pathLst>
                <a:path w="3327" h="1665">
                  <a:moveTo>
                    <a:pt x="0" y="1663"/>
                  </a:moveTo>
                  <a:lnTo>
                    <a:pt x="1663" y="0"/>
                  </a:lnTo>
                  <a:lnTo>
                    <a:pt x="3327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2320" y="4829040"/>
              <a:ext cx="1781280" cy="700200"/>
            </a:xfrm>
            <a:custGeom>
              <a:avLst/>
              <a:gdLst/>
              <a:ahLst/>
              <a:rect l="l" t="t" r="r" b="b"/>
              <a:pathLst>
                <a:path w="3327" h="1665">
                  <a:moveTo>
                    <a:pt x="0" y="1663"/>
                  </a:moveTo>
                  <a:lnTo>
                    <a:pt x="1663" y="0"/>
                  </a:lnTo>
                  <a:lnTo>
                    <a:pt x="3327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65440" y="4143240"/>
              <a:ext cx="3557520" cy="700200"/>
            </a:xfrm>
            <a:custGeom>
              <a:avLst/>
              <a:gdLst/>
              <a:ahLst/>
              <a:rect l="l" t="t" r="r" b="b"/>
              <a:pathLst>
                <a:path w="3327" h="1665">
                  <a:moveTo>
                    <a:pt x="0" y="1663"/>
                  </a:moveTo>
                  <a:lnTo>
                    <a:pt x="1663" y="0"/>
                  </a:lnTo>
                  <a:lnTo>
                    <a:pt x="3327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70400" y="4089240"/>
              <a:ext cx="13032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25960" y="4243320"/>
              <a:ext cx="2347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962000" y="4987800"/>
              <a:ext cx="2350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71520" y="5740200"/>
              <a:ext cx="2350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70080" y="5740200"/>
              <a:ext cx="2350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34080" y="5740200"/>
              <a:ext cx="2332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18160" y="5740200"/>
              <a:ext cx="2350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38760" y="5740200"/>
              <a:ext cx="2350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86480" y="5740200"/>
              <a:ext cx="2350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50920" y="5740200"/>
              <a:ext cx="2350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36880" y="5740200"/>
              <a:ext cx="2350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03560" y="4987800"/>
              <a:ext cx="2350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00800" y="4987800"/>
              <a:ext cx="2347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80160" y="4987800"/>
              <a:ext cx="2332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45200" y="4243320"/>
              <a:ext cx="2347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687840" y="3789360"/>
              <a:ext cx="15033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72776"/>
                  </a:solidFill>
                  <a:latin typeface="Courier New"/>
                </a:rPr>
                <a:t>корень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ourier New"/>
              </a:rPr>
              <a:t>Задача А9. Решение.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1217520"/>
            <a:ext cx="8315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Построим двоичное дерево, в котором от каждого узла отходит две ветки: 0 или 1.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Разместим на дереве буквы А, Б, В, Г и Д так, чтобы их код получался как последовательность чисел на рёбрах: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547640" y="5013360"/>
            <a:ext cx="6256440" cy="1147680"/>
            <a:chOff x="1547640" y="5013360"/>
            <a:chExt cx="6256440" cy="1147680"/>
          </a:xfrm>
        </p:grpSpPr>
        <p:sp>
          <p:nvSpPr>
            <p:cNvPr id="144" name=""/>
            <p:cNvSpPr/>
            <p:nvPr/>
          </p:nvSpPr>
          <p:spPr>
            <a:xfrm>
              <a:off x="1547640" y="5013360"/>
              <a:ext cx="425520" cy="41904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А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3280" y="5742000"/>
              <a:ext cx="423720" cy="41904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Б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17800" y="5742000"/>
              <a:ext cx="424080" cy="41904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В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08800" y="5742000"/>
              <a:ext cx="426960" cy="41904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Г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78560" y="5742000"/>
              <a:ext cx="425520" cy="41904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Д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ourier New"/>
              </a:rPr>
              <a:t>Задача А9. Решение.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50" name=""/>
          <p:cNvSpPr/>
          <p:nvPr/>
        </p:nvSpPr>
        <p:spPr>
          <a:xfrm>
            <a:off x="793800" y="1341360"/>
            <a:ext cx="788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По дереву определим, что для букв Г и Д код можно сократить. Выберем ответ из предложенных вариантов: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1) для буквы Б – 01 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2) это невозможно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3) для буквы В – 01 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4) для буквы Г – 01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994680" y="3284640"/>
            <a:ext cx="7307640" cy="3115080"/>
            <a:chOff x="994680" y="3284640"/>
            <a:chExt cx="7307640" cy="3115080"/>
          </a:xfrm>
        </p:grpSpPr>
        <p:sp>
          <p:nvSpPr>
            <p:cNvPr id="152" name=""/>
            <p:cNvSpPr/>
            <p:nvPr/>
          </p:nvSpPr>
          <p:spPr>
            <a:xfrm>
              <a:off x="5284440" y="5051880"/>
              <a:ext cx="475560" cy="48456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19880" y="5312160"/>
              <a:ext cx="1080360" cy="809640"/>
            </a:xfrm>
            <a:custGeom>
              <a:avLst/>
              <a:gdLst/>
              <a:ahLst/>
              <a:rect l="l" t="t" r="r" b="b"/>
              <a:pathLst>
                <a:path w="3327" h="1665">
                  <a:moveTo>
                    <a:pt x="0" y="1663"/>
                  </a:moveTo>
                  <a:lnTo>
                    <a:pt x="1663" y="0"/>
                  </a:lnTo>
                  <a:lnTo>
                    <a:pt x="3327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07440" y="5312160"/>
              <a:ext cx="1080360" cy="809640"/>
            </a:xfrm>
            <a:custGeom>
              <a:avLst/>
              <a:gdLst/>
              <a:ahLst/>
              <a:rect l="l" t="t" r="r" b="b"/>
              <a:pathLst>
                <a:path w="3327" h="1665">
                  <a:moveTo>
                    <a:pt x="0" y="1663"/>
                  </a:moveTo>
                  <a:lnTo>
                    <a:pt x="1663" y="0"/>
                  </a:lnTo>
                  <a:lnTo>
                    <a:pt x="3327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96440" y="5312160"/>
              <a:ext cx="1080360" cy="809640"/>
            </a:xfrm>
            <a:custGeom>
              <a:avLst/>
              <a:gdLst/>
              <a:ahLst/>
              <a:rect l="l" t="t" r="r" b="b"/>
              <a:pathLst>
                <a:path w="3327" h="1665">
                  <a:moveTo>
                    <a:pt x="0" y="1663"/>
                  </a:moveTo>
                  <a:lnTo>
                    <a:pt x="1663" y="0"/>
                  </a:lnTo>
                  <a:lnTo>
                    <a:pt x="3327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85800" y="5312160"/>
              <a:ext cx="1080360" cy="809640"/>
            </a:xfrm>
            <a:custGeom>
              <a:avLst/>
              <a:gdLst/>
              <a:ahLst/>
              <a:rect l="l" t="t" r="r" b="b"/>
              <a:pathLst>
                <a:path w="3327" h="1665">
                  <a:moveTo>
                    <a:pt x="0" y="1663"/>
                  </a:moveTo>
                  <a:lnTo>
                    <a:pt x="1663" y="0"/>
                  </a:lnTo>
                  <a:lnTo>
                    <a:pt x="3327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55200" y="4488120"/>
              <a:ext cx="1993320" cy="810000"/>
            </a:xfrm>
            <a:custGeom>
              <a:avLst/>
              <a:gdLst/>
              <a:ahLst/>
              <a:rect l="l" t="t" r="r" b="b"/>
              <a:pathLst>
                <a:path w="3327" h="1665">
                  <a:moveTo>
                    <a:pt x="0" y="1663"/>
                  </a:moveTo>
                  <a:lnTo>
                    <a:pt x="1663" y="0"/>
                  </a:lnTo>
                  <a:lnTo>
                    <a:pt x="3327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37880" y="4488120"/>
              <a:ext cx="1993320" cy="810000"/>
            </a:xfrm>
            <a:custGeom>
              <a:avLst/>
              <a:gdLst/>
              <a:ahLst/>
              <a:rect l="l" t="t" r="r" b="b"/>
              <a:pathLst>
                <a:path w="3327" h="1665">
                  <a:moveTo>
                    <a:pt x="0" y="1663"/>
                  </a:moveTo>
                  <a:lnTo>
                    <a:pt x="1663" y="0"/>
                  </a:lnTo>
                  <a:lnTo>
                    <a:pt x="3327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53120" y="3694320"/>
              <a:ext cx="3980160" cy="810000"/>
            </a:xfrm>
            <a:custGeom>
              <a:avLst/>
              <a:gdLst/>
              <a:ahLst/>
              <a:rect l="l" t="t" r="r" b="b"/>
              <a:pathLst>
                <a:path w="3327" h="1665">
                  <a:moveTo>
                    <a:pt x="0" y="1663"/>
                  </a:moveTo>
                  <a:lnTo>
                    <a:pt x="1663" y="0"/>
                  </a:lnTo>
                  <a:lnTo>
                    <a:pt x="3327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61120" y="3631320"/>
              <a:ext cx="145080" cy="14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81320" y="3810240"/>
              <a:ext cx="26244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66160" y="4671360"/>
              <a:ext cx="262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94680" y="5542920"/>
              <a:ext cx="26280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07440" y="5542920"/>
              <a:ext cx="26280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79160" y="5542920"/>
              <a:ext cx="26064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56840" y="5542920"/>
              <a:ext cx="26244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99480" y="5542920"/>
              <a:ext cx="26280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836480" y="5542920"/>
              <a:ext cx="26280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66600" y="5542920"/>
              <a:ext cx="26280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63520" y="5542920"/>
              <a:ext cx="26280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44160" y="4671360"/>
              <a:ext cx="262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25440" y="4671360"/>
              <a:ext cx="262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45920" y="4671360"/>
              <a:ext cx="2606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39240" y="3810240"/>
              <a:ext cx="2628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23360" y="5072040"/>
              <a:ext cx="475560" cy="48420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А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52200" y="5915160"/>
              <a:ext cx="475560" cy="48456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Б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42280" y="5915160"/>
              <a:ext cx="475560" cy="48456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В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47480" y="5915160"/>
              <a:ext cx="477360" cy="48456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Г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826760" y="5915160"/>
              <a:ext cx="475560" cy="48456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72776"/>
                  </a:solidFill>
                  <a:latin typeface="Courier New"/>
                </a:rPr>
                <a:t>Д</a:t>
              </a:r>
              <a:endParaRPr b="0" lang="en-US" sz="16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97200" y="3284640"/>
              <a:ext cx="16819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6658560" y="3429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Ответ: 4.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898560" y="1557360"/>
            <a:ext cx="7705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Для передачи по каналу связи сообщения, состоящего только из букв А, Б, В, Г, решили использовать неравномерный по длине код: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A=0, Б=10, В=110.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Как нужно закодировать букву Г, чтобы длина кода была минимальной и допускалось однозначное разбиение кодированного сообщения на буквы?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1) 1 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2) 1110  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3) 111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4) 11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2776"/>
                </a:solidFill>
                <a:latin typeface="Courier New"/>
              </a:rPr>
              <a:t>Для самостоятельной работы</a:t>
            </a:r>
            <a:endParaRPr b="0" lang="en-US" sz="40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55640" y="126828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72776"/>
                </a:solidFill>
                <a:latin typeface="Courier New"/>
              </a:rPr>
              <a:t>Для 5 букв латинского алфавита заданы их двоичные коды.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72776"/>
                </a:solidFill>
                <a:latin typeface="Courier New"/>
              </a:rPr>
              <a:t>Эти  коды представлены в таблице: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ourier New"/>
              </a:rPr>
              <a:t>Задача А9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900000" y="2768760"/>
          <a:ext cx="7715160" cy="1380960"/>
        </p:xfrm>
        <a:graphic>
          <a:graphicData uri="http://schemas.openxmlformats.org/drawingml/2006/table">
            <a:tbl>
              <a:tblPr/>
              <a:tblGrid>
                <a:gridCol w="1542960"/>
                <a:gridCol w="1544760"/>
                <a:gridCol w="1539720"/>
                <a:gridCol w="1544760"/>
                <a:gridCol w="1542960"/>
              </a:tblGrid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A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B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C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D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E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000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01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100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10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ourier New"/>
                        </a:rPr>
                        <a:t>011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826920" y="443700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Определить, какой набор букв закодирован двоичной строкой 0110100011000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ourier New"/>
              </a:rPr>
              <a:t>Сжатие информации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34760" y="4508640"/>
            <a:ext cx="758196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2776"/>
                </a:solidFill>
                <a:latin typeface="Courier New"/>
              </a:rPr>
              <a:t>Сжатие данных</a:t>
            </a: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 – сокращение объема данных при сохранении закодированного в них содержания. 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11280" y="1555920"/>
            <a:ext cx="40323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98560" y="1557360"/>
            <a:ext cx="77058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72776"/>
                </a:solidFill>
                <a:latin typeface="Courier New"/>
              </a:rPr>
              <a:t>Для передачи по каналу связи сообщения, состоящего только из букв</a:t>
            </a: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 </a:t>
            </a:r>
            <a:r>
              <a:rPr b="0" lang="ru-RU" sz="2800" spc="-1" strike="noStrike">
                <a:solidFill>
                  <a:srgbClr val="272776"/>
                </a:solidFill>
                <a:latin typeface="Courier New"/>
              </a:rPr>
              <a:t> А, Б, В, Г, решили использовать неравномерный по длине код: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72776"/>
                </a:solidFill>
                <a:latin typeface="Courier New"/>
              </a:rPr>
              <a:t>A=0, Б=10, В=110.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72776"/>
                </a:solidFill>
                <a:latin typeface="Courier New"/>
              </a:rPr>
              <a:t>Как нужно закодировать букву Г, чтобы длина кода была минимальной и допускалось однозначное разбиение кодированного сообщения на буквы?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ourier New"/>
              </a:rPr>
              <a:t>Задача А9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ourier New"/>
              </a:rPr>
              <a:t>Сжатие информации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Сжатие происходит за счет устранения избыточности кода, например, за счет упрощения кодов, исключения из них постоянных битов или представления повторяющихся символов в виде коэффициента повторения.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Важнейшая характеристика процесса сжатия – коэффициент сжатия.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2776"/>
                </a:solidFill>
                <a:latin typeface="Courier New"/>
              </a:rPr>
              <a:t>Коэффициент сжатия</a:t>
            </a: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 – отношение объема исходного сообщения к объему сжатого. 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ourier New"/>
              </a:rPr>
              <a:t>Алгоритмы сжатия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1341360"/>
            <a:ext cx="77770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1. Равномерное сжатие с использованием кодов одной длины.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Этот метод используется, если в записи сообщения присутствует небольшая часть алфавита.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2. Сжатие с использованием кодов переменной длины.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ourier New"/>
              </a:rPr>
              <a:t>Сокращение объёма данных достигается за счёт замены часто встречающихся данных короткими кодовыми словами, а редких — длинными.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2776"/>
                </a:solidFill>
                <a:latin typeface="Courier New"/>
              </a:rPr>
              <a:t>Сжатие с использованием кодов переменной длины</a:t>
            </a:r>
            <a:endParaRPr b="0" lang="en-US" sz="40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4" name=""/>
          <p:cNvSpPr/>
          <p:nvPr/>
        </p:nvSpPr>
        <p:spPr>
          <a:xfrm>
            <a:off x="826920" y="1581120"/>
            <a:ext cx="78487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72776"/>
                </a:solidFill>
                <a:latin typeface="Courier New"/>
              </a:rPr>
              <a:t>В этом случае возникает проблема отделения кодов символов друг от друга.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72776"/>
                </a:solidFill>
                <a:latin typeface="Courier New"/>
              </a:rPr>
              <a:t>Решить эту проблему позволяет условие, достаточное для однозначного декодирования сообщений с переменной длиной кодовых слов, </a:t>
            </a:r>
            <a:r>
              <a:rPr b="0" i="1" lang="ru-RU" sz="2400" spc="-1" strike="noStrike">
                <a:solidFill>
                  <a:srgbClr val="272776"/>
                </a:solidFill>
                <a:latin typeface="Courier New"/>
              </a:rPr>
              <a:t>условие Фано</a:t>
            </a:r>
            <a:r>
              <a:rPr b="0" lang="ru-RU" sz="2400" spc="-1" strike="noStrike">
                <a:solidFill>
                  <a:srgbClr val="272776"/>
                </a:solidFill>
                <a:latin typeface="Courier New"/>
              </a:rPr>
              <a:t>: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72776"/>
                </a:solidFill>
                <a:latin typeface="Courier New"/>
              </a:rPr>
              <a:t>Никакое кодовое слово не является началом другого кодового слова.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72776"/>
                </a:solidFill>
                <a:latin typeface="Courier New"/>
              </a:rPr>
              <a:t>По-другому условие Фано называют </a:t>
            </a:r>
            <a:r>
              <a:rPr b="0" i="1" lang="ru-RU" sz="2400" spc="-1" strike="noStrike">
                <a:solidFill>
                  <a:srgbClr val="272776"/>
                </a:solidFill>
                <a:latin typeface="Courier New"/>
              </a:rPr>
              <a:t>свойством префиксности</a:t>
            </a:r>
            <a:r>
              <a:rPr b="0" lang="ru-RU" sz="2400" spc="-1" strike="noStrike">
                <a:solidFill>
                  <a:srgbClr val="272776"/>
                </a:solidFill>
                <a:latin typeface="Courier New"/>
              </a:rPr>
              <a:t>, а код, удовлетворяющий этому условию, называют </a:t>
            </a:r>
            <a:r>
              <a:rPr b="0" i="1" lang="ru-RU" sz="2400" spc="-1" strike="noStrike">
                <a:solidFill>
                  <a:srgbClr val="272776"/>
                </a:solidFill>
                <a:latin typeface="Courier New"/>
              </a:rPr>
              <a:t>префиксным кодом</a:t>
            </a:r>
            <a:r>
              <a:rPr b="0" lang="ru-RU" sz="2400" spc="-1" strike="noStrike">
                <a:solidFill>
                  <a:srgbClr val="272776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ourier New"/>
              </a:rPr>
              <a:t>Префиксные коды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1577880"/>
            <a:ext cx="770400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Чтобы понять, как строятся префиксные коды, рассмотрим, как построить ориентированный граф, определяющий этот код.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Например, кодовые слова 00, 01, 10, 011, 100, 101, 1001, 1010, 1111, кодируют соответственно буквы: </a:t>
            </a:r>
            <a:r>
              <a:rPr b="0" i="1" lang="en-US" sz="2800" spc="-1" strike="noStrike">
                <a:solidFill>
                  <a:srgbClr val="272776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, </a:t>
            </a:r>
            <a:r>
              <a:rPr b="0" i="1" lang="en-US" sz="2800" spc="-1" strike="noStrike">
                <a:solidFill>
                  <a:srgbClr val="272776"/>
                </a:solidFill>
                <a:latin typeface="Courier New"/>
              </a:rPr>
              <a:t>b</a:t>
            </a: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, </a:t>
            </a:r>
            <a:r>
              <a:rPr b="0" i="1" lang="en-US" sz="2800" spc="-1" strike="noStrike">
                <a:solidFill>
                  <a:srgbClr val="272776"/>
                </a:solidFill>
                <a:latin typeface="Courier New"/>
              </a:rPr>
              <a:t>c</a:t>
            </a: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, </a:t>
            </a:r>
            <a:r>
              <a:rPr b="0" i="1" lang="en-US" sz="2800" spc="-1" strike="noStrike">
                <a:solidFill>
                  <a:srgbClr val="272776"/>
                </a:solidFill>
                <a:latin typeface="Courier New"/>
              </a:rPr>
              <a:t>d</a:t>
            </a: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, </a:t>
            </a:r>
            <a:r>
              <a:rPr b="0" i="1" lang="en-US" sz="2800" spc="-1" strike="noStrike">
                <a:solidFill>
                  <a:srgbClr val="272776"/>
                </a:solidFill>
                <a:latin typeface="Courier New"/>
              </a:rPr>
              <a:t>e</a:t>
            </a: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, </a:t>
            </a:r>
            <a:r>
              <a:rPr b="0" i="1" lang="en-US" sz="2800" spc="-1" strike="noStrike">
                <a:solidFill>
                  <a:srgbClr val="272776"/>
                </a:solidFill>
                <a:latin typeface="Courier New"/>
              </a:rPr>
              <a:t>f</a:t>
            </a: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, </a:t>
            </a:r>
            <a:r>
              <a:rPr b="0" i="1" lang="en-US" sz="2800" spc="-1" strike="noStrike">
                <a:solidFill>
                  <a:srgbClr val="272776"/>
                </a:solidFill>
                <a:latin typeface="Courier New"/>
              </a:rPr>
              <a:t>g</a:t>
            </a: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, </a:t>
            </a:r>
            <a:r>
              <a:rPr b="0" i="1" lang="en-US" sz="2800" spc="-1" strike="noStrike">
                <a:solidFill>
                  <a:srgbClr val="272776"/>
                </a:solidFill>
                <a:latin typeface="Courier New"/>
              </a:rPr>
              <a:t>h</a:t>
            </a: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, </a:t>
            </a:r>
            <a:r>
              <a:rPr b="0" i="1" lang="en-US" sz="2800" spc="-1" strike="noStrike">
                <a:solidFill>
                  <a:srgbClr val="272776"/>
                </a:solidFill>
                <a:latin typeface="Courier New"/>
              </a:rPr>
              <a:t>i</a:t>
            </a: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.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ourier New"/>
              </a:rPr>
              <a:t>Префиксные коды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1677960"/>
            <a:ext cx="770400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Построим граф этого кода.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Из начальной вершины выходят две дуги, помеченные 0 и 1. Затем из конца каждой такой дуги входят новые дуги, помеченные 0 и 1 так, чтобы, идя по этим дугам от корня, читалось начало какого-либо кодового слова.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ourier New"/>
              </a:rPr>
              <a:t>Префиксные коды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484280"/>
            <a:ext cx="43927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72776"/>
                </a:solidFill>
                <a:latin typeface="Courier New"/>
              </a:rPr>
              <a:t>Если при этом какое-то последовательность оказывается прочитанным полностью, то у конца последней дуги пишется кодируемый символ. </a:t>
            </a:r>
            <a:endParaRPr b="0" lang="en-US" sz="2600" spc="-1" strike="noStrike">
              <a:solidFill>
                <a:srgbClr val="27277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0" y="1557360"/>
            <a:ext cx="4025880" cy="2747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8360" y="4546440"/>
            <a:ext cx="7848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72776"/>
                </a:solidFill>
                <a:latin typeface="Courier New"/>
              </a:rPr>
              <a:t>Из получившихся вершин снова проводятся дуги — и так далее, до тех пор, пока не будут исчерпаны все коды. </a:t>
            </a:r>
            <a:endParaRPr b="0" lang="en-US" sz="26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ourier New"/>
              </a:rPr>
              <a:t>Префиксные коды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1268280"/>
            <a:ext cx="81374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Если известен граф, созданный по префиксному коду, то по этому графу легко восстанавливается код каждого символа — надо просто, идя от корня к листу, помеченному данным символом, выписать 0 и 1 в порядке их прочтения.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ourier New"/>
              </a:rPr>
              <a:t>Идея префиксного кодирования была использована американским ученым Д.Хаффманом для создания эффективного алгоритма сжатия символьной информации. 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15:57:29Z</dcterms:created>
  <dc:creator>Serg</dc:creator>
  <dc:description/>
  <dc:language>en-US</dc:language>
  <cp:lastModifiedBy>Serg</cp:lastModifiedBy>
  <dcterms:modified xsi:type="dcterms:W3CDTF">2013-10-05T16:45:15Z</dcterms:modified>
  <cp:revision>28</cp:revision>
  <dc:subject/>
  <dc:title>Сжатие информации</dc:title>
</cp:coreProperties>
</file>